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5834-4673-49F4-841C-43612D1A7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49ED-2CF6-4B1C-9315-128B3C944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F2AD-C357-4DA5-805D-D4070917B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801B-20FD-4516-B0CA-AEE9EF07F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AC4B-45A7-45E4-9916-B2A9B2372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8249-8AFC-407F-984F-F88346DE2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1ADA-1E26-4A7E-8367-160DF3FE0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D686-C6DD-4157-B9DA-DBA27A43C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477A-6DC2-44F3-8E0D-12509356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08F4-B298-480F-A9E7-BAA8C327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AFE9-3BE8-43A3-9A0F-1EAAB8C7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8550-EDEF-4ACA-842C-7DFAFEC2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DD512-B88C-4AAB-8450-78C24FBBA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38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КРАСНАЯ КНИГА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ТАТАРСТАНА</a:t>
            </a: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Р А С Т Е Н И Я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5300640"/>
            <a:ext cx="64008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оект выполнила: ученица 2 б класса Мухинова Стел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расная книга Республики Татарстан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это официальный документ, издаваемый в соответствии с законодательством Республики Татарста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2009 году Кабинет Министров Республики Татарстан опубликовал охраняемый список, который состоит из 595 видов растений, грибов и животны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Башмачок капельный</a:t>
            </a:r>
            <a:br>
              <a:rPr sz="40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03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тёт в лиственных, смешанных и хвойных лесах. Трава башмачка капельного применяется в качестве успокоительного сред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635280" y="1557360"/>
            <a:ext cx="50515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Морковь дикая</a:t>
            </a:r>
            <a:br>
              <a:rPr sz="4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385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территории России встречается в южных районах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вропейской ча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Широко используется в медицине, съедоб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211640" y="1125360"/>
            <a:ext cx="4537080" cy="49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Василёк русски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тет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епных лугах и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устарниковых зарослях, травянистых и каменист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лон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924360" y="1484280"/>
            <a:ext cx="48150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Крестовник татарски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израстает на влажных лугах, на берегам водоем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427640" y="1341360"/>
            <a:ext cx="439236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Arial"/>
              </a:rPr>
              <a:t>Берёза призе́миста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устарни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сотой 1—1,5 метра с прямы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твя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924360" y="1484280"/>
            <a:ext cx="5040360" cy="45435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55640" y="3930120"/>
            <a:ext cx="273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ра гладкая, тёмно-бура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3T14:35:24Z</dcterms:created>
  <dc:creator>Пользователь</dc:creator>
  <dc:description/>
  <dc:language>en-US</dc:language>
  <cp:lastModifiedBy>Пользователь</cp:lastModifiedBy>
  <dcterms:modified xsi:type="dcterms:W3CDTF">2014-12-03T15:04:39Z</dcterms:modified>
  <cp:revision>4</cp:revision>
  <dc:subject/>
  <dc:title>  КРАСНАЯ КНИГА ТАТАРСТАНА  Р А С Т Е Н И Я   </dc:title>
</cp:coreProperties>
</file>