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E29-96B2-4D2A-8D94-B8F20F16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251-26A1-4EEA-9FD3-E04819FB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286-C7D9-465C-8FA6-F652CA7C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273-8BC1-481B-8017-49B54B30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D1C-AEAB-4A95-A5D7-9C526309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BE6-A9C3-497A-8E18-24B216DE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AB2-27D0-4279-8A38-80224D99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ACD-D178-4E73-B782-4FAF0E19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D9C-92C0-4569-A382-E2465136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6FE-40D5-4621-8F6B-33766897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C14-6BCA-414B-B633-E0639FF1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F28-B642-4EE3-907D-0B7446D4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A58A-E63E-401F-A9AB-D678C83C8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3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КРАСНАЯ КНИГА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ТАТАРСТАНА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Р А С Т Е Н И Я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ект выполнила: ученица 2 б класса Мухинова Стел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сная книга Республики Татарстан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то официальный документ, издаваемый в соответствии с законодательством Республики Татарста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09 году Кабинет Министров Республики Татарстан опубликовал охраняемый список, который состоит из 595 видов растений, грибов и живот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Башмачок капельный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ёт в лиственных, смешанных и хвойных лесах. Трава башмачка капельного применяется в качестве успокоительного сре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051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Морковь дикая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8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территории России встречается в южных районах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вропейск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роко используется в медицине, съедоб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211640" y="1125360"/>
            <a:ext cx="453708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Василёк русс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т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пных лугах и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старниковых зарослях, травянистых и каменис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лон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4815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Крестовник татарс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израстает на влажных лугах, на берегам водое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392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Берёза призе́мист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стар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той 1—1,5 метра с прям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тв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5040360" cy="4543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39301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а гладкая, тёмно-бур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14:35:24Z</dcterms:created>
  <dc:creator>Пользователь</dc:creator>
  <dc:description/>
  <dc:language>en-US</dc:language>
  <cp:lastModifiedBy>Пользователь</cp:lastModifiedBy>
  <dcterms:modified xsi:type="dcterms:W3CDTF">2014-12-03T15:04:39Z</dcterms:modified>
  <cp:revision>4</cp:revision>
  <dc:subject/>
  <dc:title>  КРАСНАЯ КНИГА ТАТАРСТАНА  Р А С Т Е Н И Я   </dc:title>
</cp:coreProperties>
</file>