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12.jpeg" ContentType="image/jpeg"/>
  <Override PartName="/ppt/media/image8.jpeg" ContentType="image/jpeg"/>
  <Override PartName="/ppt/media/image10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49A69-3DE7-4994-9507-325C65EB0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75f55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22942-0704-4565-8447-2FA2C6718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75f55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2BAB26-F507-41B8-8DBD-B3C3334E0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75f55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430B88-70E2-4288-8CB7-89DCAB8D0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A40202-1C14-4678-A178-CD8AEF7E4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75f55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768ECA-EF96-40BE-8D8B-81FD52B05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75f55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5700F7-BE37-4D83-9D89-C90453C3C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75f55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0F5E6F-B2A2-4F4E-ACCD-06EC3C08F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75f55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56AE36-CB28-4DE2-A220-862F93895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75f55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853A65-8E64-4A3B-9607-4B3822387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75f55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8B1FD2-527C-4B6C-8473-BD0CDB0A9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75f55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AF63C-FA58-4AD9-96E2-2A8453B3B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75f55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2D28E-E9B2-44E3-AA2C-7D47CCBAE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0E5B3-AFFA-4CEC-BB9E-25BD465EC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75f55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75EB9-7433-4491-A719-7D232683A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75f55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E99FA-F6FC-49EE-B903-C98A9A038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75f55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42845-E82D-4A03-87EA-0111584E2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75f55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BDF5A-9E5B-4F2D-BC91-367FB07B5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F33F1-8C41-4CD7-963B-B1E8F55BD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75f55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47435-7D51-4BA7-B34D-9D468FC42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75f55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89DB4-897C-4C78-B8F3-0216DCDB0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75f55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AE841-0880-4CF4-8898-C387C646D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75f55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9B4E1-734D-4782-B455-373A2EF44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75f55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2B09D-CFA3-4289-A5EA-BD338997B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75f55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42071-91B4-4C25-9A1D-B63A30E61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75f55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A66A1-3D61-458D-805B-18648BD79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EF0E1B-DEE6-4CFD-A3C8-8FFBF5AD3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75f55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F2B593-5702-4AA8-A2D9-73C176392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75f55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0083B7-E601-4157-899C-2265CE2D5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75f55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901C8E-505D-4669-AB29-3332E1325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75f55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943AD9-9791-4A3C-AA97-BA4188CF4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75f55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B4DCC-CC70-434E-A880-CC7C15DB1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B5ED3C-BC10-4A06-B78B-15CD9E65D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75f55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AEBB9A-3C1F-4DCA-B324-F6F73FD2E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75f55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D65057-4711-4DFF-9E9E-A3557215F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75f55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1B19E3-D32D-480D-BAD3-8881EE545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75f55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83F27A-65FB-4391-9366-FC93D7C98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75f55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F65952-A01A-4EC4-ACF4-DC40EC3CA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75f55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E5BA28-1058-4285-90C3-1911A1BAC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E86FB1-0A23-4F75-995A-E2B70B367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75f55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5C3129-8608-49B8-8200-00E44C4B6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75f55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68BAB0-BE67-4D3A-9DCB-21F13DDE1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75f55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484CD-420C-4D29-B538-5287E6B53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75f55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8A4CDC-6A95-43C0-9056-0608EC5ED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75f55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9546F1-45FD-4026-9438-5FCD4E9DF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281A4C-2AA5-4E23-900E-F8CC82FC7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75f55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46B51E-6E8F-421B-ADBB-DB72B8CFC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75f55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E6EBA3-AC00-48AC-8223-6FF3E1E48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75f55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8DB240-271D-48B1-AC0A-BCF776C3B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75f55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C2FB19-D9C1-49CB-987C-6AA821619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75f55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2F16D9-2139-4A71-8C0D-FBEDE5BD4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75f55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F329A8-29D3-4574-A48E-B6D047921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51F5F7-B626-4FA4-A0F0-58940B451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75f55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84664-CB6D-4559-BF38-C9BDEBFED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75f55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60F352-107D-4612-AEAC-F3DBB7195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75f55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D65BD3-EA1B-40F8-A45D-0FCB06704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75f55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C14F61-3874-419D-A997-9B2298435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75f55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5F3AAE-EF15-4844-8DB2-A64C9D135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7C905A-EA7F-483A-931F-4DFB256CA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75f55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CAAE1C-AAF8-426D-875D-38758B6DA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75f55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D0F4B6-E7A6-4D6F-9D75-F22AD8BAE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75f55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22B7D5-6B8B-43BB-85E7-4CF57A92F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75f55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DF3D04-67F6-4C1E-9336-FD5160003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75f55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D3C3E6-185D-4ACE-A458-71E76F849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A66A1-97EF-4099-AC3A-579E08162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75f55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B46981-8F06-4D32-A44C-9A9E7A057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C14C1F-6EE6-4FC8-93D4-17F6F6466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75f55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75F403-DABF-4204-A984-CCFA18FF9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75f55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CF124B-1393-49B9-AF88-A722C22C2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75f55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481672-CE3E-431F-9EF0-9ADDB18B3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75f55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7520FD-17F7-44C8-B167-F240DB478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0CB4F9-2F80-4776-AAFC-EF2DFC339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75f55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8D3D38-097F-432F-8FD3-035C65734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75f55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1A084F-4FE7-4915-BE31-8A9124FE7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75f55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E99AC3-8F3D-4E27-947F-A006FF524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75f55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15CA6-4488-4290-912D-BC5D0BBF0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75f55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0075CA-8D5C-455D-A4E8-E42331BAB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75f55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04D3F3-957D-4963-A1C0-244F7EEEF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75f55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E954B0-F140-415C-9038-2C7E20B8B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7F49B6-C16A-4E80-A827-219A5E5C0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75f55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CB9BCA-1DF8-4E95-A199-300CF5B8C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75f55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5302D5-418B-47F3-8832-5E26AFA1A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75f55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E377EB-2136-44C4-BCFD-90E7FF743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75f55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276F03-0E70-448C-8EE8-09BFFF40B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F7C23F-C778-4080-80DA-DF7939B42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75f55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876588-C82C-4974-968D-B28628DE4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75f55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C553C-D86B-4D95-8E9A-11BBED039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75f55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4B5E84-B053-4245-AF61-1C59F5298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75f55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4E0B9C-C3E9-4828-B7DC-8B0FAB587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75f55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DCF3DC-BF0D-467B-B28B-81BE5D969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75f55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ACD478-4F91-4B06-B191-0767230AC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75f55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905A89-D09C-4076-8FB8-9CC302004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F4A731-DC67-4746-9E44-B885B4AE6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75f55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4CA22F-444D-4ACB-8F5A-27E6E7C51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75f55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736AE9-F491-475B-87AC-2FA71C772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75f55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D53134-1EB8-4E6E-B76E-D65CE22E1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75f55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46A729-C981-42AD-9575-7ED09B8B6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75f55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A75D7-D5C2-4957-8DD1-FF1B64F37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890A6C-BCB8-4613-82E4-ED7F9074E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75f55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56FF7C-0C0C-4231-9162-FE54CD0ED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75f55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CA818A-8221-43AD-9A44-DCA696BAC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75f55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F991AA-7CBD-4E42-AFEA-AEA40CE19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75f55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F8E99B-6B14-4608-BF18-E5601169D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75f55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077B64-0BE1-4424-BD03-9ACEA8943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75f55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2AEDC3-C53B-4010-ABDA-6F4DEB263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A78E7A-7BD8-4052-A8A7-71F14FF09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75f55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CE5D24-EB4F-4FAB-B1A4-2678B58F4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75f55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F66014-1F71-45DB-A2D6-5B418590B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4b6d2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94b6d2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94b6d2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94b6d2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94b6d2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2a0b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DD631-F1CD-48D7-A485-93D4AE16E997}" type="slidenum">
              <a:rPr b="0" lang="en-US" sz="1200" spc="-1" strike="noStrike">
                <a:solidFill>
                  <a:srgbClr val="82a0b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75f55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775f55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4b6d2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94b6d2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94b6d2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94b6d2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94b6d2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75f55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775f55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2a0b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BD864-39DD-4607-B1E3-19A9ADF00916}" type="slidenum">
              <a:rPr b="0" lang="en-US" sz="1200" spc="-1" strike="noStrike">
                <a:solidFill>
                  <a:srgbClr val="82a0b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4b6d2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94b6d2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94b6d2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94b6d2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94b6d2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75f55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775f55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2a0b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DA017-411E-4BCD-A249-5E8F5978D518}" type="slidenum">
              <a:rPr b="0" lang="en-US" sz="1200" spc="-1" strike="noStrike">
                <a:solidFill>
                  <a:srgbClr val="82a0b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4b6d2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ddc3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ebddc3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94b6d2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ddc3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ebddc3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94b6d2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ddc3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ebddc3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94b6d2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ddc3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ebddc3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94b6d2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ddc3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ebddc3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ddc3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ebddc3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ddc3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ebddc3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ddc3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ebddc3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2a0b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8D4CA-8A1D-456F-AB91-D51C65E6CC19}" type="slidenum">
              <a:rPr b="0" lang="en-US" sz="1200" spc="-1" strike="noStrike">
                <a:solidFill>
                  <a:srgbClr val="82a0b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4b6d2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94b6d2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94b6d2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94b6d2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94b6d2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75f55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775f55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2a0b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A8E0F-CC8F-4E84-9F4E-4858006FAE2F}" type="slidenum">
              <a:rPr b="0" lang="en-US" sz="1200" spc="-1" strike="noStrike">
                <a:solidFill>
                  <a:srgbClr val="82a0b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4b6d2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94b6d2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94b6d2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94b6d2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94b6d2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75f55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775f55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2a0b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D47EA-60A2-4AB7-9942-894163AF5AFB}" type="slidenum">
              <a:rPr b="0" lang="en-US" sz="1200" spc="-1" strike="noStrike">
                <a:solidFill>
                  <a:srgbClr val="82a0b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4b6d2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94b6d2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94b6d2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94b6d2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94b6d2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75f55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775f55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2a0b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BDBF6-A12A-45EF-BF2A-259D76504A7B}" type="slidenum">
              <a:rPr b="0" lang="en-US" sz="1200" spc="-1" strike="noStrike">
                <a:solidFill>
                  <a:srgbClr val="82a0b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4b6d2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94b6d2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94b6d2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94b6d2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94b6d2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75f55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775f55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2a0b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1A586-4BAC-4771-B7AB-FAB13CC97D8F}" type="slidenum">
              <a:rPr b="0" lang="en-US" sz="1200" spc="-1" strike="noStrike">
                <a:solidFill>
                  <a:srgbClr val="82a0b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4b6d2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94b6d2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94b6d2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94b6d2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94b6d2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75f55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775f55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2a0b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BCF5C-2BD5-4541-BA81-DA93D2F3DC0B}" type="slidenum">
              <a:rPr b="0" lang="en-US" sz="1200" spc="-1" strike="noStrike">
                <a:solidFill>
                  <a:srgbClr val="82a0b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Rectangle 2" descr=""/>
          <p:cNvPicPr/>
          <p:nvPr/>
        </p:nvPicPr>
        <p:blipFill>
          <a:blip r:embed="rId1"/>
          <a:stretch/>
        </p:blipFill>
        <p:spPr>
          <a:xfrm>
            <a:off x="682560" y="109440"/>
            <a:ext cx="7785000" cy="396900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5028840" y="4633560"/>
            <a:ext cx="3886200" cy="2109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8534a"/>
                </a:solidFill>
                <a:latin typeface="Franklin Gothic Medium"/>
              </a:rPr>
              <a:t>Работу выполнил</a:t>
            </a:r>
            <a:endParaRPr b="0" lang="en-US" sz="2400" spc="-1" strike="noStrike">
              <a:solidFill>
                <a:srgbClr val="775f55"/>
              </a:solidFill>
              <a:latin typeface="Franklin Gothic Book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8534a"/>
                </a:solidFill>
                <a:latin typeface="Franklin Gothic Medium"/>
              </a:rPr>
              <a:t>ученик 3</a:t>
            </a:r>
            <a:r>
              <a:rPr b="1" lang="en-US" sz="2400" spc="-1" strike="noStrike">
                <a:solidFill>
                  <a:srgbClr val="68534a"/>
                </a:solidFill>
                <a:latin typeface="Franklin Gothic Medium"/>
              </a:rPr>
              <a:t>"</a:t>
            </a:r>
            <a:r>
              <a:rPr b="1" lang="ru-RU" sz="2400" spc="-1" strike="noStrike">
                <a:solidFill>
                  <a:srgbClr val="68534a"/>
                </a:solidFill>
                <a:latin typeface="Franklin Gothic Medium"/>
              </a:rPr>
              <a:t>А</a:t>
            </a:r>
            <a:r>
              <a:rPr b="1" lang="en-US" sz="2400" spc="-1" strike="noStrike">
                <a:solidFill>
                  <a:srgbClr val="68534a"/>
                </a:solidFill>
                <a:latin typeface="Franklin Gothic Medium"/>
              </a:rPr>
              <a:t>"</a:t>
            </a:r>
            <a:r>
              <a:rPr b="1" lang="ru-RU" sz="2400" spc="-1" strike="noStrike">
                <a:solidFill>
                  <a:srgbClr val="68534a"/>
                </a:solidFill>
                <a:latin typeface="Franklin Gothic Medium"/>
              </a:rPr>
              <a:t> класса</a:t>
            </a:r>
            <a:endParaRPr b="0" lang="en-US" sz="2400" spc="-1" strike="noStrike">
              <a:solidFill>
                <a:srgbClr val="775f55"/>
              </a:solidFill>
              <a:latin typeface="Franklin Gothic Book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8534a"/>
                </a:solidFill>
                <a:latin typeface="Franklin Gothic Medium"/>
              </a:rPr>
              <a:t>ГБОУ СОШ № 133</a:t>
            </a:r>
            <a:endParaRPr b="0" lang="en-US" sz="2400" spc="-1" strike="noStrike">
              <a:solidFill>
                <a:srgbClr val="775f55"/>
              </a:solidFill>
              <a:latin typeface="Franklin Gothic Book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8534a"/>
                </a:solidFill>
                <a:latin typeface="Franklin Gothic Medium"/>
              </a:rPr>
              <a:t>Шахматов Константин</a:t>
            </a:r>
            <a:endParaRPr b="0" lang="en-US" sz="2400" spc="-1" strike="noStrike">
              <a:solidFill>
                <a:srgbClr val="775f55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Заголовок 6" descr=""/>
          <p:cNvPicPr/>
          <p:nvPr/>
        </p:nvPicPr>
        <p:blipFill>
          <a:blip r:embed="rId1"/>
          <a:stretch/>
        </p:blipFill>
        <p:spPr>
          <a:xfrm>
            <a:off x="-128520" y="-6480"/>
            <a:ext cx="9113760" cy="136548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 txBox="1"/>
          <p:nvPr/>
        </p:nvSpPr>
        <p:spPr>
          <a:xfrm>
            <a:off x="456840" y="1987560"/>
            <a:ext cx="447516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75f55"/>
                </a:solidFill>
                <a:latin typeface="Franklin Gothic Medium"/>
              </a:rPr>
              <a:t>Мой прадед, Мартынов</a:t>
            </a:r>
            <a:endParaRPr b="0" lang="en-US" sz="2800" spc="-1" strike="noStrike">
              <a:solidFill>
                <a:srgbClr val="775f55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75f55"/>
                </a:solidFill>
                <a:latin typeface="Franklin Gothic Medium"/>
              </a:rPr>
              <a:t>Георгий Григорьевич,</a:t>
            </a:r>
            <a:endParaRPr b="0" lang="en-US" sz="2800" spc="-1" strike="noStrike">
              <a:solidFill>
                <a:srgbClr val="775f55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75f55"/>
                </a:solidFill>
                <a:latin typeface="Franklin Gothic Medium"/>
              </a:rPr>
              <a:t>в 1940 году был</a:t>
            </a:r>
            <a:endParaRPr b="0" lang="en-US" sz="2800" spc="-1" strike="noStrike">
              <a:solidFill>
                <a:srgbClr val="775f55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75f55"/>
                </a:solidFill>
                <a:latin typeface="Franklin Gothic Medium"/>
              </a:rPr>
              <a:t>курсантом  лётно-</a:t>
            </a:r>
            <a:endParaRPr b="0" lang="en-US" sz="2800" spc="-1" strike="noStrike">
              <a:solidFill>
                <a:srgbClr val="775f55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75f55"/>
                </a:solidFill>
                <a:latin typeface="Franklin Gothic Medium"/>
              </a:rPr>
              <a:t>технической школы </a:t>
            </a:r>
            <a:endParaRPr b="0" lang="en-US" sz="2800" spc="-1" strike="noStrike">
              <a:solidFill>
                <a:srgbClr val="775f55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75f55"/>
                </a:solidFill>
                <a:latin typeface="Franklin Gothic Medium"/>
              </a:rPr>
              <a:t>в городе Ульяновске.</a:t>
            </a:r>
            <a:endParaRPr b="0" lang="en-US" sz="2800" spc="-1" strike="noStrike">
              <a:solidFill>
                <a:srgbClr val="775f55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4647960" y="1599840"/>
            <a:ext cx="4343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pic>
        <p:nvPicPr>
          <p:cNvPr id="404" name="Picture 4" descr="002"/>
          <p:cNvPicPr/>
          <p:nvPr/>
        </p:nvPicPr>
        <p:blipFill>
          <a:blip r:embed="rId2"/>
          <a:srcRect l="0" t="0" r="5112" b="18900"/>
          <a:stretch/>
        </p:blipFill>
        <p:spPr>
          <a:xfrm>
            <a:off x="4815000" y="1274760"/>
            <a:ext cx="3713040" cy="485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/>
          </p:nvPr>
        </p:nvSpPr>
        <p:spPr>
          <a:xfrm>
            <a:off x="0" y="210960"/>
            <a:ext cx="9144000" cy="391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75f55"/>
                </a:solidFill>
                <a:latin typeface="Franklin Gothic Medium"/>
              </a:rPr>
              <a:t>   </a:t>
            </a:r>
            <a:r>
              <a:rPr b="1" lang="ru-RU" sz="2800" spc="-1" strike="noStrike">
                <a:solidFill>
                  <a:srgbClr val="775f55"/>
                </a:solidFill>
                <a:latin typeface="Franklin Gothic Medium"/>
              </a:rPr>
              <a:t>С 1941 по 1945 года участвовал в боевых действиях в составе 14-го Гвардейского Краснознамённого Смоленского полка бомбардировочной авиации дальнего действия 2-ой  воздушной армии на  фронтах : Центральный,  Ленинградский, 3-ий Украинский .</a:t>
            </a:r>
            <a:endParaRPr b="0" lang="en-US" sz="2800" spc="-1" strike="noStrike">
              <a:solidFill>
                <a:srgbClr val="775f55"/>
              </a:solidFill>
              <a:latin typeface="Franklin Gothic Book"/>
            </a:endParaRPr>
          </a:p>
        </p:txBody>
      </p:sp>
      <p:pic>
        <p:nvPicPr>
          <p:cNvPr id="406" name="Picture 5" descr="http://wio.ru/gal2a/260sad-mig9.jpg"/>
          <p:cNvPicPr/>
          <p:nvPr/>
        </p:nvPicPr>
        <p:blipFill>
          <a:blip r:embed="rId1"/>
          <a:stretch/>
        </p:blipFill>
        <p:spPr>
          <a:xfrm>
            <a:off x="1298520" y="3262320"/>
            <a:ext cx="6372360" cy="33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6868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775f55"/>
              </a:solidFill>
              <a:latin typeface="Franklin Gothic Medium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0" y="1995120"/>
            <a:ext cx="4495680" cy="43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75f55"/>
                </a:solidFill>
                <a:latin typeface="Franklin Gothic Book"/>
              </a:rPr>
              <a:t>    </a:t>
            </a:r>
            <a:r>
              <a:rPr b="1" lang="ru-RU" sz="2800" spc="-1" strike="noStrike">
                <a:solidFill>
                  <a:srgbClr val="775f55"/>
                </a:solidFill>
                <a:latin typeface="Franklin Gothic Medium"/>
              </a:rPr>
              <a:t>За  мужество  и храбрость  прадедушка был  награждён медалями  и  орденами Красного Знамени  и Красной  Звезды.</a:t>
            </a:r>
            <a:endParaRPr b="0" lang="en-US" sz="2800" spc="-1" strike="noStrike">
              <a:solidFill>
                <a:srgbClr val="775f55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4647960" y="1599840"/>
            <a:ext cx="4343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pic>
        <p:nvPicPr>
          <p:cNvPr id="410" name="Picture 4" descr="003"/>
          <p:cNvPicPr/>
          <p:nvPr/>
        </p:nvPicPr>
        <p:blipFill>
          <a:blip r:embed="rId1"/>
          <a:srcRect l="3885" t="0" r="5642" b="8950"/>
          <a:stretch/>
        </p:blipFill>
        <p:spPr>
          <a:xfrm>
            <a:off x="4921200" y="1104840"/>
            <a:ext cx="394812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6868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800" spc="-1" strike="noStrike">
              <a:solidFill>
                <a:srgbClr val="775f55"/>
              </a:solidFill>
              <a:latin typeface="Franklin Gothic Medium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304560" y="1599840"/>
            <a:ext cx="41907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pic>
        <p:nvPicPr>
          <p:cNvPr id="413" name="Picture 4" descr="004"/>
          <p:cNvPicPr/>
          <p:nvPr/>
        </p:nvPicPr>
        <p:blipFill>
          <a:blip r:embed="rId1"/>
          <a:srcRect l="3219" t="3423" r="6021" b="1865"/>
          <a:stretch/>
        </p:blipFill>
        <p:spPr>
          <a:xfrm>
            <a:off x="304920" y="1298520"/>
            <a:ext cx="3878280" cy="5219640"/>
          </a:xfrm>
          <a:prstGeom prst="rect">
            <a:avLst/>
          </a:prstGeom>
          <a:ln w="0">
            <a:noFill/>
          </a:ln>
        </p:spPr>
      </p:pic>
      <p:sp>
        <p:nvSpPr>
          <p:cNvPr id="414" name=""/>
          <p:cNvSpPr txBox="1"/>
          <p:nvPr/>
        </p:nvSpPr>
        <p:spPr>
          <a:xfrm>
            <a:off x="4241880" y="1599840"/>
            <a:ext cx="47498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75f55"/>
                </a:solidFill>
                <a:latin typeface="Franklin Gothic Medium"/>
              </a:rPr>
              <a:t>    </a:t>
            </a:r>
            <a:r>
              <a:rPr b="1" lang="ru-RU" sz="2800" spc="-1" strike="noStrike">
                <a:solidFill>
                  <a:srgbClr val="775f55"/>
                </a:solidFill>
                <a:latin typeface="Franklin Gothic Medium"/>
              </a:rPr>
              <a:t>После Победы Георгий Григорьевич продолжил служить в Ленинградском военном округе, в 11-ом истребительном полку </a:t>
            </a:r>
            <a:endParaRPr b="0" lang="en-US" sz="2800" spc="-1" strike="noStrike">
              <a:solidFill>
                <a:srgbClr val="775f55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75f55"/>
                </a:solidFill>
                <a:latin typeface="Franklin Gothic Medium"/>
              </a:rPr>
              <a:t>    </a:t>
            </a:r>
            <a:r>
              <a:rPr b="1" lang="ru-RU" sz="2800" spc="-1" strike="noStrike">
                <a:solidFill>
                  <a:srgbClr val="775f55"/>
                </a:solidFill>
                <a:latin typeface="Franklin Gothic Medium"/>
              </a:rPr>
              <a:t>25-ой воздушной армии, в посёлке Горелово.</a:t>
            </a:r>
            <a:endParaRPr b="0" lang="en-US" sz="2800" spc="-1" strike="noStrike">
              <a:solidFill>
                <a:srgbClr val="775f55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Заголовок 1" descr=""/>
          <p:cNvPicPr/>
          <p:nvPr/>
        </p:nvPicPr>
        <p:blipFill>
          <a:blip r:embed="rId1"/>
          <a:stretch/>
        </p:blipFill>
        <p:spPr>
          <a:xfrm>
            <a:off x="189000" y="5559480"/>
            <a:ext cx="8918640" cy="171288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 txBox="1"/>
          <p:nvPr/>
        </p:nvSpPr>
        <p:spPr>
          <a:xfrm>
            <a:off x="304560" y="1599840"/>
            <a:ext cx="41907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75f55"/>
                </a:solidFill>
                <a:latin typeface="Franklin Gothic Book"/>
              </a:rPr>
              <a:t>    </a:t>
            </a:r>
            <a:r>
              <a:rPr b="1" lang="ru-RU" sz="3600" spc="-1" strike="noStrike">
                <a:solidFill>
                  <a:srgbClr val="775f55"/>
                </a:solidFill>
                <a:latin typeface="Franklin Gothic Book"/>
              </a:rPr>
              <a:t>Я горжусь подвигом своего прадедушки и миллионов таких же героев, как он.</a:t>
            </a:r>
            <a:endParaRPr b="0" lang="en-US" sz="3600" spc="-1" strike="noStrike">
              <a:solidFill>
                <a:srgbClr val="775f55"/>
              </a:solidFill>
              <a:latin typeface="Franklin Gothic Book"/>
            </a:endParaRPr>
          </a:p>
        </p:txBody>
      </p:sp>
      <p:pic>
        <p:nvPicPr>
          <p:cNvPr id="417" name="Picture 4" descr="005"/>
          <p:cNvPicPr/>
          <p:nvPr/>
        </p:nvPicPr>
        <p:blipFill>
          <a:blip r:embed="rId2"/>
          <a:srcRect l="2735" t="2339" r="0" b="2978"/>
          <a:stretch/>
        </p:blipFill>
        <p:spPr>
          <a:xfrm>
            <a:off x="4853160" y="641520"/>
            <a:ext cx="405432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5T06:11:31Z</dcterms:created>
  <dc:creator>Алексей</dc:creator>
  <dc:description/>
  <cp:keywords/>
  <dc:language>en-US</dc:language>
  <cp:lastModifiedBy>Grandma</cp:lastModifiedBy>
  <dcterms:modified xsi:type="dcterms:W3CDTF">2015-01-29T16:39:45Z</dcterms:modified>
  <cp:revision>12</cp:revision>
  <dc:subject/>
  <dc:title>Проект по окружающему миру  "Кто нас защищал"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9.1.0.4746</vt:lpwstr>
  </property>
</Properties>
</file>