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B72-46B5-4B96-BF6F-FE6EE641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50A-50A9-4B18-BEC2-992029DC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5FDEE-5487-4642-8AF7-1BE36324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2BE24-D4F8-4AE8-9B96-B2287A91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3E453-5527-4398-8C89-4693BD75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C0F3C-ADC7-4481-9E5B-B87FAE49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417C1-4DDD-4245-BDCC-C2AD823F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56C4F-F64D-4D34-B639-29533664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2101A-3CD5-43F1-BE02-2E8632C5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52491-F036-4D87-9814-504034F8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BC02C-2CC9-4403-A819-E0497E03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70D-6E62-411F-88E8-0EBC4DDB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F2B-3EE8-44F6-9818-B475A59A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9986-A620-4670-8828-06D52A4B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0672-C3C2-4146-9A31-F3EA1D93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D6BD-B2A4-449E-B969-4B36FE96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E948-9986-49BE-8F43-98CC627A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D338-0A0D-4874-92CB-1251F744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1CED-E92D-4EB6-B92B-9A0EC8EC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6151-D6DE-4DB7-A8C1-6AF036F3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F35-444C-4802-8339-8B8A5162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F3BA-4AB2-4F84-AAEB-AC92EA3F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2352-456D-4D2F-8B49-0F0AC03D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0C9F-816E-460E-8AAC-B409DB10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B80A-8F38-4D67-B50C-67F36F3D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BE9F-C5F4-4497-8B27-98BBB418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A5F34-82F7-4712-96FB-DBDC4926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A142-27B2-4573-AEE5-28178998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4A1F-2BDF-4799-868B-26A30DAF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8E73-27C4-40A1-AC15-B31AEE5F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5011B-35FF-428B-A1E5-B36CD9F6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973-EAF4-4FB5-9E8E-5FE5597D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09BA1-37DC-4A2E-A59A-93F4ABDB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B75D-4C4F-4888-8D53-892C29D0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44DE9-10DD-42DC-9425-48BB9FE9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53C6-D41B-45DD-94ED-44BA9F19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F5695-34AF-4C8D-8B33-9A9FBC78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F66E-EE58-4F60-BF1B-2D2BE3A5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FF2D-12B8-413A-91C1-6A6A8015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AD87-D32C-425C-8319-74DF6C16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B7D8C-57B3-442D-A4D5-DE011B9B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B481D-A475-4EB7-A198-D2BB6391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233-CCDF-4623-892A-9BB15817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5F61B-882F-4903-BDFF-B479D5B7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3A6E3-DB89-4F26-A993-0BF9B2CE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F8F71-BFC5-4984-A1BB-EEB8E439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5D9AE-BCBA-400F-8B00-A9D6844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A9D05-8BF0-42DC-AF05-29FFA304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CE8C1-12F0-4AB6-B556-FB7502EA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C0FAD-A15B-4AB0-83D0-AB48F687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BD432-00CB-4BDE-B2A8-88016349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0BD36-98F7-45E6-B614-B7668DD0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919C9-5D5A-4FBD-87B7-C48A7C27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955-BA05-4977-B220-9638267B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DDF52-39EB-4CA0-9F43-C4CB87EE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8166-CDFC-4CEE-B463-53DA5359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D6319-FCD1-4065-B6C5-7CC4303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2841-2F47-4E50-82DC-018B8027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43D64-F077-41D7-A94E-16DF05BE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AB877-35BF-4E7E-B413-5EA28868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28320-1B47-450A-8A4E-C13CD439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764FC-47C4-485D-B48E-1B78C3A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E53A-BEC4-415F-BA4E-DF16CBC5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73269-2A12-4C2F-AF7A-12FA8328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CC2-BC2D-4B88-8A02-08293AF3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20FFF-87C5-4476-8773-8C9BF8BC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E6959-DF29-48C4-9D86-94816504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AD7C3-B09F-4F0D-8CAD-E420C72C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47A14-6FF1-4301-8879-313AD6F7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CAB34-9493-4EDC-8011-E17F3ED9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B1BA0-E50F-43E9-BF0F-D1369F31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D51C-CF5F-44EE-A146-1AD28E21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88876-99FD-4AFE-AFC8-627CAFE6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8F6ED-5F5E-465A-9976-8E5DC1F7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01BA3-79C8-4804-A7F0-C3F515C4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046-FE3D-4B13-A2C6-20040CBF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4C1BF-C41C-4CDD-A3FC-87540E76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040BA-2B0C-46B5-A3E4-404F97A0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2C5B4-E29C-4B50-8FFB-F77C81BA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82E8A-1183-402D-AA62-EC3CFB1A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BB32E-0A02-462E-B993-67C0B420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AB528-3EE3-4983-B46B-C487CA23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B5BB7-AAAE-45EA-AC2A-D991D7F5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77DA5-7EA6-4FD3-A730-FA37F9C5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A80AF-4340-4BC7-9749-D48E1A67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BF76B-C4C2-43B7-B0A6-A3053EC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565-871A-462E-B9DD-76CF7DA1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E3F6B-1AA9-4A10-A6A6-54A285A3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2822F-550E-440F-8EDD-A828D742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2B010-C6EF-4F11-831E-E7AAEE2F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71776-6FFE-4E71-9994-6358760F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C184C-AA15-496D-A080-8FB14490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BC7AD-47A6-452D-8DBD-71C18A75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03037-2C0F-4173-96AC-177130E2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C572-FA5B-4C64-94AD-11A19937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D4302-1055-4996-B834-0F39F592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AA74B-6D98-4CA2-82CA-F9B44B4C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31F-A9E6-46FE-8142-277F4811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7F109-B87D-4902-8F86-0D32B5D8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D247-C63A-47A6-924D-7B1BD47A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0A388-B5EB-4931-A79C-5955D976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66369-7254-424F-B083-813375F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90681-1ACC-41D3-9397-544FD300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487D2-4B73-4F4F-A45B-59DCDC0D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36758-4B60-4648-B2AF-C97F64C5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BA04C-2E0C-4564-B80B-61180F15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25CA0-8789-41C1-890F-70FC4DEA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0073C-2BAC-43C1-B011-B2AAC3CE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D90E-63D6-4F98-BAB1-161117B83502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3E25-B16A-4258-8B55-83F4A32FC827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13C4-7FE3-48B4-8B54-0B8BAD4FC8CC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bddc3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bddc3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63C5-CCB6-4B17-9E8A-BD6B94935210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0369-AA21-4218-BC6D-732A32E1EBAA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433B-0FE0-4FAD-9D3A-EEDA6BF32E2A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ED13-609E-4934-97B9-8331AFA85595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9DCE-7FFE-4320-A686-8781AD7B7D90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4b6d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4b6d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a0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8141-3DBF-41E9-9F1E-F112DDA3E135}" type="slidenum">
              <a:rPr b="0" lang="en-US" sz="1200" spc="-1" strike="noStrike">
                <a:solidFill>
                  <a:srgbClr val="82a0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82560" y="109440"/>
            <a:ext cx="7785000" cy="3969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028840" y="4633560"/>
            <a:ext cx="3886200" cy="210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534a"/>
                </a:solidFill>
                <a:latin typeface="Franklin Gothic Medium"/>
              </a:rPr>
              <a:t>Работу выполнил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534a"/>
                </a:solidFill>
                <a:latin typeface="Franklin Gothic Medium"/>
              </a:rPr>
              <a:t>ученик 3</a:t>
            </a:r>
            <a:r>
              <a:rPr b="1" lang="en-US" sz="2400" spc="-1" strike="noStrike">
                <a:solidFill>
                  <a:srgbClr val="68534a"/>
                </a:solidFill>
                <a:latin typeface="Franklin Gothic Medium"/>
              </a:rPr>
              <a:t>"</a:t>
            </a:r>
            <a:r>
              <a:rPr b="1" lang="ru-RU" sz="2400" spc="-1" strike="noStrike">
                <a:solidFill>
                  <a:srgbClr val="68534a"/>
                </a:solidFill>
                <a:latin typeface="Franklin Gothic Medium"/>
              </a:rPr>
              <a:t>А</a:t>
            </a:r>
            <a:r>
              <a:rPr b="1" lang="en-US" sz="2400" spc="-1" strike="noStrike">
                <a:solidFill>
                  <a:srgbClr val="68534a"/>
                </a:solidFill>
                <a:latin typeface="Franklin Gothic Medium"/>
              </a:rPr>
              <a:t>"</a:t>
            </a:r>
            <a:r>
              <a:rPr b="1" lang="ru-RU" sz="2400" spc="-1" strike="noStrike">
                <a:solidFill>
                  <a:srgbClr val="68534a"/>
                </a:solidFill>
                <a:latin typeface="Franklin Gothic Medium"/>
              </a:rPr>
              <a:t> класса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534a"/>
                </a:solidFill>
                <a:latin typeface="Franklin Gothic Medium"/>
              </a:rPr>
              <a:t>ГБОУ СОШ № 133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534a"/>
                </a:solidFill>
                <a:latin typeface="Franklin Gothic Medium"/>
              </a:rPr>
              <a:t>Шахматов Константин</a:t>
            </a:r>
            <a:endParaRPr b="0" lang="en-US" sz="2400" spc="-1" strike="noStrike">
              <a:solidFill>
                <a:srgbClr val="775f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6" descr=""/>
          <p:cNvPicPr/>
          <p:nvPr/>
        </p:nvPicPr>
        <p:blipFill>
          <a:blip r:embed="rId1"/>
          <a:stretch/>
        </p:blipFill>
        <p:spPr>
          <a:xfrm>
            <a:off x="-128520" y="-6480"/>
            <a:ext cx="9113760" cy="13654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6840" y="1987560"/>
            <a:ext cx="44751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Мой прадед, Мартынов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Георгий Григорьевич,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в 1940 году был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курсантом  лётно-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технической школы 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в городе Ульяновске.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04" name="Picture 4" descr="002"/>
          <p:cNvPicPr/>
          <p:nvPr/>
        </p:nvPicPr>
        <p:blipFill>
          <a:blip r:embed="rId2"/>
          <a:srcRect l="0" t="0" r="5112" b="18900"/>
          <a:stretch/>
        </p:blipFill>
        <p:spPr>
          <a:xfrm>
            <a:off x="4815000" y="1274760"/>
            <a:ext cx="371304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0" y="210960"/>
            <a:ext cx="91440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   </a:t>
            </a: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С 1941 по 1945 года участвовал в боевых действиях в составе 14-го Гвардейского Краснознамённого Смоленского полка бомбардировочной авиации дальнего действия 2-ой  воздушной армии на  фронтах : Центральный,  Ленинградский, 3-ий Украинский .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06" name="Picture 5" descr="http://wio.ru/gal2a/260sad-mig9.jpg"/>
          <p:cNvPicPr/>
          <p:nvPr/>
        </p:nvPicPr>
        <p:blipFill>
          <a:blip r:embed="rId1"/>
          <a:stretch/>
        </p:blipFill>
        <p:spPr>
          <a:xfrm>
            <a:off x="1298520" y="3262320"/>
            <a:ext cx="63723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1995120"/>
            <a:ext cx="4495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Book"/>
              </a:rPr>
              <a:t>    </a:t>
            </a: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За  мужество  и храбрость  прадедушка был  награждён медалями  и  орденами Красного Знамени  и Красной  Звезды.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10" name="Picture 4" descr="003"/>
          <p:cNvPicPr/>
          <p:nvPr/>
        </p:nvPicPr>
        <p:blipFill>
          <a:blip r:embed="rId1"/>
          <a:srcRect l="3885" t="0" r="5642" b="8950"/>
          <a:stretch/>
        </p:blipFill>
        <p:spPr>
          <a:xfrm>
            <a:off x="4921200" y="1104840"/>
            <a:ext cx="39481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775f55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13" name="Picture 4" descr="004"/>
          <p:cNvPicPr/>
          <p:nvPr/>
        </p:nvPicPr>
        <p:blipFill>
          <a:blip r:embed="rId1"/>
          <a:srcRect l="3219" t="3423" r="6021" b="1865"/>
          <a:stretch/>
        </p:blipFill>
        <p:spPr>
          <a:xfrm>
            <a:off x="304920" y="1298520"/>
            <a:ext cx="3878280" cy="52196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241880" y="1599840"/>
            <a:ext cx="4749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    </a:t>
            </a: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После Победы Георгий Григорьевич продолжил служить в Ленинградском военном округе, в 11-ом истребительном полку 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    </a:t>
            </a:r>
            <a:r>
              <a:rPr b="1" lang="ru-RU" sz="2800" spc="-1" strike="noStrike">
                <a:solidFill>
                  <a:srgbClr val="775f55"/>
                </a:solidFill>
                <a:latin typeface="Franklin Gothic Medium"/>
              </a:rPr>
              <a:t>25-ой воздушной армии, в посёлке Горелово.</a:t>
            </a:r>
            <a:endParaRPr b="0" lang="en-US" sz="2800" spc="-1" strike="noStrike">
              <a:solidFill>
                <a:srgbClr val="775f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89000" y="5559480"/>
            <a:ext cx="8918640" cy="1712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Franklin Gothic Book"/>
              </a:rPr>
              <a:t>    </a:t>
            </a:r>
            <a:r>
              <a:rPr b="1" lang="ru-RU" sz="3600" spc="-1" strike="noStrike">
                <a:solidFill>
                  <a:srgbClr val="775f55"/>
                </a:solidFill>
                <a:latin typeface="Franklin Gothic Book"/>
              </a:rPr>
              <a:t>Я горжусь подвигом своего прадедушки и миллионов таких же героев, как он.</a:t>
            </a:r>
            <a:endParaRPr b="0" lang="en-US" sz="3600" spc="-1" strike="noStrike">
              <a:solidFill>
                <a:srgbClr val="775f55"/>
              </a:solidFill>
              <a:latin typeface="Franklin Gothic Book"/>
            </a:endParaRPr>
          </a:p>
        </p:txBody>
      </p:sp>
      <p:pic>
        <p:nvPicPr>
          <p:cNvPr id="417" name="Picture 4" descr="005"/>
          <p:cNvPicPr/>
          <p:nvPr/>
        </p:nvPicPr>
        <p:blipFill>
          <a:blip r:embed="rId2"/>
          <a:srcRect l="2735" t="2339" r="0" b="2978"/>
          <a:stretch/>
        </p:blipFill>
        <p:spPr>
          <a:xfrm>
            <a:off x="4853160" y="641520"/>
            <a:ext cx="40543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Алексей</dc:creator>
  <dc:description/>
  <cp:keywords/>
  <dc:language>en-US</dc:language>
  <cp:lastModifiedBy>Grandma</cp:lastModifiedBy>
  <dcterms:modified xsi:type="dcterms:W3CDTF">2015-01-29T16:39:45Z</dcterms:modified>
  <cp:revision>12</cp:revision>
  <dc:subject/>
  <dc:title>Проект по окружающему миру  "Кто нас защищал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