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A73-7F10-4B07-86B3-2BFFD693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DB7-92C4-4B07-80C2-2086334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A51-CF86-4945-B8BA-DDE52AC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CE9-694D-4D4B-831B-0EC0BA9F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880-AB6B-4DE7-B76C-BF2E6E80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EC9A-3A8C-4145-B9B4-826C0C0F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26F5-523E-470E-A972-D3C1299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DF5C-8F87-43CD-B289-41B55C3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954-17D1-47EE-A9F3-0F0D880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1DE-3DAE-4400-AB5B-8B0A0CF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2358-D818-4404-83C9-4BBF686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D25-37EC-4E2D-93A7-81163691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6B5-DB57-435A-9B82-C0B4034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B05-89F7-468B-BCD7-55390A7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9BD2-8AAC-4F12-A8CA-F187B13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C78A-92AE-44E7-84A2-5C7E885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CE8-D90D-4849-8C68-E892514F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8CBD-E7A6-4846-9EA9-20CDFA07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6616-9927-443E-876E-C6DD1C4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D7CA-B3C8-42BC-8C22-3D6D8CE9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E83E-E086-4BE5-8BF3-95F3D5AE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4565-7B70-44D7-AFB2-56C8D07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474-E326-46A9-B0DE-B0E0BAD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2F63-A59E-448A-94B7-3750C67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94D5-E9F7-4637-88F1-49F2ECA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C50E-8927-490A-9A67-5136665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4A0D-FB58-494C-B03B-D4760FD6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FA6D-F2FE-40F3-A870-BB7E99C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C364-CF9C-42AC-B87E-1466F6E5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A852-D69B-4F34-AEDD-16F0C95C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05B6-6AFC-44F4-A541-9CF2D96F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20C7-FE26-45C4-80A0-FBF9458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B4BF-DEEF-4514-8D86-72A8BD2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074-D970-4508-AA7F-FCF22F5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1B79-116D-4771-9052-475C082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2393-79CA-4A1F-B804-7D3389F3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297B-EA9E-4447-AAFD-ECA3991E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E2DA-9603-451D-AFC3-E7C8BA69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35A5-5CCA-4A2C-8CA8-95316A5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A7D5-DD8E-48B8-9BDF-D96CA80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4DF7-FFE3-4ACE-B399-3F2D4E1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B3E7-FE75-48A2-A233-DF4F3C13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D608-3A5A-4649-95C1-F580B24F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E85-A94F-4388-A83A-6CB96F7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9CB-0549-4E1F-91FD-EBE5FE2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842-8187-43C6-A4FB-C6840A24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578-0E01-4DA4-BF2C-07FF04A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7A4-74B2-4157-8F0E-94E84EB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F0F2-93BA-44C9-8A75-893CFA516F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0E94-6D33-40DE-A942-6583525ACDB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967-6F61-4477-87DC-E792B848BB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4043-9C53-4464-BF3A-83D5DCE1FDE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227280" y="3860640"/>
            <a:ext cx="252108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12745"/>
                </a:solidFill>
                <a:latin typeface="Trebuchet MS"/>
              </a:rPr>
              <a:t>           </a:t>
            </a:r>
            <a:r>
              <a:rPr b="0" lang="en-US" sz="7400" spc="-1" strike="noStrike">
                <a:solidFill>
                  <a:srgbClr val="94c600"/>
                </a:solidFill>
                <a:latin typeface="Trebuchet MS"/>
              </a:rPr>
              <a:t>Zoo</a:t>
            </a:r>
            <a:endParaRPr b="0" lang="en-US" sz="7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297400" y="-390600"/>
            <a:ext cx="3810240" cy="391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Светлана\Desktop\j0280935_742CF825.jpg"/>
          <p:cNvPicPr/>
          <p:nvPr/>
        </p:nvPicPr>
        <p:blipFill>
          <a:blip r:embed="rId2"/>
          <a:stretch/>
        </p:blipFill>
        <p:spPr>
          <a:xfrm>
            <a:off x="428760" y="476280"/>
            <a:ext cx="97308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023840" y="585720"/>
            <a:ext cx="7023240" cy="193212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2" descr=""/>
          <p:cNvPicPr/>
          <p:nvPr/>
        </p:nvPicPr>
        <p:blipFill>
          <a:blip r:embed="rId2"/>
          <a:stretch/>
        </p:blipFill>
        <p:spPr>
          <a:xfrm>
            <a:off x="433440" y="2511360"/>
            <a:ext cx="9612360" cy="42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Светлана\Desktop\большой заяц.png"/>
          <p:cNvPicPr/>
          <p:nvPr/>
        </p:nvPicPr>
        <p:blipFill>
          <a:blip r:embed="rId3"/>
          <a:stretch/>
        </p:blipFill>
        <p:spPr>
          <a:xfrm>
            <a:off x="5675400" y="296244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Светлана\Desktop\0911201005Winter.jpg"/>
          <p:cNvPicPr/>
          <p:nvPr/>
        </p:nvPicPr>
        <p:blipFill>
          <a:blip r:embed="rId4"/>
          <a:stretch/>
        </p:blipFill>
        <p:spPr>
          <a:xfrm>
            <a:off x="1163520" y="3108240"/>
            <a:ext cx="1446480" cy="139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26920" y="564840"/>
            <a:ext cx="75614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Blac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Yellow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Whi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re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Braw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Orang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re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C:\Users\Светлана\Desktop\лошадь.jpg"/>
          <p:cNvPicPr/>
          <p:nvPr/>
        </p:nvPicPr>
        <p:blipFill>
          <a:blip r:embed="rId1"/>
          <a:stretch/>
        </p:blipFill>
        <p:spPr>
          <a:xfrm>
            <a:off x="5292720" y="8748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Светлана\Desktop\кролик.jpg"/>
          <p:cNvPicPr/>
          <p:nvPr/>
        </p:nvPicPr>
        <p:blipFill>
          <a:blip r:embed="rId2"/>
          <a:stretch/>
        </p:blipFill>
        <p:spPr>
          <a:xfrm>
            <a:off x="3365640" y="2919240"/>
            <a:ext cx="1147680" cy="7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Светлана\Desktop\csiko8.jpg"/>
          <p:cNvPicPr/>
          <p:nvPr/>
        </p:nvPicPr>
        <p:blipFill>
          <a:blip r:embed="rId3"/>
          <a:stretch/>
        </p:blipFill>
        <p:spPr>
          <a:xfrm>
            <a:off x="826920" y="4735440"/>
            <a:ext cx="1306800" cy="925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Светлана\Desktop\655116001200niedwied.jpg"/>
          <p:cNvPicPr/>
          <p:nvPr/>
        </p:nvPicPr>
        <p:blipFill>
          <a:blip r:embed="rId4"/>
          <a:stretch/>
        </p:blipFill>
        <p:spPr>
          <a:xfrm>
            <a:off x="6084720" y="2919240"/>
            <a:ext cx="1024200" cy="71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Светлана\Desktop\лягушонок.jpg"/>
          <p:cNvPicPr/>
          <p:nvPr/>
        </p:nvPicPr>
        <p:blipFill>
          <a:blip r:embed="rId5"/>
          <a:stretch/>
        </p:blipFill>
        <p:spPr>
          <a:xfrm>
            <a:off x="3011400" y="874800"/>
            <a:ext cx="960480" cy="861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Светлана\Desktop\крокодил.jpg"/>
          <p:cNvPicPr/>
          <p:nvPr/>
        </p:nvPicPr>
        <p:blipFill>
          <a:blip r:embed="rId6"/>
          <a:stretch/>
        </p:blipFill>
        <p:spPr>
          <a:xfrm>
            <a:off x="6172200" y="4735440"/>
            <a:ext cx="1208160" cy="90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Светлана\Desktop\lisenok.jpg"/>
          <p:cNvPicPr/>
          <p:nvPr/>
        </p:nvPicPr>
        <p:blipFill>
          <a:blip r:embed="rId7"/>
          <a:stretch/>
        </p:blipFill>
        <p:spPr>
          <a:xfrm>
            <a:off x="3605040" y="4722840"/>
            <a:ext cx="125424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12880" y="90792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79ca"/>
                </a:solidFill>
                <a:latin typeface="Trebuchet MS"/>
              </a:rPr>
              <a:t>Say what animals do you like and why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0" name="Picture 2" descr="C:\Users\Светлана\Desktop\i.jpg"/>
          <p:cNvPicPr/>
          <p:nvPr/>
        </p:nvPicPr>
        <p:blipFill>
          <a:blip r:embed="rId1"/>
          <a:stretch/>
        </p:blipFill>
        <p:spPr>
          <a:xfrm>
            <a:off x="3720960" y="2867040"/>
            <a:ext cx="1816200" cy="504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12880" y="5084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79ca"/>
                </a:solidFill>
                <a:latin typeface="Trebuchet MS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monkey because it’s funny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042920" y="895320"/>
            <a:ext cx="70214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2182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Груша"/>
          <p:cNvPicPr/>
          <p:nvPr/>
        </p:nvPicPr>
        <p:blipFill>
          <a:blip r:embed="rId2"/>
          <a:stretch/>
        </p:blipFill>
        <p:spPr>
          <a:xfrm>
            <a:off x="6372360" y="2401920"/>
            <a:ext cx="691920" cy="804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На деревьях растёт множество фруктов . Это-яблоки,груши,ап-ельсины, манда-рины,айва ,лимоны,гранаты и многие другие. - Картинка"/>
          <p:cNvPicPr/>
          <p:nvPr/>
        </p:nvPicPr>
        <p:blipFill>
          <a:blip r:embed="rId3"/>
          <a:stretch/>
        </p:blipFill>
        <p:spPr>
          <a:xfrm>
            <a:off x="684360" y="2401920"/>
            <a:ext cx="7920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944640" y="781200"/>
            <a:ext cx="7156440" cy="5503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Светлана\Desktop\енот.jpg"/>
          <p:cNvPicPr/>
          <p:nvPr/>
        </p:nvPicPr>
        <p:blipFill>
          <a:blip r:embed="rId2"/>
          <a:stretch/>
        </p:blipFill>
        <p:spPr>
          <a:xfrm>
            <a:off x="4359240" y="4218120"/>
            <a:ext cx="7858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47:03Z</dcterms:created>
  <dc:creator>Светлана</dc:creator>
  <dc:description/>
  <dc:language>en-US</dc:language>
  <cp:lastModifiedBy>user</cp:lastModifiedBy>
  <dcterms:modified xsi:type="dcterms:W3CDTF">2015-01-29T14:33:08Z</dcterms:modified>
  <cp:revision>23</cp:revision>
  <dc:subject/>
  <dc:title>Let’s go   to the</dc:title>
</cp:coreProperties>
</file>