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11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EB6-0E56-4AB9-B10E-EF7CF463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833-5602-4560-9A50-53BEAE4E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E6F-27AD-4BBD-9117-267D6BDD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301-6636-49DF-B096-E35A5E06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D021-5D21-4669-8E05-6601A57A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C815-8946-4BC5-B3C6-B295E7A3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9AF1-0D43-4F86-961A-4D3AA9C4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4B05-24E3-45B7-9FEE-4AA3A9DC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0AF8-C9CD-40AB-8A0B-3CC628D3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B692-6931-4768-8951-741ACC95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8B5E-3414-46CC-A481-D6CA8DB2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E4D-0CBE-41F5-A0EA-AEA01A3C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24F1-860E-4CF7-9E4E-0B85859B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33E2-D302-4C47-8175-B91F760C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D14E-EEBF-4535-B4CE-39F0C996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E758-2540-4CB5-BA90-5507BD56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9C84-853D-41D4-A6B1-B03ED81B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40CC-76D4-48A2-9C3F-1A7FDD16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92E8-BB63-4561-ADF3-FA728CA9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E31A5-D699-4734-B6D6-8C50980A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652A-68ED-4C97-898E-63F160E7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59E2-F141-4A43-B2DB-8D489111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CE1-5D29-48A4-BF80-23085771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3A214-F7A3-445F-A8D9-E7C55AC4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F697-C10D-429B-9A0A-EDDEBFFF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4EB80-B22F-4405-AF59-8621A3A6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975C-7DD4-4046-9F1E-035CBD15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162E-EEF2-422D-8781-2227492F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66A0D-A5F2-404E-B65C-95F97C5E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769C-64F8-4DAA-85F0-F33E5125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5FAF6-20C2-4123-90BA-CE007C03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F1CE-B34B-494C-B994-E16B20DD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28CD-85E6-4AE8-8B74-6833B6AC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94C-1B95-4D81-B6E0-CF5AEFB0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BBB2-D439-4747-98FB-7E589F5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85410-6394-454D-B264-226C6DCE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345B2-3F5C-4CA1-8EA6-7A9D3146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857AE-F2A2-421A-966C-E1D6A4F9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567C-BBFD-48A9-AA3A-5FDACA22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52D6C-6C03-4DA7-808B-35204CA2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99719-6C3D-4863-A02D-315948FC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8BE99-4DE5-4754-9C85-2795A6A6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9FC5E-6387-4E41-97D9-C24575D4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8D5-283A-47CE-88C3-7AD3DE65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2F4-BE3A-4E75-A437-28CFB9E1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CAE-1396-4901-8D7F-9DE84900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71B-DD60-4A84-9E2F-71784E01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82E-2F29-4E8D-86C5-C4DA8C7F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A611-3C47-491C-8DE0-B30C1D9305A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BF17-3CE2-4232-A017-32DB2A7EBC2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A5AF-5DA4-4831-A27F-B26116C9D8E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873B-3D8B-409E-954B-2C807E047FD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227280" y="3860640"/>
            <a:ext cx="2521080" cy="12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12745"/>
                </a:solidFill>
                <a:latin typeface="Trebuchet MS"/>
              </a:rPr>
              <a:t>           </a:t>
            </a:r>
            <a:r>
              <a:rPr b="0" lang="en-US" sz="7400" spc="-1" strike="noStrike">
                <a:solidFill>
                  <a:srgbClr val="94c600"/>
                </a:solidFill>
                <a:latin typeface="Trebuchet MS"/>
              </a:rPr>
              <a:t>Zoo</a:t>
            </a:r>
            <a:endParaRPr b="0" lang="en-US" sz="7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297400" y="-390600"/>
            <a:ext cx="3810240" cy="3919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Users\Светлана\Desktop\j0280935_742CF825.jpg"/>
          <p:cNvPicPr/>
          <p:nvPr/>
        </p:nvPicPr>
        <p:blipFill>
          <a:blip r:embed="rId2"/>
          <a:stretch/>
        </p:blipFill>
        <p:spPr>
          <a:xfrm>
            <a:off x="428760" y="476280"/>
            <a:ext cx="973080" cy="82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023840" y="585720"/>
            <a:ext cx="7023240" cy="193212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2" descr=""/>
          <p:cNvPicPr/>
          <p:nvPr/>
        </p:nvPicPr>
        <p:blipFill>
          <a:blip r:embed="rId2"/>
          <a:stretch/>
        </p:blipFill>
        <p:spPr>
          <a:xfrm>
            <a:off x="433440" y="2511360"/>
            <a:ext cx="9612360" cy="4243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:\Users\Светлана\Desktop\большой заяц.png"/>
          <p:cNvPicPr/>
          <p:nvPr/>
        </p:nvPicPr>
        <p:blipFill>
          <a:blip r:embed="rId3"/>
          <a:stretch/>
        </p:blipFill>
        <p:spPr>
          <a:xfrm>
            <a:off x="5675400" y="296244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Светлана\Desktop\0911201005Winter.jpg"/>
          <p:cNvPicPr/>
          <p:nvPr/>
        </p:nvPicPr>
        <p:blipFill>
          <a:blip r:embed="rId4"/>
          <a:stretch/>
        </p:blipFill>
        <p:spPr>
          <a:xfrm>
            <a:off x="1163520" y="3108240"/>
            <a:ext cx="1446480" cy="1397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26920" y="564840"/>
            <a:ext cx="756144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Black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Yellow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Whi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Gre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Braw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Orang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Gre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2" descr="C:\Users\Светлана\Desktop\лошадь.jpg"/>
          <p:cNvPicPr/>
          <p:nvPr/>
        </p:nvPicPr>
        <p:blipFill>
          <a:blip r:embed="rId1"/>
          <a:stretch/>
        </p:blipFill>
        <p:spPr>
          <a:xfrm>
            <a:off x="5292720" y="874800"/>
            <a:ext cx="1008000" cy="777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Светлана\Desktop\кролик.jpg"/>
          <p:cNvPicPr/>
          <p:nvPr/>
        </p:nvPicPr>
        <p:blipFill>
          <a:blip r:embed="rId2"/>
          <a:stretch/>
        </p:blipFill>
        <p:spPr>
          <a:xfrm>
            <a:off x="3365640" y="2919240"/>
            <a:ext cx="1147680" cy="71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Светлана\Desktop\csiko8.jpg"/>
          <p:cNvPicPr/>
          <p:nvPr/>
        </p:nvPicPr>
        <p:blipFill>
          <a:blip r:embed="rId3"/>
          <a:stretch/>
        </p:blipFill>
        <p:spPr>
          <a:xfrm>
            <a:off x="826920" y="4735440"/>
            <a:ext cx="1306800" cy="925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:\Users\Светлана\Desktop\655116001200niedwied.jpg"/>
          <p:cNvPicPr/>
          <p:nvPr/>
        </p:nvPicPr>
        <p:blipFill>
          <a:blip r:embed="rId4"/>
          <a:stretch/>
        </p:blipFill>
        <p:spPr>
          <a:xfrm>
            <a:off x="6084720" y="2919240"/>
            <a:ext cx="1024200" cy="717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Users\Светлана\Desktop\лягушонок.jpg"/>
          <p:cNvPicPr/>
          <p:nvPr/>
        </p:nvPicPr>
        <p:blipFill>
          <a:blip r:embed="rId5"/>
          <a:stretch/>
        </p:blipFill>
        <p:spPr>
          <a:xfrm>
            <a:off x="3011400" y="874800"/>
            <a:ext cx="960480" cy="861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C:\Users\Светлана\Desktop\крокодил.jpg"/>
          <p:cNvPicPr/>
          <p:nvPr/>
        </p:nvPicPr>
        <p:blipFill>
          <a:blip r:embed="rId6"/>
          <a:stretch/>
        </p:blipFill>
        <p:spPr>
          <a:xfrm>
            <a:off x="6172200" y="4735440"/>
            <a:ext cx="1208160" cy="903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C:\Users\Светлана\Desktop\lisenok.jpg"/>
          <p:cNvPicPr/>
          <p:nvPr/>
        </p:nvPicPr>
        <p:blipFill>
          <a:blip r:embed="rId7"/>
          <a:stretch/>
        </p:blipFill>
        <p:spPr>
          <a:xfrm>
            <a:off x="3605040" y="4722840"/>
            <a:ext cx="1254240" cy="927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12880" y="90792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79ca"/>
                </a:solidFill>
                <a:latin typeface="Trebuchet MS"/>
              </a:rPr>
              <a:t>Say what animals do you like and why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0" name="Picture 2" descr="C:\Users\Светлана\Desktop\i.jpg"/>
          <p:cNvPicPr/>
          <p:nvPr/>
        </p:nvPicPr>
        <p:blipFill>
          <a:blip r:embed="rId1"/>
          <a:stretch/>
        </p:blipFill>
        <p:spPr>
          <a:xfrm>
            <a:off x="3720960" y="2867040"/>
            <a:ext cx="1816200" cy="504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812880" y="5084640"/>
            <a:ext cx="76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79ca"/>
                </a:solidFill>
                <a:latin typeface="Trebuchet MS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 like monkey because it’s funny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1042920" y="895320"/>
            <a:ext cx="702144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042920" y="731880"/>
            <a:ext cx="7021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516360" cy="2182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Груша"/>
          <p:cNvPicPr/>
          <p:nvPr/>
        </p:nvPicPr>
        <p:blipFill>
          <a:blip r:embed="rId2"/>
          <a:stretch/>
        </p:blipFill>
        <p:spPr>
          <a:xfrm>
            <a:off x="6372360" y="2401920"/>
            <a:ext cx="691920" cy="804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На деревьях растёт множество фруктов . Это-яблоки,груши,ап-ельсины, манда-рины,айва ,лимоны,гранаты и многие другие. - Картинка"/>
          <p:cNvPicPr/>
          <p:nvPr/>
        </p:nvPicPr>
        <p:blipFill>
          <a:blip r:embed="rId3"/>
          <a:stretch/>
        </p:blipFill>
        <p:spPr>
          <a:xfrm>
            <a:off x="684360" y="2401920"/>
            <a:ext cx="7920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944640" y="781200"/>
            <a:ext cx="7156440" cy="5503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Светлана\Desktop\енот.jpg"/>
          <p:cNvPicPr/>
          <p:nvPr/>
        </p:nvPicPr>
        <p:blipFill>
          <a:blip r:embed="rId2"/>
          <a:stretch/>
        </p:blipFill>
        <p:spPr>
          <a:xfrm>
            <a:off x="4359240" y="4218120"/>
            <a:ext cx="7858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5:47:03Z</dcterms:created>
  <dc:creator>Светлана</dc:creator>
  <dc:description/>
  <dc:language>en-US</dc:language>
  <cp:lastModifiedBy>user</cp:lastModifiedBy>
  <dcterms:modified xsi:type="dcterms:W3CDTF">2015-01-29T14:33:08Z</dcterms:modified>
  <cp:revision>23</cp:revision>
  <dc:subject/>
  <dc:title>Let’s go   to the</dc:title>
</cp:coreProperties>
</file>