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27F4-F9B5-49F3-8D76-BB3D9D6D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33FE-4059-4816-A358-5A9A3BA1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5F00-96CF-4BE5-B6E2-59E0BBFF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5495-8C79-4455-BF24-9E4CFEAB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146C-8459-4CA0-A0C7-B2EDEB2D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0080-9752-4AFB-8395-63DC2CA7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7137-134A-4B25-A034-1F8147B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C2CA-B0E0-49A5-9FA1-FA549F2B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F243-028F-4C8C-8941-1C7DF46A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0422-6902-4135-B003-26A939AA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BC58-9851-4E83-8F5C-A7B6C385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2A13-06C2-49A1-B457-298EF02E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B24F-B4A4-4E27-AFEA-6FC6018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1CF4-D200-4E2D-B5CC-EF66E5F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65AB-7513-41BD-BAE5-C24A9657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5B75-9264-4655-BF3F-380FCCDF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FC9A-54DB-4D38-970C-F1269FDA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8D96-23AF-401E-A94E-830B3D89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A50B-2A92-4D08-A8BC-678E4D51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3CC7-683E-44AE-9FA9-8C02A62A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0ED0-1CBF-428A-AC44-49D3C2CD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1A54-9E6B-42C8-9FDA-5CA1A72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7D9F-CDFA-41B8-8C11-5BA60256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12AD-4722-4026-9C2E-F372E66D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E0BB-57A3-4183-9B7F-E60AC9773D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2522-A409-40F1-B849-1A6BE8C484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arfirova11.ucoz.ru/_si/0/25941413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9000" y="220932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Театральные технологии как способ развития творчески одаренной личност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тер – класс учителя русского языка и литературы высшей категории МОАУ СОШ №1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олотаревой Натальи Николаев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Рисунок 5" descr="http://parfirova11.ucoz.ru/_si/0/s2594141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0"/>
            <a:ext cx="3352680" cy="25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6602400" y="152280"/>
            <a:ext cx="2541600" cy="1951200"/>
          </a:xfrm>
          <a:prstGeom prst="rect">
            <a:avLst/>
          </a:prstGeom>
          <a:ln w="0">
            <a:noFill/>
          </a:ln>
        </p:spPr>
      </p:pic>
      <p:pic>
        <p:nvPicPr>
          <p:cNvPr id="130" name="2h2_-_Krasivaya_liricheskaya_muzyka_iz_konca_efira_1993-1996_(iPlayer.fm) (1).mp3" descr=""/>
          <p:cNvPicPr/>
          <p:nvPr/>
        </p:nvPicPr>
        <p:blipFill>
          <a:blip r:embed="rId4"/>
          <a:stretch/>
        </p:blipFill>
        <p:spPr>
          <a:xfrm>
            <a:off x="807732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55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62160" y="2437920"/>
            <a:ext cx="5181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19320" y="51814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bolshoi_front"/>
          <p:cNvPicPr/>
          <p:nvPr/>
        </p:nvPicPr>
        <p:blipFill>
          <a:blip r:embed="rId1"/>
          <a:stretch/>
        </p:blipFill>
        <p:spPr>
          <a:xfrm>
            <a:off x="2286000" y="380880"/>
            <a:ext cx="3952800" cy="4905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4905360"/>
            <a:ext cx="1523880" cy="1463760"/>
          </a:xfrm>
          <a:prstGeom prst="rect">
            <a:avLst/>
          </a:prstGeom>
          <a:ln w="0">
            <a:noFill/>
          </a:ln>
        </p:spPr>
      </p:pic>
      <p:pic>
        <p:nvPicPr>
          <p:cNvPr id="135" name="фанфары.mp3" descr=""/>
          <p:cNvPicPr/>
          <p:nvPr/>
        </p:nvPicPr>
        <p:blipFill>
          <a:blip r:embed="rId3"/>
          <a:stretch/>
        </p:blipFill>
        <p:spPr>
          <a:xfrm>
            <a:off x="800100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23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ормы и средства 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еатральной технолог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7440" y="167616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инительство и сказкотворче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ю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нтони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альные упражн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левые игр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7" descr="masks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46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big_teatr"/>
          <p:cNvPicPr/>
          <p:nvPr/>
        </p:nvPicPr>
        <p:blipFill>
          <a:blip r:embed="rId2"/>
          <a:stretch/>
        </p:blipFill>
        <p:spPr>
          <a:xfrm>
            <a:off x="0" y="1752480"/>
            <a:ext cx="5105520" cy="4686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09"/>
          <p:cNvPicPr/>
          <p:nvPr/>
        </p:nvPicPr>
        <p:blipFill>
          <a:blip r:embed="rId1"/>
          <a:stretch/>
        </p:blipFill>
        <p:spPr>
          <a:xfrm>
            <a:off x="3124080" y="228600"/>
            <a:ext cx="6019920" cy="4013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43430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й из разновидностей игры 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атральной педагогике является этю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левая иг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олевая игра – это игровая и учебная деятельность одновременно. Она обладает большими обучающими возможностями, способствует расширению психологического диапозона, пониманию других людей, повышает эффективность учебно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teatr02"/>
          <p:cNvPicPr/>
          <p:nvPr/>
        </p:nvPicPr>
        <p:blipFill>
          <a:blip r:embed="rId1"/>
          <a:stretch/>
        </p:blipFill>
        <p:spPr>
          <a:xfrm>
            <a:off x="0" y="4900680"/>
            <a:ext cx="2438280" cy="1957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ефлексия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Закончите фразу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 пришел(а) с чувством… - Ухожу с желание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 пришел(а) с желанием… - Ухожу с чувство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2952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akter1"/>
          <p:cNvPicPr/>
          <p:nvPr/>
        </p:nvPicPr>
        <p:blipFill>
          <a:blip r:embed="rId1"/>
          <a:stretch/>
        </p:blipFill>
        <p:spPr>
          <a:xfrm>
            <a:off x="4952880" y="4162320"/>
            <a:ext cx="4191120" cy="2695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400800" y="0"/>
            <a:ext cx="2541600" cy="1951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54864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ть выйди ты не в белый све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в поле за околиц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 идешь за кем-то всле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рога не запомни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то, куда б ты ни поп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по какой распутиц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рога та, что сам искал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век не позабуде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Н. Рыленко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211927"/>
          <p:cNvPicPr/>
          <p:nvPr/>
        </p:nvPicPr>
        <p:blipFill>
          <a:blip r:embed="rId1"/>
          <a:stretch/>
        </p:blipFill>
        <p:spPr>
          <a:xfrm>
            <a:off x="0" y="0"/>
            <a:ext cx="8915400" cy="6172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Уважаемые коллеги,                        спасибо за работу 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дмин</cp:lastModifiedBy>
  <dcterms:modified xsi:type="dcterms:W3CDTF">2014-10-14T01:17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