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F765-1BDD-4CEB-B592-796171D3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6CAD-182C-474B-A79C-18C4F972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F5B6-89E2-424E-BC30-FA290CC4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4A04-3446-4280-AA02-F79DAC9B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47A1-D8E7-43F7-9B32-5A20982D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DBD7-BF0A-490C-AD74-BA32787D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EC9F-98EA-4CB4-A2F0-F897712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EE36-4529-41B6-9CFC-1362B71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2003-A979-4C44-9235-4E56157F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1C71-6F18-4540-9139-57B6501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738D-337C-47FE-854D-A503802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5AA8-CD75-4EF0-8145-89E6C97A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5A9F-3BF0-4A64-8B94-ED880887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F7C9-1DFE-468D-9F8C-E8E3CD7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2670-BBEF-45C5-A59B-452395D9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5B33-B655-4A5F-8158-04E7C54D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9A5E-AB61-4C4E-AF0D-E816FA15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5946-101A-4CCF-A3C7-3676FDC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0910-0DB0-4C3D-80B2-D35FE4FD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E003-18FF-445C-ACB8-B91E7FBA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4E93-3AC2-48BB-A39E-EB2C5F3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06F5-69EF-4C39-8C6B-3F42A32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4BB1-B8B4-4AE2-9037-16EFFF5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A7F5-C378-43AE-83FE-63DE5F2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C1F-BCEF-4002-8AE3-9FF7D8108C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D9DC-2E7D-4390-8925-9CE1605E52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arfirova11.ucoz.ru/_si/0/25941413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9000" y="220932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Театральные технологии как способ развития творчески одаренной личност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тер – класс учителя русского языка и литературы высшей категории МОАУ СОШ №1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олотаревой Натальи Николаев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Рисунок 5" descr="http://parfirova11.ucoz.ru/_si/0/s259414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0"/>
            <a:ext cx="3352680" cy="25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6602400" y="152280"/>
            <a:ext cx="2541600" cy="1951200"/>
          </a:xfrm>
          <a:prstGeom prst="rect">
            <a:avLst/>
          </a:prstGeom>
          <a:ln w="0">
            <a:noFill/>
          </a:ln>
        </p:spPr>
      </p:pic>
      <p:pic>
        <p:nvPicPr>
          <p:cNvPr id="130" name="2h2_-_Krasivaya_liricheskaya_muzyka_iz_konca_efira_1993-1996_(iPlayer.fm) (1).mp3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55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2160" y="2437920"/>
            <a:ext cx="5181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19320" y="5181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bolshoi_front"/>
          <p:cNvPicPr/>
          <p:nvPr/>
        </p:nvPicPr>
        <p:blipFill>
          <a:blip r:embed="rId1"/>
          <a:stretch/>
        </p:blipFill>
        <p:spPr>
          <a:xfrm>
            <a:off x="2286000" y="380880"/>
            <a:ext cx="3952800" cy="4905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4905360"/>
            <a:ext cx="1523880" cy="1463760"/>
          </a:xfrm>
          <a:prstGeom prst="rect">
            <a:avLst/>
          </a:prstGeom>
          <a:ln w="0">
            <a:noFill/>
          </a:ln>
        </p:spPr>
      </p:pic>
      <p:pic>
        <p:nvPicPr>
          <p:cNvPr id="135" name="фанфары.mp3" descr=""/>
          <p:cNvPicPr/>
          <p:nvPr/>
        </p:nvPicPr>
        <p:blipFill>
          <a:blip r:embed="rId3"/>
          <a:stretch/>
        </p:blipFill>
        <p:spPr>
          <a:xfrm>
            <a:off x="80010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23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ормы и средства </a:t>
            </a:r>
            <a:br>
              <a:rPr sz="42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театральной технолог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7440" y="167616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инительство и сказкотворче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ю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тони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атральные упражн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левые игр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7" descr="masks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46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g_teatr"/>
          <p:cNvPicPr/>
          <p:nvPr/>
        </p:nvPicPr>
        <p:blipFill>
          <a:blip r:embed="rId2"/>
          <a:stretch/>
        </p:blipFill>
        <p:spPr>
          <a:xfrm>
            <a:off x="0" y="1752480"/>
            <a:ext cx="510552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9"/>
          <p:cNvPicPr/>
          <p:nvPr/>
        </p:nvPicPr>
        <p:blipFill>
          <a:blip r:embed="rId1"/>
          <a:stretch/>
        </p:blipFill>
        <p:spPr>
          <a:xfrm>
            <a:off x="3124080" y="228600"/>
            <a:ext cx="6019920" cy="4013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43430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й из разновидностей игры 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атральной педагогике является этю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левая иг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олевая игра – это игровая и учебная деятельность одновременно. Она обладает большими обучающими возможностями, способствует расширению психологического диапозона, пониманию других людей, повышает эффективность учеб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teatr02"/>
          <p:cNvPicPr/>
          <p:nvPr/>
        </p:nvPicPr>
        <p:blipFill>
          <a:blip r:embed="rId1"/>
          <a:stretch/>
        </p:blipFill>
        <p:spPr>
          <a:xfrm>
            <a:off x="0" y="4900680"/>
            <a:ext cx="243828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флексия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кончите фразу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пришел(а) с чувством… - Ухожу с желание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пришел(а) с желанием… - Ухожу с чувство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2952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akter1"/>
          <p:cNvPicPr/>
          <p:nvPr/>
        </p:nvPicPr>
        <p:blipFill>
          <a:blip r:embed="rId1"/>
          <a:stretch/>
        </p:blipFill>
        <p:spPr>
          <a:xfrm>
            <a:off x="4952880" y="4162320"/>
            <a:ext cx="4191120" cy="2695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86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400800" y="0"/>
            <a:ext cx="2541600" cy="1951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5486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ть выйди ты не в белый све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 поле за околиц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 идешь за кем-то всле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рога не запомни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то, куда б ты ни поп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по какой распутиц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рога та, что сам искал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век не позабуде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Н. Рыленко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211927"/>
          <p:cNvPicPr/>
          <p:nvPr/>
        </p:nvPicPr>
        <p:blipFill>
          <a:blip r:embed="rId1"/>
          <a:stretch/>
        </p:blipFill>
        <p:spPr>
          <a:xfrm>
            <a:off x="0" y="0"/>
            <a:ext cx="8915400" cy="6172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Уважаемые коллеги,                        спасибо за работу 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Админ</cp:lastModifiedBy>
  <dcterms:modified xsi:type="dcterms:W3CDTF">2014-10-14T01:17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