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835B-744A-41C0-95E1-000E1F39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116F-35FA-44D5-981A-EF7FB280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47FF-1877-4C40-A01C-1367E0916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E4D1-9496-4212-A4AF-8F2D78D09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4497-4B9D-4385-955B-2F9BF81B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99B7-CECD-4606-BA52-0D041B78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3026-20A7-4F41-9CCF-1A2BE615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6449-D2BB-4031-ABE3-FBA4264A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7DC1-C0C5-449E-BEC5-4BD2EC20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2C8F-FDB5-4D60-902E-40DCFA1E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981E-BA05-4C56-8740-51E1E330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0B6E-8A1B-439C-8EF1-CF800E16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74E3-9EEC-4938-B069-DD3CE853EC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0b0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7"/>
          <p:cNvSpPr txBox="1"/>
          <p:nvPr/>
        </p:nvSpPr>
        <p:spPr>
          <a:xfrm>
            <a:off x="1835280" y="1052640"/>
            <a:ext cx="5616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Урок литерату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в 11 класс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42" name="WordArt 8"/>
          <p:cNvSpPr txBox="1"/>
          <p:nvPr/>
        </p:nvSpPr>
        <p:spPr>
          <a:xfrm>
            <a:off x="2195640" y="5300640"/>
            <a:ext cx="663228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читель: Панина Людмила Анатольевн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Ге"/>
          <p:cNvPicPr/>
          <p:nvPr/>
        </p:nvPicPr>
        <p:blipFill>
          <a:blip r:embed="rId1"/>
          <a:stretch/>
        </p:blipFill>
        <p:spPr>
          <a:xfrm>
            <a:off x="2101680" y="0"/>
            <a:ext cx="49388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2124000" y="649044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 Ге «Что есть истина?» Иисус и Пил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3d3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от она истина –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 непримиримом столкновении, в этом измученном, готовом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а смерть идти за убеждения, непокорённом человеке,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 этом довольном собой, бездушном властителе, которому до истины дела н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heend.mpg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19672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следовательск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Можно ли считать Понтия Пилата учеником Иешуа Га-Ноц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Указать эпизоды из «романа в романе», в которых указывается на действенность (значимость)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Указать словесные средства художественной изобразительности, использованные автором при созда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образа Иешуа Га-Ноцр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образа города Ершала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 Раскрыть роль художественной детали в тексте. С какой целью автор настойчиво говорит о головной боли прокуратора (для чего используется указанная художественная «деталь»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50000">
              <a:srgbClr val="ffffff"/>
            </a:gs>
            <a:gs pos="100000">
              <a:srgbClr val="d9d9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начение «романа в романе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ершалаимские» главы – это смысловой, философский пласт произведения, отсюда берут начало многие темы «московских» гл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, что происходило в древности в Иудее, повторяется на новом витке истории. Люди, как замечает Воланд, не изменились «…они люди как люди… В общем, напоминают прежних… Квартирный вопрос только испортил их». Также подвергаются гонениям пророки (теперь писатели и художники, которые мыслят нестандартно), также наживаются на несчастии других преда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6"/>
          <p:cNvPicPr/>
          <p:nvPr/>
        </p:nvPicPr>
        <p:blipFill>
          <a:blip r:embed="rId1"/>
          <a:stretch/>
        </p:blipFill>
        <p:spPr>
          <a:xfrm>
            <a:off x="0" y="673200"/>
            <a:ext cx="9144000" cy="55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Булгаков.mpg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4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Title.mpg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12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296"/>
          <p:cNvSpPr/>
          <p:nvPr/>
        </p:nvSpPr>
        <p:spPr>
          <a:xfrm>
            <a:off x="6804000" y="620640"/>
            <a:ext cx="2089080" cy="5832720"/>
          </a:xfrm>
          <a:prstGeom prst="flowChart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295"/>
          <p:cNvSpPr/>
          <p:nvPr/>
        </p:nvSpPr>
        <p:spPr>
          <a:xfrm>
            <a:off x="6804000" y="620640"/>
            <a:ext cx="2089080" cy="936720"/>
          </a:xfrm>
          <a:prstGeom prst="flowChart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294"/>
          <p:cNvSpPr/>
          <p:nvPr/>
        </p:nvSpPr>
        <p:spPr>
          <a:xfrm>
            <a:off x="4643280" y="620640"/>
            <a:ext cx="2089440" cy="936720"/>
          </a:xfrm>
          <a:prstGeom prst="flowChart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291"/>
          <p:cNvSpPr/>
          <p:nvPr/>
        </p:nvSpPr>
        <p:spPr>
          <a:xfrm>
            <a:off x="2050920" y="620640"/>
            <a:ext cx="2449800" cy="936720"/>
          </a:xfrm>
          <a:prstGeom prst="flowChart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79280" y="549360"/>
          <a:ext cx="8785440" cy="5913360"/>
        </p:xfrm>
        <a:graphic>
          <a:graphicData uri="http://schemas.openxmlformats.org/drawingml/2006/table">
            <a:tbl>
              <a:tblPr/>
              <a:tblGrid>
                <a:gridCol w="1871640"/>
                <a:gridCol w="2521080"/>
                <a:gridCol w="2197080"/>
                <a:gridCol w="21956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ременный московский м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усторонний м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евний ершалаимский м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Носители истины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т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ешу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равители, принимающие решени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психиатрическ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чебницы Стравин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нязь тьмы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ан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куратор Понтий Пил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ые помощ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 Федор Васильеви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вьев-Фаго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фр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алач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ресторана Арчибальд Арчибальд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мон Азазел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нтурион Марк Крысоб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от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с Тузбуб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т Бегемо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с Банг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жа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та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лл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оизий Могары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у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4"/>
          <p:cNvSpPr txBox="1"/>
          <p:nvPr/>
        </p:nvSpPr>
        <p:spPr>
          <a:xfrm>
            <a:off x="755640" y="2708280"/>
            <a:ext cx="788688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0000"/>
                    </a:gs>
                    <a:gs pos="50000">
                      <a:srgbClr val="5e0000"/>
                    </a:gs>
                    <a:gs pos="100000">
                      <a:srgbClr val="cc0000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Роман" в романе "Мастер и Маргарита"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0000"/>
                  </a:gs>
                  <a:gs pos="50000">
                    <a:srgbClr val="5e0000"/>
                  </a:gs>
                  <a:gs pos="100000">
                    <a:srgbClr val="cc0000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0000"/>
                    </a:gs>
                    <a:gs pos="50000">
                      <a:srgbClr val="5e0000"/>
                    </a:gs>
                    <a:gs pos="100000">
                      <a:srgbClr val="cc0000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. А. Булгакова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0000"/>
                  </a:gs>
                  <a:gs pos="50000">
                    <a:srgbClr val="5e0000"/>
                  </a:gs>
                  <a:gs pos="100000">
                    <a:srgbClr val="cc0000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3419640" y="836640"/>
            <a:ext cx="230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 урока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Цель урока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Осмысление нравственных проблем романа Мастер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50920" y="2060280"/>
            <a:ext cx="86421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и уро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Составление характеристики героев (с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ованием репродукции картины                      Н.Н. Ге «Что есть истина?» Христос и Пилат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Выявление нравственных проблем, поставленных в романе (с использованием           кинофильма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Проведение исследовательской работ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Работа с текстом по выявлению художественно-изобразительных средств,                        использованных автором в рома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7c7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468360" y="907920"/>
            <a:ext cx="806436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ажнейшее назначение человека на Земле -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иски истины, проповедь её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орьба во имя истины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ертва, принесённая ради неё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. Н. Толст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2.m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41512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7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3d3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4"/>
          <p:cNvSpPr txBox="1"/>
          <p:nvPr/>
        </p:nvSpPr>
        <p:spPr>
          <a:xfrm>
            <a:off x="893880" y="1006560"/>
            <a:ext cx="5333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. Проблема добра и зла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WordArt 5"/>
          <p:cNvSpPr txBox="1"/>
          <p:nvPr/>
        </p:nvSpPr>
        <p:spPr>
          <a:xfrm>
            <a:off x="849240" y="1725480"/>
            <a:ext cx="4586400" cy="4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. Что есть истина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826920" y="2446200"/>
            <a:ext cx="6409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. Проблема веры и безверия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WordArt 7"/>
          <p:cNvSpPr txBox="1"/>
          <p:nvPr/>
        </p:nvSpPr>
        <p:spPr>
          <a:xfrm>
            <a:off x="826920" y="3165480"/>
            <a:ext cx="612144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. Предательство и трусость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" name="WordArt 8"/>
          <p:cNvSpPr txBox="1"/>
          <p:nvPr/>
        </p:nvSpPr>
        <p:spPr>
          <a:xfrm>
            <a:off x="828720" y="3860640"/>
            <a:ext cx="7128000" cy="936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. Проблема силы и слабости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единоличной власти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08:06:29Z</dcterms:created>
  <dc:creator>User</dc:creator>
  <dc:description/>
  <dc:language>en-US</dc:language>
  <cp:lastModifiedBy>Малкин Эдуард</cp:lastModifiedBy>
  <dcterms:modified xsi:type="dcterms:W3CDTF">2015-01-29T13:24:52Z</dcterms:modified>
  <cp:revision>6</cp:revision>
  <dc:subject/>
  <dc:title>Мастер и Маргарита</dc:title>
</cp:coreProperties>
</file>