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F82-C392-46F9-81BF-8C719182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D37-BAB6-49A9-BBDA-40E00DDC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706-8C0A-4B57-9050-65A52F80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89F-4517-432C-A961-2CA03739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A22-4B6F-4FA0-8226-67F4EDE8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DCF-4B96-4232-8D26-61A536EE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AE5-7E76-4D9B-B269-AA34A43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502-673D-4F55-A7F1-AFD875CC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68A-0940-434D-ABAB-90671879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11C-E597-4092-A06A-465E4D3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547-D074-43D0-A2A5-148272F7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707-30B2-4657-9DA3-BEA2811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B353-1EC5-4883-A34F-953A46A22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0b0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835280" y="1052640"/>
            <a:ext cx="561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Урок литера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в 11 клас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2195640" y="5300640"/>
            <a:ext cx="6632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: Панина Людмила Анатолье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Ге"/>
          <p:cNvPicPr/>
          <p:nvPr/>
        </p:nvPicPr>
        <p:blipFill>
          <a:blip r:embed="rId1"/>
          <a:stretch/>
        </p:blipFill>
        <p:spPr>
          <a:xfrm>
            <a:off x="2101680" y="0"/>
            <a:ext cx="4938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2124000" y="64904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Ге «Что есть истина?» Иисус и П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d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т она истина 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непримиримом столкновении, в этом измученном, готовом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 смерть идти за убеждения, непокорённом человеке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этом довольном собой, бездушном властителе, которому до истины дела н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heend.mpg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9672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Можно ли считать Понтия Пилата учеником Иешуа Га-Ноц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Указать эпизоды из «романа в романе», в которых указывается на действенность (значимость)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Указать словесные средства художественной изобразительности, использованные автором при созд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браза Иешуа Га-Ноцр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браза города Ершала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Раскрыть роль художественной детали в тексте. С какой целью автор настойчиво говорит о головной боли прокуратора (для чего используется указанная художественная «деталь»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5000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чение «романа в романе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ершалаимские» главы – это смысловой, философский пласт произведения, отсюда берут начало многие темы «московских» гл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, что происходило в древности в Иудее, повторяется на новом витке истории. Люди, как замечает Воланд, не изменились «…они люди как люди… В общем, напоминают прежних… Квартирный вопрос только испортил их». Также подвергаются гонениям пророки (теперь писатели и художники, которые мыслят нестандартно), также наживаются на несчастии других пре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6"/>
          <p:cNvPicPr/>
          <p:nvPr/>
        </p:nvPicPr>
        <p:blipFill>
          <a:blip r:embed="rId1"/>
          <a:stretch/>
        </p:blipFill>
        <p:spPr>
          <a:xfrm>
            <a:off x="0" y="673200"/>
            <a:ext cx="91440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Булгаков.mpg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4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.mpg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96"/>
          <p:cNvSpPr/>
          <p:nvPr/>
        </p:nvSpPr>
        <p:spPr>
          <a:xfrm>
            <a:off x="6804000" y="620640"/>
            <a:ext cx="2089080" cy="583272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95"/>
          <p:cNvSpPr/>
          <p:nvPr/>
        </p:nvSpPr>
        <p:spPr>
          <a:xfrm>
            <a:off x="6804000" y="620640"/>
            <a:ext cx="2089080" cy="93672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94"/>
          <p:cNvSpPr/>
          <p:nvPr/>
        </p:nvSpPr>
        <p:spPr>
          <a:xfrm>
            <a:off x="4643280" y="620640"/>
            <a:ext cx="2089440" cy="93672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91"/>
          <p:cNvSpPr/>
          <p:nvPr/>
        </p:nvSpPr>
        <p:spPr>
          <a:xfrm>
            <a:off x="2050920" y="620640"/>
            <a:ext cx="2449800" cy="93672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549360"/>
          <a:ext cx="8785440" cy="5913360"/>
        </p:xfrm>
        <a:graphic>
          <a:graphicData uri="http://schemas.openxmlformats.org/drawingml/2006/table">
            <a:tbl>
              <a:tblPr/>
              <a:tblGrid>
                <a:gridCol w="1871640"/>
                <a:gridCol w="2521080"/>
                <a:gridCol w="2197080"/>
                <a:gridCol w="2195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й московск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сторонн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вний ершалаимск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осители истин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ешу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авители, принимающие решен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сихиатричес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ицы Страви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нязь тьм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куратор Понтий Пил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помощ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Федор Василье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вьев-Фаг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алач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ресторана Арчибальд Арчибальд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 Азазел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нтурион Марк Крысо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 Тузбуб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 Бегем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 Бан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а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оизий Могары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755640" y="2708280"/>
            <a:ext cx="78868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оман" в романе "Мастер и Маргарит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. А. Булгаков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3419640" y="836640"/>
            <a:ext cx="230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Цель урок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Осмысление нравственных проблем романа Мастер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2060280"/>
            <a:ext cx="86421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уро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оставление характеристики героев (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м репродукции картины                      Н.Н. Ге «Что есть истина?» Христос и Пилат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Выявление нравственных проблем, поставленных в романе (с использованием           кинофильма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Проведение исследовательской рабо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Работа с текстом по выявлению художественно-изобразительных средств,                        использованных автором в ром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468360" y="907920"/>
            <a:ext cx="8064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ажнейшее назначение человека на Земл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иски истины, проповедь её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рьба во имя истины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ртва, принесённая ради неё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. Н. Толст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1512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d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893880" y="1006560"/>
            <a:ext cx="533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Проблема добра и зл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849240" y="1725480"/>
            <a:ext cx="458640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Что есть истин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2446200"/>
            <a:ext cx="640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Проблема веры и безвери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826920" y="3165480"/>
            <a:ext cx="61214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Предательство и трусость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828720" y="386064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 Проблема силы и слабост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оличной власт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8:06:29Z</dcterms:created>
  <dc:creator>User</dc:creator>
  <dc:description/>
  <dc:language>en-US</dc:language>
  <cp:lastModifiedBy>Малкин Эдуард</cp:lastModifiedBy>
  <dcterms:modified xsi:type="dcterms:W3CDTF">2015-01-29T13:24:52Z</dcterms:modified>
  <cp:revision>6</cp:revision>
  <dc:subject/>
  <dc:title>Мастер и Маргарита</dc:title>
</cp:coreProperties>
</file>