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799C-C45D-494A-AB16-F835F05C2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F433-01E3-499E-9E8A-7C73751A7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D82D-F345-4BFC-A00A-10A848578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EE56-638F-46D0-A84A-EA0AA170D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B819-DF84-4342-91FB-B93A0C4EE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1128-784B-4D98-BC3D-F2F97BCBF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09B3-6410-42A5-A41B-BF9B6FA34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19F5-D186-478E-8141-7D02DB8A1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886B-FAA5-4465-A776-7461F75B5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D7AD-34C3-45A5-A8E3-692E33D5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B206-E975-4C0E-9729-CA701BE7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00D0-BC08-4583-BFA7-0740BB25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3BAD1-D45C-4EED-BAD8-9232FF3E16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556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Всероссийский сетевой дистанционный Проект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Мы- многонациональная страна»,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Школьная академия «Успех» </a:t>
            </a:r>
            <a:br>
              <a:rPr sz="2000"/>
            </a:b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http://uspeh.tspu.ru/»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2421000"/>
            <a:ext cx="7199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libri"/>
              </a:rPr>
              <a:t>Мой народ - мари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одзаголовок 2"/>
          <p:cNvSpPr/>
          <p:nvPr/>
        </p:nvSpPr>
        <p:spPr>
          <a:xfrm>
            <a:off x="4356000" y="4437000"/>
            <a:ext cx="452916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уководитель: </a:t>
            </a:r>
            <a:r>
              <a:rPr b="1" lang="ru-RU" sz="1800" spc="-1" strike="noStrike">
                <a:solidFill>
                  <a:srgbClr val="0000ff"/>
                </a:solidFill>
                <a:latin typeface="Calibri"/>
                <a:ea typeface="Arial"/>
              </a:rPr>
              <a:t>Н.В.Шабал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Автор: </a:t>
            </a:r>
            <a:r>
              <a:rPr b="1" lang="ru-RU" sz="1800" spc="-1" strike="noStrike">
                <a:solidFill>
                  <a:srgbClr val="0000ff"/>
                </a:solidFill>
                <a:latin typeface="Calibri"/>
                <a:ea typeface="Arial"/>
              </a:rPr>
              <a:t>Никита Семен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есто проживания: </a:t>
            </a:r>
            <a:r>
              <a:rPr b="1" lang="ru-RU" sz="1800" spc="-1" strike="noStrike">
                <a:solidFill>
                  <a:srgbClr val="0000ff"/>
                </a:solidFill>
                <a:latin typeface="Calibri"/>
                <a:ea typeface="Arial"/>
              </a:rPr>
              <a:t>Республика Марий Эл, Советский район, село Рон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ласс, образовательное учреждение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  <a:ea typeface="Arial"/>
              </a:rPr>
              <a:t>10 класс, МОУ «Ронгинская средняя общеобразовательная школ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озрастная группа: </a:t>
            </a:r>
            <a:r>
              <a:rPr b="1" lang="ru-RU" sz="1800" spc="-1" strike="noStrike">
                <a:solidFill>
                  <a:srgbClr val="0000ff"/>
                </a:solidFill>
                <a:latin typeface="Calibri"/>
                <a:ea typeface="Arial"/>
              </a:rPr>
              <a:t>16 л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http://www.fennougria.ee/public/marimark.jpg"/>
          <p:cNvPicPr/>
          <p:nvPr/>
        </p:nvPicPr>
        <p:blipFill>
          <a:blip r:embed="rId1"/>
          <a:stretch/>
        </p:blipFill>
        <p:spPr>
          <a:xfrm>
            <a:off x="1440" y="0"/>
            <a:ext cx="978120" cy="1012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http://www.fennougria.ee/public/marimark.jpg"/>
          <p:cNvPicPr/>
          <p:nvPr/>
        </p:nvPicPr>
        <p:blipFill>
          <a:blip r:embed="rId2"/>
          <a:stretch/>
        </p:blipFill>
        <p:spPr>
          <a:xfrm>
            <a:off x="1440" y="4040280"/>
            <a:ext cx="979560" cy="1011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http://www.fennougria.ee/public/marimark.jpg"/>
          <p:cNvPicPr/>
          <p:nvPr/>
        </p:nvPicPr>
        <p:blipFill>
          <a:blip r:embed="rId3"/>
          <a:stretch/>
        </p:blipFill>
        <p:spPr>
          <a:xfrm>
            <a:off x="0" y="3027240"/>
            <a:ext cx="979560" cy="1013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http://www.fennougria.ee/public/marimark.jpg"/>
          <p:cNvPicPr/>
          <p:nvPr/>
        </p:nvPicPr>
        <p:blipFill>
          <a:blip r:embed="rId4"/>
          <a:stretch/>
        </p:blipFill>
        <p:spPr>
          <a:xfrm>
            <a:off x="0" y="2025720"/>
            <a:ext cx="977760" cy="1012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://www.fennougria.ee/public/marimark.jpg"/>
          <p:cNvPicPr/>
          <p:nvPr/>
        </p:nvPicPr>
        <p:blipFill>
          <a:blip r:embed="rId5"/>
          <a:stretch/>
        </p:blipFill>
        <p:spPr>
          <a:xfrm>
            <a:off x="0" y="1014480"/>
            <a:ext cx="977760" cy="1011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http://www.fennougria.ee/public/marimark.jpg"/>
          <p:cNvPicPr/>
          <p:nvPr/>
        </p:nvPicPr>
        <p:blipFill>
          <a:blip r:embed="rId6"/>
          <a:stretch/>
        </p:blipFill>
        <p:spPr>
          <a:xfrm>
            <a:off x="4680" y="5037120"/>
            <a:ext cx="978120" cy="10112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ttp://www.fennougria.ee/public/marimark.jpg"/>
          <p:cNvPicPr/>
          <p:nvPr/>
        </p:nvPicPr>
        <p:blipFill>
          <a:blip r:embed="rId7"/>
          <a:stretch/>
        </p:blipFill>
        <p:spPr>
          <a:xfrm>
            <a:off x="9360" y="6048360"/>
            <a:ext cx="978120" cy="7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24000" y="217080"/>
            <a:ext cx="8712000" cy="645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Республика Марий Эл 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субъект Российско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Федерации. Находитс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на востоке европейск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части России и входи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в состав Приволжского федерального округ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Граничит с Кировской и Нижегородской областями, республиками Татарстан и Чуваш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Климат умеренно континентальный с длинной холодной зимой и теплым летом. Республика расположена в подтаежной зоне. Почвы дерново-подзолистые, болотные, серые лесны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5" descr="http://www.gg12.ru/photos/2011/10/gerb10.jpg"/>
          <p:cNvPicPr/>
          <p:nvPr/>
        </p:nvPicPr>
        <p:blipFill>
          <a:blip r:embed="rId1"/>
          <a:stretch/>
        </p:blipFill>
        <p:spPr>
          <a:xfrm>
            <a:off x="4643280" y="115920"/>
            <a:ext cx="4259520" cy="233352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4643280" y="2494080"/>
            <a:ext cx="425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аг и герб Республики Марий Э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78920" y="259920"/>
            <a:ext cx="871380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1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Черемисы (современное название-марийцы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населяли территорию современной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Европейской  части России с доисторических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времен. В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X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веке они попали в сферу влияния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Древнерусского государства. По принятии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христианства марийцы ославянились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Нежелающие принимать  христианство бежали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на восток. Марийцы  уходили в леса, оставляя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пустыми целые деревни. Это был период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30-летних черемисских  войн. При Петре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марийцев стали призывать в армию. В 1775 году они массово поддержали  Е.Пугачева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До Октябрьской революции народ мари не имел своей государственности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4 ноября 1920 года была образована Марийская Автономная область. Были установлены языковые нормы: луговомарийский и горномарийский языки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5 декабря 1936 года Марийская автономная область преобразована в Марийскую АССР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22 октября 1990 года в Марийскую Советскую Социалистическую Республику. 9 декабря 1992 года в республику Марий Эл по названию ее коренного населения – мари (мужчина, муж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Республика Марий Эл состоит из 4 городов и 14 районов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http://test.mincult12.ru/sites/default/files/images/photonews/p_pairem_2_0.jpg"/>
          <p:cNvPicPr/>
          <p:nvPr/>
        </p:nvPicPr>
        <p:blipFill>
          <a:blip r:embed="rId1"/>
          <a:stretch/>
        </p:blipFill>
        <p:spPr>
          <a:xfrm>
            <a:off x="4689360" y="260280"/>
            <a:ext cx="432612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0" y="128160"/>
            <a:ext cx="9128160" cy="67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ийский народ (народ мари) сохранил языческие  обычаи и вер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их предков. В Республике Марий-Эл  сохранилось языческое жрече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ились и  священные рощи (более 300), где молились отцы и дед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х мари. Их можно обнаружить в окрестностях  практически люб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ла.  Священные рощи защищены законом и обычаем. Кроме того, считаетс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человек,  покушающийся на священную рощу, ведущий себя  оскорбитель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 отношению к духу места, рискует  получить наказание от богов и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ных сил (существует  множество рассказов о таких случаях).   Для мо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още выбирается поляна у священного древа, так что жрец, ведущ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жбу и молящиеся, находясь лицом к священному древу, ориентированы 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го-восток. Раз в году дерево обвязывают новым липовым лыком, которое называется "серебряный пояс". У подножия древа кладут жертвенную пищу, принесенную из дому. Перед древом на линии "северо-запад - юго-восток" разводится огонь для варки в котлах жертвенной пищи, между этим очагом и деревом жрец проводит моления, дает благословения, которые проходят между ним и древом, подходят к жрецу с восточной стороны от указанной линии. С западной стороны от этой линии, примерно на таком же расстоянии от древа, как располагается очаг, привязывается жертвенное животное (и вывешивается его шкура после принесения жертвы), а также располагается яма для слива крови и внутренностей и малый очистительный огонь. У мари священным местом является жилище. Дом отождествлялся с центром мироздания, с пупом Земли-Матери. Раньше "центр мироздания" представлялся небесным столбом, идущим к Полярной звезде. Вращающееся около Полярной звезды созвездие Большой Медведицы - по-марийски, Небесный бык (Лось) Водыж со временем превратилось в духа-хранителя деревни, пастуха домашнего скота, а в дальнейшем преобразовалось в домового духа ("кудыводыж").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Кудо", в стародавние времена - летняя кухня -  пристройка к дому с земляным полом, на котором разводили огонь, с крышей, но без потолка) разделялась на две половины: в большей ("кугу кудо") совершали семейные моления, готовили еду и питались. А в священной "изи кудо", меньшей половине, располагающейся в дальнем от входа углу, хранились семейные реликвии; там же располагался священный короб из бересты, место обитания домашних дух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ерь избы, которая до середины XIX века была у мари курной, выходила в старину на юг, чтобы, встав лицом к огню очага, можно было обращаться в открытую дверь к Солнцу. Печь располагалась в дальнем конце от двери, челом к ней, а стол ставился по диагонали в противоположном от печи ближнем к двери конце.  Сзади дома марийцев  была небольшая рощица, которая использовалась некрещеными мари (чимариями) и двоеверцами для семейно-родовых молений. Такие домашние рощицы высаживались со времен Ивана Грозного, когда православная церковь запрещала проводить языческие культы, ходить в священные рощи, а потому мари в тайне справляли обряды в этих рощицах внутри своих усадеб, сохраняя свою веру. Рощицы могли пополняться деревьями и в результате обрядовой посадки березок с молением во исцеления тяжело больных членов семь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6" descr="http://www.bogoslov.ru/data/633/341/1234/1Skb21907.jpg"/>
          <p:cNvPicPr/>
          <p:nvPr/>
        </p:nvPicPr>
        <p:blipFill>
          <a:blip r:embed="rId1"/>
          <a:stretch/>
        </p:blipFill>
        <p:spPr>
          <a:xfrm>
            <a:off x="5724360" y="260280"/>
            <a:ext cx="331164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60280"/>
            <a:ext cx="41148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новной марийской одеждой была рубаха туникообразного покроя (тувыр), штаны (йолаш), а также кафтан (шовыр), вся одежда опоясывалась поясным полотенцем (солык), а иногда поясом (ӱштӧ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ужчины носили войлочные шляпы и шапки, кожаные сапоги, а позже валенки и лапти (их заимствовали из русского костюма). В болотистой местности на обувь прикрепляли деревянные платформы (кетырма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Женщины носили поясные подвески – украшения из бисера, раковин каури, монет. Существует 3 вида женских головных уборов: конусовидный колпак с затылочной лопастью; сорока (заимствована из русского костюма), шарпан – головное полотенце с очельем; шур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http://forum.na-svyazi.ru/uploads/post-6354-1253040098.jpg"/>
          <p:cNvPicPr/>
          <p:nvPr/>
        </p:nvPicPr>
        <p:blipFill>
          <a:blip r:embed="rId1"/>
          <a:stretch/>
        </p:blipFill>
        <p:spPr>
          <a:xfrm>
            <a:off x="4923000" y="404640"/>
            <a:ext cx="3743280" cy="5311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4"/>
          <p:cNvSpPr/>
          <p:nvPr/>
        </p:nvSpPr>
        <p:spPr>
          <a:xfrm>
            <a:off x="5076720" y="5877000"/>
            <a:ext cx="374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Марийские национальные костюм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сновна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адиционная пищ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рийцев – суп с клецкам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лашка), вареники с начинко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 мяса или творога (подкогыльо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ареная колбаса из сала ил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ови с крупой (сокта), вялена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лбаса из конины (каж), слоеные блины (команмелна), творожные сырники (туара), отварные лепешки (подкинде), печеные лепешки (салмагинде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адиционные напитки – пиво (пура), пахта (эран), крепкий медовый напиток (пӱрӧ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марийской национальной кухни характерны блюда из мяса белки, филина, ужа, ежа, гадюки, рыбы, муки, конопляного семен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уществовал запрет на охоту на диких гусей, лебедей, голубей, журавл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http://venividi.ru/files/img/6731/22.jpg"/>
          <p:cNvPicPr/>
          <p:nvPr/>
        </p:nvPicPr>
        <p:blipFill>
          <a:blip r:embed="rId1"/>
          <a:stretch/>
        </p:blipFill>
        <p:spPr>
          <a:xfrm>
            <a:off x="5364000" y="162000"/>
            <a:ext cx="3356280" cy="25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Источник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ru.wikipedia.org/wi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forum.na-svyazi.ru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slavya.ru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palomnic.org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4T14:47:47Z</dcterms:created>
  <dc:creator>Наталья</dc:creator>
  <dc:description/>
  <dc:language>en-US</dc:language>
  <cp:lastModifiedBy>Наталья</cp:lastModifiedBy>
  <dcterms:modified xsi:type="dcterms:W3CDTF">2014-03-11T03:31:54Z</dcterms:modified>
  <cp:revision>21</cp:revision>
  <dc:subject/>
  <dc:title>«Всероссийский сетевой дистанционный Проект  «Мы- многонациональная страна», «Школьная академия «Успех» http://uspeh.tspu.ru/»</dc:title>
</cp:coreProperties>
</file>