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D2D-D8DC-4DE7-9DD2-2B9AE9B4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D02-A702-46D4-8CFC-E5E838B6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85F-7314-4AE1-B78B-F7DA2EFD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989-C594-464E-8059-369B3852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055-098C-4CC2-8939-AD9010D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2D9-24EF-4CF0-9FD9-8E4864CE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52B-B3D4-4F14-9838-01CC5D7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498-4CA4-4504-B42A-D2FAD57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FBF-9DDB-419A-9C0F-8DBFECC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D20-065D-4FD6-ADAD-43F674B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1CC-6F5B-485C-B241-11DC589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8FE-E386-42AC-8735-F5C1C3D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9E5F-75B5-464A-968A-DC2F523CE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5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сероссийский сетевой дистанционный Проек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- многонациональная страна»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Школьная академия «Успех»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uspeh.tspu.ru/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2100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Мой народ - мар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356000" y="4437000"/>
            <a:ext cx="452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Н.В.Шаб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втор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Никита Сем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сто проживания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Республика Марий Эл, Советский район, село Ро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ласс, образовательное учреждени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10 класс, МОУ «Ронг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зрастная группа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1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fennougria.ee/public/marimark.jpg"/>
          <p:cNvPicPr/>
          <p:nvPr/>
        </p:nvPicPr>
        <p:blipFill>
          <a:blip r:embed="rId1"/>
          <a:stretch/>
        </p:blipFill>
        <p:spPr>
          <a:xfrm>
            <a:off x="1440" y="0"/>
            <a:ext cx="97812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fennougria.ee/public/marimark.jpg"/>
          <p:cNvPicPr/>
          <p:nvPr/>
        </p:nvPicPr>
        <p:blipFill>
          <a:blip r:embed="rId2"/>
          <a:stretch/>
        </p:blipFill>
        <p:spPr>
          <a:xfrm>
            <a:off x="1440" y="4040280"/>
            <a:ext cx="9795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fennougria.ee/public/marimark.jpg"/>
          <p:cNvPicPr/>
          <p:nvPr/>
        </p:nvPicPr>
        <p:blipFill>
          <a:blip r:embed="rId3"/>
          <a:stretch/>
        </p:blipFill>
        <p:spPr>
          <a:xfrm>
            <a:off x="0" y="3027240"/>
            <a:ext cx="979560" cy="101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fennougria.ee/public/marimark.jpg"/>
          <p:cNvPicPr/>
          <p:nvPr/>
        </p:nvPicPr>
        <p:blipFill>
          <a:blip r:embed="rId4"/>
          <a:stretch/>
        </p:blipFill>
        <p:spPr>
          <a:xfrm>
            <a:off x="0" y="2025720"/>
            <a:ext cx="977760" cy="101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fennougria.ee/public/marimark.jpg"/>
          <p:cNvPicPr/>
          <p:nvPr/>
        </p:nvPicPr>
        <p:blipFill>
          <a:blip r:embed="rId5"/>
          <a:stretch/>
        </p:blipFill>
        <p:spPr>
          <a:xfrm>
            <a:off x="0" y="1014480"/>
            <a:ext cx="9777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fennougria.ee/public/marimark.jpg"/>
          <p:cNvPicPr/>
          <p:nvPr/>
        </p:nvPicPr>
        <p:blipFill>
          <a:blip r:embed="rId6"/>
          <a:stretch/>
        </p:blipFill>
        <p:spPr>
          <a:xfrm>
            <a:off x="4680" y="5037120"/>
            <a:ext cx="9781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fennougria.ee/public/marimark.jpg"/>
          <p:cNvPicPr/>
          <p:nvPr/>
        </p:nvPicPr>
        <p:blipFill>
          <a:blip r:embed="rId7"/>
          <a:stretch/>
        </p:blipFill>
        <p:spPr>
          <a:xfrm>
            <a:off x="9360" y="6048360"/>
            <a:ext cx="9781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17080"/>
            <a:ext cx="871200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спублика Марий Эл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убъект Российс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Федерации. Находи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 востоке европейс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части России и вход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остав Приволжского федерального ок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раничит с Кировской и Нижегородской областями, республиками Татарстан и Чуваш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лимат умеренно континентальный с длинной холодной зимой и теплым летом. Республика расположена в подтаежной зоне. Почвы дерново-подзолистые, болотные, серые лес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http://www.gg12.ru/photos/2011/10/gerb10.jpg"/>
          <p:cNvPicPr/>
          <p:nvPr/>
        </p:nvPicPr>
        <p:blipFill>
          <a:blip r:embed="rId1"/>
          <a:stretch/>
        </p:blipFill>
        <p:spPr>
          <a:xfrm>
            <a:off x="4643280" y="115920"/>
            <a:ext cx="4259520" cy="2333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643280" y="249408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и герб Республики Марий Э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8920" y="25992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еремисы (современное название-марийцы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селяли территорию современно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Европейской  части России с доисторических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. В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еке они попали в сферу влиян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ревнерусского государства. По принят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христианства марийцы ославянились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желающие принимать  христианство бежал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восток. Марийцы  уходили в леса, оставля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устыми целые деревни. Это был период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0-летних черемисских  войн. При Петр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рийцев стали призывать в армию. В 1775 году они массово поддержали  Е.Пугачев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о Октябрьской революции народ мари не имел своей государствен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 ноября 1920 года была образована Марийская Автономная область. Были установлены языковые нормы: луговомарийский и горномарийский язык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 декабря 1936 года Марийская автономная область преобразована в Марийскую АСС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2 октября 1990 года в Марийскую Советскую Социалистическую Республику. 9 декабря 1992 года в республику Марий Эл по названию ее коренного населения – мари (мужчина, муж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спублика Марий Эл состоит из 4 городов и 14 район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test.mincult12.ru/sites/default/files/images/photonews/p_pairem_2_0.jpg"/>
          <p:cNvPicPr/>
          <p:nvPr/>
        </p:nvPicPr>
        <p:blipFill>
          <a:blip r:embed="rId1"/>
          <a:stretch/>
        </p:blipFill>
        <p:spPr>
          <a:xfrm>
            <a:off x="4689360" y="260280"/>
            <a:ext cx="4326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28160"/>
            <a:ext cx="9128160" cy="67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йский народ (народ мари) сохранил языческие  обычаи и ве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х предков. В Республике Марий-Эл  сохранилось языческое жре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ись и  священные рощи (более 300), где молились отцы и д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х мари. Их можно обнаружить в окрестностях  практически лю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а.  Священные рощи защищены законом и обычаем. Кроме того, счит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человек,  покушающийся на священную рощу, ведущий себя  оскорб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 отношению к духу места, рискует  получить наказание от богов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х сил (существует  множество рассказов о таких случаях).   Для мо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ще выбирается поляна у священного древа, так что жрец, ведущ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у и молящиеся, находясь лицом к священному древу, ориентированы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го-восток. Раз в году дерево обвязывают новым липовым лыком, которое называется "серебряный пояс". У подножия древа кладут жертвенную пищу, принесенную из дому. Перед древом на линии "северо-запад - юго-восток" разводится огонь для варки в котлах жертвенной пищи, между этим очагом и деревом жрец проводит моления, дает благословения, которые проходят между ним и древом, подходят к жрецу с восточной стороны от указанной линии. С западной стороны от этой линии, примерно на таком же расстоянии от древа, как располагается очаг, привязывается жертвенное животное (и вывешивается его шкура после принесения жертвы), а также располагается яма для слива крови и внутренностей и малый очистительный огонь. У мари священным местом является жилище. Дом отождествлялся с центром мироздания, с пупом Земли-Матери. Раньше "центр мироздания" представлялся небесным столбом, идущим к Полярной звезде. Вращающееся около Полярной звезды созвездие Большой Медведицы - по-марийски, Небесный бык (Лось) Водыж со временем превратилось в духа-хранителя деревни, пастуха домашнего скота, а в дальнейшем преобразовалось в домового духа ("кудыводыж"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удо", в стародавние времена - летняя кухня -  пристройка к дому с земляным полом, на котором разводили огонь, с крышей, но без потолка) разделялась на две половины: в большей ("кугу кудо") совершали семейные моления, готовили еду и питались. А в священной "изи кудо", меньшей половине, располагающейся в дальнем от входа углу, хранились семейные реликвии; там же располагался священный короб из бересты, место обитания домашних ду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избы, которая до середины XIX века была у мари курной, выходила в старину на юг, чтобы, встав лицом к огню очага, можно было обращаться в открытую дверь к Солнцу. Печь располагалась в дальнем конце от двери, челом к ней, а стол ставился по диагонали в противоположном от печи ближнем к двери конце.  Сзади дома марийцев  была небольшая рощица, которая использовалась некрещеными мари (чимариями) и двоеверцами для семейно-родовых молений. Такие домашние рощицы высаживались со времен Ивана Грозного, когда православная церковь запрещала проводить языческие культы, ходить в священные рощи, а потому мари в тайне справляли обряды в этих рощицах внутри своих усадеб, сохраняя свою веру. Рощицы могли пополняться деревьями и в результате обрядовой посадки березок с молением во исцеления тяжело больных членов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ttp://www.bogoslov.ru/data/633/341/1234/1Skb21907.jpg"/>
          <p:cNvPicPr/>
          <p:nvPr/>
        </p:nvPicPr>
        <p:blipFill>
          <a:blip r:embed="rId1"/>
          <a:stretch/>
        </p:blipFill>
        <p:spPr>
          <a:xfrm>
            <a:off x="5724360" y="260280"/>
            <a:ext cx="3311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60280"/>
            <a:ext cx="4114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й марийской одеждой была рубаха туникообразного покроя (тувыр), штаны (йолаш), а также кафтан (шовыр), вся одежда опоясывалась поясным полотенцем (солык), а иногда поясом (ӱштӧ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жчины носили войлочные шляпы и шапки, кожаные сапоги, а позже валенки и лапти (их заимствовали из русского костюма). В болотистой местности на обувь прикрепляли деревянные платформы (кетырм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щины носили поясные подвески – украшения из бисера, раковин каури, монет. Существует 3 вида женских головных уборов: конусовидный колпак с затылочной лопастью; сорока (заимствована из русского костюма), шарпан – головное полотенце с очельем; шу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forum.na-svyazi.ru/uploads/post-6354-1253040098.jpg"/>
          <p:cNvPicPr/>
          <p:nvPr/>
        </p:nvPicPr>
        <p:blipFill>
          <a:blip r:embed="rId1"/>
          <a:stretch/>
        </p:blipFill>
        <p:spPr>
          <a:xfrm>
            <a:off x="4923000" y="404640"/>
            <a:ext cx="3743280" cy="5311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076720" y="587700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арийские национальные костю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диционная 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ийцев – суп с клецк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ашка), вареники с начин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мяса или творога (подкогыльо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ая колбаса из сала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ви с крупой (сокта), вяле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баса из конины (каж), слоеные блины (команмелна), творожные сырники (туара), отварные лепешки (подкинде), печеные лепешки (салмагинд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диционные напитки – пиво (пура), пахта (эран), крепкий медовый напиток (пӱрӧ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рийской национальной кухни характерны блюда из мяса белки, филина, ужа, ежа, гадюки, рыбы, муки, конопляного сем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овал запрет на охоту на диких гусей, лебедей, голубей, журав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venividi.ru/files/img/6731/22.jpg"/>
          <p:cNvPicPr/>
          <p:nvPr/>
        </p:nvPicPr>
        <p:blipFill>
          <a:blip r:embed="rId1"/>
          <a:stretch/>
        </p:blipFill>
        <p:spPr>
          <a:xfrm>
            <a:off x="5364000" y="162000"/>
            <a:ext cx="33562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rum.na-svyaz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lavya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alomnic.or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4:47:47Z</dcterms:created>
  <dc:creator>Наталья</dc:creator>
  <dc:description/>
  <dc:language>en-US</dc:language>
  <cp:lastModifiedBy>Наталья</cp:lastModifiedBy>
  <dcterms:modified xsi:type="dcterms:W3CDTF">2014-03-11T03:31:54Z</dcterms:modified>
  <cp:revision>21</cp:revision>
  <dc:subject/>
  <dc:title>«Всероссийский сетевой дистанционный Проект  «Мы- многонациональная страна», «Школьная академия «Успех» http://uspeh.tspu.ru/»</dc:title>
</cp:coreProperties>
</file>