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BA6EE-E7E9-4FA2-BB2A-C2CEA77DA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286F5-7D4B-45FC-9F1A-5889E95D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D3132-8C17-43BA-972B-42077A63C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1B6B4-FF0B-4182-84A6-456069F2C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D941F-EDC9-481F-9A7F-C5D2D5537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E786A-224E-4D69-9A56-6A42E3646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F59A-567F-4016-8CFD-45176B5D6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608C4-2115-42F1-95B8-8C1E0ECBE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49AA-B308-468C-A4F3-66CF06DDB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1934E-F392-4B0A-A550-1AFA0CF3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412B-279E-4735-9FFD-4CEC2BF8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D2319-F95C-4C5E-8C51-3ADE9BDAD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BD20-4A2D-4E51-94C2-633669EAD78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b050"/>
                </a:solidFill>
                <a:latin typeface="Calibri"/>
              </a:rPr>
              <a:t>С чего начинается Родин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alibri"/>
              </a:rPr>
              <a:t>Творческие работы учащихся 7Б класса</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alibri"/>
              </a:rPr>
              <a:t>МБОУ «Тетюшская СОШ №1 им.Ханжина П.С.»</a:t>
            </a:r>
            <a:endParaRPr b="0" lang="en-US" sz="4000" spc="-1" strike="noStrike">
              <a:solidFill>
                <a:srgbClr val="000000"/>
              </a:solidFill>
              <a:latin typeface="Calibri"/>
            </a:endParaRPr>
          </a:p>
        </p:txBody>
      </p:sp>
      <p:pic>
        <p:nvPicPr>
          <p:cNvPr id="43" name="Picture 4" descr="http://img-fotki.yandex.ru/get/5010/good-bokeh.1/0_55b6f_c996ee9f_XL"/>
          <p:cNvPicPr/>
          <p:nvPr/>
        </p:nvPicPr>
        <p:blipFill>
          <a:blip r:embed="rId1"/>
          <a:stretch/>
        </p:blipFill>
        <p:spPr>
          <a:xfrm>
            <a:off x="2268360" y="189000"/>
            <a:ext cx="3791160" cy="25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Родной город – моя Родина</a:t>
            </a:r>
            <a:endParaRPr b="0" lang="en-US" sz="2800" spc="-1" strike="noStrike">
              <a:solidFill>
                <a:srgbClr val="000000"/>
              </a:solidFill>
              <a:latin typeface="Calibri"/>
            </a:endParaRPr>
          </a:p>
        </p:txBody>
      </p:sp>
      <p:sp>
        <p:nvSpPr>
          <p:cNvPr id="67" name=""/>
          <p:cNvSpPr txBox="1"/>
          <p:nvPr/>
        </p:nvSpPr>
        <p:spPr>
          <a:xfrm>
            <a:off x="357120" y="2500200"/>
            <a:ext cx="8229600" cy="391176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 чего же начинается Родина? У каждого человека своё представление о Родине. Это семья, друзья и близкие люди. Это мама, которая является самым дорогим человеком на свете. Это детские игрушки, , сказки, родная улица, лес и небо. Это всё то, с чего начинается представление о Родине, о родном доме.</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ля меня Родина – это город, в котором я родилась, росла и живу. Это город Тетюши. Именно здесь я родилась, пошла в детский сад, в школу, именно здесь меня окружают родные для меня люди. Мой город один из немногих городов, жители которого достигли множества побед в спорте, в музыке, в литературе, в культуре. Нельзя не любить такую родину. Мы должны ценить свою Родину, любить её и беречь.</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8" name="Picture 2" descr=""/>
          <p:cNvPicPr/>
          <p:nvPr/>
        </p:nvPicPr>
        <p:blipFill>
          <a:blip r:embed="rId1"/>
          <a:stretch/>
        </p:blipFill>
        <p:spPr>
          <a:xfrm>
            <a:off x="395280" y="119160"/>
            <a:ext cx="316872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Родина – это мой дом</a:t>
            </a:r>
            <a:endParaRPr b="0" lang="en-US" sz="3200" spc="-1" strike="noStrike">
              <a:solidFill>
                <a:srgbClr val="000000"/>
              </a:solidFill>
              <a:latin typeface="Calibri"/>
            </a:endParaRPr>
          </a:p>
        </p:txBody>
      </p:sp>
      <p:sp>
        <p:nvSpPr>
          <p:cNvPr id="70" name=""/>
          <p:cNvSpPr txBox="1"/>
          <p:nvPr/>
        </p:nvSpPr>
        <p:spPr>
          <a:xfrm>
            <a:off x="457200" y="2143080"/>
            <a:ext cx="8229600" cy="3983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одина для меня – это в первую очередь моя семья. Хоть она и маленькая, но зато это моя родная семья. Для меня это самое главное в жизни, ведь именно в семье можно поделиться своими неудачами и радостями. Только родные люди смогут поддержать тебя в самые трудные минуты и никогда не бросят.</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000000"/>
                </a:solidFill>
                <a:latin typeface="Calibri"/>
              </a:rPr>
              <a:t>Во-вторых, Родина – это мой дом, в котором я живу с малых лет. Ведь именно в этом доме я выросла и он навсегда останется в моём сердц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третьих, это мои друзья и знакомые, с которыми я дружу много лет и наша дружба проверена годами.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одина начинается с каждого из нас и если мы не изменим себя, то у нас не получится изменить в лучшую сторону  нашу Родину. Какими будем мы, такой будет и наша Родина. Родина- самое ценное в нашей жизни.</a:t>
            </a:r>
            <a:endParaRPr b="0" lang="en-US" sz="2000" spc="-1" strike="noStrike">
              <a:solidFill>
                <a:srgbClr val="000000"/>
              </a:solidFill>
              <a:latin typeface="Calibri"/>
            </a:endParaRPr>
          </a:p>
        </p:txBody>
      </p:sp>
      <p:pic>
        <p:nvPicPr>
          <p:cNvPr id="71" name="Picture 2" descr=""/>
          <p:cNvPicPr/>
          <p:nvPr/>
        </p:nvPicPr>
        <p:blipFill>
          <a:blip r:embed="rId1"/>
          <a:stretch/>
        </p:blipFill>
        <p:spPr>
          <a:xfrm>
            <a:off x="144360" y="144360"/>
            <a:ext cx="2860920" cy="192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
          <p:cNvSpPr txBox="1"/>
          <p:nvPr/>
        </p:nvSpPr>
        <p:spPr>
          <a:xfrm>
            <a:off x="457200" y="1928520"/>
            <a:ext cx="8229600" cy="4197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                                  </a:t>
            </a:r>
            <a:r>
              <a:rPr b="1" i="1" lang="ru-RU" sz="2200" spc="-1" strike="noStrike">
                <a:solidFill>
                  <a:srgbClr val="000000"/>
                </a:solidFill>
                <a:latin typeface="Calibri"/>
              </a:rPr>
              <a:t>Родина- всё, что мы видим и чувствуем,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                             </a:t>
            </a:r>
            <a:r>
              <a:rPr b="1" i="1" lang="ru-RU" sz="2200" spc="-1" strike="noStrike">
                <a:solidFill>
                  <a:srgbClr val="000000"/>
                </a:solidFill>
                <a:latin typeface="Calibri"/>
              </a:rPr>
              <a:t>всё,    что нас окружает. Это огромный мир,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                            </a:t>
            </a:r>
            <a:r>
              <a:rPr b="1" i="1" lang="ru-RU" sz="2200" spc="-1" strike="noStrike">
                <a:solidFill>
                  <a:srgbClr val="000000"/>
                </a:solidFill>
                <a:latin typeface="Calibri"/>
              </a:rPr>
              <a:t>разнообразный звуками и красками, впечатлениями и открытиями. Родина началась для меня с первых шагов, с первых прочитанных книжек. Родина – это земля, на которой мы выросли, это культура, обычаи. Родина – цветущая, благоухающая, неунывающая, талантливая, голосистая труженица Россия.</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Каждый человек должен любить свою Родину, даже если он видит её несовершенство. Родина у человека одна и он несёт ответственность за за неё.</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Родина-это часть меня. Жизнь и судьба человека зависят от судьбы его Родины, а судьба Отечества во многом зависит от глубины и силы патриотических чувств его граждан.</a:t>
            </a:r>
            <a:endParaRPr b="0" lang="en-US" sz="2200" spc="-1" strike="noStrike">
              <a:solidFill>
                <a:srgbClr val="000000"/>
              </a:solidFill>
              <a:latin typeface="Calibri"/>
            </a:endParaRPr>
          </a:p>
        </p:txBody>
      </p:sp>
      <p:pic>
        <p:nvPicPr>
          <p:cNvPr id="74" name="Picture 2" descr=""/>
          <p:cNvPicPr/>
          <p:nvPr/>
        </p:nvPicPr>
        <p:blipFill>
          <a:blip r:embed="rId1"/>
          <a:stretch/>
        </p:blipFill>
        <p:spPr>
          <a:xfrm>
            <a:off x="357120" y="0"/>
            <a:ext cx="190188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6" name=""/>
          <p:cNvSpPr txBox="1"/>
          <p:nvPr/>
        </p:nvSpPr>
        <p:spPr>
          <a:xfrm>
            <a:off x="457200" y="214200"/>
            <a:ext cx="8229600" cy="59119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одина… Как много значит это слово!</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Я родилась в прекрасном уголке нашей Родины – в городе Тетюши. Здесь живёт моя семья: папа, мама, сестра и я. Здесь я пошла в детский сад, стала узнавать о своём городе. Мне знакома каждая тропинка, каждая улица. Затем школа – первые буквы, первые слова. Среди первых слово было слово «Родина». Моя первая учительница объясняла значение этого слова, помогала находить однокоренные слова: родной, родимый, родник…</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Становимся взрослее и узнаём всё больше о Родине. Это необъятные просторы нашей страны: леса, поля, голубые озёра, реки, моря, высокие горы, подземные богатства.</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одина – это мои одноклассники. Дети разных национальностей учатся вместе, дружат между собой, уважат и ценят культуру друг друга.</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Прошлая жизнь города Тетюши, нравы и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традиции жителей, горести , победы,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остижения – всё это наша Родина.</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Родина у человека одна. Любовь к Родине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начинается с любви к своему родному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городу. Недаром в пословице говорится: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Человек без Родины, что соловей без песни».</a:t>
            </a:r>
            <a:endParaRPr b="0" lang="en-US" sz="1800" spc="-1" strike="noStrike">
              <a:solidFill>
                <a:srgbClr val="000000"/>
              </a:solidFill>
              <a:latin typeface="Calibri"/>
            </a:endParaRPr>
          </a:p>
        </p:txBody>
      </p:sp>
      <p:pic>
        <p:nvPicPr>
          <p:cNvPr id="77" name="Picture 2" descr="http://img-fotki.yandex.ru/get/6110/51820960.0/0_9dd00_5e177aa5_XL"/>
          <p:cNvPicPr/>
          <p:nvPr/>
        </p:nvPicPr>
        <p:blipFill>
          <a:blip r:embed="rId1"/>
          <a:stretch/>
        </p:blipFill>
        <p:spPr>
          <a:xfrm>
            <a:off x="5214960" y="3857760"/>
            <a:ext cx="3619440" cy="242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Использованы работы учащихся 7Б класса МБОУ «Тетюшская СОШ №1 им. Ханжина П.С.»:</a:t>
            </a:r>
            <a:br>
              <a:rPr sz="2900"/>
            </a:br>
            <a:endParaRPr b="0" lang="en-US" sz="2400" spc="-1" strike="noStrike">
              <a:solidFill>
                <a:srgbClr val="000000"/>
              </a:solidFill>
              <a:latin typeface="Calibri"/>
            </a:endParaRPr>
          </a:p>
        </p:txBody>
      </p:sp>
      <p:sp>
        <p:nvSpPr>
          <p:cNvPr id="79" name=""/>
          <p:cNvSpPr txBox="1"/>
          <p:nvPr/>
        </p:nvSpPr>
        <p:spPr>
          <a:xfrm>
            <a:off x="457200" y="1356840"/>
            <a:ext cx="8229600" cy="17859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000000"/>
                </a:solidFill>
                <a:latin typeface="Calibri"/>
              </a:rPr>
              <a:t>Краснёнкова Андрея, Канашова Никиты, Барановой Юли, Дороднова Андрея, Татариновой Марии, Валиевой Дианы, Ибатуллиной Алины, Хайруллиной Лилии, Шакировой Тамилы, Баимкиной Юли, Нифигиной Назлыгуль, Рахматуллиной Эвелины, Икина Димы, Камалетдиновой Дины, Глазкова Саши.</a:t>
            </a:r>
            <a:endParaRPr b="0" lang="en-US" sz="2000" spc="-1" strike="noStrike">
              <a:solidFill>
                <a:srgbClr val="000000"/>
              </a:solidFill>
              <a:latin typeface="Calibri"/>
            </a:endParaRPr>
          </a:p>
        </p:txBody>
      </p:sp>
      <p:pic>
        <p:nvPicPr>
          <p:cNvPr id="80" name="Picture 4" descr="http://img-fotki.yandex.ru/get/5010/good-bokeh.1/0_55b6f_c996ee9f_XL"/>
          <p:cNvPicPr/>
          <p:nvPr/>
        </p:nvPicPr>
        <p:blipFill>
          <a:blip r:embed="rId1"/>
          <a:stretch/>
        </p:blipFill>
        <p:spPr>
          <a:xfrm>
            <a:off x="2340000" y="3500280"/>
            <a:ext cx="472752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Мой родной милый уголок…</a:t>
            </a:r>
            <a:endParaRPr b="0" lang="en-US" sz="2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Есть на Волге городок – Тетюши,</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это – моя родина.</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Здесь очень хорошо, тепло, уютно,</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здесь множество цветов…</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Очень давно в Тетюшах поймали огромную рыбу – белугу,</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не маленького карасика, а размером с кита. И весь народ в Тетюшах дивился этой рыбе.</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За нашу Родину, за родной городок Тетюши уходили на войну наши земляки, многие не вернулись с фронта. Мы не забудем подвиг храбрых воинов.</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Тетюши – моя Родина, которую люблю, и буду верен ей. </a:t>
            </a:r>
            <a:endParaRPr b="0" lang="en-US" sz="1900" spc="-1" strike="noStrike">
              <a:solidFill>
                <a:srgbClr val="000000"/>
              </a:solidFill>
              <a:latin typeface="Calibri"/>
            </a:endParaRPr>
          </a:p>
        </p:txBody>
      </p:sp>
      <p:pic>
        <p:nvPicPr>
          <p:cNvPr id="46" name="Picture 2" descr=""/>
          <p:cNvPicPr/>
          <p:nvPr/>
        </p:nvPicPr>
        <p:blipFill>
          <a:blip r:embed="rId1"/>
          <a:stretch/>
        </p:blipFill>
        <p:spPr>
          <a:xfrm>
            <a:off x="4429080" y="357120"/>
            <a:ext cx="4500720" cy="31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рай Тетюшский, </a:t>
            </a:r>
            <a:r>
              <a:rPr b="1" i="1" lang="ru-RU" sz="2800" spc="-1" strike="noStrike">
                <a:solidFill>
                  <a:srgbClr val="000000"/>
                </a:solidFill>
                <a:latin typeface="Arial"/>
              </a:rPr>
              <a:t>край родной</a:t>
            </a:r>
            <a:r>
              <a:rPr b="1" i="1" lang="ru-RU" sz="2800" spc="-1" strike="noStrike">
                <a:solidFill>
                  <a:srgbClr val="000000"/>
                </a:solidFill>
                <a:latin typeface="Calibri"/>
              </a:rPr>
              <a:t>…</a:t>
            </a:r>
            <a:endParaRPr b="0" lang="en-US" sz="2800" spc="-1" strike="noStrike">
              <a:solidFill>
                <a:srgbClr val="000000"/>
              </a:solidFill>
              <a:latin typeface="Calibri"/>
            </a:endParaRPr>
          </a:p>
        </p:txBody>
      </p:sp>
      <p:sp>
        <p:nvSpPr>
          <p:cNvPr id="48" name=""/>
          <p:cNvSpPr txBox="1"/>
          <p:nvPr/>
        </p:nvSpPr>
        <p:spPr>
          <a:xfrm>
            <a:off x="500040" y="150012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Где бы я ни находился,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Несомненно знаю я,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Вы - навек судьба моя</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Здесь родился, здесь жив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Этим очень дорож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Вы – Тетюши, край родн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Край любимый, дорог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9" name="Picture 2" descr=""/>
          <p:cNvPicPr/>
          <p:nvPr/>
        </p:nvPicPr>
        <p:blipFill>
          <a:blip r:embed="rId1"/>
          <a:stretch/>
        </p:blipFill>
        <p:spPr>
          <a:xfrm>
            <a:off x="4427640" y="1268280"/>
            <a:ext cx="4282920" cy="29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Нет земли краше, чем Родина…</a:t>
            </a:r>
            <a:br>
              <a:rPr sz="2400"/>
            </a:br>
            <a:endParaRPr b="0" lang="en-US" sz="2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 человека есть малая и большая Родина. Малая Родина – это город, улица, дом, где мы родились. Большая – это наша страна, гражданином которой ты являешься. Для меня Родина – это близкие родные люди, родной дом.</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А ещё есть общая родина всех людей – планета Земля. Нужно всем нам беречь наш общий большой дом – планету.</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О нашей замечательной Родине написано много стихов. Савинов «Родина», Романовский «Слово о Русской земле», Прокофьев «Родина». В них рассказывается о родной природе, о нашей прекрасной стране, о её прошлом и настоящем. Если объяснить слово «Родина» в трёх словах, я отвечу «Вера, Надежда» и «Любовь». Нет земли краше, чем Родина.</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52" name="Picture 2" descr=""/>
          <p:cNvPicPr/>
          <p:nvPr/>
        </p:nvPicPr>
        <p:blipFill>
          <a:blip r:embed="rId1"/>
          <a:stretch/>
        </p:blipFill>
        <p:spPr>
          <a:xfrm>
            <a:off x="357120" y="285840"/>
            <a:ext cx="3857760" cy="297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Родина начинается с детства</a:t>
            </a:r>
            <a:endParaRPr b="0" lang="en-US" sz="3200" spc="-1" strike="noStrike">
              <a:solidFill>
                <a:srgbClr val="000000"/>
              </a:solidFill>
              <a:latin typeface="Calibri"/>
            </a:endParaRPr>
          </a:p>
        </p:txBody>
      </p:sp>
      <p:sp>
        <p:nvSpPr>
          <p:cNvPr id="54" name=""/>
          <p:cNvSpPr txBox="1"/>
          <p:nvPr/>
        </p:nvSpPr>
        <p:spPr>
          <a:xfrm>
            <a:off x="395280" y="1052640"/>
            <a:ext cx="8229600" cy="580536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Слово «Родина» для всех связано с местом  рождения. И сколько бы потом судьба не бросала человека по свету, всегда живёт в нём желание вернуться в те места, где он услышал первую колыбельную песенку, сделал первые шаги, произнёс первые слова. И не важно, где ты родился:  в маленьком городке или в крупном современном городе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Для меня слово «Родина» связано с небольшим  городком на Волге. Зимой он весь закутан снегом, весной тонет в цвете черёмухи, летом буйно зеленеет, а осенью наполнен запахами морозом и дымка от сгорающей опавшей листвы.</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И Родина для меня начинается со старых деревянных домиков, стоящих вдоль малолюдных улиц. Прекрасно помню остров, не сравнимое ни  с чем чувство свободы, которое я испытал как-то раз зимой, когда ходил на лыжах с отцом за город.  Огромные заснеженные поля, по которым проходит лыжня, переходят в небольшие посадки. Лента лыжни вьётся между заснеженными деревьями, удивительными, покрытыми снежными шапками берёзы и осины. Ты несёшься по этой лыжне, и вдруг из леса она выводит тебя на высокую горку. Едешь с горки, и дух захватывает от восторга и быстрой езды. Снежинки летят в лицо. Внизу падаешь и смеешься от радости, которая тебя переполняет. И тут понимаешь, что ты родился и живёшь в самом лучшем уголке на земле. И тебе повезло, что твоя родина находится именно в этом месте. Ведь во всём мире нигде и никогда не испытаешь такое чувство свобод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х, как здорово в наших замечательных лесах осенью! Ведь только осенью можно увидеть буйство красок, они расцвечены всеми красками: и оранжевыми, и жёлтыми, и зелёными, и красными. Ни одна картина не способна передать такое разнообразие цветов.</a:t>
            </a: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Блуждая по неприметным тропинкам с корзиной в руках, можно собрать столько грибов и ягод, сколько тебе хватит на два года вперёд.</a:t>
            </a: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одина начинается с любви и восхищения местами, где ты родился. Если будешь ценить и любить свою родину, то она никогда не оставит тебя и поможет в трудную минуту, где бы ты ни находился!</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3" descr=""/>
          <p:cNvPicPr/>
          <p:nvPr/>
        </p:nvPicPr>
        <p:blipFill>
          <a:blip r:embed="rId1"/>
          <a:stretch/>
        </p:blipFill>
        <p:spPr>
          <a:xfrm>
            <a:off x="250920" y="260280"/>
            <a:ext cx="3457440" cy="237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оя родина – мой родной край…</a:t>
            </a:r>
            <a:endParaRPr b="0" lang="en-US" sz="2800" spc="-1" strike="noStrike">
              <a:solidFill>
                <a:srgbClr val="000000"/>
              </a:solidFill>
              <a:latin typeface="Calibri"/>
            </a:endParaRPr>
          </a:p>
        </p:txBody>
      </p:sp>
      <p:sp>
        <p:nvSpPr>
          <p:cNvPr id="59" name=""/>
          <p:cNvSpPr txBox="1"/>
          <p:nvPr/>
        </p:nvSpPr>
        <p:spPr>
          <a:xfrm>
            <a:off x="457200" y="2214360"/>
            <a:ext cx="8229600" cy="3911400"/>
          </a:xfrm>
          <a:prstGeom prst="rect">
            <a:avLst/>
          </a:prstGeom>
          <a:noFill/>
          <a:ln w="0">
            <a:noFill/>
          </a:ln>
        </p:spPr>
        <p:txBody>
          <a:bodyPr anchor="t">
            <a:normAutofit fontScale="99000"/>
          </a:bodyPr>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000000"/>
                </a:solidFill>
                <a:latin typeface="Calibri"/>
              </a:rPr>
              <a:t>Родина для меня – это мои родители,        родной край, леса. Где я собираю ягоды и грибы, Волга, где, в которой я купаюсь, поля, где я люблю гулять. И, конечно же, Родина – наша столица, это наша Красная площадь.</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Я родилась в великой стране, дружной и могущественной и ни за что и никогда не променяю на другую страну.</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Может ли быть у человека что-то дороже и ближе, чем родные, чем родина? Может ли человек, находящийся в долгой разлуке с местом своего рождения, детства, юности не вспоминать родные близкие сердцу лица?</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 ещё мой класс-моя вторая семья. Мы вместе уже с первого класса.</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Я люблю свою родину. Мне кажется, что лучше и краше нашей родины во всём мире нет…</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2" descr=""/>
          <p:cNvPicPr/>
          <p:nvPr/>
        </p:nvPicPr>
        <p:blipFill>
          <a:blip r:embed="rId1"/>
          <a:stretch/>
        </p:blipFill>
        <p:spPr>
          <a:xfrm>
            <a:off x="357120" y="0"/>
            <a:ext cx="1816200" cy="24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Родина – место, куда </a:t>
            </a:r>
            <a:br>
              <a:rPr sz="3200"/>
            </a:br>
            <a:r>
              <a:rPr b="1" i="1" lang="ru-RU" sz="3200" spc="-1" strike="noStrike">
                <a:solidFill>
                  <a:srgbClr val="000000"/>
                </a:solidFill>
                <a:latin typeface="Calibri"/>
              </a:rPr>
              <a:t>всегда хочется возвращаться</a:t>
            </a:r>
            <a:endParaRPr b="0" lang="en-US" sz="3200" spc="-1" strike="noStrike">
              <a:solidFill>
                <a:srgbClr val="000000"/>
              </a:solidFill>
              <a:latin typeface="Calibri"/>
            </a:endParaRPr>
          </a:p>
        </p:txBody>
      </p:sp>
      <p:sp>
        <p:nvSpPr>
          <p:cNvPr id="62" name=""/>
          <p:cNvSpPr txBox="1"/>
          <p:nvPr/>
        </p:nvSpPr>
        <p:spPr>
          <a:xfrm>
            <a:off x="457200" y="2214360"/>
            <a:ext cx="8229600" cy="442908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Для каждого человека родина – это место, где он родился, куда постоянно хочется возвращаться, где тепло и спокойно, где прошло его детство. Это детская площадка возле дома, песочница, качели, друзья. Это место, где ты жил в беззаботном мире детства. Малой родиной является семья, это родные и близкие, которые окружают тебя, ты их любишь и ценишь.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Моё детство проходит в городке Тетюши, расположенном на берегу Волги. Здесь находятся до боли знакомые места. Город насыщен особым колоритом, его улицы переполнены весёлым настроением, а люди приветливы и доброжелательны. Каждая пора в городе по-своему неповторима. Весна и лето – период, когда многочисленные улочки утопают в зелени и цветах, с утра до позднего вечера гуляют семьи с детьми, влюблённые парочки, группы молодёжи. Осенью и зимой город погружается в тёплую атмосферу домашнего уюта. Он будто прячется в кокон, где все же бурлит жизнь, чтобы весной вновь заявить о себе бесконечной энерги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Наш город славится также историческими достопримечательностями. Это гора Вшиха, сторожевая башня, краеведческий музей, старинные дома, сохранившиеся до наших времён.</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Чтобы полюбить свою страну, нужно знать её историю, жизнь предков. Узнать, как на протяжении веков предки сражались за наше государство, не жалея ни здоровья, ни жизни, мужественно боролись и добивались своей цел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63" name="Picture 2" descr=""/>
          <p:cNvPicPr/>
          <p:nvPr/>
        </p:nvPicPr>
        <p:blipFill>
          <a:blip r:embed="rId1"/>
          <a:stretch/>
        </p:blipFill>
        <p:spPr>
          <a:xfrm>
            <a:off x="250920" y="189000"/>
            <a:ext cx="2687400" cy="19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Для меня понятие «Родина» связано с человеком и всем тем, что его окружает. Оно связано с семьёй. Мы все жители одной планеты, мы все – одна семья. И нашу большую страну я хотела бы видеть в образе большой семьи, где все друг другу как братья и сёстры. Где не голодают люди, где не рвутся снаряды, где нет бомбёжек. Мне хочется верить, что всё хорошее, происходящее на нашей земле будет иметь достойное продолжение, чтобы каждый житель нашей Родины гордился ею. А ещё мне хочется, чтобы все люди относились друг к другу с уважением и почитанием. Человек любого вероисповедания, любого цвета кожи был бы товарищем и другом для всех и каждого.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6T17:42:18Z</dcterms:created>
  <dc:creator>Admin</dc:creator>
  <dc:description/>
  <dc:language>en-US</dc:language>
  <cp:lastModifiedBy>Admin</cp:lastModifiedBy>
  <dcterms:modified xsi:type="dcterms:W3CDTF">2015-01-24T18:54:33Z</dcterms:modified>
  <cp:revision>15</cp:revision>
  <dc:subject/>
  <dc:title>С чего начинается Родина…</dc:title>
</cp:coreProperties>
</file>