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FF6D-3154-4AF6-8F92-7F5C990D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4FFC-08D7-4152-B7A6-C91ACE1A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59F8-19BA-4465-B1F6-972759109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EE3E-2CB0-475E-90EC-6A26D966D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75A0-0586-458A-BC16-75E32954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D3CA-199F-4E97-A6FE-33524F1D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BD5E-84EA-4424-BF93-FA4AF943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F039-5D79-44C7-8AE1-0EC3FC40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B270-9F81-4C69-902D-851A2920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04C8-53F7-4AE0-8BEF-270E6DEF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AF99-F0E7-439A-8069-237EBC43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D1E8-BE17-454D-AA63-FEC94128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A2CB-2F27-4525-8340-E2E04FFD34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19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очи-столица олимпийских игр 2014 г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19360" y="5790960"/>
            <a:ext cx="4724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spcBef>
                <a:spcPts val="451"/>
              </a:spcBef>
              <a:buNone/>
              <a:tabLst>
                <a:tab algn="l" pos="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выполня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spcBef>
                <a:spcPts val="451"/>
              </a:spcBef>
              <a:buNone/>
              <a:tabLst>
                <a:tab algn="l" pos="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ца 6 «А»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spcBef>
                <a:spcPts val="451"/>
              </a:spcBef>
              <a:buNone/>
              <a:tabLst>
                <a:tab algn="l" pos="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гун А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2014 - Олимпиада в Сочи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кровитель города Со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нумент Михаила-Архангела — монументальная колонна со скульптурой Архангела Михаила, главы Небесного воинства, покровителя города Сочи. Скульптура отлита из бронзы, высотой 7 метр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лимпиада 20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52574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чи станет первым городом с субтропическим климатом, где пройдут зимние Олимпийски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сто и время проведения Олимпийских иг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 февраля 2014 года в Сочи откроются XXII зимние Олимпийские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очи, в Адлерском районе города (в Адлере 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осёлке Красная Поляна, находящемся в 39 км от берега Чёрного моря) будут проводиться зимние Олимпийские игры 2014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асная Поля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51811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казочная горная страна в 40 км от побережья, маленькая русская Швейцария на высоте 600 м над уровнем мор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77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77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асная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я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ественные природные условия Красной Поляны — море снега, мягкая зима — позволяют развиваться этому региону как зимнему курорту. Идет активное строительство новых лыжных трасс, подъемников, отелей и других элементов туристской инфраструк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77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2" dur="77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4" dur="77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имволика Олимпийских иг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56383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лимпийский огонь символизирует чистоту, попытку совершенствования и борьбу за победу, а также мир и друж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стафета Олимпийского ог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стафета начнется в Москве и станет наиболее продолжительной за всю историю Игр - продлится 123 дня. Олимпийский огонь прибудет в российскую столицу из Афин, его пронесут через 40 тысяч километров, в соответствии с длиной экватора Земли, через столицы 83 субъектов Российской Федер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2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алисманы Олимпийских игр  Сочи 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5867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опард                    Зайка        Белый Ми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77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77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5" dur="77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7" dur="77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едали Олимпийских иг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помощью гравировки на награды нанесено фирменное "лоскутное одеяло" (образ Игр 2014 года), символизирующее многообразие культурных традиций российских народов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дежда спортсменов Росс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создании коллекции были использованы национальные орнаменты России, которые, словно частицы самых ярких впечатлений об Играх в Сочи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единились в пестрый и одновременно гармоничный узор на куртках и футбол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1904760"/>
            <a:ext cx="3581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чи-город-курорт в Росс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черноморском побережь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адного Кавказа в Краснодарском кра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адио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6248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довая арена для хокк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тадио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4864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лавный олимпийский стадион выстроен в форме пасхального яйца, напоминающего шедевры Фаберже, рассчитанный на 80 тысяч зрителей. Это будет настоящим украшением всего комплекса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лимпийская дерев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берегу моря будет расположен международный телецентр, пресс-центр, отели для судей и спортсмен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3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антастические события в Со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403848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чи  над морем появились необычные облака, которые затем сложились в фигуру-символ олимпийского движ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5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3276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чи является самым длинным городом в Росс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Европ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доль побережья Черного моря протянулся на 145 к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066320"/>
            <a:ext cx="67053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климат Сочи оказывают значительное влияние море (летом от него прохладнее, зимой оно согревает) и горы (ограждают от холодных северных ветро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има тёплая, лето жаркое и влаж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105520" y="-360"/>
            <a:ext cx="4038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чи, как и весь участок российского черноморского побережья южнее  Туапс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оложен в зо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жных субтроп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3915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Сочи расположен на северной границе субтропиков, зимой здесь изредка возможны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заморозки и снегопады, но на побережье городской черты Сочи они бывают крайне редко и держатся в течение одного-пяти дней, в некоторые годы отсутствуют вов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род-кур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05520" y="243792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чи является самым крупным курортным городом Росс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фициально именуется летней, южной и курортной «столицей» Росси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летнем курортном сезоне в Сочи отдохнуло 2,5 млн. челове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род -кур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красный климат, чистое море, свежий морской воздух, уникальный рельеф местности, пышная южная растительность — все это способствует укреплению здоро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23920" y="3733920"/>
            <a:ext cx="44197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чи является крупным экономическим центром черноморского побережья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1T12:12:08Z</dcterms:created>
  <dc:creator>Admin</dc:creator>
  <dc:description/>
  <dc:language>en-US</dc:language>
  <cp:lastModifiedBy>Женя</cp:lastModifiedBy>
  <dcterms:modified xsi:type="dcterms:W3CDTF">2015-01-29T16:28:1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