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CDD9-4AB7-4C82-9662-0D25674AA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61A2-DA8E-45F7-89DB-D5F09C98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64B7-E46C-4A15-B9C9-8656E91BD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5B84-F1F9-43CC-B134-BCBFFE54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55E7-173A-4739-810E-F7833CB7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8B52-80B8-42DB-BA87-9D3D2179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0DD3-C422-4B4A-9381-A8E884BA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7ED2-C14D-41DB-AA04-08B26DB4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E8AF-BE68-4909-8ADB-2FAFB657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6C5C-BAAB-467D-A94B-D0483B79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3FAF-7BBC-484B-8277-EF5883FC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DCB5-B7B9-460E-B6DB-5A405379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8C75-1349-47CC-B5D2-9AC90D8A0D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19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очи-столица олимпийских игр 2014 г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419360" y="5790960"/>
            <a:ext cx="4724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spcBef>
                <a:spcPts val="451"/>
              </a:spcBef>
              <a:buNone/>
              <a:tabLst>
                <a:tab algn="l" pos="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у выполня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spcBef>
                <a:spcPts val="451"/>
              </a:spcBef>
              <a:buNone/>
              <a:tabLst>
                <a:tab algn="l" pos="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ца 6 «А»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spcBef>
                <a:spcPts val="451"/>
              </a:spcBef>
              <a:buNone/>
              <a:tabLst>
                <a:tab algn="l" pos="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гун А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2014 - Олимпиада в Сочи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кровитель города Со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нумент Михаила-Архангела — монументальная колонна со скульптурой Архангела Михаила, главы Небесного воинства, покровителя города Сочи. Скульптура отлита из бронзы, высотой 7 метро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лимпиада 20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52574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чи станет первым городом с субтропическим климатом, где пройдут зимние Олимпийские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сто и время проведения Олимпийских иг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 февраля 2014 года в Сочи откроются XXII зимние Олимпийские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очи, в Адлерском районе города (в Адлере 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осёлке Красная Поляна, находящемся в 39 км от берега Чёрного моря) будут проводиться зимние Олимпийские игры 2014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асная Поля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51811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казочная горная страна в 40 км от побережья, маленькая русская Швейцария на высоте 600 м над уровнем мор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77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77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7" dur="77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асная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я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472392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ественные природные условия Красной Поляны — море снега, мягкая зима — позволяют развиваться этому региону как зимнему курорту. Идет активное строительство новых лыжных трасс, подъемников, отелей и других элементов туристской инфраструк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77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2" dur="77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4" dur="77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имволика Олимпийских иг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56383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лимпийский огонь символизирует чистоту, попытку совершенствования и борьбу за победу, а также мир и друж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стафета Олимпийского ог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стафета начнется в Москве и станет наиболее продолжительной за всю историю Игр - продлится 123 дня. Олимпийский огонь прибудет в российскую столицу из Афин, его пронесут через 40 тысяч километров, в соответствии с длиной экватора Земли, через столицы 83 субъектов Российской Федер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2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алисманы Олимпийских игр  Сочи 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5867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опард                    Зайка        Белый Ми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77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77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5" dur="77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7" dur="77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едали Олимпийских иг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помощью гравировки на награды нанесено фирменное "лоскутное одеяло" (образ Игр 2014 года), символизирующее многообразие культурных традиций российских народов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дежда спортсменов Росс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472392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создании коллекции были использованы национальные орнаменты России, которые, словно частицы самых ярких впечатлений об Играх в Сочи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единились в пестрый и одновременно гармоничный узор на куртках и футбол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1904760"/>
            <a:ext cx="3581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чи-город-курорт в Росс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черноморском побережь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адного Кавказа в Краснодарском кра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адио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6248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довая арена для хокке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4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тадио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4864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лавный олимпийский стадион выстроен в форме пасхального яйца, напоминающего шедевры Фаберже, рассчитанный на 80 тысяч зрителей. Это будет настоящим украшением всего комплекса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лимпийская дерев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берегу моря будет расположен международный телецентр, пресс-центр, отели для судей и спортсмен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3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1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антастические события в Со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403848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чи  над морем появились необычные облака, которые затем сложились в фигуру-символ олимпийского движ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5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3276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чи является самым длинным городом в Росс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Европ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доль побережья Черного моря протянулся на 145 к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066320"/>
            <a:ext cx="67053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климат Сочи оказывают значительное влияние море (летом от него прохладнее, зимой оно согревает) и горы (ограждают от холодных северных ветров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има тёплая, лето жаркое и влаж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105520" y="-360"/>
            <a:ext cx="4038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чи, как и весь участок российского черноморского побережья южнее  Туапс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оложен в зо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ажных субтроп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3915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Сочи расположен на северной границе субтропиков, зимой здесь изредка возможны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заморозки и снегопады, но на побережье городской черты Сочи они бывают крайне редко и держатся в течение одного-пяти дней, в некоторые годы отсутствуют вов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род-кур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05520" y="243792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чи является самым крупным курортным городом Росс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официально именуется летней, южной и курортной «столицей» Росси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летнем курортном сезоне в Сочи отдохнуло 2,5 млн. челове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род -кур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красный климат, чистое море, свежий морской воздух, уникальный рельеф местности, пышная южная растительность — все это способствует укреплению здоро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23920" y="3733920"/>
            <a:ext cx="44197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чи является крупным экономическим центром черноморского побережья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1T12:12:08Z</dcterms:created>
  <dc:creator>Admin</dc:creator>
  <dc:description/>
  <dc:language>en-US</dc:language>
  <cp:lastModifiedBy>Женя</cp:lastModifiedBy>
  <dcterms:modified xsi:type="dcterms:W3CDTF">2015-01-29T16:28:1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