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465-D14D-4BAD-95C7-41BC9419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F89-540B-4BB1-B60C-46AF1C35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976-EEBE-4F49-BE12-A83272F1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4F5-84DC-433D-AB28-5F5E54DD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F6C2-C7FE-4575-B3B3-880EB979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ABFB-E0D3-4E96-8B5C-2A85A826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1EB2-8103-45F5-B8EF-38892A5C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147B-CDEF-42E1-8BE3-31F85CB2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E0DB-7B3D-427E-B92D-316D03D1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6382-B57D-4A99-B2D2-DB1EF667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4A3E-70C6-4C22-8C46-C11F1B55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EC0-1F69-4E44-BC7D-D3DB6473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FFE6-B0C0-43A8-BBDB-9079EF2D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3518-3B89-4369-806F-1443B41B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86AF-C60B-4FB8-9854-1E7F076A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89AF-1D17-48A4-83DA-14166639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A2AA-4148-4365-A231-A756E920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B0166-93A6-4FEF-B7AD-454B5C25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D7F8C-806B-45FA-89FE-41F76F4B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1CD40-4A8D-4516-813C-B096CA93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BBEDD-3A53-4286-8D1A-D97FE9CF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FE9EA-8E7F-48CD-8D1F-58958CA0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BC1-E3A8-4844-A0CF-27A81A8E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099A5-E5CD-4D7A-9EC2-76D5ED2F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B506-947B-4505-87A4-CD37228A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AF2A2-ED4D-4B4E-BC7C-67C049DD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1FE8D-0206-4A25-ADBE-EBCCBD3A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8817-21D6-445A-BB53-C57E56E0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87250-8E27-4B0A-93BE-FF20A89A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99BDB-3E24-42B8-B612-0ED849E0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AD5-0CC3-4B61-B53B-CE1D3A12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7CE-7BBA-4E2F-A960-C9FBB083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1FD-580B-4568-B7FB-D31A0538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363-3B6D-4E96-ADB1-3AA56C09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933-711F-4851-8FCA-B743FFDE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EEA-EFA4-4B8E-93D7-B5093A90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D0D4-1A27-47CB-AB00-84686F7870A3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2D0C-E0DB-49A3-B437-82F6C953FA4A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D1C7-D53B-4723-8589-DF0A6C5A859D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1123920"/>
            <a:ext cx="784692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ОСОБЕННОСТИ ПРОИЗВОЛЬНОГО ВНИМАНИЯ ДЕТЕЙ С ЗАДЕРЖКОЙ ПСИХИЧЕСКОГО РАЗВИТИЯ СТАРШЕГО ДОШКОЛЬНОГО ВОЗРАСТА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                       </a:t>
            </a:r>
            <a:br>
              <a:rPr sz="2800"/>
            </a:b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                                          КАРАСЕВА Е. В. 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71640" y="1341000"/>
            <a:ext cx="640080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ТЕМ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СРАВНИТЕЛЬНАЯ ТАБЛИЦА ПЕРЕКЛЮЧАЕМОСТИ НОРМАЛЬНО РАЗВИВАЮЩИХСЯ ДЕТЕЙ И ДЕТЕЙ С ЗАДЕРЖКОЙ ПСИХИЧЕСКОГО РАЗВИТИЯ.</a:t>
            </a: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151" name="Объект 5"/>
          <p:cNvGraphicFramePr/>
          <p:nvPr/>
        </p:nvGraphicFramePr>
        <p:xfrm>
          <a:off x="395280" y="1989000"/>
          <a:ext cx="10393200" cy="44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10393200" cy="44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КОРРЕКТУРНАЯ ПРОБА. КОЛЬЦА ЛАНДОЛЬТА.</a:t>
            </a:r>
            <a:br>
              <a:rPr sz="2800"/>
            </a:b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СРАВНИТЕЛЬНАЯ ТАБЛИЦА РАСПРЕДЕЛЕНИЯ ВНИМАНИЯ.</a:t>
            </a:r>
            <a:br>
              <a:rPr sz="2800"/>
            </a:b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155" name="Объект 4"/>
          <p:cNvGraphicFramePr/>
          <p:nvPr/>
        </p:nvGraphicFramePr>
        <p:xfrm>
          <a:off x="324000" y="2349360"/>
          <a:ext cx="1020744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1020744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17560" y="404640"/>
            <a:ext cx="71755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МЕТОДИКА ПЕРЕПУТАННЫЕ ЛИНИИ.</a:t>
            </a:r>
            <a:br>
              <a:rPr sz="2500"/>
            </a:br>
            <a:r>
              <a:rPr b="0" i="1" lang="ru-RU" sz="25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СРАВНИТЕЛЬНАЯ ДИАГРАММА УСТОЙЧИВОСТИ ВНИМАНИЯ.</a:t>
            </a:r>
            <a:br>
              <a:rPr sz="2500"/>
            </a:br>
            <a:r>
              <a:rPr b="0" i="1" lang="ru-RU" sz="25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 </a:t>
            </a:r>
            <a:br>
              <a:rPr sz="2500"/>
            </a:b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7272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УРОВЕНЬ РАЗВИТИЯ СВОЙСТВ ВНИМАНИЯ У ДЕТЕЙ С ЗПР РАЗЛИЧНОГО ГЕНЕЗА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11280" y="1916280"/>
          <a:ext cx="7993080" cy="4392360"/>
        </p:xfrm>
        <a:graphic>
          <a:graphicData uri="http://schemas.openxmlformats.org/drawingml/2006/table">
            <a:tbl>
              <a:tblPr/>
              <a:tblGrid>
                <a:gridCol w="2089080"/>
                <a:gridCol w="1440000"/>
                <a:gridCol w="1439640"/>
                <a:gridCol w="1552680"/>
                <a:gridCol w="1471680"/>
              </a:tblGrid>
              <a:tr h="487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  задержки психическо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ни развития свойств вни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ойчив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нт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люч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едел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ребральноорганического гене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матогенного гене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генного гене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5"/>
          <p:cNvSpPr/>
          <p:nvPr/>
        </p:nvSpPr>
        <p:spPr>
          <a:xfrm>
            <a:off x="1455840" y="2422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5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УРОВЕНЬ РАЗВИТИЯ СВОЙСТВ ВНИМАНИЯ У НОРМАЛЬНО РАЗВИВАЮЩИХСЯ ДЕТЕЙ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68360" y="2133720"/>
          <a:ext cx="8424720" cy="4424400"/>
        </p:xfrm>
        <a:graphic>
          <a:graphicData uri="http://schemas.openxmlformats.org/drawingml/2006/table">
            <a:tbl>
              <a:tblPr/>
              <a:tblGrid>
                <a:gridCol w="1639800"/>
                <a:gridCol w="1514520"/>
                <a:gridCol w="1855800"/>
                <a:gridCol w="1855800"/>
                <a:gridCol w="1558800"/>
              </a:tblGrid>
              <a:tr h="4014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ы нормально развивающихс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ни развития свойств вни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ойчив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нт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люч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едел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мально развивающиеся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матически ослаблен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и с СДВ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1. У ДЕТЕЙ С ЗАДЕРЖКОЙ ПСИХИЧЕСКОГО РАЗВИТИЯ УРОВЕНЬ РАЗВИТИЯ ВНИМАНИЯ СНИЖЕН В СРАВНЕНИИ С НОРМАЛЬНО РАЗВИВАЮЩИМИСЯ ДЕТЬМИ.</a:t>
            </a:r>
            <a:br>
              <a:rPr sz="2200"/>
            </a:br>
            <a:r>
              <a:rPr b="0" i="1" lang="ru-RU" sz="2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2. РАЗВИТИЕ СВОЙСТВ ВНИМАНИЯ У ДЕТЕЙ С ЗПР ЦЕРЕБРАЛЬНООРГАНИЧЕСКОГО ГЕНЕЗА НАХОДИТСЯ НА НИЗКОМ УРОВНЕ.</a:t>
            </a:r>
            <a:br>
              <a:rPr sz="2200"/>
            </a:br>
            <a:r>
              <a:rPr b="0" i="1" lang="ru-RU" sz="2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3.ДЕТИ С ЗПР СОМАТОГЕННОГО ГЕНЕЗА ПОКАЗАЛИ СРЕДНИЙ УРОВЕНЬ СФОРМИРОВАННОСТИ СВОЙСТВ ВНИМАНИЯ.</a:t>
            </a:r>
            <a:br>
              <a:rPr sz="2200"/>
            </a:br>
            <a:r>
              <a:rPr b="0" i="1" lang="ru-RU" sz="2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4.ДЛЯ БОЛЬШИНСТВА ДЕТЕЙ С ЗПР ПСИХОГЕННОГО ГЕНЕЗА ХАРАКТЕРНЫ СРЕДНИЕ ПОКАЗАТЕЛИ КОНЦЕНТРАЦИИ ВНИМАНИЯ, ВЫСОКИЕ ПОКАЗАТЕЛИ УСТОЙЧИВОСТИ, ПЕРЕКЛЮЧАЕМОСТИ И РАСПРЕДЕЛЕНИЯ ВНИМАНИЯ.</a:t>
            </a:r>
            <a:br>
              <a:rPr sz="2200"/>
            </a:br>
            <a:r>
              <a:rPr b="0" i="1" lang="ru-RU" sz="2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5. СРЕДИ НОРМАЛЬНО РАЗВИВАЮЩИХСЯ ДЕТЕЙ ВЫДЕЛЕНЫ ГРУППЫ ПО УРОВНЮ СФОРМИРОВАННОСТИ СВОЙСТВ ВНИМАНИЯ: СОМАТИЧЕСКИ ОСЛАБЛЕННЫЕ И ДЕТИ С СДВГ.</a:t>
            </a:r>
            <a:endParaRPr b="0" lang="en-US" sz="2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48836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1282e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17560" y="907920"/>
            <a:ext cx="717552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АКТУАЛЬНОСТЬ ИССЛЕДОВАНИЯ -В ПОСЛЕДНИЕ ГОДЫ ЗАМЕТНО УВЕЛИЧИЛОСЬ ЧИСЛО ДЕТЕЙ С ЗАДЕРЖКОЙ ПСИХИЧЕСКОГО РАЗВИТИЯ.  ДАННЫЕ СПЕЦИАЛЬНОЙ ПСИХОЛОГИИ СВИДЕТЕЛЬСТВУЮТ, ЧТО ОДНОЙ ИЗ НАИБОЛЕЕ РАСПРОСТРАНЕННЫХ ФОРМ АНОМАЛИЙ ПСИХИКИ В РАННЕМ ОНТОГЕНЕЗЕ В НАСТОЯЩЕЕ ВРЕМЯ ЯВЛЯЕТСЯ ИМЕННО ЗАДЕРЖКА ПСИХИЧЕСКОГО РАЗВИТИЯ. У ДЕТЕЙ С ЗПР НАБЛЮДАЕТСЯ НАРУШЕНИЕ ВНИМАНИЯ. А ЭТОТ ФАКТ ОБУСЛАВЛИВАЕТ ПОВЫШЕННОЕ ВНИМАНИЕ ИССЛЕДОВАТЕЛЕЙ К ДАННОЙ ПРОБЛЕМЕ.</a:t>
            </a:r>
            <a:br>
              <a:rPr sz="2500"/>
            </a:b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43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ЦЕЛЬ: ВЫЯВИТЬ ОСОБЕННОСТИ ПРОИЗВОЛЬНОГО ВНИМАНИЯ У ДЕТЕЙ С ЗАДЕРЖКОЙ ПСИХИЧЕСКОГО РАЗВИТИЯ И НОРМАЛЬНО РАЗВИВАЮЩИХСЯ ДЕТЕЙ СТАРШЕГО ДОШКОЛЬНОГО ВОЗРАСТА.</a:t>
            </a:r>
            <a:br>
              <a:rPr sz="2800"/>
            </a:b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58920" y="4941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e67c7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ГИПОТЕЗА: ПРЕДПОЛАГАЕМ, ЧТО У ДЕТЕЙ СТАРШЕГО ДОШКОЛЬНОГО ВОЗРАСТА С ЗАДЕРЖКОЙ ПСИХИЧЕСКОГО РАЗВИТИЯ ПРОДУКТИВНОСТЬ, УСТОЙЧИВОСТЬ, КОНЦЕНТРАЦИЯ И ПЕРЕКЛЮЧАЕМОСТЬ ВНИМАНИЯ НИЖЕ, ЧЕМ У НОРМАЛЬНО РАЗВИВАЮЩИХСЯ ДЕТЕЙ.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ЗАДАЧИ ИССЛЕДОВАНИЯ:</a:t>
            </a:r>
            <a:br>
              <a:rPr sz="1800"/>
            </a:b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1.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ПРОАНАЛИЗИРОВАТЬ ПРОБЛЕМЫ ИССЛЕДОВАНИЯ ВНИМАНИЯ В ПСИХОЛОГИЧЕСКОЙ И ПЕДАГОГИЧЕСКОЙ ЛИТЕРАТУРЕ.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2.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ПОДОБРАТЬ КОМПЛЕКС АДЕКВАТНЫХ МЕТОДИК ДЛЯ ИЗУЧЕНИЯ ВНИМАНИЯ.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3.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 ВЫЯВИТЬ ОСОБЕННОСТИ ПРОИЗВОЛЬНОГО  ВНИМАНИЯ У ДЕТЕЙ СТАРШЕГО ДОШКОЛЬНОГО ВОЗРАСТА ДЕТЕЙ С ЗАДЕРЖКОЙ ПСИХИЧЕСКОГО РАЗВИТИЯ, РАЗЛИЧНОГО ГЕНЕЗА И  НОРМАЛЬНО РАЗВИВАЮЩИХСЯ ДЕТЕЙ.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4.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  ОПРЕДЕЛИТЬ УРОВЕНЬ РАЗВИТИЯ ВНИМАНИЯ ДЕТЕЙ СТАРШЕГО ДОШКОЛЬНОГО ВОЗРАСТА С ЗАДЕРЖКОЙ ПСИХИЧЕСКОГО РАЗВИТИЯ.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5.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   СРАВНИТЬ РАЗВИТИЕ ВНИМАНИЯ ДЕТЕЙ СТАРШЕГО ДОШКОЛЬНОГО ВОЗРАСТА С НОРМОЙ РАЗВИТИЯ И ДЕТЕЙ С ЗАДЕРЖКОЙ ПСИХИЧЕСКОГО РАЗВИТИЯ.</a:t>
            </a:r>
            <a:br>
              <a:rPr sz="2500"/>
            </a:br>
            <a:endParaRPr b="0" lang="en-US" sz="1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ПРЕДМЕТ – ОСОБЕННОСТИ ПРОИЗВОЛЬНОГО ВНИМАНИЯ, А ИМЕННО КОНЦЕНТРАЦИЯ, УСТОЙЧИВОСТЬ, ПЕРЕКЛЮЧЕНИЕ И РАСПРЕДЕЛЕНИЕ ВНИМАНИЯ,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17560" y="188640"/>
            <a:ext cx="717552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ОБЪЕКТ: ДЕТИ СТАРШЕГО ДОШКОЛЬНОГО ВОЗРАСТА С ЗАДЕРЖКОЙ ПСИХИЧЕСКОГО РАЗВИТИЯ И НОРМАЛЬНО РАЗВИВАЮЩИЕСЯ  ДЕТИ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1. КОРРЕКТУРНАЯ ПРОБА (ТЕСТ БУРДОНА). </a:t>
            </a:r>
            <a:br>
              <a:rPr sz="3200"/>
            </a:br>
            <a:r>
              <a:rPr b="0" i="1" lang="ru-RU" sz="3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2 МОДИФИЦИРОВАННАЯ ЦИФРОВАЯ ТАБЛИЦА ШУЛЬТЕ.</a:t>
            </a:r>
            <a:br>
              <a:rPr sz="3200"/>
            </a:br>
            <a:r>
              <a:rPr b="0" i="1" lang="ru-RU" sz="3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3. МЕТОДИКА "КОЛЬЦА ЛАНДОЛЬТА."</a:t>
            </a:r>
            <a:br>
              <a:rPr sz="3200"/>
            </a:br>
            <a:r>
              <a:rPr b="0" i="1" lang="ru-RU" sz="3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4. МЕТОДИКА « ПЕРЕПЛЕТЕННЫЕ ЛИНИИ» МОДИФИКАЦИЯ РЕЯ.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695016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КОРРЕКТУРНАЯ ПРОБА БУРДОНА.</a:t>
            </a:r>
            <a:br>
              <a:rPr sz="2500"/>
            </a:br>
            <a:r>
              <a:rPr b="0" i="1" lang="ru-RU" sz="25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СРАВНЕНИЕ РЕЗУЛЬТАТОВ УСТОЙЧИВОСТИ, ПЕРЕКЛЮЧЕНИЯ И КОНЦЕНТРАЦИИ ВНИМАНИЯ. </a:t>
            </a: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147" name="Объект 3"/>
          <p:cNvGraphicFramePr/>
          <p:nvPr/>
        </p:nvGraphicFramePr>
        <p:xfrm>
          <a:off x="604800" y="1992240"/>
          <a:ext cx="8180280" cy="43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992240"/>
                    <a:ext cx="8180280" cy="43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5:11:30Z</dcterms:created>
  <dc:creator>Windows User</dc:creator>
  <dc:description/>
  <dc:language>en-US</dc:language>
  <cp:lastModifiedBy>Windows User</cp:lastModifiedBy>
  <dcterms:modified xsi:type="dcterms:W3CDTF">2015-01-29T17:55:17Z</dcterms:modified>
  <cp:revision>31</cp:revision>
  <dc:subject/>
  <dc:title>Особенности произвольного внимания детей с задержкой психического развития</dc:title>
</cp:coreProperties>
</file>