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B45-F194-48BE-8D7B-42544E8E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7AA-C698-433B-BEB6-B3880DDA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FCD-CBE1-4590-B368-8EE28C6F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09D-10C1-473D-9626-6C8C6E66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5A25-8330-44B5-A9CD-26470FF5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F1CC-391E-4417-913D-0F4C475F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0F72-4E3D-40C2-BF28-5F31FBF1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0668-8F4E-4F22-9B32-EC03FF7C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B1FD-284F-4C17-8269-531F49A4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1661-D234-4E61-9B73-8B512EEC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18C6-7F4D-4D30-A9A8-AC8C2CE1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605-DCC4-46C8-A0BA-3233FA97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7D88-97C3-441D-AB24-1CE8E4A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6B0D-2398-4F92-9AD4-6E177EAE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60F7-E112-4E6E-B651-9D60C3D9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85DD-AD62-4C90-9E72-677C0840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49BB-3B9F-4BB7-BC25-2197A04B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5FE1-88FD-458D-AB29-09E723DA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844B-1701-473C-8784-44FFAA30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CF91-D6E8-44E0-B25E-653C2BA2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C727-2771-4F7F-BA2A-45090A88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C3E7-4842-4656-91FA-604FEA69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991-AB63-4907-B152-F629015C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D376-CD49-4DA7-A75E-F49E242D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9FC2-CA92-48B3-B6E2-86A5FE08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3D8E-0758-45C7-8DD6-67E047C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CC2B8-69B5-433C-BB74-4A2C5407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142E-74A2-4A66-B9D3-8DF28760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50DC-62C8-43D1-8FFA-D776E388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E26C-4277-461B-9E27-5340D7ED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3FE-57E6-45AD-BBE5-FF1909CC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C92-10B0-4CFA-9558-3A897B40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C09-8E40-44BD-B08E-61685F62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FBD-9376-416B-AB72-D30920E5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E74-E33E-428A-8F0B-E82A8B48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B00-E1DF-439D-8204-443BE2B0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6004-7670-4E32-8869-3AD194C31521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047D-8CB7-4205-856F-E2669686260C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1CB8-E09C-43F9-BBC6-D8BEA61B22C3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1123920"/>
            <a:ext cx="784692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ОСОБЕННОСТИ ПРОИЗВОЛЬНОГО ВНИМАНИЯ ДЕТЕЙ С ЗАДЕРЖКОЙ ПСИХИЧЕСКОГО РАЗВИТИЯ СТАРШЕГО ДОШКОЛЬНОГО ВОЗРАСТА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                      </a:t>
            </a:r>
            <a:br>
              <a:rPr sz="2800"/>
            </a:b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                                         КАРАСЕВА Е. В. 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71640" y="1341000"/>
            <a:ext cx="640080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ТЕМ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СРАВНИТЕЛЬНАЯ ТАБЛИЦА ПЕРЕКЛЮЧАЕМОСТИ НОРМАЛЬНО РАЗВИВАЮЩИХСЯ ДЕТЕЙ И ДЕТЕЙ С ЗАДЕРЖКОЙ ПСИХИЧЕСКОГО РАЗВИТИЯ.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51" name="Объект 5"/>
          <p:cNvGraphicFramePr/>
          <p:nvPr/>
        </p:nvGraphicFramePr>
        <p:xfrm>
          <a:off x="395280" y="1989000"/>
          <a:ext cx="10393200" cy="44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10393200" cy="44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КОРРЕКТУРНАЯ ПРОБА. КОЛЬЦА ЛАНДОЛЬТА.</a:t>
            </a:r>
            <a:br>
              <a:rPr sz="2800"/>
            </a:b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СРАВНИТЕЛЬНАЯ ТАБЛИЦА РАСПРЕДЕЛЕНИЯ ВНИМАНИЯ.</a:t>
            </a:r>
            <a:br>
              <a:rPr sz="2800"/>
            </a:b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55" name="Объект 4"/>
          <p:cNvGraphicFramePr/>
          <p:nvPr/>
        </p:nvGraphicFramePr>
        <p:xfrm>
          <a:off x="324000" y="2349360"/>
          <a:ext cx="1020744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1020744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17560" y="404640"/>
            <a:ext cx="71755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МЕТОДИКА ПЕРЕПУТАННЫЕ ЛИНИИ.</a:t>
            </a:r>
            <a:br>
              <a:rPr sz="2500"/>
            </a:b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СРАВНИТЕЛЬНАЯ ДИАГРАММА УСТОЙЧИВОСТИ ВНИМАНИЯ.</a:t>
            </a:r>
            <a:br>
              <a:rPr sz="2500"/>
            </a:b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 </a:t>
            </a:r>
            <a:br>
              <a:rPr sz="2500"/>
            </a:b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727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УРОВЕНЬ РАЗВИТИЯ СВОЙСТВ ВНИМАНИЯ У ДЕТЕЙ С ЗПР РАЗЛИЧНОГО ГЕНЕЗА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1280" y="1916280"/>
          <a:ext cx="7993080" cy="4392360"/>
        </p:xfrm>
        <a:graphic>
          <a:graphicData uri="http://schemas.openxmlformats.org/drawingml/2006/table">
            <a:tbl>
              <a:tblPr/>
              <a:tblGrid>
                <a:gridCol w="2089080"/>
                <a:gridCol w="1440000"/>
                <a:gridCol w="1439640"/>
                <a:gridCol w="1552680"/>
                <a:gridCol w="1471680"/>
              </a:tblGrid>
              <a:tr h="487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  задержки психическо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ни развития свойств вни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ойчив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люч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едел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ребральноорганического ген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тогенного ген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генного ген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5"/>
          <p:cNvSpPr/>
          <p:nvPr/>
        </p:nvSpPr>
        <p:spPr>
          <a:xfrm>
            <a:off x="1455840" y="2422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5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УРОВЕНЬ РАЗВИТИЯ СВОЙСТВ ВНИМАНИЯ У НОРМАЛЬНО РАЗВИВАЮЩИХСЯ ДЕТЕЙ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2133720"/>
          <a:ext cx="8424720" cy="4424400"/>
        </p:xfrm>
        <a:graphic>
          <a:graphicData uri="http://schemas.openxmlformats.org/drawingml/2006/table">
            <a:tbl>
              <a:tblPr/>
              <a:tblGrid>
                <a:gridCol w="1639800"/>
                <a:gridCol w="1514520"/>
                <a:gridCol w="1855800"/>
                <a:gridCol w="1855800"/>
                <a:gridCol w="1558800"/>
              </a:tblGrid>
              <a:tr h="4014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нормально развивающихс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ни развития свойств вни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ойчив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люч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едел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льно развивающиеся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тически ослабле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с СДВ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1. У ДЕТЕЙ С ЗАДЕРЖКОЙ ПСИХИЧЕСКОГО РАЗВИТИЯ УРОВЕНЬ РАЗВИТИЯ ВНИМАНИЯ СНИЖЕН В СРАВНЕНИИ С НОРМАЛЬНО РАЗВИВАЮЩИМИСЯ ДЕТЬМИ.</a:t>
            </a:r>
            <a:br>
              <a:rPr sz="2200"/>
            </a:br>
            <a:r>
              <a:rPr b="0" i="1" lang="ru-RU" sz="2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2. РАЗВИТИЕ СВОЙСТВ ВНИМАНИЯ У ДЕТЕЙ С ЗПР ЦЕРЕБРАЛЬНООРГАНИЧЕСКОГО ГЕНЕЗА НАХОДИТСЯ НА НИЗКОМ УРОВНЕ.</a:t>
            </a:r>
            <a:br>
              <a:rPr sz="2200"/>
            </a:br>
            <a:r>
              <a:rPr b="0" i="1" lang="ru-RU" sz="2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3.ДЕТИ С ЗПР СОМАТОГЕННОГО ГЕНЕЗА ПОКАЗАЛИ СРЕДНИЙ УРОВЕНЬ СФОРМИРОВАННОСТИ СВОЙСТВ ВНИМАНИЯ.</a:t>
            </a:r>
            <a:br>
              <a:rPr sz="2200"/>
            </a:br>
            <a:r>
              <a:rPr b="0" i="1" lang="ru-RU" sz="2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4.ДЛЯ БОЛЬШИНСТВА ДЕТЕЙ С ЗПР ПСИХОГЕННОГО ГЕНЕЗА ХАРАКТЕРНЫ СРЕДНИЕ ПОКАЗАТЕЛИ КОНЦЕНТРАЦИИ ВНИМАНИЯ, ВЫСОКИЕ ПОКАЗАТЕЛИ УСТОЙЧИВОСТИ, ПЕРЕКЛЮЧАЕМОСТИ И РАСПРЕДЕЛЕНИЯ ВНИМАНИЯ.</a:t>
            </a:r>
            <a:br>
              <a:rPr sz="2200"/>
            </a:br>
            <a:r>
              <a:rPr b="0" i="1" lang="ru-RU" sz="2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5. СРЕДИ НОРМАЛЬНО РАЗВИВАЮЩИХСЯ ДЕТЕЙ ВЫДЕЛЕНЫ ГРУППЫ ПО УРОВНЮ СФОРМИРОВАННОСТИ СВОЙСТВ ВНИМАНИЯ: СОМАТИЧЕСКИ ОСЛАБЛЕННЫЕ И ДЕТИ С СДВГ.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48836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1282e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17560" y="907920"/>
            <a:ext cx="717552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АКТУАЛЬНОСТЬ ИССЛЕДОВАНИЯ -В ПОСЛЕДНИЕ ГОДЫ ЗАМЕТНО УВЕЛИЧИЛОСЬ ЧИСЛО ДЕТЕЙ С ЗАДЕРЖКОЙ ПСИХИЧЕСКОГО РАЗВИТИЯ.  ДАННЫЕ СПЕЦИАЛЬНОЙ ПСИХОЛОГИИ СВИДЕТЕЛЬСТВУЮТ, ЧТО ОДНОЙ ИЗ НАИБОЛЕЕ РАСПРОСТРАНЕННЫХ ФОРМ АНОМАЛИЙ ПСИХИКИ В РАННЕМ ОНТОГЕНЕЗЕ В НАСТОЯЩЕЕ ВРЕМЯ ЯВЛЯЕТСЯ ИМЕННО ЗАДЕРЖКА ПСИХИЧЕСКОГО РАЗВИТИЯ. У ДЕТЕЙ С ЗПР НАБЛЮДАЕТСЯ НАРУШЕНИЕ ВНИМАНИЯ. А ЭТОТ ФАКТ ОБУСЛАВЛИВАЕТ ПОВЫШЕННОЕ ВНИМАНИЕ ИССЛЕДОВАТЕЛЕЙ К ДАННОЙ ПРОБЛЕМЕ.</a:t>
            </a:r>
            <a:br>
              <a:rPr sz="2500"/>
            </a:b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ЦЕЛЬ: ВЫЯВИТЬ ОСОБЕННОСТИ ПРОИЗВОЛЬНОГО ВНИМАНИЯ У ДЕТЕЙ С ЗАДЕРЖКОЙ ПСИХИЧЕСКОГО РАЗВИТИЯ И НОРМАЛЬНО РАЗВИВАЮЩИХСЯ ДЕТЕЙ СТАРШЕГО ДОШКОЛЬНОГО ВОЗРАСТА.</a:t>
            </a:r>
            <a:br>
              <a:rPr sz="2800"/>
            </a:b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58920" y="4941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e67c7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ГИПОТЕЗА: ПРЕДПОЛАГАЕМ, ЧТО У ДЕТЕЙ СТАРШЕГО ДОШКОЛЬНОГО ВОЗРАСТА С ЗАДЕРЖКОЙ ПСИХИЧЕСКОГО РАЗВИТИЯ ПРОДУКТИВНОСТЬ, УСТОЙЧИВОСТЬ, КОНЦЕНТРАЦИЯ И ПЕРЕКЛЮЧАЕМОСТЬ ВНИМАНИЯ НИЖЕ, ЧЕМ У НОРМАЛЬНО РАЗВИВАЮЩИХСЯ ДЕТЕЙ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ЗАДАЧИ ИССЛЕДОВАНИЯ:</a:t>
            </a:r>
            <a:br>
              <a:rPr sz="1800"/>
            </a:b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1.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ПРОАНАЛИЗИРОВАТЬ ПРОБЛЕМЫ ИССЛЕДОВАНИЯ ВНИМАНИЯ В ПСИХОЛОГИЧЕСКОЙ И ПЕДАГОГИЧЕСКОЙ ЛИТЕРАТУРЕ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2.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ПОДОБРАТЬ КОМПЛЕКС АДЕКВАТНЫХ МЕТОДИК ДЛЯ ИЗУЧЕНИЯ ВНИМАНИЯ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3.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ВЫЯВИТЬ ОСОБЕННОСТИ ПРОИЗВОЛЬНОГО  ВНИМАНИЯ У ДЕТЕЙ СТАРШЕГО ДОШКОЛЬНОГО ВОЗРАСТА ДЕТЕЙ С ЗАДЕРЖКОЙ ПСИХИЧЕСКОГО РАЗВИТИЯ, РАЗЛИЧНОГО ГЕНЕЗА И  НОРМАЛЬНО РАЗВИВАЮЩИХСЯ ДЕТЕЙ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4.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 ОПРЕДЕЛИТЬ УРОВЕНЬ РАЗВИТИЯ ВНИМАНИЯ ДЕТЕЙ СТАРШЕГО ДОШКОЛЬНОГО ВОЗРАСТА С ЗАДЕРЖКОЙ ПСИХИЧЕСКОГО РАЗВИТИЯ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5.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   СРАВНИТЬ РАЗВИТИЕ ВНИМАНИЯ ДЕТЕЙ СТАРШЕГО ДОШКОЛЬНОГО ВОЗРАСТА С НОРМОЙ РАЗВИТИЯ И ДЕТЕЙ С ЗАДЕРЖКОЙ ПСИХИЧЕСКОГО РАЗВИТИЯ.</a:t>
            </a:r>
            <a:br>
              <a:rPr sz="2500"/>
            </a:br>
            <a:endParaRPr b="0" lang="en-US" sz="1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ПРЕДМЕТ – ОСОБЕННОСТИ ПРОИЗВОЛЬНОГО ВНИМАНИЯ, А ИМЕННО КОНЦЕНТРАЦИЯ, УСТОЙЧИВОСТЬ, ПЕРЕКЛЮЧЕНИЕ И РАСПРЕДЕЛЕНИЕ ВНИМАНИЯ,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7560" y="188640"/>
            <a:ext cx="717552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ОБЪЕКТ: ДЕТИ СТАРШЕГО ДОШКОЛЬНОГО ВОЗРАСТА С ЗАДЕРЖКОЙ ПСИХИЧЕСКОГО РАЗВИТИЯ И НОРМАЛЬНО РАЗВИВАЮЩИЕСЯ  ДЕТИ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1. КОРРЕКТУРНАЯ ПРОБА (ТЕСТ БУРДОНА). </a:t>
            </a:r>
            <a:br>
              <a:rPr sz="3200"/>
            </a:br>
            <a:r>
              <a:rPr b="0" i="1" lang="ru-RU" sz="3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2 МОДИФИЦИРОВАННАЯ ЦИФРОВАЯ ТАБЛИЦА ШУЛЬТЕ.</a:t>
            </a:r>
            <a:br>
              <a:rPr sz="3200"/>
            </a:br>
            <a:r>
              <a:rPr b="0" i="1" lang="ru-RU" sz="3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3. МЕТОДИКА "КОЛЬЦА ЛАНДОЛЬТА."</a:t>
            </a:r>
            <a:br>
              <a:rPr sz="3200"/>
            </a:br>
            <a:r>
              <a:rPr b="0" i="1" lang="ru-RU" sz="32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4. МЕТОДИКА « ПЕРЕПЛЕТЕННЫЕ ЛИНИИ» МОДИФИКАЦИЯ РЕЯ.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69501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КОРРЕКТУРНАЯ ПРОБА БУРДОНА.</a:t>
            </a:r>
            <a:br>
              <a:rPr sz="2500"/>
            </a:br>
            <a:r>
              <a:rPr b="0" i="1" lang="ru-RU" sz="2500" spc="-1" strike="noStrike">
                <a:solidFill>
                  <a:srgbClr val="e67c7f"/>
                </a:solidFill>
                <a:latin typeface="Times New Roman"/>
                <a:ea typeface="Times New Roman"/>
              </a:rPr>
              <a:t>СРАВНЕНИЕ РЕЗУЛЬТАТОВ УСТОЙЧИВОСТИ, ПЕРЕКЛЮЧЕНИЯ И КОНЦЕНТРАЦИИ ВНИМАНИЯ. 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47" name="Объект 3"/>
          <p:cNvGraphicFramePr/>
          <p:nvPr/>
        </p:nvGraphicFramePr>
        <p:xfrm>
          <a:off x="604800" y="1992240"/>
          <a:ext cx="818028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992240"/>
                    <a:ext cx="818028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5:11:30Z</dcterms:created>
  <dc:creator>Windows User</dc:creator>
  <dc:description/>
  <dc:language>en-US</dc:language>
  <cp:lastModifiedBy>Windows User</cp:lastModifiedBy>
  <dcterms:modified xsi:type="dcterms:W3CDTF">2015-01-29T17:55:17Z</dcterms:modified>
  <cp:revision>31</cp:revision>
  <dc:subject/>
  <dc:title>Особенности произвольного внимания детей с задержкой психического развития</dc:title>
</cp:coreProperties>
</file>