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5B26-257A-4E64-9C9B-4A27FDF03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24BA-BDF5-4051-BAB4-6CF67E6FD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5E355A-BE9C-466D-B66F-B3DE420F9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559FAE-16F7-47A3-A602-9F7A2C819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118746-E3F0-4461-8353-66414591C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55CE25-8C75-4CD5-A088-2ACC7DDB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CB62C3-12E5-457A-A6BF-A8F64216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076AD2-CD89-46AD-A136-A557BF0C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E8BD19-2BCB-4DFD-BC93-AFEBBE2C9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75FE9B-5FC4-4635-8CDC-80CC80B11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81F91E-3C22-4EE5-BED9-F39FB77D1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71BECA-C050-44CF-B3A8-6D4F830F8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E084-E4D8-46C1-9777-FA13104E8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B0CF42-2B19-4038-B9FF-4D25AFC46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A4FD34-9B54-4C12-B00C-30AD78A88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F9B1A7-93C6-4CC3-9E24-02119C6B2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0F226D-63C3-4557-B1EF-B317D28C1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369C97-4EA4-41A6-BF40-59E5D84F4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996D97-8D82-4650-9A7B-E0A3F9C6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B49B43-CA3B-4F34-9A36-4799700F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BCB6E6-AB43-4DB4-81F3-85422A3D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C7EC19-879F-4812-B8A1-352CAB9AC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39F3F2-94F1-483B-B40F-D9C90F231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52F6-8E1D-45EC-9905-56E392A3E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04C901-99E7-4E44-A91F-30519AE76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73F1F1-23B7-4ED6-951E-679501D11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B678CE-67CE-4A9D-83DC-BE1995FD4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F5EDAA-ACDC-4AE2-8366-202D9BB3C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1EAD5A-8B10-460B-8D66-F0FD4D61F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F1ABD0-5F40-4C6F-83B0-2F7D89BE0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E1F9DF-C4DA-4007-920E-CA46738D3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595D9A-1396-41A2-8F1F-E6E674FD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9D7772-2927-455A-B949-9A2C365D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8CD51A-3730-4CE4-8B90-7F2425D4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2A1CF-EB03-493B-AABF-8799DBCAA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380866-3E62-4A01-B432-CF23FAEA5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7E1A84-9A90-4840-BE3D-5BEF71FAF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9F4790-73C0-43EE-AA4F-ED0A1DFB8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A9F1A9-2297-4E2C-A58B-1E5CA3DA0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8C98F2-1230-4506-8108-76D5DD63A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D4B4E2-199B-469F-A042-7154CDB26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DD6FAB-9767-475C-BED2-0EB39B73A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6732BC-1166-4317-BD3C-1B9F24109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5226C7-F8D5-41B0-9060-D6F3EC618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2037B8-2758-4A8C-9747-1F5DA1F4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CECBF-306F-40D6-8A48-55C02B560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2865A9-A70A-4618-82A9-0BBDB00C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9DF997-C5B7-4C3D-87AB-31300837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C35F09-466C-41A9-8B4C-B14D7EE8E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62E8F2-C44A-4382-9713-CBF6662D6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699242-EC30-4532-B1D7-696D202C8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D6EFB-0800-4BD6-8D5B-4113D8F0C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D547F-0D02-412E-B45C-BE1E13374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C9679-5E0E-4DC4-B980-84305E69B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BADBC-78D3-4133-9F31-9BB016221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2FB13-A451-4269-A9BC-D5837A8A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36F6-904A-4A12-9B43-45C602EB9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3F13A-D973-4001-82CD-422EE6C0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9C589-B4D4-44E9-A780-62E40B02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BB256-6E86-4138-A15E-DF6E9AE53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2D349-3003-4664-A9A2-094BD6FC7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E4C91-1333-4CBF-904F-F82136B2B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BD1A2-9BE3-4388-BE97-A77D6D408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85054-63AE-4F65-A246-9FA2F69A4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8FFF4-38A0-4AA1-95A2-712122B19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EE6B4-1EB9-4119-8B83-51D712D7C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617BA-5E62-414E-A7F5-D87473089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5074-95C9-4A9E-8DBA-FF2060C1C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70B22-85E2-4340-B193-B7AE8CE58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00CFE-79F3-42AC-AAC5-8BCEB8CF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22CBD-7B34-433F-9495-6E0EF6EB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016E8-9EB9-4FB1-98D4-81FCB454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BF761-B698-42D8-A737-7C3A58983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B847C-74D6-4EE8-8852-118A51136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6D2AA-8BAF-46A1-82AF-8EA1DD9BA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BC0A8-E26A-44B9-A311-1E135FC11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4765C-3B0D-442F-BA4E-95762830B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48E6D-5E2E-4BA9-9881-8FD8C1680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D678-C042-4B05-A494-79FBB7800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5C3ED-0B99-4D64-89C1-B35228D22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D8399-3EA6-43B1-BF32-D89C4A6BE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2BB26-9CA3-48E8-A395-7A9EE3BF1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37D3C-4678-4ADD-8B94-47D7DC18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5985F-74B4-4819-9983-DB8BAEB5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AAFA1-3E42-4E41-B660-273C6E42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0C708-A1A9-4A4D-9921-92DB11D72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322F7-FA8B-40C2-AD47-CFDB69C16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85EBC-B21C-4342-B268-36171EAF6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F1656-30DE-4336-8428-8C4C256A7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2F5D-E6EF-4973-A475-BB67A3F44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99A86-60E7-468F-812B-DAA265D3C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81E18-9984-40CB-A561-1D464DA83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904CF-88E5-4C09-8B76-9F0030D63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DC111-5600-459E-9AC2-F2129E74B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DB7D0-8E6C-47D7-8F91-F50052897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4563B-F1F2-4C37-8A63-5D1C39D3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60938-746C-47D0-81F7-BDD98A58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4D916-F845-4E05-A632-59B74D4B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56B77-A65C-43CB-AAB9-5B370AC70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0F4C1-F21A-4641-825C-97301FE70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17A9-1603-4E30-9ECC-4C950D44A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1F18B-D2A2-41AF-9326-21E951823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708C86-B273-4174-ADAD-8E53942AE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55D37-7368-4B99-92D7-45B35B9EA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F281D5-8FF7-4F2D-9940-DAD22F44C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F8941-2DC8-4667-85F2-C6F88A693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AAE77-1A0C-4120-8ACD-D9DE19C18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2419D-2E3F-4496-A7AB-A391CD96C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2D2A2-60CF-4ABF-9814-5C4C8FAA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96D8B-3B98-49A4-A0E4-9F3DFC7B2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6CC1F-DF07-4A55-9B51-9626E5D0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DC75-F19F-47E7-A749-F178F75B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2CC11-2D6C-4DF3-B937-9C0B1CB83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7F39E-4A13-4053-9D16-562583B8C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50E0E4-8953-4F69-814E-0F55E0063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F17F64-D737-4B70-9A90-804392B82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E39BD5-CD3B-49F2-9A7C-7A6CB3D3E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9B1E44-160E-4630-9B33-A3051BBCA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901979-6629-446B-8C8E-1C81D39CF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0D3551-A4D5-4757-83EC-32CC2D5BB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59724F-069C-4C59-9C96-385E8C672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1DA34-8EAE-4219-A3A6-645F42A2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DFAF-0C28-4948-B66C-E916FB04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F235E4-8C15-4F10-B532-A08C3508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67E0F4-E22C-4B17-AAA3-97DFA32A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2A5B7C-F2A3-4987-80E3-7087CE130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7F0FAF-F6E9-412D-AB9E-18E343F0C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7B4135-A1E6-434B-9471-D4D0912BD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3E5A5C-C8EF-4B8D-B33E-034F4B481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DC9707-B6B9-44B0-AE4A-41095BA53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42624D-9393-48F1-BACB-3C35E3C49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8612DE-7059-45C8-A135-1CB87D2EE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601062-1042-4AA8-8A58-D31568B97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72DB-4F73-4BB2-817E-8778D22F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1CD6B1-41EC-4A35-AA6B-E72BCB7A7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F1345C-5AA7-4C98-9D53-EA6D9665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7D9021-CABD-4339-93FB-0155BCEB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371E84-5528-4BBC-8678-B3E5978A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94AD0E-8ADC-439D-ADB7-DA0090FA2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DDF042-C0F3-45B6-8260-0E8B67244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808F2B-0397-43A7-94C6-19AB1120E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FBD7AA-CFD8-4098-9C5E-814F2C022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7A13A0-2AEC-4427-86B1-F3511ED30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F80B87-8C5B-4678-86D8-00A095F8C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8D378-30C4-4F27-AFC3-99F11AB81E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D13FD-ABB2-4983-ACCB-D7805DEDBC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B0F90-234C-4A32-8D38-CD8D0F94C0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A7EA8-E8C6-4135-B5BB-99F78E78CF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E4455-B7E6-4377-879B-D56CB9CD57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AA3B3-097D-4C11-9C1A-F4953B35CF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4B4D2-C708-4154-B659-25ABF89D06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E122C-10BD-46F9-9CB7-4F712B0FE1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1B060-D325-4118-8412-8FB68FDD44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D2C71-2C49-4805-AD26-1D8FD6B9A8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FE1C7-282E-4CA5-8379-CC6735B544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8391B-3B54-4EC6-A2D8-7ED68E77AC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Рисунок 1" descr="c173478df4c30d325d6fce4ed64.jpg"/>
          <p:cNvPicPr/>
          <p:nvPr/>
        </p:nvPicPr>
        <p:blipFill>
          <a:blip r:embed="rId1"/>
          <a:stretch/>
        </p:blipFill>
        <p:spPr>
          <a:xfrm>
            <a:off x="907920" y="1317600"/>
            <a:ext cx="7365960" cy="5257800"/>
          </a:xfrm>
          <a:prstGeom prst="rect">
            <a:avLst/>
          </a:prstGeom>
          <a:ln w="0">
            <a:noFill/>
          </a:ln>
        </p:spPr>
      </p:pic>
      <p:sp>
        <p:nvSpPr>
          <p:cNvPr id="493" name="Заголовок 1"/>
          <p:cNvSpPr/>
          <p:nvPr/>
        </p:nvSpPr>
        <p:spPr>
          <a:xfrm>
            <a:off x="501480" y="189000"/>
            <a:ext cx="77724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щитники  Отечеств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Рисунок 1" descr="1fe8e02400bc.jpg"/>
          <p:cNvPicPr/>
          <p:nvPr/>
        </p:nvPicPr>
        <p:blipFill>
          <a:blip r:embed="rId1"/>
          <a:stretch/>
        </p:blipFill>
        <p:spPr>
          <a:xfrm>
            <a:off x="433440" y="0"/>
            <a:ext cx="8143920" cy="5742000"/>
          </a:xfrm>
          <a:prstGeom prst="rect">
            <a:avLst/>
          </a:prstGeom>
          <a:ln w="0">
            <a:noFill/>
          </a:ln>
        </p:spPr>
      </p:pic>
      <p:sp>
        <p:nvSpPr>
          <p:cNvPr id="495" name="Заголовок 1"/>
          <p:cNvSpPr/>
          <p:nvPr/>
        </p:nvSpPr>
        <p:spPr>
          <a:xfrm>
            <a:off x="108000" y="5499000"/>
            <a:ext cx="856764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анковые  войс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Рисунок 1" descr="1295331973_neustrashimy_63.jpg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514920"/>
          </a:xfrm>
          <a:prstGeom prst="rect">
            <a:avLst/>
          </a:prstGeom>
          <a:ln w="0">
            <a:noFill/>
          </a:ln>
        </p:spPr>
      </p:pic>
      <p:sp>
        <p:nvSpPr>
          <p:cNvPr id="497" name="Заголовок 1"/>
          <p:cNvSpPr/>
          <p:nvPr/>
        </p:nvSpPr>
        <p:spPr>
          <a:xfrm>
            <a:off x="10800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</a:t>
            </a:r>
            <a:r>
              <a:rPr b="1" lang="ru-RU" sz="8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Заголовок 1"/>
          <p:cNvSpPr/>
          <p:nvPr/>
        </p:nvSpPr>
        <p:spPr>
          <a:xfrm>
            <a:off x="611280" y="260280"/>
            <a:ext cx="777240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рской  фло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Рисунок 1" descr="F14-Tomcat.jpg"/>
          <p:cNvPicPr/>
          <p:nvPr/>
        </p:nvPicPr>
        <p:blipFill>
          <a:blip r:embed="rId1"/>
          <a:stretch/>
        </p:blipFill>
        <p:spPr>
          <a:xfrm>
            <a:off x="4680" y="-158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0" name="Заголовок 1"/>
          <p:cNvSpPr/>
          <p:nvPr/>
        </p:nvSpPr>
        <p:spPr>
          <a:xfrm>
            <a:off x="690480" y="333360"/>
            <a:ext cx="77724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здушные войска</a:t>
            </a:r>
            <a:r>
              <a:rPr b="1" lang="ru-RU" sz="66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2" descr=""/>
          <p:cNvPicPr/>
          <p:nvPr/>
        </p:nvPicPr>
        <p:blipFill>
          <a:blip r:embed="rId1"/>
          <a:stretch/>
        </p:blipFill>
        <p:spPr>
          <a:xfrm>
            <a:off x="324000" y="358920"/>
            <a:ext cx="2087280" cy="304776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3" descr=""/>
          <p:cNvPicPr/>
          <p:nvPr/>
        </p:nvPicPr>
        <p:blipFill>
          <a:blip r:embed="rId2"/>
          <a:stretch/>
        </p:blipFill>
        <p:spPr>
          <a:xfrm>
            <a:off x="6156360" y="333360"/>
            <a:ext cx="2759040" cy="30528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4" descr=""/>
          <p:cNvPicPr/>
          <p:nvPr/>
        </p:nvPicPr>
        <p:blipFill>
          <a:blip r:embed="rId3"/>
          <a:stretch/>
        </p:blipFill>
        <p:spPr>
          <a:xfrm>
            <a:off x="2627280" y="1557360"/>
            <a:ext cx="3240000" cy="2295360"/>
          </a:xfrm>
          <a:prstGeom prst="rect">
            <a:avLst/>
          </a:prstGeom>
          <a:ln w="0">
            <a:noFill/>
          </a:ln>
        </p:spPr>
      </p:pic>
      <p:sp>
        <p:nvSpPr>
          <p:cNvPr id="504" name="Заголовок 1"/>
          <p:cNvSpPr/>
          <p:nvPr/>
        </p:nvSpPr>
        <p:spPr>
          <a:xfrm>
            <a:off x="611280" y="4216320"/>
            <a:ext cx="7772400" cy="24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граничные войска</a:t>
            </a: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45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kk-KZ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На ветвях заснули </a:t>
            </a:r>
            <a:r>
              <a:rPr b="1" lang="kk-KZ" sz="4000" spc="-1" strike="noStrike">
                <a:solidFill>
                  <a:srgbClr val="ffff00"/>
                </a:solidFill>
                <a:latin typeface="Times New Roman"/>
                <a:ea typeface="Calibri"/>
              </a:rPr>
              <a:t>птицы,</a:t>
            </a:r>
            <a:r>
              <a:rPr b="1" lang="kk-KZ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1" lang="kk-KZ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	</a:t>
            </a:r>
            <a:r>
              <a:rPr b="1" lang="kk-KZ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	</a:t>
            </a:r>
            <a:r>
              <a:rPr b="1" lang="kk-KZ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	</a:t>
            </a:r>
            <a:r>
              <a:rPr b="1" lang="kk-KZ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Звёзды в небе </a:t>
            </a:r>
            <a:r>
              <a:rPr b="1" lang="kk-KZ" sz="4000" spc="-1" strike="noStrike">
                <a:solidFill>
                  <a:srgbClr val="ffff00"/>
                </a:solidFill>
                <a:latin typeface="Times New Roman"/>
                <a:ea typeface="Calibri"/>
              </a:rPr>
              <a:t>не горят. </a:t>
            </a:r>
            <a:r>
              <a:rPr b="1" lang="kk-KZ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	</a:t>
            </a:r>
            <a:r>
              <a:rPr b="1" lang="kk-KZ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	</a:t>
            </a:r>
            <a:r>
              <a:rPr b="1" lang="kk-KZ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	</a:t>
            </a:r>
            <a:r>
              <a:rPr b="1" lang="kk-KZ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	</a:t>
            </a:r>
            <a:r>
              <a:rPr b="1" lang="kk-KZ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Притаился </a:t>
            </a:r>
            <a:r>
              <a:rPr b="1" lang="kk-KZ" sz="4000" spc="-1" strike="noStrike">
                <a:solidFill>
                  <a:srgbClr val="ffff00"/>
                </a:solidFill>
                <a:latin typeface="Times New Roman"/>
                <a:ea typeface="Calibri"/>
              </a:rPr>
              <a:t>у границы </a:t>
            </a:r>
            <a:r>
              <a:rPr b="1" lang="kk-KZ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	</a:t>
            </a:r>
            <a:r>
              <a:rPr b="1" lang="kk-KZ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	</a:t>
            </a:r>
            <a:r>
              <a:rPr b="1" lang="kk-KZ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	</a:t>
            </a:r>
            <a:r>
              <a:rPr b="1" lang="kk-KZ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	</a:t>
            </a:r>
            <a:r>
              <a:rPr b="1" lang="kk-KZ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Пограничников </a:t>
            </a:r>
            <a:r>
              <a:rPr b="1" lang="kk-KZ" sz="4000" spc="-1" strike="noStrike">
                <a:solidFill>
                  <a:srgbClr val="ffff00"/>
                </a:solidFill>
                <a:latin typeface="Times New Roman"/>
                <a:ea typeface="Calibri"/>
              </a:rPr>
              <a:t>отряд. </a:t>
            </a:r>
            <a:r>
              <a:rPr b="1" lang="kk-KZ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	</a:t>
            </a:r>
            <a:r>
              <a:rPr b="1" lang="kk-KZ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	</a:t>
            </a:r>
            <a:r>
              <a:rPr b="1" lang="kk-KZ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	</a:t>
            </a:r>
            <a:r>
              <a:rPr b="1" lang="kk-KZ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	</a:t>
            </a:r>
            <a:r>
              <a:rPr b="1" lang="kk-KZ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Пограничники </a:t>
            </a:r>
            <a:r>
              <a:rPr b="1" lang="kk-KZ" sz="4000" spc="-1" strike="noStrike">
                <a:solidFill>
                  <a:srgbClr val="ffff00"/>
                </a:solidFill>
                <a:latin typeface="Times New Roman"/>
                <a:ea typeface="Calibri"/>
              </a:rPr>
              <a:t>не дремлют </a:t>
            </a:r>
            <a:r>
              <a:rPr b="1" lang="kk-KZ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	</a:t>
            </a:r>
            <a:r>
              <a:rPr b="1" lang="kk-KZ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	</a:t>
            </a:r>
            <a:r>
              <a:rPr b="1" lang="kk-KZ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	</a:t>
            </a:r>
            <a:r>
              <a:rPr b="1" lang="kk-KZ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У родного </a:t>
            </a:r>
            <a:r>
              <a:rPr b="1" lang="kk-KZ" sz="4000" spc="-1" strike="noStrike">
                <a:solidFill>
                  <a:srgbClr val="ffff00"/>
                </a:solidFill>
                <a:latin typeface="Times New Roman"/>
                <a:ea typeface="Calibri"/>
              </a:rPr>
              <a:t>рубежа: </a:t>
            </a:r>
            <a:r>
              <a:rPr b="1" lang="kk-KZ" sz="4000" spc="-1" strike="noStrike">
                <a:solidFill>
                  <a:srgbClr val="ffff00"/>
                </a:solidFill>
                <a:latin typeface="Times New Roman"/>
                <a:ea typeface="Calibri"/>
              </a:rPr>
              <a:t>	</a:t>
            </a:r>
            <a:r>
              <a:rPr b="1" lang="kk-KZ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	</a:t>
            </a:r>
            <a:r>
              <a:rPr b="1" lang="kk-KZ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	</a:t>
            </a:r>
            <a:r>
              <a:rPr b="1" lang="kk-KZ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	</a:t>
            </a:r>
            <a:r>
              <a:rPr b="1" lang="kk-KZ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	</a:t>
            </a:r>
            <a:r>
              <a:rPr b="1" lang="kk-KZ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Наше </a:t>
            </a:r>
            <a:r>
              <a:rPr b="1" lang="kk-KZ" sz="4000" spc="-1" strike="noStrike">
                <a:solidFill>
                  <a:srgbClr val="ffff00"/>
                </a:solidFill>
                <a:latin typeface="Times New Roman"/>
                <a:ea typeface="Calibri"/>
              </a:rPr>
              <a:t>море, </a:t>
            </a:r>
            <a:r>
              <a:rPr b="1" lang="kk-KZ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	</a:t>
            </a:r>
            <a:r>
              <a:rPr b="1" lang="kk-KZ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	</a:t>
            </a:r>
            <a:r>
              <a:rPr b="1" lang="kk-KZ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	</a:t>
            </a:r>
            <a:r>
              <a:rPr b="1" lang="kk-KZ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	</a:t>
            </a:r>
            <a:r>
              <a:rPr b="1" lang="kk-KZ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	</a:t>
            </a:r>
            <a:r>
              <a:rPr b="1" lang="kk-KZ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	</a:t>
            </a:r>
            <a:r>
              <a:rPr b="1" lang="kk-KZ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Нашу </a:t>
            </a:r>
            <a:r>
              <a:rPr b="1" lang="kk-KZ" sz="4000" spc="-1" strike="noStrike">
                <a:solidFill>
                  <a:srgbClr val="ffff00"/>
                </a:solidFill>
                <a:latin typeface="Times New Roman"/>
                <a:ea typeface="Calibri"/>
              </a:rPr>
              <a:t>Землю,</a:t>
            </a:r>
            <a:r>
              <a:rPr b="1" lang="kk-KZ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1" lang="kk-KZ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	</a:t>
            </a:r>
            <a:r>
              <a:rPr b="1" lang="kk-KZ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	</a:t>
            </a:r>
            <a:r>
              <a:rPr b="1" lang="kk-KZ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	</a:t>
            </a:r>
            <a:r>
              <a:rPr b="1" lang="kk-KZ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	</a:t>
            </a:r>
            <a:r>
              <a:rPr b="1" lang="kk-KZ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	</a:t>
            </a:r>
            <a:r>
              <a:rPr b="1" lang="kk-KZ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	</a:t>
            </a:r>
            <a:r>
              <a:rPr b="1" lang="kk-KZ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Наше небо </a:t>
            </a:r>
            <a:r>
              <a:rPr b="1" lang="kk-KZ" sz="4000" spc="-1" strike="noStrike">
                <a:solidFill>
                  <a:srgbClr val="ffff00"/>
                </a:solidFill>
                <a:latin typeface="Times New Roman"/>
                <a:ea typeface="Calibri"/>
              </a:rPr>
              <a:t>сторожат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5:38:30Z</dcterms:created>
  <dc:creator>Андрей</dc:creator>
  <dc:description/>
  <dc:language>en-US</dc:language>
  <cp:lastModifiedBy>My PC</cp:lastModifiedBy>
  <dcterms:modified xsi:type="dcterms:W3CDTF">2013-02-19T16:17:50Z</dcterms:modified>
  <cp:revision>20</cp:revision>
  <dc:subject/>
  <dc:title>Слайд 1</dc:title>
</cp:coreProperties>
</file>