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D29-C79D-4E9F-824B-A2F82461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8EA-A608-4837-863E-A83E1A69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15DBC-8E46-46FE-A3C5-F4F95F52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44A97-E2DF-463C-84D1-5FA5C2AE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A7D3-99CE-48A4-A27A-1A131B30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3E864-C3BF-4515-A07C-AEF5137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7B55-48B0-4FE7-A16E-A666314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8E17C-586F-4764-B170-AA93D14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61910-FF53-4910-8CE8-3D94D450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14D91-61C9-49CD-A6CE-A42C1AF3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04A3D-F9BA-4D27-BF61-2DFFF130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FB127-2281-4CCF-899F-AA981F5C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75B-AE68-41D5-9314-3F1F67A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70641-80EC-4238-8536-00E5C224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A64C2-9984-4FEF-8B1E-3D8599B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0C73D-F066-4878-A8C0-8C7390CA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8B995-FE03-4591-B60D-1D4A9CB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E6B67-9D08-4EAF-A08B-BE8EA5FC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C6F70-4D47-4FAB-A80F-5DC50E3D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50D8B-3944-4BDC-8B9F-AC25C6A2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E2C0-574C-4480-82A8-03AFB34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FA3D3-A285-4685-9D86-4236592C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40711-D8AC-476D-B4D4-FD099950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679-9749-43C6-BB55-7F95BD05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D9C9B-217D-4918-99E6-B18C071A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36CDA-BCB3-4BEE-BD2C-A9F55C11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AA3EA-B170-44C8-A7C2-AF2274D4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78D86-ACE8-40DB-9A4C-59CE0F4D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4F1C8-E2F1-4FF5-9A8F-D552CFE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DEA8F-E0EC-44DF-A005-4036EC3A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C8D73-F261-4FEA-8EDB-81D53C39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9F38F-FA65-4153-B8EF-60B0115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19B96-02EE-4E8E-8550-DA61398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DB70F-76F6-4A54-AFC3-71EB93C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5D8-D6A7-4AF4-AC4A-6468C3CA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9F12A-497C-4512-9EEF-364032E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5F570-AD23-44AD-BBF0-CA3E3B8A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ED5FC-DA5F-40EC-A427-ED7F58ED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EBA4D-C932-48F4-997F-3A153C71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D9192-A5F3-4190-A789-8B3407BD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1F501-E653-4CA7-A512-1055D104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9437F-C584-4C38-8ABF-84AF0B79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09E8F-3DAC-42B5-AF0C-1B7E268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97213-FCA0-49C3-B9B1-C42BD60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D1E2E-5872-40FD-B856-A58C61A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D69B-E557-4A4C-B75A-7109DF1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878BA-9D6F-48EF-92B8-A6738BA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6AA2F-B862-4547-A6C7-0198D59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827DF-40AA-4511-A78F-74859BFD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D70A-EE25-41C7-84AD-1FCD54B7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6602C-1B33-4C57-BE0C-092C79E4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EC46-66D4-4EB6-8FD4-5669C55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B10-98B6-4833-905D-65A7932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F247-083B-44A8-8011-57671F3D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B808-6775-4EEC-8B06-9B272EF6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4911-B54D-4C80-8671-C314A2E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608-5EA6-4332-9BCA-1C7E2FC4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2A80-75E0-4012-8AB5-B4DDB77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83AF-DB90-4DEF-ABE1-A9E8938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5C8A-6A66-4108-9F01-2C9119F6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895F-B0EB-418C-B445-CD6C4EC4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D023-E0B6-4E0A-95BB-39725198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593A-0B5A-4FDE-8CAF-E5B734E5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7633-A949-4719-B746-DFC4A421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4D4A-D9D3-4701-99A1-764EC8B6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DD9E-6FAF-447D-9C9C-A96B7736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7EFB-9546-4D83-A0E3-6D1BB9E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089-AA53-4595-B0B9-F75A71B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8FB8-02C6-4C36-8701-249F7CA1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D192-2753-4C80-90C1-76144C3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BB0A-2565-4BD7-B5E5-E8CDEB9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43C8-BA07-4CD5-8321-B2ACC07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BCF2-F4FC-4032-BB84-B304447C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AA4D-6F32-4E58-A44E-481BACCE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4C23-6105-4819-8840-2D73325F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786A-22C7-4F42-A70F-086A59B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B68F-C38A-45CB-8B0B-093A9DE2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8E23-86D0-4FBB-AD54-5E4602D8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542-E993-45E3-B7C8-E3F6F49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DDA6-1F76-4442-9BCF-7C27342D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0A4A-3C64-4297-891E-156ED992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40B4-F962-402A-A3A4-1EA1F74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39D5-EEDC-4564-9531-DA8B90A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18B0-F98F-475C-B324-B59903D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18DA-ADB7-485F-8C38-EF2A0AA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4DC0-0ED6-4FAD-967A-343160F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B148-CB27-4315-97A5-F9C132E1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B473-509C-44B1-9BC9-5EE9D118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EFEF-51F3-401D-9CB5-AADA877A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055-0876-435A-B1B1-A1C3684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87F5-BF4A-4BE2-9F5B-9CFC9D8F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9CCA-E4B9-48D9-9F45-F323E7B3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1C2F-E0AF-4441-88DE-1136EF2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4317-3B10-4C9F-9AF8-D60928EC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B252E-8F69-4415-9CE5-381047B4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40FAD-1D11-43B0-B8DF-52637D7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B506-3431-4FD8-ACA6-4AC6AF32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980E1-6DE4-47E2-BB84-ACC401C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D9D90-0EEB-44C9-99E3-C193D77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69AE-6A20-4D6A-B0B3-36E1A241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214-1F38-4BD8-82E0-97EE918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A165-A6C5-4B1A-8009-272DFD25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75E0-2F51-4EDC-90A0-D1793E0C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B3456-C9A5-4805-BC1F-55C624BE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D165-53F9-4891-B43C-FD182F9B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A0B67-5CE0-4DB0-8DC3-528D41C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A4FB-BF49-4828-96BA-B9EF79DB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CF68B-E40C-44C5-A93B-FA023E5E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2CBD-47EE-456B-B6D8-B2F516E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9EFF2-256C-4067-AD6E-CFB0448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10C6-0B39-4AC0-A77A-82B3A05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40C-A8B8-44BA-A14A-5847153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E07F-83AC-480E-954B-7160CDDD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0C546-AFF3-4332-87B0-9B993FF5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A3619-B98C-4D20-8741-F242B195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C9CE-99E1-4E34-9964-23B257C2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474C-7CA2-4E58-8338-B017994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449F0-992B-47F3-9C84-239A330D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0D42-13DE-49C7-A6D7-C163B32B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B240-0AED-441A-98BE-14F98514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A9C5-D756-4ADF-B9F9-4B68A5A6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06EC-A60C-4FA1-A7F3-A2FF76D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A69-27A1-4422-BA01-DB45FBE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8DB1-BC13-4EE5-A064-F71BDBA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DE93-012E-4A8C-B478-6D77E79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CDD2D-FFC0-4F23-9D33-CF889719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C378-717D-413A-A343-D979EF1C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881F-8D62-4AAB-ACEA-EB936279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8366A-68BE-46AC-9210-62A5AE97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F0618-5399-4749-888C-92FFA77D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7784-3206-4B10-ACDA-634BC111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08115-878D-4AB6-B1EB-6C343AA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4854B-65C0-43FE-9785-769F288C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521-E81A-4FB9-ADEB-10BE861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BEF8-2C0B-4487-A755-9836A474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BE7F0-BBAC-439C-9B15-33055B8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3B3A8-3102-497C-903B-932E65B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B46C-B147-498F-BF72-C4579BE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BDFE-E9A3-483C-8E20-82561113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6DACD-CD2B-418F-A61F-8662C111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9527-2056-4882-B622-4A0BE093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74E30-07AB-43B7-9D56-4A922EC6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2219A-98BE-4EEC-B028-4CEC7E0D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708C2-1384-43C7-8E3F-300F44C8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7A5-94F7-4CB5-BFC5-FBA00EB49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2A2-58D8-4C51-949D-AFE26A3F7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8491-EA09-4376-8A50-C5DE82A50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1C31-7841-4C7A-8A53-EDDC8B5DA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7210-5098-48C1-9C77-9E03F83E7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262-B66E-4747-995D-E97D47CB1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9A9-71F1-45B2-B72C-41D8BBAC8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B8D-CDF9-4030-879F-4AD55209E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C805-0F01-46B2-947B-142997D74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F0F-0C35-42CF-B899-83E451103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58C7-2BC1-4569-9E30-BFAE030F2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A236-F173-42EF-844E-0F1F8D331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1" descr="c173478df4c30d325d6fce4ed64.jpg"/>
          <p:cNvPicPr/>
          <p:nvPr/>
        </p:nvPicPr>
        <p:blipFill>
          <a:blip r:embed="rId1"/>
          <a:stretch/>
        </p:blipFill>
        <p:spPr>
          <a:xfrm>
            <a:off x="907920" y="1317600"/>
            <a:ext cx="7365960" cy="5257800"/>
          </a:xfrm>
          <a:prstGeom prst="rect">
            <a:avLst/>
          </a:prstGeom>
          <a:ln w="0">
            <a:noFill/>
          </a:ln>
        </p:spPr>
      </p:pic>
      <p:sp>
        <p:nvSpPr>
          <p:cNvPr id="493" name="Заголовок 1"/>
          <p:cNvSpPr/>
          <p:nvPr/>
        </p:nvSpPr>
        <p:spPr>
          <a:xfrm>
            <a:off x="501480" y="189000"/>
            <a:ext cx="7772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ники  Отече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Рисунок 1" descr="1fe8e02400bc.jpg"/>
          <p:cNvPicPr/>
          <p:nvPr/>
        </p:nvPicPr>
        <p:blipFill>
          <a:blip r:embed="rId1"/>
          <a:stretch/>
        </p:blipFill>
        <p:spPr>
          <a:xfrm>
            <a:off x="433440" y="0"/>
            <a:ext cx="8143920" cy="5742000"/>
          </a:xfrm>
          <a:prstGeom prst="rect">
            <a:avLst/>
          </a:prstGeom>
          <a:ln w="0">
            <a:noFill/>
          </a:ln>
        </p:spPr>
      </p:pic>
      <p:sp>
        <p:nvSpPr>
          <p:cNvPr id="495" name="Заголовок 1"/>
          <p:cNvSpPr/>
          <p:nvPr/>
        </p:nvSpPr>
        <p:spPr>
          <a:xfrm>
            <a:off x="108000" y="5499000"/>
            <a:ext cx="8567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нковые  войс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1" descr="1295331973_neustrashimy_63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497" name="Заголовок 1"/>
          <p:cNvSpPr/>
          <p:nvPr/>
        </p:nvSpPr>
        <p:spPr>
          <a:xfrm>
            <a:off x="108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611280" y="260280"/>
            <a:ext cx="77724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ской  фл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F14-Tomcat.jpg"/>
          <p:cNvPicPr/>
          <p:nvPr/>
        </p:nvPicPr>
        <p:blipFill>
          <a:blip r:embed="rId1"/>
          <a:stretch/>
        </p:blipFill>
        <p:spPr>
          <a:xfrm>
            <a:off x="468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Заголовок 1"/>
          <p:cNvSpPr/>
          <p:nvPr/>
        </p:nvSpPr>
        <p:spPr>
          <a:xfrm>
            <a:off x="69048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е войска</a:t>
            </a: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24000" y="358920"/>
            <a:ext cx="2087280" cy="3047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759040" cy="305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3240000" cy="2295360"/>
          </a:xfrm>
          <a:prstGeom prst="rect">
            <a:avLst/>
          </a:prstGeom>
          <a:ln w="0">
            <a:noFill/>
          </a:ln>
        </p:spPr>
      </p:pic>
      <p:sp>
        <p:nvSpPr>
          <p:cNvPr id="504" name="Заголовок 1"/>
          <p:cNvSpPr/>
          <p:nvPr/>
        </p:nvSpPr>
        <p:spPr>
          <a:xfrm>
            <a:off x="611280" y="4216320"/>
            <a:ext cx="77724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граничные войска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ветвях заснули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тицы,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вёзды в небе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 горят.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таился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у границы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граничников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отряд.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граничники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 дремлют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У родного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рубежа: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е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море,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у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емлю,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е небо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сторожа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5:38:30Z</dcterms:created>
  <dc:creator>Андрей</dc:creator>
  <dc:description/>
  <dc:language>en-US</dc:language>
  <cp:lastModifiedBy>My PC</cp:lastModifiedBy>
  <dcterms:modified xsi:type="dcterms:W3CDTF">2013-02-19T16:17:50Z</dcterms:modified>
  <cp:revision>20</cp:revision>
  <dc:subject/>
  <dc:title>Слайд 1</dc:title>
</cp:coreProperties>
</file>