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2BF4-8693-420C-A676-E5BD25EA5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еди озер земного шара озеро Байкал занимает 1 место по глубине. 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A57-4852-42E8-B83B-8171EB92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5C2-FB84-4019-9D91-F6CBD3DB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DBF-7BE8-4129-B3D5-EF245796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32B-2EB8-411C-8E05-0B4489E2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41603-C3AA-4C06-9F90-EC3D2581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883EE-AFC9-4ABD-B130-826FFF7E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A4D91-9366-4DB5-968D-884FC82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6396C-8260-41FA-B9F2-6616C7BD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69AA9-0E2C-49E4-AD36-FC80EF8D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E8E71-CFC2-4B0E-93E0-2967BBF1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7808A-16C2-44BC-93D2-A3EB5666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8D3-FDE6-4D22-B1D3-7DBE441A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B2AAF-9316-4080-B327-CEC74FB4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70026-B7BB-4644-B8EF-87FFD1C3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4944E-64CC-438D-B057-F6677BA0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3E0A1-E10E-42B7-A4E9-4C68CC31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F3429-BFAD-4A0E-955A-B9E732F4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651-9441-4AAD-A468-83E0CF57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279-A6C8-4DD2-9CA0-0E6CC1EE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41F-8947-4B8C-9BB8-02541567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D7D-0593-40E6-8E57-3792C063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D03-14C0-485C-A1AD-589D2936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958-A8B9-4D71-A156-800048A0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B84-38E7-40F9-8F3D-A259E1E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97C1-2A8F-4999-BDB6-B4D6EA5884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B85D-26CE-4534-9C95-BE6B106BDC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Lakes_scheme.pn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84360" y="189000"/>
            <a:ext cx="7921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зеро Байкал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3640" y="620640"/>
            <a:ext cx="64087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Лесистых гор полуова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Касанье голубых лека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скалы, срезанные вал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небо, павшее в Байка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сам он – величав и вече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В  гранитной раме вырез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весь – до донышка – просвече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весь – до капельки – род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Ангары полёт строптив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ветра крик, и гул турби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птицы – сосны над обры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И дикий ветер баргузи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. Серге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400"/>
                            </p:stCondLst>
                            <p:childTnLst>
                              <p:par>
                                <p:cTn id="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400"/>
                            </p:stCondLst>
                            <p:childTnLst>
                              <p:par>
                                <p:cTn id="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40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6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10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40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6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3700"/>
                            </p:stCondLst>
                            <p:childTnLst>
                              <p:par>
                                <p:cTn id="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6900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9800"/>
                            </p:stCondLst>
                            <p:childTnLst>
                              <p:par>
                                <p:cTn id="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35640" y="0"/>
            <a:ext cx="3708360" cy="3573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340000" y="0"/>
            <a:ext cx="3095640" cy="3573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8428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9325080" cy="4076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Оз. Байкал находится в царстве горной тайги и межгорных степ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В фауне Байкала представлены почти все типы животных, обитающих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пресных водоемах. В мире нет другого озера биологическое разнообраз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которого было бы столь велико и уникаль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Из 2635 известных видов и разновидностей животных и растений, поч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2/3 эндемичны: сине–зелёные водоросли, золоты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из животных: рачки – бокоплавы, брюхоногие моллюски, простейш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ff"/>
                </a:solidFill>
                <a:uFillTx/>
                <a:latin typeface="Tahoma"/>
              </a:rPr>
              <a:t>рачок- Байкальская эпишура 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(300 видов) фильтрует байкальскую вод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27 видов рыб Байкала нигде более не встречаются; 2 вида – живородящ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большая и малая </a:t>
            </a:r>
            <a:r>
              <a:rPr b="0" lang="ru-RU" sz="2000" spc="-1" strike="noStrike" u="sng">
                <a:solidFill>
                  <a:srgbClr val="00ffff"/>
                </a:solidFill>
                <a:uFillTx/>
                <a:latin typeface="Tahoma"/>
              </a:rPr>
              <a:t>голомянка;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млекопитающие - </a:t>
            </a:r>
            <a:r>
              <a:rPr b="0" lang="ru-RU" sz="2000" spc="-1" strike="noStrike" u="sng">
                <a:solidFill>
                  <a:srgbClr val="00ffff"/>
                </a:solidFill>
                <a:uFillTx/>
                <a:latin typeface="Tahoma"/>
              </a:rPr>
              <a:t>тюлень(байкальская нерпа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). На Байкале живё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много водоплавающих птиц. Поэтому Байкал можно считать одним и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географических центров происхождения биологических видов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16000" y="0"/>
            <a:ext cx="6985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9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ганический мир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Байкал ежегодно замерз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По акватории озера толщина льда колеблется от 70 до 113 с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при этом выявлена закономерность: чем больше снега, т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тоньше ле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Лед толщиной 50 см выдерживает  вес до 15 т., поэтому зим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по льду Байкала можно свободно передвигаться на автомобил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Взлом льда начинается от мыса Б. Кадильный 25–30 апреля, ч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вызывается таянием льда под воздействием восходящих пото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тёплых вод подводных источ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В последнюю очередь 9–14 июня освобождается ото ль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Северная часть озер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26920" y="0"/>
            <a:ext cx="7490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8546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достав на Байкале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ahoma"/>
              </a:rPr>
              <a:t>Климат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Площадь невелика, но значительная глубина Байкала, и , следовательно, огромный объём воды делают озеро мощным климатообразующим факто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Байкал смягчает климат (зима - теплее, лето - прохладнее), а в межгорных котловинах контрастность повышена (котловинный эффект) зимой застаивается холодный воздух , а летом  усиливается прогревание. В результате на берегах зимой теплее, чем в межгорных котловинах, а летом прохладнее. Создаётся мощный перепад давления и воздух с гор устремляется к озеру - так формируется байкальский муссон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3851280" cy="60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Многообразие байкальских ветр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отражено в их местных названия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ahoma"/>
              </a:rPr>
              <a:t>Верховик (Ангара)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 – так называю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северный ветер, дующий вд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всего Байкала с севера на ю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ahoma"/>
              </a:rPr>
              <a:t>Баргузин 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– могучий ветер, дует и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Баргузинской долины поперек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вдоль Байкала. Этот ветер ду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ровно, с постепенно нарастающ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мощью, но его продолжитель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заметно уступает верховику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ветер приносит с собой солне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устойчивую пого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ahoma"/>
              </a:rPr>
              <a:t>Култук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 – ветер, дующий от южн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оконечности Байкала вдоль все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озера. Несет жестокие штормы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плохую дождливую погод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ahoma"/>
              </a:rPr>
              <a:t>Горная 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– северо-западный боков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байкальский ветер, самый коварный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порывисты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ahoma"/>
              </a:rPr>
              <a:t>Сарма 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– разновидность горной, сам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сильный и страшный из ветров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Байкале. Скорость его превышает 4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м/с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348000" y="0"/>
            <a:ext cx="554508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тра на Байкал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Проблемы Байкал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Загрязнение сточными водами предприя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Вырубка лесных масси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Поднятие уровня воды вследствие строительства каскада водохранили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не организованный тур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Байкальский целлюлозно-бумажный комбина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Построен в 1966 году вблизи города Байкальс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Ежесуточно выбрасывается 200 тыс. м</a:t>
            </a:r>
            <a:r>
              <a:rPr b="0" lang="ru-RU" sz="2800" spc="-1" strike="noStrike" baseline="30000">
                <a:solidFill>
                  <a:srgbClr val="00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сточ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Сточные воды содержат хлориды, фенолы, сульфаты, нитраты, лигнин и рту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Было принято 2 решения о закрытии комбин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Tahoma"/>
              </a:rPr>
              <a:t>Состояние лесного и водного массив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Лесозаготовки на водосборной территории ведутся более 45 л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Площадь спелых и перестойных древостоев уменьшилась на 27%, их запасы на 24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Нарушение водного баланса регион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Подъём уровня воды в результате строительства ГЭ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Разрушение берегов Байкал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Нарушение кормовой базы ому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03280" y="4221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1998 год – принятие Федерального закона об охране озера Байк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Какие пути решения Вы можете предложит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Прекращение слива грязных вод или сливать через очистительные сооруж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Запрет рубки ле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Байкал – заповед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Организовывать отряды для чистки берегов рек и оз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Цель урока: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Сформировать представления об уникальности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озера Байкал в прир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267920"/>
            <a:ext cx="70675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Задачи урок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Определить особенности географического положения, происхождения, климата, вод и животного мира озер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Продолжать развивать  навыки обработки географической информации, умение обобщать и делать выво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Формирование экологическую культуру у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430880" cy="4465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71280" y="1412640"/>
            <a:ext cx="6372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айкал – одно из древнейших оз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ланеты, его возраст 25 млн.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ольшинство озер, особен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дникового происхожд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вут 10-15 тыс. лет, а зат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полняются осадками и исчез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лица Земли. На Байкале 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икаких признаков стар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оборот, исследования последн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т позволили геофизик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сказать гипотезу о том, что Байк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вляется зарождающимся океан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о подтверждается тем, что 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рега расходятся со скорость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 2 см в год, подобно том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к расходятся континен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фрики и Южной Америки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0"/>
            <a:ext cx="770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зраст озера Байкал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280" y="907560"/>
            <a:ext cx="716436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Задание 1.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Исследуем карту атласа стр. 44-45,</a:t>
            </a:r>
            <a:br>
              <a:rPr sz="2800"/>
            </a:b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найдите  и назовите  горные хребты, окружающие </a:t>
            </a: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оз. Байкал</a:t>
            </a:r>
            <a:br>
              <a:rPr sz="2800"/>
            </a:b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 и являющиеся его границей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4221000"/>
            <a:ext cx="194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Север 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Юг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  - 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Восток - 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Запад 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221000"/>
            <a:ext cx="71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тановое нагорье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хр. Хамар-Даб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Баргузинский хр., хр. Улан-Бург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риморский и Байкальский хреб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939636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Tahoma"/>
              </a:rPr>
              <a:t>Освоение территории озера Байкал</a:t>
            </a: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В середине 17 века, русские исследова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зимовавшие на верхней </a:t>
            </a:r>
            <a:r>
              <a:rPr b="0" i="1" lang="ru-RU" sz="2800" spc="-1" strike="noStrike">
                <a:solidFill>
                  <a:srgbClr val="00ffff"/>
                </a:solidFill>
                <a:latin typeface="Tahoma"/>
              </a:rPr>
              <a:t>Лене,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собрали от</a:t>
            </a:r>
            <a:r>
              <a:rPr b="0" i="1" lang="ru-RU" sz="2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бурят первые сведения об озере Байкал и о богат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прибайкальских районов серебряной ру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В 1643 г. один из зимовщиков, казачий пят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десятник Курбат Афанасьевич Иванов вышел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Байкалу и открыл остров Ольх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Окончательно укрепились русские на Байкале не-сколько позднее, после основания Иркутска(1661г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Tahoma"/>
              </a:rPr>
              <a:t>Происхождение названия</a:t>
            </a:r>
            <a:r>
              <a:rPr b="0" i="1" lang="ru-RU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- Эвенки  называли его «Лама» (море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- Бурят  называли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Байгал-далай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 - «Большой водоём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- Тюркоязычное, происходит от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бай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- богатый ,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куль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  <a:ea typeface="Tahoma"/>
              </a:rPr>
              <a:t>"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 – озеро - «Богатое озер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8000" y="4220640"/>
            <a:ext cx="9036000" cy="263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Среди озёр земного шара оз. Байкал занимает 1 место 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глубине. Длина оз. Байкала 620 км, а ширина от 24 до 79 к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Глубина – 1620 м. Наибольшая отметка глубины в юж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котловине Байкала – 1423 м, в средней – 1637 м, в север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890 м. Самая глубокая точка впадины Байкала леж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примерно на 5–6 тыс. метров ниже уровня Мирового океана.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16000" y="189000"/>
            <a:ext cx="69850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меры озера Байкал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0" y="260280"/>
            <a:ext cx="3240000" cy="63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«Корни»  впадины рассекают всю земную кору и уходят в верхнюю мантию на глубину 50–60 км. Это глубочайшая тектоническая котловина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земной суши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По площади Байкал занимает 8 место в мире среди озер и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приблизительно равен площади такой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страны, как Бельгия.</a:t>
            </a: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03640" y="981000"/>
            <a:ext cx="100800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зеро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Байк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260280"/>
            <a:ext cx="1440000" cy="5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зер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Тангань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3840" y="1989000"/>
            <a:ext cx="1494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аспийск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мо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3600" y="321300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Мир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ке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4356000" cy="2951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5280" y="692280"/>
            <a:ext cx="3959280" cy="3024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3141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Байкал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самое чистое на Земле естественное хранилище прес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питьевой воды. Редкая чистота и исключительные свойства байкальск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воды обусловлены жизнедеятельностью животного и растительного м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озера. За год армада рачков (эпишура) способна трижды очистить верх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пятидесятиметровый слой воды. В байкальской воде очень ма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растворенных минеральных веществ, ничтожно мало органическ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примесей, много кислорода. В озеро впадают около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336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 р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Самая крупная из них – Селенга. И лишь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одна река  - Анга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Вытекает из озера Байкал. Вода в озере круглый год холодная (+8…+9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  <a:ea typeface="Tahoma"/>
              </a:rPr>
              <a:t>˚С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7280" y="0"/>
            <a:ext cx="6840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500"/>
                <a:gd name="adj2" fmla="val -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да Байкал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522000"/>
            <a:ext cx="4572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Слабо минерализова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байкальская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идеально подходит д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организма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Анализы, сделанные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лабораторных центрах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мировой репутаци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подтвердили соответ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байкальской воды 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жестким норм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предъявляемым 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entaur"/>
              </a:rPr>
              <a:t>питьевой воде.</a:t>
            </a:r>
            <a:r>
              <a:rPr b="0" lang="en-US" sz="2800" spc="-1" strike="noStrike">
                <a:solidFill>
                  <a:srgbClr val="ffffff"/>
                </a:solidFill>
                <a:latin typeface="Centau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4089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7:31:31Z</dcterms:created>
  <dc:creator>*</dc:creator>
  <dc:description/>
  <dc:language>en-US</dc:language>
  <cp:lastModifiedBy>User</cp:lastModifiedBy>
  <dcterms:modified xsi:type="dcterms:W3CDTF">2015-01-29T15:37:46Z</dcterms:modified>
  <cp:revision>33</cp:revision>
  <dc:subject/>
  <dc:title>Озеро Байкал</dc:title>
</cp:coreProperties>
</file>