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7F53-2892-4564-ADE7-BF462CB6C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и озер земного шара озеро Байкал занимает 1 место по глубине. 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ABD-2678-4310-8C38-61757437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7FA-8D77-429A-A983-8AACCF8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F63-6147-4DED-90D4-DA8FD3AD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FF9-6BDC-4C11-AB3D-1A098D24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47754-EEFB-4D26-855E-863A2ECF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DD67F-FC85-4054-98FC-C943B9C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8CD1-6325-4CD8-AF23-88947E5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ECA3-3C04-4D70-BD6C-185E15A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0EBA-8D06-484D-806B-DC40C289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CFB51-C2C7-424A-8CBE-E0EF732B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6F0B-AAD6-4D47-AF17-FE91E475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1F8-051B-4919-B4A3-6F6D6F13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5F74-8557-43CA-8CD7-F5B4303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035B0-59E6-4577-811B-7751A59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8A441-86B2-4210-9924-1557643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61BD-754B-42DC-94DB-80DFF463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E71E-0937-40D1-A925-F2FBE8F6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F0E-351D-49A6-807D-A3468AE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662-1105-4E35-98CC-04D8848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F4E-2444-4744-9B52-DCE3EBA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B78-3B3C-4B3E-AA3B-3B4617B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36E-9A12-4E68-8B93-AD905A4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DC6-546B-473B-90BD-71B03A0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12E-0EA5-4575-8412-90E2989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143-05F9-45C5-B60C-A04F04B1F9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FDA-C17E-4DFB-AA0F-865BB0A603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Lakes_scheme.pn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18900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о Байкал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3640" y="620640"/>
            <a:ext cx="64087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Лесистых гор полуова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Касанье голубых лек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скалы, срезанные вал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небо, павшее в Байк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сам он – величав и веч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В  гранитной раме вырез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сь – до донышка – просвеч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сь – до капельки – род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Ангары полёт строптив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тра крик, и гул турби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птицы – сосны над обры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дикий ветер баргуз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 Серг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4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40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4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6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1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4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6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37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69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800"/>
                            </p:stCondLst>
                            <p:childTnLst>
                              <p:par>
                                <p:cTn id="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35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340000" y="0"/>
            <a:ext cx="309564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8428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9325080" cy="407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з. Байкал находится в царстве горной тайги и межгорных степ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 фауне Байкала представлены почти все типы животных, обитающих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ресных водоемах. В мире нет другого озера биологическое разнообраз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которого было бы столь велико и уника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з 2635 известных видов и разновидностей животных и растений, поч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2/3 эндемичны: сине–зелёные водоросли, золоты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з животных: рачки – бокоплавы, брюхоногие моллюски, простейш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рачок- Байкальская эпишура 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(300 видов) фильтрует байкальскую вод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27 видов рыб Байкала нигде более не встречаются; 2 вида – живородя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большая и малая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голомянка;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млекопитающие -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тюлень(байкальская нерпа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). На Байкале живё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много водоплавающих птиц. Поэтому Байкал можно считать одним и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географических центров происхождения биологических видо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0"/>
            <a:ext cx="6985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9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ческий мир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Байкал ежегодно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о акватории озера толщина льда колеблется от 70 до 113 с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и этом выявлена закономерность: чем больше снега, 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тоньше л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Лед толщиной 50 см выдерживает  вес до 15 т., поэтому зи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о льду Байкала можно свободно передвигаться на автомобил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злом льда начинается от мыса Б. Кадильный 25–30 апреля,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ызывается таянием льда под воздействием восходящих пото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тёплых вод подводных исто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 последнюю очередь 9–14 июня освобождается ото ль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Северная часть озер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0"/>
            <a:ext cx="7490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54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достав на Байкале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ahoma"/>
              </a:rPr>
              <a:t>Климат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лощадь невелика, но значительная глубина Байкала, и , следовательно, огромный объём воды делают озеро мощным климатообразующим факто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Байкал смягчает климат (зима - теплее, лето - прохладнее), а в межгорных котловинах контрастность повышена (котловинный эффект) зимой застаивается холодный воздух , а летом  усиливается прогревание. В результате на берегах зимой теплее, чем в межгорных котловинах, а летом прохладнее. Создаётся мощный перепад давления и воздух с гор устремляется к озеру - так формируется байкальский муссон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3851280" cy="60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ногообразие байкальских вет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тражено в их местных названи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Верховик (Ангара)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– так наз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северный ветер, дующий вд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сего Байкала с севера на ю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Баргузин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могучий ветер, дует и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ргузинской долины поперек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доль Байкала. Этот ветер д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ровно, с постепенно нарастающ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ощью, но его продолжитель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заметно уступает верховику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етер приносит с собой солне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стойчивую пог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Култук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– ветер, дующий от южн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конечности Байкала вдоль все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зера. Несет жестокие штормы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лохую дождливую по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Горная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северо-западный боков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йкальский ветер, самый коварный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орывист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Сарма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разновидность горной, сам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сильный и страшный из ветров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йкале. Скорость его превышает 4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/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48000" y="0"/>
            <a:ext cx="5545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тра на Байкал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Проблемы Байкал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грязнение сточными водами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Вырубка лесных масс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Поднятие уровня воды вследствие строительства каскада водохранили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не организованный ту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Байкальский целлюлозно-бумажный комбин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Построен в 1966 году вблизи города Байкаль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Ежесуточно выбрасывается 200 тыс. м</a:t>
            </a:r>
            <a:r>
              <a:rPr b="0" lang="ru-RU" sz="2800" spc="-1" strike="noStrike" baseline="30000">
                <a:solidFill>
                  <a:srgbClr val="00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сточ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Сточные воды содержат хлориды, фенолы, сульфаты, нитраты, лигнин и рту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ыло принято 2 решения о закрытии комби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ahoma"/>
              </a:rPr>
              <a:t>Состояние лесного и водного масси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Лесозаготовки на водосборной территории ведутся более 45 л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Площадь спелых и перестойных древостоев уменьшилась на 27%, их запасы на 24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Нарушение водного баланса регио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Подъём уровня воды в результате строительства ГЭ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Разрушение берегов Байкал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Нарушение кормовой базы ому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03280" y="4221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1998 год – принятие Федерального закона об охране озера 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Какие пути решения Вы можете предложи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Прекращение слива грязных вод или сливать через очистительные соору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прет рубки л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Байкал – запове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Организовывать отряды для чистки берегов рек и оз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Цель урока: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формировать представления об уникальности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озера Байкал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067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Задачи урок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Определить особенности географического положения, происхождения, климата, вод и животного мира озер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одолжать развивать  навыки обработки географической информации, умение обобщать и делать выво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Формирование экологическую культуру у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430880" cy="4465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71280" y="1412640"/>
            <a:ext cx="6372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айкал – одно из древнейших оз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анеты, его возраст 25 млн.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льшинство озер, особ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дникового происхожд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10-15 тыс. лет, а за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полняются осадками и исчез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лица Земли. На Байкале 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каких признаков ста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оборот, исследования последн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т позволили геофизик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казать гипотезу о том, что Байк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зарождающимся океан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о подтверждается тем, что 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ега расходятся со скорос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 2 см в год, подобно то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расходятся континен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фрики и Южной Америки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0"/>
            <a:ext cx="770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раст озера Байкал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907560"/>
            <a:ext cx="716436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Задание 1.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Исследуем карту атласа стр. 44-45,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найдите  и назовите  горные хребты, окружающие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оз. Байкал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 и являющиеся его границей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221000"/>
            <a:ext cx="194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Север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Юг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  -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Восток -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пад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221000"/>
            <a:ext cx="71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тановое нагорье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хр. Хамар-Даб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Баргузинский хр., хр. Улан-Бург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иморский и Байкальский хреб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Tahoma"/>
              </a:rPr>
              <a:t>Освоение территории озера Байкал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В середине 17 века, русские исследов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зимовавшие на верхней </a:t>
            </a:r>
            <a:r>
              <a:rPr b="0" i="1" lang="ru-RU" sz="2800" spc="-1" strike="noStrike">
                <a:solidFill>
                  <a:srgbClr val="00ffff"/>
                </a:solidFill>
                <a:latin typeface="Tahoma"/>
              </a:rPr>
              <a:t>Лене,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собрали от</a:t>
            </a:r>
            <a:r>
              <a:rPr b="0" i="1" lang="ru-RU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урят первые сведения об озере Байкал и о богат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прибайкальских районов серебряной ру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В 1643 г. один из зимовщиков, казачий пят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десятник Курбат Афанасьевич Иванов вышел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айкалу и открыл остров Ольх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Окончательно укрепились русские на Байкале не-сколько позднее, после основания Иркутска(1661г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Tahoma"/>
              </a:rPr>
              <a:t>Происхождение названия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Эвенки  называли его «Лама» (мор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Бурят  называли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Байгал-далай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- «Большой водоём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Тюркоязычное, происходит от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бай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богатый ,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куль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– озеро - «Богатое озер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4220640"/>
            <a:ext cx="9036000" cy="263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реди озёр земного шара оз. Байкал занимает 1 место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глубине. Длина оз. Байкала 620 км, а ширина от 24 до 79 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Глубина – 1620 м. Наибольшая отметка глубины в юж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котловине Байкала – 1423 м, в средней – 1637 м, в север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890 м. Самая глубокая точка впадины Байкала леж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имерно на 5–6 тыс. метров ниже уровня Мирового океана.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189000"/>
            <a:ext cx="6985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меры озера Байка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0" y="260280"/>
            <a:ext cx="3240000" cy="63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«Корни»  впадины рассекают всю земную кору и уходят в верхнюю мантию на глубину 50–60 км. Это глубочайшая тектоническая котловина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земной суши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о площади Байкал занимает 8 место в мире среди озер и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иблизительно равен площади такой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траны, как Бельгия.</a:t>
            </a: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981000"/>
            <a:ext cx="10080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зеро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айк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260280"/>
            <a:ext cx="1440000" cy="5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зе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ангань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3840" y="1989000"/>
            <a:ext cx="1494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аспийск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3600" y="32130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Мир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ке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356000" cy="295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395928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314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Байкал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амое чистое на Земле естественное хранилище пре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итьевой воды. Редкая чистота и исключительные свойства байкаль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оды обусловлены жизнедеятельностью животного и растительного 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зера. За год армада рачков (эпишура) способна трижды очистить верх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ятидесятиметровый слой воды. В байкальской воде очень ма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растворенных минеральных веществ, ничтожно мало органиче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римесей, много кислорода. В озеро впадают около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336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р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амая крупная из них – Селенга. И лишь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одна река  - Анга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ытекает из озера Байкал. Вода в озере круглый год холодная (+8…+9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  <a:ea typeface="Tahoma"/>
              </a:rPr>
              <a:t>˚С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7280" y="0"/>
            <a:ext cx="68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500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 Байкал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522000"/>
            <a:ext cx="4572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Слабо минерализова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байкальска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идеально подходит д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организма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Анализы, сделанные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лабораторных центрах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мировой репутаци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одтвердили соответ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байкальской воды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жестким нор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редъявляемым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итьевой воде.</a:t>
            </a:r>
            <a:r>
              <a:rPr b="0" lang="en-US" sz="2800" spc="-1" strike="noStrike">
                <a:solidFill>
                  <a:srgbClr val="ffffff"/>
                </a:solidFill>
                <a:latin typeface="Centau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408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7:31:31Z</dcterms:created>
  <dc:creator>*</dc:creator>
  <dc:description/>
  <dc:language>en-US</dc:language>
  <cp:lastModifiedBy>User</cp:lastModifiedBy>
  <dcterms:modified xsi:type="dcterms:W3CDTF">2015-01-29T15:37:46Z</dcterms:modified>
  <cp:revision>33</cp:revision>
  <dc:subject/>
  <dc:title>Озеро Байкал</dc:title>
</cp:coreProperties>
</file>