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gif" ContentType="image/gif"/>
  <Override PartName="/ppt/media/image3.png" ContentType="image/png"/>
  <Override PartName="/ppt/media/image16.jpeg" ContentType="image/jpeg"/>
  <Override PartName="/ppt/media/image14.png" ContentType="image/png"/>
  <Override PartName="/ppt/media/image1.gif" ContentType="image/gif"/>
  <Override PartName="/ppt/media/image2.png" ContentType="image/pn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5.jpeg" ContentType="image/jpeg"/>
  <Override PartName="/ppt/media/image15.gif" ContentType="image/gi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D5FC-628A-4402-AE58-BCDF457D1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1F4F-B4BF-4974-9057-96F1C8F1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93A3-A9AC-47A5-BAEB-9A3A06388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C22A-F58C-4747-8FC4-7C6EFA6F2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6DB0-A709-42FA-8C68-41693265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5923-C8C6-4641-87AB-9B8F7FF0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68DA-C53F-4F4C-88D4-B28EC10C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6037-E569-40B4-943E-74A9D3C6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AF0A-AD43-4B8A-BB3B-53FA7AA4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362A-91D3-4197-8C0D-DF7FF3BE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67BE-F39B-421F-9F6D-468AAF5B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39BE-9FD3-4B1E-A099-5112BE43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0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8F87-8AC2-4F8E-A1AC-6CAE1FA0A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0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56360" y="4149720"/>
            <a:ext cx="2376360" cy="2349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11280" y="1413000"/>
            <a:ext cx="756108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 страницам истории..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0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95280" y="1125360"/>
            <a:ext cx="720108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пасибо за сотрудничество!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435640" y="3500280"/>
            <a:ext cx="34574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0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5256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0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572320" cy="4886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427640" y="4149720"/>
            <a:ext cx="2232000" cy="1160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335640" y="2852640"/>
            <a:ext cx="2808360" cy="432000"/>
          </a:xfrm>
          <a:prstGeom prst="wedgeRoundRectCallout">
            <a:avLst>
              <a:gd name="adj1" fmla="val -60912"/>
              <a:gd name="adj2" fmla="val 102574"/>
              <a:gd name="adj3" fmla="val 16667"/>
            </a:avLst>
          </a:prstGeom>
          <a:solidFill>
            <a:srgbClr val="ff53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наменате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27640" y="1989000"/>
            <a:ext cx="3024000" cy="505080"/>
          </a:xfrm>
          <a:prstGeom prst="wedgeRoundRectCallout">
            <a:avLst>
              <a:gd name="adj1" fmla="val -61967"/>
              <a:gd name="adj2" fmla="val 165092"/>
              <a:gd name="adj3" fmla="val 16667"/>
            </a:avLst>
          </a:prstGeom>
          <a:solidFill>
            <a:srgbClr val="ff53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чт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00360" y="1484280"/>
            <a:ext cx="2808360" cy="432000"/>
          </a:xfrm>
          <a:prstGeom prst="wedgeRoundRectCallout">
            <a:avLst>
              <a:gd name="adj1" fmla="val -59328"/>
              <a:gd name="adj2" fmla="val 208453"/>
              <a:gd name="adj3" fmla="val 16667"/>
            </a:avLst>
          </a:prstGeom>
          <a:solidFill>
            <a:srgbClr val="ff53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енинград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32000" y="3716280"/>
            <a:ext cx="2160360" cy="504720"/>
          </a:xfrm>
          <a:prstGeom prst="wedgeRoundRectCallout">
            <a:avLst>
              <a:gd name="adj1" fmla="val -41185"/>
              <a:gd name="adj2" fmla="val -147171"/>
              <a:gd name="adj3" fmla="val 16667"/>
            </a:avLst>
          </a:prstGeom>
          <a:solidFill>
            <a:srgbClr val="ff535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амят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24360" y="3213000"/>
            <a:ext cx="360360" cy="360360"/>
          </a:xfrm>
          <a:prstGeom prst="ellipse">
            <a:avLst/>
          </a:prstGeom>
          <a:solidFill>
            <a:srgbClr val="ff53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716360" y="3716280"/>
            <a:ext cx="122400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4140360" y="3500280"/>
            <a:ext cx="1800000" cy="14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2555640" y="2781000"/>
            <a:ext cx="1584360" cy="71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547280" y="2492280"/>
            <a:ext cx="100836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24360" y="3068640"/>
            <a:ext cx="360360" cy="360360"/>
          </a:xfrm>
          <a:prstGeom prst="ellipse">
            <a:avLst/>
          </a:prstGeom>
          <a:solidFill>
            <a:srgbClr val="ff53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95640" y="2637000"/>
            <a:ext cx="360360" cy="360360"/>
          </a:xfrm>
          <a:prstGeom prst="ellipse">
            <a:avLst/>
          </a:prstGeom>
          <a:solidFill>
            <a:srgbClr val="ff53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76360" y="2924280"/>
            <a:ext cx="360360" cy="360360"/>
          </a:xfrm>
          <a:prstGeom prst="ellipse">
            <a:avLst/>
          </a:prstGeom>
          <a:solidFill>
            <a:srgbClr val="ff53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920" y="189000"/>
            <a:ext cx="76341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66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 поезде ПАМЯТ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66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/>
          <p:nvPr/>
        </p:nvSpPr>
        <p:spPr>
          <a:xfrm>
            <a:off x="5724360" y="3213000"/>
            <a:ext cx="360360" cy="360360"/>
          </a:xfrm>
          <a:prstGeom prst="ellipse">
            <a:avLst/>
          </a:prstGeom>
          <a:solidFill>
            <a:srgbClr val="ff53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84720" y="4724280"/>
            <a:ext cx="360360" cy="360360"/>
          </a:xfrm>
          <a:prstGeom prst="ellipse">
            <a:avLst/>
          </a:prstGeom>
          <a:solidFill>
            <a:srgbClr val="ff53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44126E-006 C 0.00052 -0.01919 0.00052 -0.03839 0.00139 -0.05758 C 0.00174 -0.06545 0.00764 -0.06776 0.01042 -0.07354 C 0.0158 -0.08441 0.02101 -0.09482 0.02691 -0.10522 C 0.03212 -0.11447 0.03333 -0.12118 0.04028 -0.12719 C 0.04462 -0.14477 0.04479 -0.145 0.04479 -0.16489 E">
                                      <p:cBhvr>
                                        <p:cTn id="10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79 -0.16489 C 0.03247 -0.18987 0.01389 -0.20328 -0.00746 -0.21068 C -0.0309 -0.20976 -0.05451 -0.2123 -0.0776 -0.20675 C -0.08715 -0.20444 -0.09427 -0.1968 -0.10295 -0.19264 C -0.11128 -0.18848 -0.12257 -0.18617 -0.13125 -0.18478 C -0.13663 -0.18224 -0.14184 -0.18085 -0.14774 -0.18085 E">
                                      <p:cBhvr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774 -0.18085 C -0.15608 -0.18894 -0.16493 -0.19287 -0.17257 -0.20282 C -0.17656 -0.20906 -0.17951 -0.21369 -0.1842 -0.21739 C -0.19097 -0.2382 -0.20069 -0.24907 -0.20851 -0.26734 C -0.22187 -0.29926 -0.22483 -0.33904 -0.24323 -0.35731 C -0.24427 -0.36054 -0.24444 -0.36517 -0.24583 -0.36794 C -0.25174 -0.37766 -0.26337 -0.38228 -0.27049 -0.38853 C -0.28646 -0.38691 -0.30295 -0.38182 -0.31892 -0.38182 E">
                                      <p:cBhvr>
                                        <p:cTn id="37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892 -0.38182 C -0.3276 -0.38043 -0.33403 -0.37928 -0.3434 -0.37858 C -0.34757 -0.37743 -0.35226 -0.37743 -0.35642 -0.37604 C -0.3599 -0.37511 -0.36597 -0.37141 -0.36597 -0.37118 C -0.37257 -0.36424 -0.38038 -0.35661 -0.38889 -0.35037 C -0.39097 -0.34597 -0.39497 -0.34135 -0.40156 -0.33996 C -0.4059 -0.33927 -0.41024 -0.33857 -0.41458 -0.33765 C -0.41701 -0.33742 -0.42118 -0.33649 -0.42118 -0.33626 E">
                                      <p:cBhvr>
                                        <p:cTn id="51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0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560" y="2420640"/>
            <a:ext cx="88930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22 июня 1941 год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11280" y="333360"/>
            <a:ext cx="7777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наменательная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565360"/>
            <a:ext cx="8893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9 мая 1945 года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637000"/>
            <a:ext cx="8893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1418 </a:t>
            </a: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дней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67640" y="5734080"/>
            <a:ext cx="1225440" cy="863640"/>
          </a:xfrm>
          <a:custGeom>
            <a:avLst/>
            <a:gdLst>
              <a:gd name="textAreaLeft" fmla="*/ 55800 w 1225440"/>
              <a:gd name="textAreaRight" fmla="*/ 1169640 w 12254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30645" h="21600">
                <a:moveTo>
                  <a:pt x="0" y="0"/>
                </a:moveTo>
                <a:lnTo>
                  <a:pt x="30645" y="0"/>
                </a:lnTo>
                <a:lnTo>
                  <a:pt x="30645" y="21600"/>
                </a:lnTo>
                <a:lnTo>
                  <a:pt x="0" y="21600"/>
                </a:lnTo>
                <a:close/>
              </a:path>
              <a:path fill="lightenLess" w="30645" h="21600">
                <a:moveTo>
                  <a:pt x="0" y="0"/>
                </a:moveTo>
                <a:lnTo>
                  <a:pt x="30645" y="0"/>
                </a:lnTo>
                <a:lnTo>
                  <a:pt x="29245" y="1400"/>
                </a:lnTo>
                <a:lnTo>
                  <a:pt x="1400" y="1400"/>
                </a:lnTo>
                <a:close/>
              </a:path>
              <a:path fill="darken" w="30645" h="21600">
                <a:moveTo>
                  <a:pt x="30645" y="0"/>
                </a:moveTo>
                <a:lnTo>
                  <a:pt x="30645" y="21600"/>
                </a:lnTo>
                <a:lnTo>
                  <a:pt x="29245" y="20200"/>
                </a:lnTo>
                <a:lnTo>
                  <a:pt x="29245" y="1400"/>
                </a:lnTo>
                <a:close/>
              </a:path>
              <a:path fill="darkenLess" w="30645" h="21600">
                <a:moveTo>
                  <a:pt x="306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45" y="20200"/>
                </a:lnTo>
                <a:close/>
              </a:path>
              <a:path fill="lighten" w="306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45" h="21600">
                <a:moveTo>
                  <a:pt x="8316" y="3794"/>
                </a:moveTo>
                <a:lnTo>
                  <a:pt x="22329" y="10800"/>
                </a:lnTo>
                <a:lnTo>
                  <a:pt x="831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750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2500"/>
                            </p:stCondLst>
                            <p:childTnLst>
                              <p:par>
                                <p:cTn id="78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85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0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4360" y="404640"/>
            <a:ext cx="7559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чтовая 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7" name="Picture 4" descr="3RIA-026625-Preview"/>
          <p:cNvPicPr/>
          <p:nvPr/>
        </p:nvPicPr>
        <p:blipFill>
          <a:blip r:embed="rId1"/>
          <a:stretch/>
        </p:blipFill>
        <p:spPr>
          <a:xfrm>
            <a:off x="468360" y="1700280"/>
            <a:ext cx="8272440" cy="4819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Soldjers_triangle_letter"/>
          <p:cNvPicPr/>
          <p:nvPr/>
        </p:nvPicPr>
        <p:blipFill>
          <a:blip r:embed="rId2"/>
          <a:stretch/>
        </p:blipFill>
        <p:spPr>
          <a:xfrm>
            <a:off x="250920" y="260280"/>
            <a:ext cx="867708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0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livshic_05"/>
          <p:cNvPicPr/>
          <p:nvPr/>
        </p:nvPicPr>
        <p:blipFill>
          <a:blip r:embed="rId1"/>
          <a:stretch/>
        </p:blipFill>
        <p:spPr>
          <a:xfrm>
            <a:off x="4932360" y="4292640"/>
            <a:ext cx="4211640" cy="2362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http://t3.gstatic.com/images?q=tbn:ANd9GcSc2Pf3pYeqqt5-sJ6V4LhjaQaU5eOUdKxdhhacx-zU3bxekDYfFg"/>
          <p:cNvPicPr/>
          <p:nvPr/>
        </p:nvPicPr>
        <p:blipFill>
          <a:blip r:embed="rId2"/>
          <a:stretch/>
        </p:blipFill>
        <p:spPr>
          <a:xfrm>
            <a:off x="324000" y="333360"/>
            <a:ext cx="4248000" cy="2503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http://t3.gstatic.com/images?q=tbn:ANd9GcQCJgPBWIPI7_XQywTUKbvWpXkoyRdWmljF5r6j4SLauXlIav0Znw"/>
          <p:cNvPicPr/>
          <p:nvPr/>
        </p:nvPicPr>
        <p:blipFill>
          <a:blip r:embed="rId3"/>
          <a:stretch/>
        </p:blipFill>
        <p:spPr>
          <a:xfrm>
            <a:off x="2484360" y="2205000"/>
            <a:ext cx="3888000" cy="2635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092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5353" y="10800"/>
                </a:moveTo>
                <a:lnTo>
                  <a:pt x="19366" y="3794"/>
                </a:lnTo>
                <a:lnTo>
                  <a:pt x="193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5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0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95280" y="260280"/>
            <a:ext cx="79218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енинградская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4" name="Picture 4" descr="003-blokada"/>
          <p:cNvPicPr/>
          <p:nvPr/>
        </p:nvPicPr>
        <p:blipFill>
          <a:blip r:embed="rId1"/>
          <a:stretch/>
        </p:blipFill>
        <p:spPr>
          <a:xfrm>
            <a:off x="468360" y="2349360"/>
            <a:ext cx="8453520" cy="4214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22"/>
          <p:cNvPicPr/>
          <p:nvPr/>
        </p:nvPicPr>
        <p:blipFill>
          <a:blip r:embed="rId2"/>
          <a:stretch/>
        </p:blipFill>
        <p:spPr>
          <a:xfrm>
            <a:off x="468360" y="2205000"/>
            <a:ext cx="849636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0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pic048"/>
          <p:cNvPicPr/>
          <p:nvPr/>
        </p:nvPicPr>
        <p:blipFill>
          <a:blip r:embed="rId1"/>
          <a:stretch/>
        </p:blipFill>
        <p:spPr>
          <a:xfrm>
            <a:off x="539640" y="333360"/>
            <a:ext cx="8136000" cy="5915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68076adeeaad8feaeb53a6cb5ec"/>
          <p:cNvPicPr/>
          <p:nvPr/>
        </p:nvPicPr>
        <p:blipFill>
          <a:blip r:embed="rId2"/>
          <a:stretch/>
        </p:blipFill>
        <p:spPr>
          <a:xfrm>
            <a:off x="250920" y="189000"/>
            <a:ext cx="8642160" cy="6194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8532720" y="6426360"/>
            <a:ext cx="611280" cy="431640"/>
          </a:xfrm>
          <a:custGeom>
            <a:avLst/>
            <a:gdLst>
              <a:gd name="textAreaLeft" fmla="*/ 27720 w 611280"/>
              <a:gd name="textAreaRight" fmla="*/ 583560 w 611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0582" h="21600">
                <a:moveTo>
                  <a:pt x="0" y="0"/>
                </a:moveTo>
                <a:lnTo>
                  <a:pt x="30582" y="0"/>
                </a:lnTo>
                <a:lnTo>
                  <a:pt x="30582" y="21600"/>
                </a:lnTo>
                <a:lnTo>
                  <a:pt x="0" y="21600"/>
                </a:lnTo>
                <a:close/>
              </a:path>
              <a:path fill="lightenLess" w="30582" h="21600">
                <a:moveTo>
                  <a:pt x="0" y="0"/>
                </a:moveTo>
                <a:lnTo>
                  <a:pt x="30582" y="0"/>
                </a:lnTo>
                <a:lnTo>
                  <a:pt x="29182" y="1400"/>
                </a:lnTo>
                <a:lnTo>
                  <a:pt x="1400" y="1400"/>
                </a:lnTo>
                <a:close/>
              </a:path>
              <a:path fill="darken" w="30582" h="21600">
                <a:moveTo>
                  <a:pt x="30582" y="0"/>
                </a:moveTo>
                <a:lnTo>
                  <a:pt x="30582" y="21600"/>
                </a:lnTo>
                <a:lnTo>
                  <a:pt x="29182" y="20200"/>
                </a:lnTo>
                <a:lnTo>
                  <a:pt x="29182" y="1400"/>
                </a:lnTo>
                <a:close/>
              </a:path>
              <a:path fill="darkenLess" w="30582" h="21600">
                <a:moveTo>
                  <a:pt x="30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82" y="20200"/>
                </a:lnTo>
                <a:close/>
              </a:path>
              <a:path fill="lighten" w="30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82" h="21600">
                <a:moveTo>
                  <a:pt x="8285" y="10800"/>
                </a:moveTo>
                <a:lnTo>
                  <a:pt x="22297" y="3794"/>
                </a:lnTo>
                <a:lnTo>
                  <a:pt x="222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0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332000" y="333360"/>
            <a:ext cx="6480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мятна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2" name="metronom1.mp3" descr=""/>
          <p:cNvPicPr/>
          <p:nvPr/>
        </p:nvPicPr>
        <p:blipFill>
          <a:blip r:embed="rId1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843280" y="2708280"/>
            <a:ext cx="33336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122653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4T10:03:50Z</dcterms:created>
  <dc:creator>123</dc:creator>
  <dc:description/>
  <dc:language>en-US</dc:language>
  <cp:lastModifiedBy>123</cp:lastModifiedBy>
  <dcterms:modified xsi:type="dcterms:W3CDTF">2015-01-29T15:58:53Z</dcterms:modified>
  <cp:revision>42</cp:revision>
  <dc:subject/>
  <dc:title>Слайд 1</dc:title>
</cp:coreProperties>
</file>