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png" ContentType="image/png"/>
  <Override PartName="/ppt/media/image1.gif" ContentType="image/gif"/>
  <Override PartName="/ppt/media/image2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D91-E2A4-4C83-9DB6-2D722732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E9B-FF7E-44D0-BBEB-A4AB524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DA5-4982-46AB-ABCC-74A6672F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D60-3E3F-4ACD-BCD7-ECE466F3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CEE-E630-41AA-941B-44964D7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AB6-3E73-47CE-B12D-BE40BD4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C03-EF5C-4AFD-8A65-98B6C5C7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1D6-376E-4F86-BBBF-3D420BC7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CC0-8E47-45CD-89CE-8879DD65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C23-C8D1-402E-A526-A37D96D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19A-A436-453F-9158-4A82DE69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5F1-541C-42E0-A58D-B114CB25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6C0-94C0-42B3-B65F-EB92222F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376360" cy="234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413000"/>
            <a:ext cx="75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траницам истории..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1125360"/>
            <a:ext cx="7201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сотрудничество!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3457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72320" cy="488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2232000" cy="116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5640" y="2852640"/>
            <a:ext cx="2808360" cy="432000"/>
          </a:xfrm>
          <a:prstGeom prst="wedgeRoundRectCallout">
            <a:avLst>
              <a:gd name="adj1" fmla="val -60912"/>
              <a:gd name="adj2" fmla="val 102574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а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1989000"/>
            <a:ext cx="3024000" cy="505080"/>
          </a:xfrm>
          <a:prstGeom prst="wedgeRoundRectCallout">
            <a:avLst>
              <a:gd name="adj1" fmla="val -61967"/>
              <a:gd name="adj2" fmla="val 165092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чт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1484280"/>
            <a:ext cx="2808360" cy="432000"/>
          </a:xfrm>
          <a:prstGeom prst="wedgeRoundRectCallout">
            <a:avLst>
              <a:gd name="adj1" fmla="val -59328"/>
              <a:gd name="adj2" fmla="val 208453"/>
              <a:gd name="adj3" fmla="val 16667"/>
            </a:avLst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нинград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716280"/>
            <a:ext cx="2160360" cy="504720"/>
          </a:xfrm>
          <a:prstGeom prst="wedgeRoundRectCallout">
            <a:avLst>
              <a:gd name="adj1" fmla="val -41185"/>
              <a:gd name="adj2" fmla="val -147171"/>
              <a:gd name="adj3" fmla="val 16667"/>
            </a:avLst>
          </a:prstGeom>
          <a:solidFill>
            <a:srgbClr val="ff53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16360" y="371628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40360" y="3500280"/>
            <a:ext cx="180000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555640" y="2781000"/>
            <a:ext cx="158436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47280" y="249228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06864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637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92428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189000"/>
            <a:ext cx="7634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поезде ПАМЯ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4724280"/>
            <a:ext cx="360360" cy="360360"/>
          </a:xfrm>
          <a:prstGeom prst="ellipse">
            <a:avLst/>
          </a:prstGeom>
          <a:solidFill>
            <a:srgbClr val="ff5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4126E-006 C 0.00052 -0.01919 0.00052 -0.03839 0.00139 -0.05758 C 0.00174 -0.06545 0.00764 -0.06776 0.01042 -0.07354 C 0.0158 -0.08441 0.02101 -0.09482 0.02691 -0.10522 C 0.03212 -0.11447 0.03333 -0.12118 0.04028 -0.12719 C 0.04462 -0.14477 0.04479 -0.145 0.04479 -0.16489 E">
                                      <p:cBhvr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-0.16489 C 0.03247 -0.18987 0.01389 -0.20328 -0.00746 -0.21068 C -0.0309 -0.20976 -0.05451 -0.2123 -0.0776 -0.20675 C -0.08715 -0.20444 -0.09427 -0.1968 -0.10295 -0.19264 C -0.11128 -0.18848 -0.12257 -0.18617 -0.13125 -0.18478 C -0.13663 -0.18224 -0.14184 -0.18085 -0.14774 -0.1808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74 -0.18085 C -0.15608 -0.18894 -0.16493 -0.19287 -0.17257 -0.20282 C -0.17656 -0.20906 -0.17951 -0.21369 -0.1842 -0.21739 C -0.19097 -0.2382 -0.20069 -0.24907 -0.20851 -0.26734 C -0.22187 -0.29926 -0.22483 -0.33904 -0.24323 -0.35731 C -0.24427 -0.36054 -0.24444 -0.36517 -0.24583 -0.36794 C -0.25174 -0.37766 -0.26337 -0.38228 -0.27049 -0.38853 C -0.28646 -0.38691 -0.30295 -0.38182 -0.31892 -0.38182 E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92 -0.38182 C -0.3276 -0.38043 -0.33403 -0.37928 -0.3434 -0.37858 C -0.34757 -0.37743 -0.35226 -0.37743 -0.35642 -0.37604 C -0.3599 -0.37511 -0.36597 -0.37141 -0.36597 -0.37118 C -0.37257 -0.36424 -0.38038 -0.35661 -0.38889 -0.35037 C -0.39097 -0.34597 -0.39497 -0.34135 -0.40156 -0.33996 C -0.4059 -0.33927 -0.41024 -0.33857 -0.41458 -0.33765 C -0.41701 -0.33742 -0.42118 -0.33649 -0.42118 -0.33626 E">
                                      <p:cBhvr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88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2 июня 1941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333360"/>
            <a:ext cx="777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менательн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6536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9 мая 1945 год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63700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1418 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дней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734080"/>
            <a:ext cx="1225440" cy="863640"/>
          </a:xfrm>
          <a:custGeom>
            <a:avLst/>
            <a:gdLst>
              <a:gd name="textAreaLeft" fmla="*/ 55800 w 1225440"/>
              <a:gd name="textAreaRight" fmla="*/ 1169640 w 1225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0645" h="21600">
                <a:moveTo>
                  <a:pt x="0" y="0"/>
                </a:moveTo>
                <a:lnTo>
                  <a:pt x="30645" y="0"/>
                </a:lnTo>
                <a:lnTo>
                  <a:pt x="30645" y="21600"/>
                </a:lnTo>
                <a:lnTo>
                  <a:pt x="0" y="21600"/>
                </a:lnTo>
                <a:close/>
              </a:path>
              <a:path fill="lightenLess" w="30645" h="21600">
                <a:moveTo>
                  <a:pt x="0" y="0"/>
                </a:moveTo>
                <a:lnTo>
                  <a:pt x="30645" y="0"/>
                </a:lnTo>
                <a:lnTo>
                  <a:pt x="29245" y="1400"/>
                </a:lnTo>
                <a:lnTo>
                  <a:pt x="1400" y="1400"/>
                </a:lnTo>
                <a:close/>
              </a:path>
              <a:path fill="darken" w="30645" h="21600">
                <a:moveTo>
                  <a:pt x="30645" y="0"/>
                </a:moveTo>
                <a:lnTo>
                  <a:pt x="30645" y="21600"/>
                </a:lnTo>
                <a:lnTo>
                  <a:pt x="29245" y="20200"/>
                </a:lnTo>
                <a:lnTo>
                  <a:pt x="29245" y="1400"/>
                </a:lnTo>
                <a:close/>
              </a:path>
              <a:path fill="darkenLess" w="30645" h="21600">
                <a:moveTo>
                  <a:pt x="30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5" y="20200"/>
                </a:lnTo>
                <a:close/>
              </a:path>
              <a:path fill="lighten" w="30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5" h="21600">
                <a:moveTo>
                  <a:pt x="8316" y="3794"/>
                </a:moveTo>
                <a:lnTo>
                  <a:pt x="22329" y="10800"/>
                </a:lnTo>
                <a:lnTo>
                  <a:pt x="83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404640"/>
            <a:ext cx="75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ая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4" descr="3RIA-026625-Preview"/>
          <p:cNvPicPr/>
          <p:nvPr/>
        </p:nvPicPr>
        <p:blipFill>
          <a:blip r:embed="rId1"/>
          <a:stretch/>
        </p:blipFill>
        <p:spPr>
          <a:xfrm>
            <a:off x="468360" y="1700280"/>
            <a:ext cx="8272440" cy="481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Soldjers_triangle_letter"/>
          <p:cNvPicPr/>
          <p:nvPr/>
        </p:nvPicPr>
        <p:blipFill>
          <a:blip r:embed="rId2"/>
          <a:stretch/>
        </p:blipFill>
        <p:spPr>
          <a:xfrm>
            <a:off x="250920" y="260280"/>
            <a:ext cx="8677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ivshic_05"/>
          <p:cNvPicPr/>
          <p:nvPr/>
        </p:nvPicPr>
        <p:blipFill>
          <a:blip r:embed="rId1"/>
          <a:stretch/>
        </p:blipFill>
        <p:spPr>
          <a:xfrm>
            <a:off x="4932360" y="4292640"/>
            <a:ext cx="421164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3.gstatic.com/images?q=tbn:ANd9GcSc2Pf3pYeqqt5-sJ6V4LhjaQaU5eOUdKxdhhacx-zU3bxekDYfFg"/>
          <p:cNvPicPr/>
          <p:nvPr/>
        </p:nvPicPr>
        <p:blipFill>
          <a:blip r:embed="rId2"/>
          <a:stretch/>
        </p:blipFill>
        <p:spPr>
          <a:xfrm>
            <a:off x="324000" y="333360"/>
            <a:ext cx="4248000" cy="250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t3.gstatic.com/images?q=tbn:ANd9GcQCJgPBWIPI7_XQywTUKbvWpXkoyRdWmljF5r6j4SLauXlIav0Znw"/>
          <p:cNvPicPr/>
          <p:nvPr/>
        </p:nvPicPr>
        <p:blipFill>
          <a:blip r:embed="rId3"/>
          <a:stretch/>
        </p:blipFill>
        <p:spPr>
          <a:xfrm>
            <a:off x="2484360" y="2205000"/>
            <a:ext cx="3888000" cy="263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5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5280" y="260280"/>
            <a:ext cx="792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нинградск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4" descr="003-blokada"/>
          <p:cNvPicPr/>
          <p:nvPr/>
        </p:nvPicPr>
        <p:blipFill>
          <a:blip r:embed="rId1"/>
          <a:stretch/>
        </p:blipFill>
        <p:spPr>
          <a:xfrm>
            <a:off x="468360" y="2349360"/>
            <a:ext cx="8453520" cy="42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22"/>
          <p:cNvPicPr/>
          <p:nvPr/>
        </p:nvPicPr>
        <p:blipFill>
          <a:blip r:embed="rId2"/>
          <a:stretch/>
        </p:blipFill>
        <p:spPr>
          <a:xfrm>
            <a:off x="468360" y="2205000"/>
            <a:ext cx="84963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ic048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91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68076adeeaad8feaeb53a6cb5ec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194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532720" y="6426360"/>
            <a:ext cx="611280" cy="43164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582" h="21600">
                <a:moveTo>
                  <a:pt x="0" y="0"/>
                </a:moveTo>
                <a:lnTo>
                  <a:pt x="30582" y="0"/>
                </a:lnTo>
                <a:lnTo>
                  <a:pt x="30582" y="21600"/>
                </a:lnTo>
                <a:lnTo>
                  <a:pt x="0" y="21600"/>
                </a:lnTo>
                <a:close/>
              </a:path>
              <a:path fill="lightenLess" w="30582" h="21600">
                <a:moveTo>
                  <a:pt x="0" y="0"/>
                </a:moveTo>
                <a:lnTo>
                  <a:pt x="30582" y="0"/>
                </a:lnTo>
                <a:lnTo>
                  <a:pt x="29182" y="1400"/>
                </a:lnTo>
                <a:lnTo>
                  <a:pt x="1400" y="1400"/>
                </a:lnTo>
                <a:close/>
              </a:path>
              <a:path fill="darken" w="30582" h="21600">
                <a:moveTo>
                  <a:pt x="30582" y="0"/>
                </a:moveTo>
                <a:lnTo>
                  <a:pt x="30582" y="21600"/>
                </a:lnTo>
                <a:lnTo>
                  <a:pt x="29182" y="20200"/>
                </a:lnTo>
                <a:lnTo>
                  <a:pt x="29182" y="1400"/>
                </a:lnTo>
                <a:close/>
              </a:path>
              <a:path fill="darkenLess" w="30582" h="21600">
                <a:moveTo>
                  <a:pt x="30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82" y="20200"/>
                </a:lnTo>
                <a:close/>
              </a:path>
              <a:path fill="lighten" w="30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82" h="21600">
                <a:moveTo>
                  <a:pt x="8285" y="10800"/>
                </a:moveTo>
                <a:lnTo>
                  <a:pt x="22297" y="3794"/>
                </a:lnTo>
                <a:lnTo>
                  <a:pt x="222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0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333360"/>
            <a:ext cx="64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мят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metronom1.mp3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226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0:03:50Z</dcterms:created>
  <dc:creator>123</dc:creator>
  <dc:description/>
  <dc:language>en-US</dc:language>
  <cp:lastModifiedBy>123</cp:lastModifiedBy>
  <dcterms:modified xsi:type="dcterms:W3CDTF">2015-01-29T15:58:53Z</dcterms:modified>
  <cp:revision>42</cp:revision>
  <dc:subject/>
  <dc:title>Слайд 1</dc:title>
</cp:coreProperties>
</file>