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FB5C-A0DF-409E-B8C6-5721F9B9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F010E-7E71-4D88-A697-23A376B7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C98E-DB88-4412-B35A-A14381F9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E6044-F1E5-4343-A1D6-A2152A95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77EC-794D-4A4C-9086-E864ABF4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0866-3F11-4F58-B574-5DF5CACB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0D23-782B-4B27-89CB-23E915CF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FC4A-16F4-46A3-A3C1-EAE75AFF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8085-FAD8-483F-835A-4F3C4B09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176A-D83C-48C2-88F1-444B1B84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0CC2-E19F-4CA4-84FC-A0D1A1B5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0883-A1E6-4721-8006-B8CC53B5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276C-8CDC-42DA-B1DC-CC6D07CA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8BE7-B430-4021-A502-3C04597B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4ECC-C6A9-465C-A0DD-ACA7A53E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EB3D-D11C-4CED-B0B6-2C520DCD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CBCF-1295-4207-9337-353A9050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F4668-32E3-4053-9D10-DC63B07D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E3E1B-EE0E-499D-969B-DD11F0E5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1E8CD-1FBA-4074-82AC-024ABD1A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A50E5-A45F-43F7-AC21-B7C436FB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60A7-9422-4125-9D9D-AE7D6D84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7B0D0-F27D-4CDB-A4F0-AA9CC40F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761D-BB81-4E31-8F8F-F6A78490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7404-EF00-4590-B4C9-A0CA56B6B2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9BE4-8DC6-410C-882B-7A8BD42098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49840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1357200" y="228600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ребности , их многообразие и неограниче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285840" y="178596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Главная черта потребностей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БЕЗГРАНИЧ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1143000" y="1928880"/>
            <a:ext cx="59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5-6 с.8 зад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428760" y="928800"/>
            <a:ext cx="8286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ты узна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такое потре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ие существуют виды потре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 Безграничность – главная черта потребносте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1000080" y="14288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ребность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добность, нужда в чем-либо, требующая удовлетвор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"/>
          <p:cNvPicPr/>
          <p:nvPr/>
        </p:nvPicPr>
        <p:blipFill>
          <a:blip r:embed="rId2"/>
          <a:stretch/>
        </p:blipFill>
        <p:spPr>
          <a:xfrm>
            <a:off x="2143080" y="8571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"/>
          <p:cNvPicPr/>
          <p:nvPr/>
        </p:nvPicPr>
        <p:blipFill>
          <a:blip r:embed="rId3"/>
          <a:stretch/>
        </p:blipFill>
        <p:spPr>
          <a:xfrm>
            <a:off x="571680" y="200016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"/>
          <p:cNvPicPr/>
          <p:nvPr/>
        </p:nvPicPr>
        <p:blipFill>
          <a:blip r:embed="rId4"/>
          <a:stretch/>
        </p:blipFill>
        <p:spPr>
          <a:xfrm>
            <a:off x="714240" y="3357720"/>
            <a:ext cx="1943280" cy="14284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"/>
          <p:cNvPicPr/>
          <p:nvPr/>
        </p:nvPicPr>
        <p:blipFill>
          <a:blip r:embed="rId5"/>
          <a:stretch/>
        </p:blipFill>
        <p:spPr>
          <a:xfrm>
            <a:off x="357120" y="4929120"/>
            <a:ext cx="1876320" cy="14288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"/>
          <p:cNvPicPr/>
          <p:nvPr/>
        </p:nvPicPr>
        <p:blipFill>
          <a:blip r:embed="rId6"/>
          <a:stretch/>
        </p:blipFill>
        <p:spPr>
          <a:xfrm>
            <a:off x="2643120" y="4572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"/>
          <p:cNvPicPr/>
          <p:nvPr/>
        </p:nvPicPr>
        <p:blipFill>
          <a:blip r:embed="rId7"/>
          <a:stretch/>
        </p:blipFill>
        <p:spPr>
          <a:xfrm>
            <a:off x="2714760" y="271476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"/>
          <p:cNvPicPr/>
          <p:nvPr/>
        </p:nvPicPr>
        <p:blipFill>
          <a:blip r:embed="rId8"/>
          <a:stretch/>
        </p:blipFill>
        <p:spPr>
          <a:xfrm>
            <a:off x="4714920" y="571680"/>
            <a:ext cx="1962000" cy="14284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9" descr=""/>
          <p:cNvPicPr/>
          <p:nvPr/>
        </p:nvPicPr>
        <p:blipFill>
          <a:blip r:embed="rId9"/>
          <a:stretch/>
        </p:blipFill>
        <p:spPr>
          <a:xfrm>
            <a:off x="6500880" y="1428840"/>
            <a:ext cx="23335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0" descr=""/>
          <p:cNvPicPr/>
          <p:nvPr/>
        </p:nvPicPr>
        <p:blipFill>
          <a:blip r:embed="rId10"/>
          <a:stretch/>
        </p:blipFill>
        <p:spPr>
          <a:xfrm>
            <a:off x="6000840" y="27147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1" descr=""/>
          <p:cNvPicPr/>
          <p:nvPr/>
        </p:nvPicPr>
        <p:blipFill>
          <a:blip r:embed="rId11"/>
          <a:stretch/>
        </p:blipFill>
        <p:spPr>
          <a:xfrm>
            <a:off x="5929200" y="435780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500040" y="1428840"/>
            <a:ext cx="814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ичные (физиологические)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требности в пище, воде, одежде, жилищ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торичные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требности в образовании, развлечениях, духовные потре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357200" y="12859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чные потре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2" descr=""/>
          <p:cNvPicPr/>
          <p:nvPr/>
        </p:nvPicPr>
        <p:blipFill>
          <a:blip r:embed="rId1"/>
          <a:stretch/>
        </p:blipFill>
        <p:spPr>
          <a:xfrm>
            <a:off x="785880" y="4286160"/>
            <a:ext cx="3000240" cy="21430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3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2400120" cy="21434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"/>
          <p:cNvPicPr/>
          <p:nvPr/>
        </p:nvPicPr>
        <p:blipFill>
          <a:blip r:embed="rId3"/>
          <a:stretch/>
        </p:blipFill>
        <p:spPr>
          <a:xfrm>
            <a:off x="2643120" y="1928880"/>
            <a:ext cx="264312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"/>
          <p:cNvPicPr/>
          <p:nvPr/>
        </p:nvPicPr>
        <p:blipFill>
          <a:blip r:embed="rId4"/>
          <a:stretch/>
        </p:blipFill>
        <p:spPr>
          <a:xfrm>
            <a:off x="5572080" y="4214880"/>
            <a:ext cx="3024360" cy="21430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"/>
          <p:cNvPicPr/>
          <p:nvPr/>
        </p:nvPicPr>
        <p:blipFill>
          <a:blip r:embed="rId5"/>
          <a:stretch/>
        </p:blipFill>
        <p:spPr>
          <a:xfrm>
            <a:off x="5143680" y="2214720"/>
            <a:ext cx="25714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571680" y="135720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щественные потре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3176640" cy="18576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3" descr=""/>
          <p:cNvPicPr/>
          <p:nvPr/>
        </p:nvPicPr>
        <p:blipFill>
          <a:blip r:embed="rId2"/>
          <a:stretch/>
        </p:blipFill>
        <p:spPr>
          <a:xfrm>
            <a:off x="1000080" y="3643200"/>
            <a:ext cx="2405160" cy="20005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3"/>
          <a:stretch/>
        </p:blipFill>
        <p:spPr>
          <a:xfrm>
            <a:off x="2928960" y="4929120"/>
            <a:ext cx="2690640" cy="17146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"/>
          <p:cNvPicPr/>
          <p:nvPr/>
        </p:nvPicPr>
        <p:blipFill>
          <a:blip r:embed="rId4"/>
          <a:stretch/>
        </p:blipFill>
        <p:spPr>
          <a:xfrm>
            <a:off x="5857920" y="2214720"/>
            <a:ext cx="2786040" cy="20714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"/>
          <p:cNvPicPr/>
          <p:nvPr/>
        </p:nvPicPr>
        <p:blipFill>
          <a:blip r:embed="rId5"/>
          <a:stretch/>
        </p:blipFill>
        <p:spPr>
          <a:xfrm>
            <a:off x="5500800" y="4286160"/>
            <a:ext cx="2786040" cy="21430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"/>
          <p:cNvPicPr/>
          <p:nvPr/>
        </p:nvPicPr>
        <p:blipFill>
          <a:blip r:embed="rId6"/>
          <a:stretch/>
        </p:blipFill>
        <p:spPr>
          <a:xfrm>
            <a:off x="3357720" y="2500200"/>
            <a:ext cx="2500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500040" y="100008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изводственные потре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"/>
          <p:cNvPicPr/>
          <p:nvPr/>
        </p:nvPicPr>
        <p:blipFill>
          <a:blip r:embed="rId1"/>
          <a:stretch/>
        </p:blipFill>
        <p:spPr>
          <a:xfrm>
            <a:off x="3500280" y="3929040"/>
            <a:ext cx="2643480" cy="18572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"/>
          <p:cNvPicPr/>
          <p:nvPr/>
        </p:nvPicPr>
        <p:blipFill>
          <a:blip r:embed="rId2"/>
          <a:stretch/>
        </p:blipFill>
        <p:spPr>
          <a:xfrm>
            <a:off x="1000080" y="4500720"/>
            <a:ext cx="2567160" cy="20714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"/>
          <p:cNvPicPr/>
          <p:nvPr/>
        </p:nvPicPr>
        <p:blipFill>
          <a:blip r:embed="rId3"/>
          <a:stretch/>
        </p:blipFill>
        <p:spPr>
          <a:xfrm>
            <a:off x="142920" y="2571840"/>
            <a:ext cx="2333520" cy="19288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"/>
          <p:cNvPicPr/>
          <p:nvPr/>
        </p:nvPicPr>
        <p:blipFill>
          <a:blip r:embed="rId4"/>
          <a:stretch/>
        </p:blipFill>
        <p:spPr>
          <a:xfrm>
            <a:off x="4071960" y="1857240"/>
            <a:ext cx="2548080" cy="19288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8" descr=""/>
          <p:cNvPicPr/>
          <p:nvPr/>
        </p:nvPicPr>
        <p:blipFill>
          <a:blip r:embed="rId5"/>
          <a:stretch/>
        </p:blipFill>
        <p:spPr>
          <a:xfrm>
            <a:off x="5929200" y="4786200"/>
            <a:ext cx="2405160" cy="17859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9" descr=""/>
          <p:cNvPicPr/>
          <p:nvPr/>
        </p:nvPicPr>
        <p:blipFill>
          <a:blip r:embed="rId6"/>
          <a:stretch/>
        </p:blipFill>
        <p:spPr>
          <a:xfrm>
            <a:off x="1785960" y="1500120"/>
            <a:ext cx="1857240" cy="1714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0" descr=""/>
          <p:cNvPicPr/>
          <p:nvPr/>
        </p:nvPicPr>
        <p:blipFill>
          <a:blip r:embed="rId7"/>
          <a:stretch/>
        </p:blipFill>
        <p:spPr>
          <a:xfrm>
            <a:off x="6000840" y="2786040"/>
            <a:ext cx="2523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857160" y="114300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я таблицу запишите различные виды сво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85920" y="2214720"/>
          <a:ext cx="6095880" cy="1854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ви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ори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46" name="TextBox 3"/>
          <p:cNvSpPr/>
          <p:nvPr/>
        </p:nvSpPr>
        <p:spPr>
          <a:xfrm>
            <a:off x="1071720" y="4857840"/>
            <a:ext cx="70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ьте на вопрос: Можно ли удовлетворить все имеющиеся у нас потребности?  И сделай те вы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2:29:52Z</dcterms:created>
  <dc:creator>OEM</dc:creator>
  <dc:description/>
  <dc:language>en-US</dc:language>
  <cp:lastModifiedBy>Fedorov</cp:lastModifiedBy>
  <dcterms:modified xsi:type="dcterms:W3CDTF">2015-01-29T16:09:05Z</dcterms:modified>
  <cp:revision>13</cp:revision>
  <dc:subject/>
  <dc:title>Занятые</dc:title>
</cp:coreProperties>
</file>