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9EA-E8D5-4F94-809C-AE7ADA13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4B7-FF9C-4BF4-BCE3-8AA157DA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419-FB1A-4A8B-9D16-AD11E65C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431-FD19-4643-8B97-70C0655C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1CA-E013-46BD-B917-4C81079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3CC-A2E5-4A4B-9297-644DA56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2E14-A4C3-47EB-8EEA-8308426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E1D1-E284-448A-B45C-5FF26BC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7933-6FA7-4D27-9D00-88BA317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8396-67DD-4108-9088-9E5BA08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F61A-05E7-4D1A-9817-DAF2E66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5D4-EBAC-41D5-9485-9141D1A7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1A7-7757-4A31-9565-DED55B2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95CA-36BA-41C9-B5C0-D565972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517-6C09-439D-92E2-960EDF80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ECB9-06AC-4051-BEFE-1B959EB8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3798-513C-408C-9556-A4A5BA3D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C0DE-0413-458D-97E0-A2B335BA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03E2-DBE6-4272-A438-B4144F84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7D2B-913F-45D0-9593-7F06C0B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EC99-514C-4AC0-BC7C-A1EA5A37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0819-B93D-44BE-A91A-AD613A5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86-0364-4B53-852C-780BAF6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EC7E-2939-47D7-8383-1709961A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B8E6-64BA-4699-A8CC-B4AA247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AC5E-4DA9-4DA3-9E5F-C06707E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DBF9-75D8-4C8E-90EB-C2653BC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BBCA-2BF0-4225-94C8-45E83EB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2F4D-2616-44B5-BF05-1E4C6B97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B686-FE9E-40E4-A2EA-E513F952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A324-8A64-44A1-A3D7-D8CA8CB2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16F3-25C7-41A5-AD1E-F1160229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E035-4638-42E4-B340-5D23F59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DA8-A74B-4C1E-91B2-D375EAC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2217-DF77-4455-8365-CD423CCF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0384-86FA-4762-BD17-BD7D9F62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EA18-4B96-4D6E-A1C3-52FBAA01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DE52-1DAF-4ABA-8BB0-CF68244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111D-2C57-44A6-A639-2BA35DF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1417-C0E4-42A1-BF20-BDC4EBA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5854-A799-481C-91E7-AB61656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A94F-679C-4D39-AC9A-BF0AA8CC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3D21-DAAA-4CD9-B6CC-62833367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FF3D-3B37-4CB7-983D-EAB81733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C75-C5B8-4A3C-8403-66ECAF2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7E47-90C3-4AFE-82F7-F3442DC1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78EE-C7BE-40E5-91C5-83CAD566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07AB-71B3-4DBB-AED5-5269C173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9680-49F0-4C08-8A0C-EB464D9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2D37-EB4B-4E95-B442-88D1632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BCD15-C6C3-456D-A042-A3E9770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316A-2F37-4F81-B7DF-364954F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5C17-1386-4BE7-B98B-DD91AC2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033A-CE68-4346-A890-2EAA79C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10E4-7751-4B93-A5DD-F156D08F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A6F-E0B1-4D55-859A-A530DC77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2BCF-83DD-4B4F-9CD0-5014F510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C98A0-5FC2-403F-8120-66EF29C3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6DBD1-6CD6-4691-8E1D-51CF7FB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D6C06-A007-4372-928A-4245581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A452-7043-42C7-B7BF-F0184B2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16A9-7E9A-47C6-8766-3532BDD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4A409-CB45-4373-A6FC-59C36E4A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BE51-A68E-4934-8584-38B1B0C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3279-E21F-4D3D-A4CD-43BD638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6792E-0E99-441A-8140-5B69E81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886-8FEA-427F-8298-DE14648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4A3B-07B1-459E-A8EE-9D8AE954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0FA80-5199-44E3-9B16-48572CB7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0A4DA-B7A4-4E20-9D25-F418DDEB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8D9-A60B-4965-B90D-A4D837FB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2C4-1CD7-41FD-BE41-94D26F6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EBB-8597-4C8F-9124-57C0795807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6FD5-0EB1-4D76-BC85-98D45D8D0B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D49B-62CE-4D42-84E6-3FD26E1F69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CDC-D1B1-4E8E-9560-CAB41C815A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7550-58E3-44B1-8967-CE3F7B7F90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ED1-5ED9-4542-946B-0F587DE222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6"/>
          <p:cNvSpPr txBox="1"/>
          <p:nvPr/>
        </p:nvSpPr>
        <p:spPr>
          <a:xfrm>
            <a:off x="826920" y="907920"/>
            <a:ext cx="78487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6" name="Picture 7" descr="40-302"/>
          <p:cNvPicPr/>
          <p:nvPr/>
        </p:nvPicPr>
        <p:blipFill>
          <a:blip r:embed="rId1"/>
          <a:stretch/>
        </p:blipFill>
        <p:spPr>
          <a:xfrm>
            <a:off x="2700360" y="3500280"/>
            <a:ext cx="4464000" cy="27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37" name="берегись автомобиля.mp3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1"/>
          <p:cNvSpPr/>
          <p:nvPr/>
        </p:nvSpPr>
        <p:spPr>
          <a:xfrm>
            <a:off x="611280" y="2228760"/>
            <a:ext cx="80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ва человека</a:t>
            </a:r>
            <a:br>
              <a:rPr sz="40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ый классный час в 6 кл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3376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614880" y="1700280"/>
            <a:ext cx="751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1" name="Picture 7" descr="Новое изображение6"/>
          <p:cNvPicPr/>
          <p:nvPr/>
        </p:nvPicPr>
        <p:blipFill>
          <a:blip r:embed="rId1"/>
          <a:stretch/>
        </p:blipFill>
        <p:spPr>
          <a:xfrm>
            <a:off x="2050920" y="3213000"/>
            <a:ext cx="4897440" cy="3306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395280" y="1628640"/>
            <a:ext cx="567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щиту жизни, чести и достоинства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свободно выражать свое мне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4" name="Picture 6" descr="thm_pic_2006-08-07_112546[1]"/>
          <p:cNvPicPr/>
          <p:nvPr/>
        </p:nvPicPr>
        <p:blipFill>
          <a:blip r:embed="rId1"/>
          <a:stretch/>
        </p:blipFill>
        <p:spPr>
          <a:xfrm>
            <a:off x="5580000" y="2349360"/>
            <a:ext cx="3311640" cy="3086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395280" y="1773360"/>
            <a:ext cx="610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медицинскую помощь, охрану здоровья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7" name="Picture 6" descr="carolers"/>
          <p:cNvPicPr/>
          <p:nvPr/>
        </p:nvPicPr>
        <p:blipFill>
          <a:blip r:embed="rId1"/>
          <a:stretch/>
        </p:blipFill>
        <p:spPr>
          <a:xfrm>
            <a:off x="6084720" y="3789360"/>
            <a:ext cx="2808360" cy="2544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539640" y="191628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0" name="Picture 6" descr="6"/>
          <p:cNvPicPr/>
          <p:nvPr/>
        </p:nvPicPr>
        <p:blipFill>
          <a:blip r:embed="rId1"/>
          <a:stretch/>
        </p:blipFill>
        <p:spPr>
          <a:xfrm>
            <a:off x="4932360" y="2133720"/>
            <a:ext cx="3672000" cy="3112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79280" y="2060640"/>
            <a:ext cx="65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о на защиту от всех форм эксплуатации, насилия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3" name="Picture 6" descr="yadovang"/>
          <p:cNvPicPr/>
          <p:nvPr/>
        </p:nvPicPr>
        <p:blipFill>
          <a:blip r:embed="rId1"/>
          <a:srcRect l="0" t="0" r="25702" b="0"/>
          <a:stretch/>
        </p:blipFill>
        <p:spPr>
          <a:xfrm>
            <a:off x="6156360" y="2349360"/>
            <a:ext cx="2808360" cy="2706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15" descr="Безымянный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ОТИВАМ СКАЗКИ «КРАСНАЯ ШАПОЧКА»</a:t>
            </a:r>
            <a:endParaRPr b="0" lang="en-US" sz="2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640" y="3933360"/>
            <a:ext cx="3672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Кто защитил Красную Шапочку и помог ей восстановить свои права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95280" y="76212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нарушение которого изображено на рисунке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жизн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личную неприкосновенност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справедливый с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8" name="Picture 9" descr="7415"/>
          <p:cNvPicPr/>
          <p:nvPr/>
        </p:nvPicPr>
        <p:blipFill>
          <a:blip r:embed="rId1"/>
          <a:stretch/>
        </p:blipFill>
        <p:spPr>
          <a:xfrm>
            <a:off x="4932360" y="795240"/>
            <a:ext cx="3695760" cy="29941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10"/>
          <p:cNvSpPr/>
          <p:nvPr/>
        </p:nvSpPr>
        <p:spPr>
          <a:xfrm>
            <a:off x="5181480" y="4267080"/>
            <a:ext cx="3048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. Скажите, чьи ещё права были нарушены волком в этой сказке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казка «Заюшкина избушка»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74200" y="1082160"/>
            <a:ext cx="35658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cc"/>
                </a:solidFill>
                <a:latin typeface="Arial"/>
              </a:rPr>
              <a:t>Статья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ждый человек имеет право на неприкосновенность жилища, защиту от вмешательства в личную и семейную жизнь, посягательства на честь и репу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6" descr="zajats"/>
          <p:cNvPicPr/>
          <p:nvPr/>
        </p:nvPicPr>
        <p:blipFill>
          <a:blip r:embed="rId1"/>
          <a:stretch/>
        </p:blipFill>
        <p:spPr>
          <a:xfrm>
            <a:off x="3657600" y="4106880"/>
            <a:ext cx="1851120" cy="2751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teremok"/>
          <p:cNvPicPr/>
          <p:nvPr/>
        </p:nvPicPr>
        <p:blipFill>
          <a:blip r:embed="rId2"/>
          <a:stretch/>
        </p:blipFill>
        <p:spPr>
          <a:xfrm>
            <a:off x="4140360" y="1628640"/>
            <a:ext cx="4470120" cy="41626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1" descr="mish_golova"/>
          <p:cNvPicPr/>
          <p:nvPr/>
        </p:nvPicPr>
        <p:blipFill>
          <a:blip r:embed="rId3"/>
          <a:stretch/>
        </p:blipFill>
        <p:spPr>
          <a:xfrm>
            <a:off x="6458040" y="3060720"/>
            <a:ext cx="552240" cy="519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ljagushka golova"/>
          <p:cNvPicPr/>
          <p:nvPr/>
        </p:nvPicPr>
        <p:blipFill>
          <a:blip r:embed="rId4"/>
          <a:stretch/>
        </p:blipFill>
        <p:spPr>
          <a:xfrm>
            <a:off x="7086600" y="3886200"/>
            <a:ext cx="652320" cy="442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0.46423 -0.00972 E">
                                      <p:cBhvr>
                                        <p:cTn id="138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1000" fill="hold"/>
                                        <p:tgtEl>
                                          <p:spTgt spid="70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d9ff"/>
                </a:solidFill>
                <a:latin typeface="Arial"/>
              </a:rPr>
              <a:t>По мотивам сказки </a:t>
            </a:r>
            <a:br>
              <a:rPr sz="2800"/>
            </a:br>
            <a:r>
              <a:rPr b="1" lang="ru-RU" sz="2800" spc="-1" strike="noStrike">
                <a:solidFill>
                  <a:srgbClr val="d9d9ff"/>
                </a:solidFill>
                <a:latin typeface="Arial"/>
              </a:rPr>
              <a:t>«Лиса и заяц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066920" y="4869000"/>
            <a:ext cx="48481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то защитил зайца и помог ему восстановить свои права: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3571920" y="1523880"/>
            <a:ext cx="5267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нарушение которого изображено на рисунке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жизнь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неприкосновенность жилища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справедливый с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09" name="Picture 8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казка «Лягушка-путешественница»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50560" y="4508640"/>
            <a:ext cx="4244760" cy="2349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Каждый человек в своей стране имеет право свободно передвигаться и выбирать местожитель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Каждый человек имеет право уехать из своей страны, а также вернуться на род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6934320" y="1676520"/>
            <a:ext cx="20574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татья 13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4"/>
          <p:cNvGrpSpPr/>
          <p:nvPr/>
        </p:nvGrpSpPr>
        <p:grpSpPr>
          <a:xfrm>
            <a:off x="6084720" y="2421000"/>
            <a:ext cx="2697120" cy="2396880"/>
            <a:chOff x="6084720" y="2421000"/>
            <a:chExt cx="2697120" cy="2396880"/>
          </a:xfrm>
        </p:grpSpPr>
        <p:graphicFrame>
          <p:nvGraphicFramePr>
            <p:cNvPr id="640" name="Object 5"/>
            <p:cNvGraphicFramePr/>
            <p:nvPr/>
          </p:nvGraphicFramePr>
          <p:xfrm>
            <a:off x="6084720" y="2421000"/>
            <a:ext cx="2697120" cy="208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4720" y="2421000"/>
                      <a:ext cx="2697120" cy="208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2" name="Text Box 6"/>
            <p:cNvSpPr/>
            <p:nvPr/>
          </p:nvSpPr>
          <p:spPr>
            <a:xfrm>
              <a:off x="6522840" y="4360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43" name="Text Box 7"/>
          <p:cNvSpPr/>
          <p:nvPr/>
        </p:nvSpPr>
        <p:spPr>
          <a:xfrm>
            <a:off x="755640" y="1989000"/>
            <a:ext cx="65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ольшие люди удивительно безграмотны, - подумал Маленький Человек. 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Надо это исправить.</a:t>
            </a:r>
            <a:endParaRPr b="1" i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6598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мотивам сказ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ягушка-путешественница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63640" y="4686120"/>
            <a:ext cx="3048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Кто помог лягушке воспользоваться ее правом:  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3348000" y="1295280"/>
            <a:ext cx="556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Выберите право, которым воспользовалась лягушка: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свободное передвижение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неприкосновенность жилища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образование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аво на труд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611280" y="4076640"/>
            <a:ext cx="3504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кажи, как далеко могла передвигаться лягушка, используя своё право на свободу передвижения?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пределах болота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пределах страны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609480" indent="-609480" algn="ctr">
              <a:spcBef>
                <a:spcPts val="451"/>
              </a:spcBef>
              <a:buClr>
                <a:srgbClr val="00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без ограничений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8" name="Picture 11" descr="лягушка"/>
          <p:cNvPicPr/>
          <p:nvPr/>
        </p:nvPicPr>
        <p:blipFill>
          <a:blip r:embed="rId1"/>
          <a:stretch/>
        </p:blipFill>
        <p:spPr>
          <a:xfrm>
            <a:off x="250920" y="1125360"/>
            <a:ext cx="324144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казка «Буратино»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-360" y="5257440"/>
            <a:ext cx="4343400" cy="1600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ждый человек имеет право на образование. Начальное и общее образование должны быть бесплатным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858000" y="762120"/>
            <a:ext cx="2057400" cy="947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татья 26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79362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мотивам сказки «Буратино»</a:t>
            </a:r>
            <a:endParaRPr b="0" lang="en-US" sz="2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59320" y="980640"/>
            <a:ext cx="355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йдите ошибочные по смыслу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. Буратино лишил Тортилу принадлежавшего ей имущества, силой отняв у неё золотой клю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. Когда Буратино, лиса Алиса и кот Базилио отправились в Страну Дураков, они воспользовались правом уехать из своей страны и вернуться на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. Полицейские нарушили право папы Карло на неприкосновенность жилища, силой ворвавшись в его камор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217440" y="692280"/>
            <a:ext cx="521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ыберите в предложениях термины и понятия, которые используются во Всеобщей декларации прав человека: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ворящий Сверчок посоветовал Буратино воспользоваться правом на получение бесплатного образова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павшие на Буратино ночью кот Базилио и лиса Алиса попытались отнять у него деньги и лишить принадлежавшего ему имущества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6" name="Picture 11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86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. Какова цель ОО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А) проведение олимпийски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) защита прав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) охрана окруж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. Что является высшей ценностью в России по Конституции РФ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промышленный и военный потенц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человек, его права и своб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3. В каком документе изложены права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в Конституции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в декларации прав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в Конвенции о правах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. Кем была принята Конвенция о правах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президентом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директором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Итоговый тест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5. Какой орган при ООН занимается правами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 детский фо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) международный валютный фо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) международный банк региональн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82680" y="561600"/>
            <a:ext cx="8456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Нет прав бе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539640" y="1752480"/>
            <a:ext cx="78422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обязанностей, 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Rectangle 11"/>
          <p:cNvSpPr/>
          <p:nvPr/>
        </p:nvSpPr>
        <p:spPr>
          <a:xfrm>
            <a:off x="539640" y="2771640"/>
            <a:ext cx="83757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нет обязанностей без прав!</a:t>
            </a: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0" name="Rectangle 12"/>
          <p:cNvSpPr/>
          <p:nvPr/>
        </p:nvSpPr>
        <p:spPr>
          <a:xfrm>
            <a:off x="971640" y="5562720"/>
            <a:ext cx="7591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4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250920" y="17924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однажды Маленький Человек вышел на центральную площадь города с большим плакатом в руках: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6804000" y="4149720"/>
            <a:ext cx="2193480" cy="2052360"/>
            <a:chOff x="6804000" y="4149720"/>
            <a:chExt cx="2193480" cy="2052360"/>
          </a:xfrm>
        </p:grpSpPr>
        <p:graphicFrame>
          <p:nvGraphicFramePr>
            <p:cNvPr id="648" name="Object 7"/>
            <p:cNvGraphicFramePr/>
            <p:nvPr/>
          </p:nvGraphicFramePr>
          <p:xfrm>
            <a:off x="6804000" y="4149720"/>
            <a:ext cx="2193480" cy="171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4149720"/>
                      <a:ext cx="2193480" cy="17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0" name="Text Box 8"/>
            <p:cNvSpPr/>
            <p:nvPr/>
          </p:nvSpPr>
          <p:spPr>
            <a:xfrm>
              <a:off x="7120080" y="5745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51" name="AutoShape 9"/>
          <p:cNvSpPr/>
          <p:nvPr/>
        </p:nvSpPr>
        <p:spPr>
          <a:xfrm>
            <a:off x="0" y="3213000"/>
            <a:ext cx="6659640" cy="3384720"/>
          </a:xfrm>
          <a:prstGeom prst="horizontalScrol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е люди рождаются свободными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 равными, все имеют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динаковые достоинства и права.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е наделены разумом и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лжны относиться друг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 другу как братья и сестры 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4"/>
          <p:cNvSpPr txBox="1"/>
          <p:nvPr/>
        </p:nvSpPr>
        <p:spPr>
          <a:xfrm>
            <a:off x="250920" y="476280"/>
            <a:ext cx="864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50920" y="1916280"/>
            <a:ext cx="65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скоре вокруг плаката собрались горожане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упость какая-то написана, - заявил один Большой гражданин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юди не могут рождаться равными. Я, например. Когда родился, весил 4кг 500г, а мой сосед всего 3кг 100г, а вы?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54" name="Picture 6" descr="bs02044_"/>
          <p:cNvPicPr/>
          <p:nvPr/>
        </p:nvPicPr>
        <p:blipFill>
          <a:blip r:embed="rId1"/>
          <a:stretch/>
        </p:blipFill>
        <p:spPr>
          <a:xfrm>
            <a:off x="6732720" y="3141720"/>
            <a:ext cx="2298600" cy="331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WordArt 4"/>
          <p:cNvSpPr txBox="1"/>
          <p:nvPr/>
        </p:nvSpPr>
        <p:spPr>
          <a:xfrm>
            <a:off x="250920" y="189000"/>
            <a:ext cx="86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ключения Маленького Челове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12400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слушайте! – сказал Маленький Человек.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57" name="Picture 6" descr="pe02287_"/>
          <p:cNvPicPr/>
          <p:nvPr/>
        </p:nvPicPr>
        <p:blipFill>
          <a:blip r:embed="rId1"/>
          <a:stretch/>
        </p:blipFill>
        <p:spPr>
          <a:xfrm>
            <a:off x="250920" y="1268280"/>
            <a:ext cx="1728720" cy="1335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grpSp>
        <p:nvGrpSpPr>
          <p:cNvPr id="658" name="Group 7"/>
          <p:cNvGrpSpPr/>
          <p:nvPr/>
        </p:nvGrpSpPr>
        <p:grpSpPr>
          <a:xfrm>
            <a:off x="7093080" y="1844640"/>
            <a:ext cx="1512360" cy="1410840"/>
            <a:chOff x="7093080" y="1844640"/>
            <a:chExt cx="1512360" cy="1410840"/>
          </a:xfrm>
        </p:grpSpPr>
        <p:pic>
          <p:nvPicPr>
            <p:cNvPr id="659" name="Picture 8" descr="pe01072_"/>
            <p:cNvPicPr/>
            <p:nvPr/>
          </p:nvPicPr>
          <p:blipFill>
            <a:blip r:embed="rId2"/>
            <a:stretch/>
          </p:blipFill>
          <p:spPr>
            <a:xfrm>
              <a:off x="7093080" y="1844640"/>
              <a:ext cx="1512360" cy="92664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sp>
          <p:nvSpPr>
            <p:cNvPr id="660" name="Text Box 9"/>
            <p:cNvSpPr/>
            <p:nvPr/>
          </p:nvSpPr>
          <p:spPr>
            <a:xfrm>
              <a:off x="7778160" y="2799360"/>
              <a:ext cx="137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61" name="Text Box 10"/>
          <p:cNvSpPr/>
          <p:nvPr/>
        </p:nvSpPr>
        <p:spPr>
          <a:xfrm>
            <a:off x="108000" y="2708280"/>
            <a:ext cx="7221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ждаться равными – это не значит рождаться людьми одного роста и веса. Или одинаково сильными и красивыми. Рождаться равными – значит рождаться людьми. Маленькими и голыми. Ведь еще никто не появился на свет министром с портфелем или генералом с погонами.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62" name="Group 11"/>
          <p:cNvGrpSpPr/>
          <p:nvPr/>
        </p:nvGrpSpPr>
        <p:grpSpPr>
          <a:xfrm>
            <a:off x="6156360" y="4508640"/>
            <a:ext cx="2590920" cy="2209320"/>
            <a:chOff x="6156360" y="4508640"/>
            <a:chExt cx="2590920" cy="2209320"/>
          </a:xfrm>
        </p:grpSpPr>
        <p:pic>
          <p:nvPicPr>
            <p:cNvPr id="663" name="Picture 12" descr="pe02695_"/>
            <p:cNvPicPr/>
            <p:nvPr/>
          </p:nvPicPr>
          <p:blipFill>
            <a:blip r:embed="rId3"/>
            <a:stretch/>
          </p:blipFill>
          <p:spPr>
            <a:xfrm>
              <a:off x="6384960" y="4508640"/>
              <a:ext cx="2362320" cy="14299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664" name="Text Box 13"/>
            <p:cNvSpPr/>
            <p:nvPr/>
          </p:nvSpPr>
          <p:spPr>
            <a:xfrm>
              <a:off x="6156360" y="62611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1022760" y="2165760"/>
            <a:ext cx="7098480" cy="3394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люди рождаются свобод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равными, все име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динаковые достоинства 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наделены разумом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лжны относиться др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 другу как братья и сестр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395280" y="260280"/>
            <a:ext cx="83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вы понимаете смысл плаката?</a:t>
            </a:r>
            <a:endParaRPr b="1" i="1" lang="en-US" sz="24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WordArt 4"/>
          <p:cNvSpPr txBox="1"/>
          <p:nvPr/>
        </p:nvSpPr>
        <p:spPr>
          <a:xfrm>
            <a:off x="468360" y="333360"/>
            <a:ext cx="81439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документы о правах челове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ждунар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нвенция о правах ребенка (198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цион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итуция РФ (1993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йская Декларация прав и свобод человека и гражданина (199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8"/>
          <p:cNvSpPr/>
          <p:nvPr/>
        </p:nvSpPr>
        <p:spPr>
          <a:xfrm>
            <a:off x="2195640" y="2205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Line 9"/>
          <p:cNvSpPr/>
          <p:nvPr/>
        </p:nvSpPr>
        <p:spPr>
          <a:xfrm>
            <a:off x="6659640" y="220500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2" name="Picture 10" descr="pe07663_"/>
          <p:cNvPicPr/>
          <p:nvPr/>
        </p:nvPicPr>
        <p:blipFill>
          <a:blip r:embed="rId1"/>
          <a:stretch/>
        </p:blipFill>
        <p:spPr>
          <a:xfrm>
            <a:off x="2987640" y="4869000"/>
            <a:ext cx="1897200" cy="1871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468360" y="1916280"/>
            <a:ext cx="575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нвенция – это международный договор, соглашение по определенному вопросу с взаимными обязательствами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5" name="Picture 6" descr="j0228297[1]"/>
          <p:cNvPicPr/>
          <p:nvPr/>
        </p:nvPicPr>
        <p:blipFill>
          <a:blip r:embed="rId1"/>
          <a:stretch/>
        </p:blipFill>
        <p:spPr>
          <a:xfrm>
            <a:off x="5940360" y="3424320"/>
            <a:ext cx="3024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4"/>
          <p:cNvSpPr txBox="1"/>
          <p:nvPr/>
        </p:nvSpPr>
        <p:spPr>
          <a:xfrm>
            <a:off x="684360" y="333360"/>
            <a:ext cx="78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венция о правах ребенка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50920" y="1916280"/>
            <a:ext cx="51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этом документе 54 статьи, и они касаются не только прав и свобод детей, но и обязательств государств по защите прав детей.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78" name="Picture 7" descr="a0a7bd4f2aa22e76299dd295577b0c20"/>
          <p:cNvPicPr/>
          <p:nvPr/>
        </p:nvPicPr>
        <p:blipFill>
          <a:blip r:embed="rId1"/>
          <a:stretch/>
        </p:blipFill>
        <p:spPr>
          <a:xfrm>
            <a:off x="5780160" y="1360440"/>
            <a:ext cx="2968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30:56Z</dcterms:created>
  <dc:creator>Зульфия</dc:creator>
  <dc:description/>
  <dc:language>en-US</dc:language>
  <cp:lastModifiedBy>Людмила</cp:lastModifiedBy>
  <dcterms:modified xsi:type="dcterms:W3CDTF">2014-12-04T15:03:18Z</dcterms:modified>
  <cp:revision>11</cp:revision>
  <dc:subject/>
  <dc:title>Слайд 1</dc:title>
</cp:coreProperties>
</file>