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95A-96C7-46D1-8309-46B92C2D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078-534B-4115-8394-FA1AB617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5115-0A69-406D-A212-83215967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322-48AA-4424-A48B-62CA818A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4153-DB20-4415-A19F-9DA9D4AC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EF49-B85B-4A20-A34D-1FA3F3CD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EABC-327B-4FBF-B9D2-7BC639F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BA66-8EA8-4A98-A6A0-4464F4D1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86DC-DDEB-44F1-918A-15B2886C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8F98-FF05-433A-8FB6-3B98991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064F-856B-4C40-A688-1390E4FB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C41-4E27-4572-8122-AA32B3CD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1303-C45B-43C8-83B0-D5A1AE9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A762-64A3-498D-A56F-4611211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DFE4-336A-4728-814C-39A0D7FD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42F1-7D7B-42C6-A3CD-3534EC7C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E53B-B23C-4DFB-BAA5-B9284275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EFFC-D9D3-459C-AEEE-07790069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44E4-6BC4-4486-AF9F-D06F0C39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20AE-B2C5-4DDB-A921-08505E1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42D98-80B5-40A0-9609-A576155B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61EF-0EC5-4328-A5A6-732FE8F7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044-5087-4683-A46C-C6B6A63A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76B8-3A92-4639-8ADA-ED823F86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1F99-EF6F-48D8-B4B1-3C3F52C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6F12-89A5-483C-A608-86846ED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75FC-6BBE-400F-8ABB-475B174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271C-9B72-465C-B66B-6DCB1E93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7AE0-9AA0-4379-9338-D870E660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1D8C-7F9D-4168-831B-990033E0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7DF2-30F6-446C-A6D5-821DF998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53D3-DC49-4300-805D-C1E14B14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BCF8-C5BA-4ED4-AD5B-F2F75E58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876-3964-48D5-A0AE-F39FD18F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B17D-E59A-4CDE-B277-9D1028D7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D783-D39F-4D62-94FA-FCE81E57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387D-E428-4131-85E4-1439AC0F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15CE-A6C5-451D-B030-CFD23FB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E1A5-9249-49FC-AAF8-BEDFA10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7C069-E867-4AC7-9C3B-1D00C8A6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58BB-53B6-42FE-8D19-575A83BB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371F-0CDD-4244-8330-93677865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73CE-D086-4C57-B783-8C826156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AC38F-EA1D-4471-8047-F0A6CA4C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20E-8300-45CC-AC77-3012027F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108D-5710-4254-A4C2-35C2B78A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B3DB0-041E-47D3-BE3D-CE1C3AEF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2ECA6-ADDC-4BB2-803A-C1BE35F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34D5-673A-4741-95B6-968DD8B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7D908-E147-404F-850B-448234A1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8D6D-A840-4433-B4EE-6189D4FE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714C-9DE9-4DAF-BD22-BA2E1BF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C06F-6BC7-4CF7-96B1-E9C0B5A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4DB3E-37A8-4A63-9A18-20318087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0C56-74A0-469D-8420-A7C7AA8B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66B-1B18-4025-A4F4-D5F9206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C28C-8030-416A-A96A-268DFD76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88446-8F26-4804-BA08-C72B98C4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2295E-FFF8-4040-8125-13CFD59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C462C-278B-4132-958D-D9B83ED4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E8FF-9C0A-4591-BEF1-DEDB3C23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6900B-FE4B-47F6-8723-1D3E7A7F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880A2-1C2D-4FAB-8CB0-7CB7694A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84DD3-8E05-42BE-A3B3-1DAD87CE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131FA-4384-4149-B5FD-68A406A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1985-52D0-4D06-AA9F-D3AA447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D2F-2F20-4F01-B007-4B19E49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CB243-8E0D-4D8C-AB6A-6262829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36D6E-E3AE-4F30-A3E8-6814234C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4EC68-CB95-465E-8CAF-68B2EFD7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F76-E033-4825-8990-EC0852A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BEA-2077-4069-9C64-A26C000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06FB-204B-4D1A-A1D9-C1ED67B259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96B1-FFE2-417E-89C5-7DAAFD7350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23A4-B674-4F9C-A2B3-FE928AAAA4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338-A6CB-4597-B668-9AF778FDC0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5C71-DAA1-41D2-B802-08E6904C51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FB6-0458-4D08-BA9F-98FF4403A0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WordArt 6"/>
          <p:cNvSpPr txBox="1"/>
          <p:nvPr/>
        </p:nvSpPr>
        <p:spPr>
          <a:xfrm>
            <a:off x="826920" y="907920"/>
            <a:ext cx="78487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6" name="Picture 7" descr="40-302"/>
          <p:cNvPicPr/>
          <p:nvPr/>
        </p:nvPicPr>
        <p:blipFill>
          <a:blip r:embed="rId1"/>
          <a:stretch/>
        </p:blipFill>
        <p:spPr>
          <a:xfrm>
            <a:off x="2700360" y="3500280"/>
            <a:ext cx="4464000" cy="2737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37" name="берегись автомобиля.mp3" descr=""/>
          <p:cNvPicPr/>
          <p:nvPr/>
        </p:nvPicPr>
        <p:blipFill>
          <a:blip r:embed="rId2"/>
          <a:stretch/>
        </p:blipFill>
        <p:spPr>
          <a:xfrm>
            <a:off x="883908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8" name="Прямоугольник 1"/>
          <p:cNvSpPr/>
          <p:nvPr/>
        </p:nvSpPr>
        <p:spPr>
          <a:xfrm>
            <a:off x="611280" y="2228760"/>
            <a:ext cx="806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ва человека</a:t>
            </a:r>
            <a:br>
              <a:rPr sz="4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рытый классный час в 6 кл.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33376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614880" y="1700280"/>
            <a:ext cx="751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жизнь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имя при рождении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1" name="Picture 7" descr="Новое изображение6"/>
          <p:cNvPicPr/>
          <p:nvPr/>
        </p:nvPicPr>
        <p:blipFill>
          <a:blip r:embed="rId1"/>
          <a:stretch/>
        </p:blipFill>
        <p:spPr>
          <a:xfrm>
            <a:off x="2050920" y="3213000"/>
            <a:ext cx="4897440" cy="33069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395280" y="1628640"/>
            <a:ext cx="567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защиту жизни, чести и достоинства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свободно выражать свое мнение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4" name="Picture 6" descr="thm_pic_2006-08-07_112546[1]"/>
          <p:cNvPicPr/>
          <p:nvPr/>
        </p:nvPicPr>
        <p:blipFill>
          <a:blip r:embed="rId1"/>
          <a:stretch/>
        </p:blipFill>
        <p:spPr>
          <a:xfrm>
            <a:off x="5580000" y="2349360"/>
            <a:ext cx="3311640" cy="3086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395280" y="1773360"/>
            <a:ext cx="610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медицинскую помощь, охрану здоровья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отдых и досуг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7" name="Picture 6" descr="carolers"/>
          <p:cNvPicPr/>
          <p:nvPr/>
        </p:nvPicPr>
        <p:blipFill>
          <a:blip r:embed="rId1"/>
          <a:stretch/>
        </p:blipFill>
        <p:spPr>
          <a:xfrm>
            <a:off x="6084720" y="3789360"/>
            <a:ext cx="2808360" cy="2544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539640" y="191628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иметь имущество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свободное перемещение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0" name="Picture 6" descr="6"/>
          <p:cNvPicPr/>
          <p:nvPr/>
        </p:nvPicPr>
        <p:blipFill>
          <a:blip r:embed="rId1"/>
          <a:stretch/>
        </p:blipFill>
        <p:spPr>
          <a:xfrm>
            <a:off x="4932360" y="2133720"/>
            <a:ext cx="3672000" cy="3112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79280" y="2060640"/>
            <a:ext cx="65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заботу и воспитание родителями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защиту от всех форм эксплуатации, насилия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3" name="Picture 6" descr="yadovang"/>
          <p:cNvPicPr/>
          <p:nvPr/>
        </p:nvPicPr>
        <p:blipFill>
          <a:blip r:embed="rId1"/>
          <a:srcRect l="0" t="0" r="25702" b="0"/>
          <a:stretch/>
        </p:blipFill>
        <p:spPr>
          <a:xfrm>
            <a:off x="6156360" y="2349360"/>
            <a:ext cx="2808360" cy="2706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15" descr="Безымянный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692000" y="18900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МОТИВАМ СКАЗКИ «КРАСНАЯ ШАПОЧКА»</a:t>
            </a:r>
            <a:endParaRPr b="0" lang="en-US" sz="2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9640" y="3933360"/>
            <a:ext cx="3672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Кто защитил Красную Шапочку и помог ей восстановить свои права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95280" y="76212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.Выберите право, нарушение которого изображено на рисунке: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аво на жизнь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аво на личную неприкосновенность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аво на справедливый с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аво на тр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8" name="Picture 9" descr="7415"/>
          <p:cNvPicPr/>
          <p:nvPr/>
        </p:nvPicPr>
        <p:blipFill>
          <a:blip r:embed="rId1"/>
          <a:stretch/>
        </p:blipFill>
        <p:spPr>
          <a:xfrm>
            <a:off x="4932360" y="795240"/>
            <a:ext cx="3695760" cy="299412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10"/>
          <p:cNvSpPr/>
          <p:nvPr/>
        </p:nvSpPr>
        <p:spPr>
          <a:xfrm>
            <a:off x="5181480" y="4267080"/>
            <a:ext cx="3048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3. Скажите, чьи ещё права были нарушены волком в этой сказке.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казка «Заюшкина избушка»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4200" y="1082160"/>
            <a:ext cx="35658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cc"/>
                </a:solidFill>
                <a:latin typeface="Arial"/>
              </a:rPr>
              <a:t>Статья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ждый человек имеет право на неприкосновенность жилища, защиту от вмешательства в личную и семейную жизнь, посягательства на честь и репут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6" descr="zajats"/>
          <p:cNvPicPr/>
          <p:nvPr/>
        </p:nvPicPr>
        <p:blipFill>
          <a:blip r:embed="rId1"/>
          <a:stretch/>
        </p:blipFill>
        <p:spPr>
          <a:xfrm>
            <a:off x="3657600" y="4106880"/>
            <a:ext cx="1851120" cy="2751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teremok"/>
          <p:cNvPicPr/>
          <p:nvPr/>
        </p:nvPicPr>
        <p:blipFill>
          <a:blip r:embed="rId2"/>
          <a:stretch/>
        </p:blipFill>
        <p:spPr>
          <a:xfrm>
            <a:off x="4140360" y="1628640"/>
            <a:ext cx="4470120" cy="41626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1" descr="mish_golova"/>
          <p:cNvPicPr/>
          <p:nvPr/>
        </p:nvPicPr>
        <p:blipFill>
          <a:blip r:embed="rId3"/>
          <a:stretch/>
        </p:blipFill>
        <p:spPr>
          <a:xfrm>
            <a:off x="6458040" y="3060720"/>
            <a:ext cx="552240" cy="5191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ljagushka golova"/>
          <p:cNvPicPr/>
          <p:nvPr/>
        </p:nvPicPr>
        <p:blipFill>
          <a:blip r:embed="rId4"/>
          <a:stretch/>
        </p:blipFill>
        <p:spPr>
          <a:xfrm>
            <a:off x="7086600" y="3886200"/>
            <a:ext cx="652320" cy="442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0.46423 -0.00972 E">
                                      <p:cBhvr>
                                        <p:cTn id="138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1000" fill="hold"/>
                                        <p:tgtEl>
                                          <p:spTgt spid="70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d9ff"/>
                </a:solidFill>
                <a:latin typeface="Arial"/>
              </a:rPr>
              <a:t>По мотивам сказки </a:t>
            </a:r>
            <a:br>
              <a:rPr sz="2800"/>
            </a:br>
            <a:r>
              <a:rPr b="1" lang="ru-RU" sz="2800" spc="-1" strike="noStrike">
                <a:solidFill>
                  <a:srgbClr val="d9d9ff"/>
                </a:solidFill>
                <a:latin typeface="Arial"/>
              </a:rPr>
              <a:t>«Лиса и заяц»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066920" y="4869000"/>
            <a:ext cx="48481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то защитил зайца и помог ему восстановить свои права: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3571920" y="1523880"/>
            <a:ext cx="5267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.Выберите право, нарушение которого изображено на рисунке: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жизнь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неприкосновенность жилища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справедливый с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тр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09" name="Picture 8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52908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5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казка «Лягушка-путешественница»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50560" y="4508640"/>
            <a:ext cx="4244760" cy="2349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 Каждый человек в своей стране имеет право свободно передвигаться и выбирать местожитель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Каждый человек имеет право уехать из своей страны, а также вернуться на род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6934320" y="1676520"/>
            <a:ext cx="2057400" cy="947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татья 13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4"/>
          <p:cNvGrpSpPr/>
          <p:nvPr/>
        </p:nvGrpSpPr>
        <p:grpSpPr>
          <a:xfrm>
            <a:off x="6084720" y="2421000"/>
            <a:ext cx="2697120" cy="2396880"/>
            <a:chOff x="6084720" y="2421000"/>
            <a:chExt cx="2697120" cy="2396880"/>
          </a:xfrm>
        </p:grpSpPr>
        <p:graphicFrame>
          <p:nvGraphicFramePr>
            <p:cNvPr id="640" name="Object 5"/>
            <p:cNvGraphicFramePr/>
            <p:nvPr/>
          </p:nvGraphicFramePr>
          <p:xfrm>
            <a:off x="6084720" y="2421000"/>
            <a:ext cx="2697120" cy="208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4720" y="2421000"/>
                      <a:ext cx="2697120" cy="208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2" name="Text Box 6"/>
            <p:cNvSpPr/>
            <p:nvPr/>
          </p:nvSpPr>
          <p:spPr>
            <a:xfrm>
              <a:off x="6522840" y="4360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43" name="Text Box 7"/>
          <p:cNvSpPr/>
          <p:nvPr/>
        </p:nvSpPr>
        <p:spPr>
          <a:xfrm>
            <a:off x="755640" y="1989000"/>
            <a:ext cx="650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Большие люди удивительно безграмотны, - подумал Маленький Человек. 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- Надо это исправить.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4" name="WordArt 8"/>
          <p:cNvSpPr txBox="1"/>
          <p:nvPr/>
        </p:nvSpPr>
        <p:spPr>
          <a:xfrm>
            <a:off x="250920" y="476280"/>
            <a:ext cx="864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ключения Маленького Челове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6598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мотивам сказк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ягушка-путешественница»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63640" y="4686120"/>
            <a:ext cx="3048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Кто помог лягушке воспользоваться ее правом:  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348000" y="1295280"/>
            <a:ext cx="556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.Выберите право, которым воспользовалась лягушка: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свободное передвижение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неприкосновенность жилища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образование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тр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611280" y="4076640"/>
            <a:ext cx="35049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кажи, как далеко могла передвигаться лягушка, используя своё право на свободу передвижения?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buClr>
                <a:srgbClr val="00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пределах болота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buClr>
                <a:srgbClr val="00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пределах страны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buClr>
                <a:srgbClr val="00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без ограничений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8" name="Picture 11" descr="лягушка"/>
          <p:cNvPicPr/>
          <p:nvPr/>
        </p:nvPicPr>
        <p:blipFill>
          <a:blip r:embed="rId1"/>
          <a:stretch/>
        </p:blipFill>
        <p:spPr>
          <a:xfrm>
            <a:off x="250920" y="1125360"/>
            <a:ext cx="324144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Сказка «Буратино»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-360" y="5257440"/>
            <a:ext cx="4343400" cy="1600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ждый человек имеет право на образование. Начальное и общее образование должны быть бесплатным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6858000" y="762120"/>
            <a:ext cx="2057400" cy="947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татья 26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79362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мотивам сказки «Буратино»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59320" y="980640"/>
            <a:ext cx="355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йдите ошибочные по смыслу пред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. Буратино лишил Тортилу принадлежавшего ей имущества, силой отняв у неё золотой ключ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. Когда Буратино, лиса Алиса и кот Базилио отправились в Страну Дураков, они воспользовались правом уехать из своей страны и вернуться на р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. Полицейские нарушили право папы Карло на неприкосновенность жилища, силой ворвавшись в его камор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217440" y="692280"/>
            <a:ext cx="521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ыберите в предложениях термины и понятия, которые используются во Всеобщей декларации прав человека: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оворящий Сверчок посоветовал Буратино воспользоваться правом на получение бесплатного образования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павшие на Буратино ночью кот Базилио и лиса Алиса попытались отнять у него деньги и лишить принадлежавшего ему имущества.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26" name="Picture 11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86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. Какова цель ОО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А) проведение олимпийски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) защита прав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) охрана окружающ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9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. Что является высшей ценностью в России по Конституции РФ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 промышленный и военный потенци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) государ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) человек, его права и своб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2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3. В каком документе изложены права ребен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 в Конституции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) в декларации прав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) в Конвенции о правах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2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4. Кем была принята Конвенция о правах ребен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 президентом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)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) директором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9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. Какой орган при ООН занимается правами ребен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 детский фон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) международный валютный фон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) международный банк региональн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82680" y="561600"/>
            <a:ext cx="8456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Нет прав бе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539640" y="1752480"/>
            <a:ext cx="78422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обязанностей, </a:t>
            </a: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9" name="Rectangle 11"/>
          <p:cNvSpPr/>
          <p:nvPr/>
        </p:nvSpPr>
        <p:spPr>
          <a:xfrm>
            <a:off x="539640" y="2771640"/>
            <a:ext cx="83757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нет обязанностей без прав!</a:t>
            </a: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0" name="Rectangle 12"/>
          <p:cNvSpPr/>
          <p:nvPr/>
        </p:nvSpPr>
        <p:spPr>
          <a:xfrm>
            <a:off x="971640" y="5562720"/>
            <a:ext cx="7591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WordArt 4"/>
          <p:cNvSpPr txBox="1"/>
          <p:nvPr/>
        </p:nvSpPr>
        <p:spPr>
          <a:xfrm>
            <a:off x="250920" y="476280"/>
            <a:ext cx="864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ключения Маленького Челове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250920" y="17924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однажды Маленький Человек вышел на центральную площадь города с большим плакатом в руках: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47" name="Group 6"/>
          <p:cNvGrpSpPr/>
          <p:nvPr/>
        </p:nvGrpSpPr>
        <p:grpSpPr>
          <a:xfrm>
            <a:off x="6804000" y="4149720"/>
            <a:ext cx="2193480" cy="2052360"/>
            <a:chOff x="6804000" y="4149720"/>
            <a:chExt cx="2193480" cy="2052360"/>
          </a:xfrm>
        </p:grpSpPr>
        <p:graphicFrame>
          <p:nvGraphicFramePr>
            <p:cNvPr id="648" name="Object 7"/>
            <p:cNvGraphicFramePr/>
            <p:nvPr/>
          </p:nvGraphicFramePr>
          <p:xfrm>
            <a:off x="6804000" y="4149720"/>
            <a:ext cx="2193480" cy="171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9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4000" y="4149720"/>
                      <a:ext cx="2193480" cy="17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0" name="Text Box 8"/>
            <p:cNvSpPr/>
            <p:nvPr/>
          </p:nvSpPr>
          <p:spPr>
            <a:xfrm>
              <a:off x="7120080" y="574524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51" name="AutoShape 9"/>
          <p:cNvSpPr/>
          <p:nvPr/>
        </p:nvSpPr>
        <p:spPr>
          <a:xfrm>
            <a:off x="0" y="3213000"/>
            <a:ext cx="6659640" cy="338472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се люди рождаются свободными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 равными, все имеют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динаковые достоинства и права.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се наделены разумом и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олжны относиться друг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 другу как братья и сестры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WordArt 4"/>
          <p:cNvSpPr txBox="1"/>
          <p:nvPr/>
        </p:nvSpPr>
        <p:spPr>
          <a:xfrm>
            <a:off x="250920" y="476280"/>
            <a:ext cx="864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ключения Маленького Челове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250920" y="1916280"/>
            <a:ext cx="65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скоре вокруг плаката собрались горожане.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лупость какая-то написана, - заявил один Большой гражданин.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юди не могут рождаться равными. Я, например. Когда родился, весил 4кг 500г, а мой сосед всего 3кг 100г, а вы?.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54" name="Picture 6" descr="bs02044_"/>
          <p:cNvPicPr/>
          <p:nvPr/>
        </p:nvPicPr>
        <p:blipFill>
          <a:blip r:embed="rId1"/>
          <a:stretch/>
        </p:blipFill>
        <p:spPr>
          <a:xfrm>
            <a:off x="6732720" y="3141720"/>
            <a:ext cx="2298600" cy="331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WordArt 4"/>
          <p:cNvSpPr txBox="1"/>
          <p:nvPr/>
        </p:nvSpPr>
        <p:spPr>
          <a:xfrm>
            <a:off x="250920" y="189000"/>
            <a:ext cx="86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ключения Маленького Челове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12400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слушайте! – сказал Маленький Человек.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57" name="Picture 6" descr="pe02287_"/>
          <p:cNvPicPr/>
          <p:nvPr/>
        </p:nvPicPr>
        <p:blipFill>
          <a:blip r:embed="rId1"/>
          <a:stretch/>
        </p:blipFill>
        <p:spPr>
          <a:xfrm>
            <a:off x="250920" y="1268280"/>
            <a:ext cx="1728720" cy="1335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grpSp>
        <p:nvGrpSpPr>
          <p:cNvPr id="658" name="Group 7"/>
          <p:cNvGrpSpPr/>
          <p:nvPr/>
        </p:nvGrpSpPr>
        <p:grpSpPr>
          <a:xfrm>
            <a:off x="7093080" y="1844640"/>
            <a:ext cx="1512360" cy="1410840"/>
            <a:chOff x="7093080" y="1844640"/>
            <a:chExt cx="1512360" cy="1410840"/>
          </a:xfrm>
        </p:grpSpPr>
        <p:pic>
          <p:nvPicPr>
            <p:cNvPr id="659" name="Picture 8" descr="pe01072_"/>
            <p:cNvPicPr/>
            <p:nvPr/>
          </p:nvPicPr>
          <p:blipFill>
            <a:blip r:embed="rId2"/>
            <a:stretch/>
          </p:blipFill>
          <p:spPr>
            <a:xfrm>
              <a:off x="7093080" y="1844640"/>
              <a:ext cx="1512360" cy="92664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sp>
          <p:nvSpPr>
            <p:cNvPr id="660" name="Text Box 9"/>
            <p:cNvSpPr/>
            <p:nvPr/>
          </p:nvSpPr>
          <p:spPr>
            <a:xfrm>
              <a:off x="7778160" y="2799360"/>
              <a:ext cx="137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61" name="Text Box 10"/>
          <p:cNvSpPr/>
          <p:nvPr/>
        </p:nvSpPr>
        <p:spPr>
          <a:xfrm>
            <a:off x="108000" y="2708280"/>
            <a:ext cx="7221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ождаться равными – это не значит рождаться людьми одного роста и веса. Или одинаково сильными и красивыми. Рождаться равными – значит рождаться людьми. Маленькими и голыми. Ведь еще никто не появился на свет министром с портфелем или генералом с погонами.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62" name="Group 11"/>
          <p:cNvGrpSpPr/>
          <p:nvPr/>
        </p:nvGrpSpPr>
        <p:grpSpPr>
          <a:xfrm>
            <a:off x="6156360" y="4508640"/>
            <a:ext cx="2590920" cy="2209320"/>
            <a:chOff x="6156360" y="4508640"/>
            <a:chExt cx="2590920" cy="2209320"/>
          </a:xfrm>
        </p:grpSpPr>
        <p:pic>
          <p:nvPicPr>
            <p:cNvPr id="663" name="Picture 12" descr="pe02695_"/>
            <p:cNvPicPr/>
            <p:nvPr/>
          </p:nvPicPr>
          <p:blipFill>
            <a:blip r:embed="rId3"/>
            <a:stretch/>
          </p:blipFill>
          <p:spPr>
            <a:xfrm>
              <a:off x="6384960" y="4508640"/>
              <a:ext cx="2362320" cy="14299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664" name="Text Box 13"/>
            <p:cNvSpPr/>
            <p:nvPr/>
          </p:nvSpPr>
          <p:spPr>
            <a:xfrm>
              <a:off x="6156360" y="62611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1022760" y="2165760"/>
            <a:ext cx="7098480" cy="3394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е люди рождаются свободн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 равными, все име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динаковые достоинства 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е наделены разумом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олжны относиться дру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 другу как братья и сестры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395280" y="260280"/>
            <a:ext cx="83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вы понимаете смысл плаката?</a:t>
            </a:r>
            <a:endParaRPr b="1" i="1" lang="en-US" sz="24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WordArt 4"/>
          <p:cNvSpPr txBox="1"/>
          <p:nvPr/>
        </p:nvSpPr>
        <p:spPr>
          <a:xfrm>
            <a:off x="468360" y="333360"/>
            <a:ext cx="81439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документы о правах челове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ждународ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нвенция о правах ребенка (198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циона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итуция РФ (1993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йская Декларация прав и свобод человека и гражданина (1991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8"/>
          <p:cNvSpPr/>
          <p:nvPr/>
        </p:nvSpPr>
        <p:spPr>
          <a:xfrm>
            <a:off x="2195640" y="220500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1" name="Line 9"/>
          <p:cNvSpPr/>
          <p:nvPr/>
        </p:nvSpPr>
        <p:spPr>
          <a:xfrm>
            <a:off x="6659640" y="220500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72" name="Picture 10" descr="pe07663_"/>
          <p:cNvPicPr/>
          <p:nvPr/>
        </p:nvPicPr>
        <p:blipFill>
          <a:blip r:embed="rId1"/>
          <a:stretch/>
        </p:blipFill>
        <p:spPr>
          <a:xfrm>
            <a:off x="2987640" y="4869000"/>
            <a:ext cx="1897200" cy="187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468360" y="1916280"/>
            <a:ext cx="575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нвенция – это международный договор, соглашение по определенному вопросу с взаимными обязательствами.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75" name="Picture 6" descr="j0228297[1]"/>
          <p:cNvPicPr/>
          <p:nvPr/>
        </p:nvPicPr>
        <p:blipFill>
          <a:blip r:embed="rId1"/>
          <a:stretch/>
        </p:blipFill>
        <p:spPr>
          <a:xfrm>
            <a:off x="5940360" y="3424320"/>
            <a:ext cx="3024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50920" y="1916280"/>
            <a:ext cx="511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этом документе 54 статьи, и они касаются не только прав и свобод детей, но и обязательств государств по защите прав детей.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78" name="Picture 7" descr="a0a7bd4f2aa22e76299dd295577b0c20"/>
          <p:cNvPicPr/>
          <p:nvPr/>
        </p:nvPicPr>
        <p:blipFill>
          <a:blip r:embed="rId1"/>
          <a:stretch/>
        </p:blipFill>
        <p:spPr>
          <a:xfrm>
            <a:off x="5780160" y="1360440"/>
            <a:ext cx="2968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30:56Z</dcterms:created>
  <dc:creator>Зульфия</dc:creator>
  <dc:description/>
  <dc:language>en-US</dc:language>
  <cp:lastModifiedBy>Людмила</cp:lastModifiedBy>
  <dcterms:modified xsi:type="dcterms:W3CDTF">2014-12-04T15:03:18Z</dcterms:modified>
  <cp:revision>11</cp:revision>
  <dc:subject/>
  <dc:title>Слайд 1</dc:title>
</cp:coreProperties>
</file>