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C76-FDDB-4305-9031-CA4F0B49A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E29-F969-4B38-89E3-6E1C113A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6DCB2C-C280-40F7-85CE-C08B1C4C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BE6AF4-B43F-4D23-93A5-2E98C7CB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FFFE0B-C8BA-4D0F-A6AF-FE7F8679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684480-9BF1-453A-A412-3E246B80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3CEB83-26F3-4648-B44E-101E20E4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506EEF-E7A4-497B-9D8D-8608987A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46D7D5-E4CE-478C-8E38-E52DAD5B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59FD49-FB30-4FE4-A24E-7ED1D3E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9D081E-326A-446D-94CD-325D2F5AD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B758E8-2B60-4B07-B3C9-1175E651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4760-5EAF-48EC-A176-0776D534C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002866-2D78-4DAD-86AD-74B7470A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AD2A87-ABF3-4230-B68E-7EC768B5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E55DC-0B3C-47EC-881C-9532497D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8A2B0C-B13B-4B2C-B974-512FD8B2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BE2B03-A60C-4C4D-A75D-DD5CEF9F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72EA8F-7A7A-417E-9837-64046302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79878E-F92D-40A4-B0D6-E871090B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0ABB85-61B7-4F4C-BCB9-8F1E1C89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F54B43-4B35-4D70-8AFC-3D37A20D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9268F4-EE79-47F6-9068-AA209D187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E59-A059-4843-A0EC-FA40FF41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C1C6F9A-682B-4A46-B90F-AB80CE5C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FC8F2-FAC2-4511-9FB5-E2C42B85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E9359-85D7-4BEF-8471-740D7C8D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7C532-1E41-4B9A-9DD2-72A78575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8F42F-DB2E-46CF-8FD2-66EE2881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D6A00-1650-4FF5-8BEF-6D04D865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AA52E-385E-41B3-B3AD-1D51497F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BB366-6394-4701-B0CF-6CC57962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F9379-BE9F-48E6-8C54-78D50C46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7487C-582E-4877-958B-9168E0AF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CFE7-4A43-48FE-9863-10F0262B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51E75-CB1C-4139-A274-B5AF677A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CFD59-C5CB-49E7-980C-E90E6DE1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BA9DDA-AE61-42CE-A7F4-1891995A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F54695-7630-47A7-9CD7-5E04DBD1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EBFC0-9F9E-4FDE-A255-0E273FED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0020B-D46F-4FF6-BA3D-7152E857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674DE-49A0-4AD2-8186-38DCC1D6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B3FFB-16EA-449E-B7CF-1A42B76E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4DEB2-B3B3-414F-8190-AA31680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E56DD-CF74-4A41-B4A2-A752253F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9700-3533-4D1F-9539-EC3B6F73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0A83C-1203-48F5-B046-94D8CE4D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576C67-4930-4955-A9F5-0838D500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2DB79-E905-47FD-BB6C-EB33FBB8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06038-E0D3-4364-856E-EC5CA1BA4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65223-2822-4A4D-A4FF-5E5C164C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D8CE-CBAE-4DFE-A073-12955F4D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1C65-051D-4DFE-A26F-D0D193FE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3CBD-51C6-43F9-BD28-A8D578BA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4281-F662-4EB6-85EE-4C7E2324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3AAB-936D-4673-B431-62D3D8A1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A615-739E-4688-802F-4E8C1E29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4CE1-BF4A-4328-8BFE-85A9083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EBAC-7168-490E-AC0D-4CD1CA7F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5D8D-4918-4E5C-9CDC-8157942B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2A75-05AA-41B0-8B54-287C6D99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1ED3-863C-4B7B-8F72-BBC03627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298A3-82A1-4D14-A0E5-4BA1B461E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B49132-61B7-434B-957F-5FB9BE244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A6D46-7B02-4DCC-A2B1-F7FF5B40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0AEB5-4954-4BE5-A8FB-F5D33B54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C3C1D5-A118-4E36-92BB-85DA7681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C0F-B9B7-4B26-8ABF-649870C4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084318-3A7E-43F0-B22A-7013E235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6C6AA-7D8D-49C2-8131-42DCFBE5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F3C9B-24B2-478E-B352-C1C06D83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035C4-1615-441A-A30A-A35D2745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8FDD3-DBC7-4D2C-AB2C-BCC18101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2151A4-2723-4629-A351-274195F6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1B24AF-A637-45A1-AB3C-D713A4A9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E3BAD-1DD5-44D0-A818-4C53AF74A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39469-AB1A-45FD-A8F5-9A35039B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05D99-041F-4979-BE48-E05403DA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9FC-14AE-4F02-B43F-D64C2491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442E5-7765-4603-9DE9-3EA644C4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FAB2D-3E45-464A-8EE3-99AD0746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F945-4859-4310-9D7E-8D655C76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00F9D-DBC6-4956-B923-16472AEE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2C375-4E70-418F-BB22-256B7B99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E03BD-07F6-4A73-9652-377D44C4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32415-1F5B-49FB-884D-7472C91D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A563-6552-4D1E-9731-A2ECF34D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43D4-2836-4453-B550-BCE9E8C4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EBE82-CC9B-414F-B036-4F18C2D2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0BF-736F-4D9B-BD4E-684B26D7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5610-9843-427B-B55A-3A3F71DD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00E16-7E75-4489-B1D3-D4B12F29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4FDD3-5AE8-42A3-A049-446CE4E0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C27F9-366E-47BB-A723-B8CB1E65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54471-6F87-4C7F-BCD9-922241B1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1BD7B-614F-4E06-8325-988A7F83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86566-167E-4B6F-A4AA-AC49BC25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162D-6677-474B-9510-FB08AB74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FE397-9305-4532-8580-220AB4FB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07C87-455E-429C-A3F8-0D9FC9CF8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53B-7C01-441C-8763-541226D5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1BE80-6087-4366-AB47-C29F2086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C96F0-AEC1-4C99-8DB9-2DB7C2265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A23E4-541A-4DA9-95A6-BD898FF6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424B1-0BC0-4BD6-828F-738DB44E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CAB78-3F67-440D-BFA5-CBD31163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6B9C4-D771-495C-9D55-355CD204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27E21-DDCF-4FEE-B82E-D1026199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12A74-952F-4F99-B9C3-6791507F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74173-EDE8-49C0-A4FA-DD7ED93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0B054-E4C0-4509-A38A-89C64E6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C81-C44E-483C-B642-0613A858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38CE-013F-4BFF-A13D-906DDCA7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B75F2-43C4-4C63-BC7E-1A39A2B2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D5AB5-79AF-4D3C-B4F5-3D826E803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F2C27-41C4-44FD-B375-2ECC18FF3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C89909-D051-4066-974D-28C8D9C2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70D2B-2100-44FF-9BD7-D55802D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B2F526-ACCB-41B6-848B-22F830F6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3D006A-085B-406B-8C44-3877D04D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F4672-8375-4098-B7D6-CD577DEC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248A9-A1CD-4553-B169-0B8E70F5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6D4-9644-4D73-805D-BF3704AA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770742-BF46-4089-BF89-864C3EA8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4F2CB-3AB1-4604-932C-E3234F91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126D43-C5AB-4779-9E8F-BD7BF019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9D925-F4F5-4FCD-8C0D-28DEDFB4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4D1493-3E92-44E4-9B82-51C216F0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468DE-6E8F-4F8A-BB4E-75D75CC6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70836-123B-432D-B0F5-D26F307F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5CDB9-BD9C-4DC5-84FC-AD5F1388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EABB0-F8B2-4FDA-B3EF-748CCFE0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84AC6-1E60-4128-9424-600EF548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F6AA-5B15-4B48-9060-26ABE067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2B9A5-5B5C-41AA-AF78-4A9B2A94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26BF6-52CD-49E7-8E7B-12C10D09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A966E-0831-4DE2-9C34-7B8BA54F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647CF-F05D-465F-B768-5456944B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AE408-3E54-4253-B9F5-2E462290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4C33A-C39C-42D5-9C40-7F123FF8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8D282-B860-4691-97DD-8F0A3AD9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8AF983-4E85-46C5-97E0-3FB1794D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E2E0F6-8777-4A00-9696-E1E536BF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40A4EB-5918-4C20-B4CC-82267CF3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8EC8-B73F-42A3-9209-D1ADD71A325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58C6-4799-4669-8BD1-97365BDA3DD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2AC6-5DD0-466C-9A6E-1F27B116B4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BE5D-15C9-4384-B35A-0CDDFFDC4C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9D90-BE37-4396-86EF-6C863B8ABD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2723-2114-4881-97CF-7FB20397C96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B65C-DA6A-4C78-BD50-347C4B0F76C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28B3-75F8-4A74-9ED1-7C7D0B835D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0E0C-7DB4-4EC5-B100-E98A61EC2E1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F971-919E-4892-9473-F17E1737974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CB54-2EF3-4B55-8110-A3C3C8BF20F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FF00-08FD-4156-9CDA-EE8949B773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WordArt 5"/>
          <p:cNvSpPr txBox="1"/>
          <p:nvPr/>
        </p:nvSpPr>
        <p:spPr>
          <a:xfrm>
            <a:off x="611280" y="1989000"/>
            <a:ext cx="792144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668c4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Край, в котором ты живёшь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668c4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G:\1класс  по программе Критской\Музыка и ты картинки к урокам\0007-007-Belyj-tsvet-berjozka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gimn_russia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1" name="WordArt 5"/>
          <p:cNvSpPr txBox="1"/>
          <p:nvPr/>
        </p:nvSpPr>
        <p:spPr>
          <a:xfrm>
            <a:off x="539640" y="1989000"/>
            <a:ext cx="806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d2611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мн России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d2611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3" name="Содержимое 3" descr="камень.jpg"/>
          <p:cNvPicPr/>
          <p:nvPr/>
        </p:nvPicPr>
        <p:blipFill>
          <a:blip r:embed="rId1"/>
          <a:stretch/>
        </p:blipFill>
        <p:spPr>
          <a:xfrm>
            <a:off x="714240" y="25560"/>
            <a:ext cx="7643880" cy="66895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entury Schoolbook"/>
              </a:rPr>
              <a:t>ИЛЬЯ МУРОМЕЦ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5" name="Содержимое 3" descr="илюша.jpg"/>
          <p:cNvPicPr/>
          <p:nvPr/>
        </p:nvPicPr>
        <p:blipFill>
          <a:blip r:embed="rId1"/>
          <a:stretch/>
        </p:blipFill>
        <p:spPr>
          <a:xfrm>
            <a:off x="1571760" y="1428840"/>
            <a:ext cx="5000400" cy="52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Century Schoolbook"/>
              </a:rPr>
              <a:t>БОРИС И ГЛЕБ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7" name="Содержимое 3" descr="борис и глеб.jpg"/>
          <p:cNvPicPr/>
          <p:nvPr/>
        </p:nvPicPr>
        <p:blipFill>
          <a:blip r:embed="rId1"/>
          <a:stretch/>
        </p:blipFill>
        <p:spPr>
          <a:xfrm>
            <a:off x="2000160" y="1500120"/>
            <a:ext cx="4572000" cy="5357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entury Schoolbook"/>
              </a:rPr>
              <a:t>СПАСО – ПРЕОБРАЖЕНСКИЙ МОНАСТЫРЬ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09" name="Содержимое 3" descr="монастырь.jpg"/>
          <p:cNvPicPr/>
          <p:nvPr/>
        </p:nvPicPr>
        <p:blipFill>
          <a:blip r:embed="rId1"/>
          <a:stretch/>
        </p:blipFill>
        <p:spPr>
          <a:xfrm>
            <a:off x="500040" y="1428840"/>
            <a:ext cx="7858080" cy="52419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b68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f0"/>
                </a:solidFill>
                <a:latin typeface="Century Schoolbook"/>
              </a:rPr>
              <a:t>ГЕРБ МУРОМА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1" name="Содержимое 3" descr="герб мурома.jpg"/>
          <p:cNvPicPr/>
          <p:nvPr/>
        </p:nvPicPr>
        <p:blipFill>
          <a:blip r:embed="rId1"/>
          <a:stretch/>
        </p:blipFill>
        <p:spPr>
          <a:xfrm>
            <a:off x="2143080" y="1500120"/>
            <a:ext cx="4143600" cy="5208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13" name="Содержимое 3" descr="на стих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WordArt 5"/>
          <p:cNvSpPr txBox="1"/>
          <p:nvPr/>
        </p:nvSpPr>
        <p:spPr>
          <a:xfrm>
            <a:off x="826920" y="2247840"/>
            <a:ext cx="7921800" cy="19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668c4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Край, в котором ты живёшь»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668c4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Прямоугольник 3" descr=""/>
          <p:cNvPicPr/>
          <p:nvPr/>
        </p:nvPicPr>
        <p:blipFill>
          <a:blip r:embed="rId2"/>
          <a:stretch/>
        </p:blipFill>
        <p:spPr>
          <a:xfrm>
            <a:off x="2992320" y="55440"/>
            <a:ext cx="5823000" cy="1981440"/>
          </a:xfrm>
          <a:prstGeom prst="rect">
            <a:avLst/>
          </a:prstGeom>
          <a:ln w="0">
            <a:noFill/>
          </a:ln>
        </p:spPr>
      </p:pic>
      <p:pic>
        <p:nvPicPr>
          <p:cNvPr id="588" name="Прямоугольник 4" descr=""/>
          <p:cNvPicPr/>
          <p:nvPr/>
        </p:nvPicPr>
        <p:blipFill>
          <a:blip r:embed="rId3"/>
          <a:stretch/>
        </p:blipFill>
        <p:spPr>
          <a:xfrm>
            <a:off x="993600" y="2073240"/>
            <a:ext cx="6461280" cy="1981080"/>
          </a:xfrm>
          <a:prstGeom prst="rect">
            <a:avLst/>
          </a:prstGeom>
          <a:ln w="0">
            <a:noFill/>
          </a:ln>
        </p:spPr>
      </p:pic>
      <p:pic>
        <p:nvPicPr>
          <p:cNvPr id="589" name="Прямоугольник 5" descr=""/>
          <p:cNvPicPr/>
          <p:nvPr/>
        </p:nvPicPr>
        <p:blipFill>
          <a:blip r:embed="rId4"/>
          <a:stretch/>
        </p:blipFill>
        <p:spPr>
          <a:xfrm>
            <a:off x="1657440" y="4187880"/>
            <a:ext cx="514512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1366560" y="333000"/>
            <a:ext cx="777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2611c"/>
                </a:solidFill>
                <a:latin typeface="Century Schoolbook"/>
              </a:rPr>
              <a:t>	</a:t>
            </a:r>
            <a:r>
              <a:rPr b="1" lang="ru-RU" sz="2400" spc="-1" strike="noStrike">
                <a:solidFill>
                  <a:srgbClr val="d2611c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476360" y="333360"/>
            <a:ext cx="54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2611c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Род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Вижу чудное привол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Вижу нивы и поля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усское раздоль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усская зем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Вижу горы и дол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Вижу степи и луг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усские карт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одина мо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Слышу пенье жаворо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Слышу трели соловья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усская сторо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14752"/>
                </a:solidFill>
                <a:latin typeface="Arial"/>
              </a:rPr>
              <a:t>Это Родина моя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99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35120" y="112536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одной край – сердцу ра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ет в мире краше Родины наше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В своём доме и стены помогаю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Жить – Родине служи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Кто за Родину горой, тот истинный гер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Если дружба велика, будет Родина крепк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Если народ един, он непобеди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Народы нашей страны дружбой сильн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Родину-мать учись защищат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ерой – за Родину горой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Schoolbook"/>
              </a:rPr>
              <a:t>Главное в жизни – служить отчизн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3" name="WordArt 5"/>
          <p:cNvSpPr txBox="1"/>
          <p:nvPr/>
        </p:nvSpPr>
        <p:spPr>
          <a:xfrm>
            <a:off x="1476360" y="260280"/>
            <a:ext cx="65818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овицы о Родине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G:\1класс  по программе Критской\Музыка и ты картинки к урокам\0005-005-CHto-my-Rodinoj-zovjom.jpg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G:\1класс  по программе Критской\Музыка и ты картинки к урокам\0003-003-CHto-my-Rodinoj-zovjom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4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G:\1класс  по программе Критской\Музыка и ты картинки к урокам\0004-004-CHto-my-Rodinoj-zovjom.jpg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G:\1класс  по программе Критской\Музыка и ты картинки к урокам\0009-009-Moskva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G:\1класс  по программе Критской\Музыка и ты картинки к урокам\0006-006-Gerb-Rossi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5T11:37:12Z</dcterms:created>
  <dc:creator>Natali</dc:creator>
  <dc:description/>
  <dc:language>en-US</dc:language>
  <cp:lastModifiedBy>admin</cp:lastModifiedBy>
  <dcterms:modified xsi:type="dcterms:W3CDTF">2015-01-29T20:41:36Z</dcterms:modified>
  <cp:revision>27</cp:revision>
  <dc:subject/>
  <dc:title>Презентация PowerPoint</dc:title>
</cp:coreProperties>
</file>