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82-D946-467B-B433-EE5EDF9C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9A2-C341-43FE-9E51-AA7F8CD3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B5F7F-A1A4-46D3-BEC1-9E8E3C4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E798A-74F3-40A9-A0E1-3B7EAA9A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807B90-17D0-4860-BAF6-58555D88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FDD316-DC5C-490B-88DB-45E5972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F5F3F-EB89-44D2-A900-AFD90A9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1FBF9-B47E-4F5F-A701-FA0C5D74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E808B-0113-48F0-A13A-C305017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5BD96-8D41-4BCE-B02E-D0251D7F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137825-98F0-4C4E-AF5D-6787C7AB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DF0025-B187-4C7E-8F56-F570C741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E2C-BFF5-4B1B-9568-3F6FE792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CB6B3-D2A0-4197-A213-14AA875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8558E-F7F2-4E8E-9E70-7812257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2F04D7-7E86-46AD-9AFF-B705143B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C9499-0CEA-415F-8CC7-CA5D88E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9A418-28C7-4983-8E45-CF85AA6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2EAF6-1CF2-414B-A7B2-DB9257EA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BEC74-D8CF-4D17-AE9C-FBA4F09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4A3FA4-63CC-46C2-9C16-77E72279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27386-E429-4475-91D1-9EDFB3CE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092A8-74FD-4E49-AACF-11185597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8B8-3594-4027-83EF-3A564A99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6399F5-821D-4394-8DB8-4EAB2590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CFE8-BED3-471D-9125-7242A424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FBED-4AE2-4707-B33E-7D62F20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81EFD-95A3-4B83-8A61-F385AAD4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23197-483A-480F-B3CD-DD5ADAD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4C83-4665-44BE-86A8-42EA814E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B350-6A80-40CE-BDE4-49F726D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6DF0C-CF99-4C5C-8CEB-7EFF699C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AD167-77AF-4416-BFA3-A8A40B4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A50F3-B987-4D15-8F2C-9CFDB77C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99CC-A9C5-4E47-989D-98873038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AC8F-6511-43A1-95F3-4C4D6843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EBBE-A0F7-4396-A66B-08406D6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2614C-0328-4566-9167-70369806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BEE0-19E0-4AA2-B087-1BF76824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91866-83A0-4F01-825C-FB07B882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0D1BB-80AD-463A-851A-11C9BA2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4D66-3B5B-4E65-9DFA-D83A4264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CDD20-23BF-4F95-91D0-CB6BD73A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C02E-1F92-4F2A-A966-0370EDB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1B08B-38A5-411A-A7A9-0D9AA60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64F5-EE99-436E-B6B2-3BCE508D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0F3A5-B945-4AC4-9DCC-4450253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11236-9225-4CDE-AEE2-EBDB8BE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67BBB-798A-4CFC-9900-79DBA988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4CC9E-0857-4179-8225-C5606162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D4FD9-A7D4-42F8-9509-CBBE863F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89E-3246-435B-A5C8-E015BBE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DC7-28C0-44EC-A93F-258F622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AA95-7A08-424A-AC97-1DE22D9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85B7-F28E-4746-AFFF-FA0B929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C9B3-9F00-416D-85F9-F889AA1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184-BC4A-46A9-BC61-8646DDE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44FF-ADBB-4A84-AF66-3654382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3CDB-A447-4FB4-ACA6-F0AD16AC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5F15-3240-4EA6-8185-3EA3A43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F0A8-B005-4FC8-BACF-7DF71DF5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FE5-18F5-4ADA-8ED8-F166DB8A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C8C52-276E-4889-94D5-3F5B726C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7FCC2-CB60-44D9-9A35-A3EE84B5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9E349-4B40-42AF-A022-30DA1282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B609C-E508-4DE7-9275-13C7A42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2ECF5-2D63-4793-8D6E-5315F6DA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BAD-724C-47E8-9841-001D0B04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B24AB-AB98-46BD-BAA7-294B2B8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69996-3130-4D82-9C95-1877EC7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929AA-7A34-4636-B2AC-45A8ED0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F4527-C5C0-41D4-B658-0128A36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2356C-8720-415C-805E-DD7A8FD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FAB50-F970-46DB-9A49-D980227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EF837-0644-4262-8ACE-3D4D0716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5A26-ABC5-4A1C-912E-63F5A32D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FA7E-5178-4163-AA20-AEB5DFDE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34A4-9B82-40C2-810A-6B64F91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CBE-5F5F-48AC-8939-BB4F570A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744C-8968-4EB2-9C44-5C4A4B9B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874B-B76A-4E27-A948-2AC473C9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71351-B8C3-46AF-9835-196C4FB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4EFE-D2C1-439C-89FA-B98BE49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A7BE-8028-4C09-9AA7-B8F301B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18917-8620-4062-B730-C1BC8182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357A-835E-47BE-8D12-510C760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1BA0-F1A1-47D0-BABC-185E477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77AC-D9A7-42C0-82BD-BA8213B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3A1C-050F-4F3E-A045-85608FA1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AEE-4194-475A-A99C-5016438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E7AD-E1FA-4C9C-AEF3-9C278CF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79F6-2407-4751-BF98-57720450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6511-51F9-4FA5-A911-6026B722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C4A1-E568-433C-9900-BC316831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AE8D-2F0C-4670-A102-5AE8A1A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DBB8-B5EA-437B-8093-4DAB580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1C66D-0060-41E9-9BEE-20100D0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8FA12-FC88-48E5-8AEA-940F8FD6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2E4F9-DB12-45A0-B2E4-9B085ED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4A4AB-E394-4A8F-853E-1757EBBA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E96-7A2B-4FE5-8F7C-B1717983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7C48-C196-4624-83CE-820A418F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BAD3-CE71-44B3-81F0-BDB11492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F0E8-F40E-4436-B76F-642A52A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2AE0-A247-416F-A9AE-2377136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2FE92-8070-4566-91A0-BAF9A2B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231C-56CA-40C8-9C8D-FA535785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AEF8A-E84C-4855-AC8A-B2BDBFCF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4F75-6C1B-4962-9377-01942B5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517E-1DEA-4F70-AC76-DD3517C6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480A-9394-4EF6-81E8-6B474D3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1B7-9BA2-48FF-AB33-D450AC3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321B-E26F-40F7-AC14-363E0520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F96A-D230-4BFE-8199-59BDF6C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E326-391B-403C-9156-FF7A7D8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FAC62-F981-4CC6-BDC6-8480FAF5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5018F-05A8-4021-9023-6515D1B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97ED0-CD3E-4D95-834D-971D36F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8F309C-F91F-434B-A6BC-EA95E13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582A1-655D-4C73-A0A1-FBD1CB72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FD63C-4CC4-4355-B54F-CD48C9B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6B6C8-B087-4FC8-8BD6-F160186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8C8-892C-4221-A07A-608E377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293C8-04EF-4AB6-ADA6-7E446D1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98929-EBF0-49A3-A623-736EBF35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43C14-74B3-4270-BE75-FA3144D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00B38-71FB-4BCC-9700-FEA670F4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1C32C-BD91-473A-9864-70C8040C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1A791-E743-4236-A7B8-B5B55B2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BB96-782D-4FAF-958C-A6349CAC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4F5B-EAAB-4C74-9341-31E3156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1077D-4ACB-48C0-9A07-3309013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BB387-1746-48DB-8139-12ADA73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2EE-C477-4CDF-A0B2-F32CAAE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BC65-0425-4B7F-8B6D-5346F722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517E-D4C9-4C13-A485-9DFCAB5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4BD8-1482-42B7-945F-A89059B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0142-2143-4D15-9165-4E1C152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3837-242A-411C-A610-3CF924A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79ECF-04C0-4FD5-AD74-D2B58283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93A7-7D0D-481D-8BBA-F026BB97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B75E5B-20D3-44D4-BBA5-03A1A9E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4EB02B-4463-4F63-BD74-08794A7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DC61AB-82DE-426D-85A8-F5A0EDE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17E-B729-4AA6-A774-22C4F69C5A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B955-7002-4C29-AD96-9AF5402731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984F-255F-4913-9B46-917C7E7DEF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84B-C3D3-4E52-B637-7DEF22E176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A5CF-EBB2-46B7-98E8-11D2738D74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B5E6-EE6A-4B95-9869-BA01FA60F3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9F2-B4BB-4AEF-AE13-9AD6389A25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0FBB-4C2B-4848-9A7E-FF0C6AC6A6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E136-4769-455B-9496-CAA6DE834D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572-47DB-4933-9131-89CDCF179F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3609-FB17-40CD-AED8-11DF82B94B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7DD-E838-4059-AE19-BB44F966AA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5"/>
          <p:cNvSpPr txBox="1"/>
          <p:nvPr/>
        </p:nvSpPr>
        <p:spPr>
          <a:xfrm>
            <a:off x="611280" y="1989000"/>
            <a:ext cx="792144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668c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рай, в котором ты живёшь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668c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G:\1класс  по программе Критской\Музыка и ты картинки к урокам\0007-007-Belyj-tsvet-berjozka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gimn_russia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9640" y="1989000"/>
            <a:ext cx="806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d2611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мн Росси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d2611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3" name="Содержимое 3" descr="камень.jpg"/>
          <p:cNvPicPr/>
          <p:nvPr/>
        </p:nvPicPr>
        <p:blipFill>
          <a:blip r:embed="rId1"/>
          <a:stretch/>
        </p:blipFill>
        <p:spPr>
          <a:xfrm>
            <a:off x="714240" y="25560"/>
            <a:ext cx="7643880" cy="6689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entury Schoolbook"/>
              </a:rPr>
              <a:t>ИЛЬЯ МУРОМЕЦ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Содержимое 3" descr="илюша.jpg"/>
          <p:cNvPicPr/>
          <p:nvPr/>
        </p:nvPicPr>
        <p:blipFill>
          <a:blip r:embed="rId1"/>
          <a:stretch/>
        </p:blipFill>
        <p:spPr>
          <a:xfrm>
            <a:off x="1571760" y="1428840"/>
            <a:ext cx="50004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Century Schoolbook"/>
              </a:rPr>
              <a:t>БОРИС И ГЛЕБ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7" name="Содержимое 3" descr="борис и глеб.jpg"/>
          <p:cNvPicPr/>
          <p:nvPr/>
        </p:nvPicPr>
        <p:blipFill>
          <a:blip r:embed="rId1"/>
          <a:stretch/>
        </p:blipFill>
        <p:spPr>
          <a:xfrm>
            <a:off x="2000160" y="150012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entury Schoolbook"/>
              </a:rPr>
              <a:t>СПАСО – ПРЕОБРАЖЕНСКИЙ МОНАСТЫР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9" name="Содержимое 3" descr="монастырь.jpg"/>
          <p:cNvPicPr/>
          <p:nvPr/>
        </p:nvPicPr>
        <p:blipFill>
          <a:blip r:embed="rId1"/>
          <a:stretch/>
        </p:blipFill>
        <p:spPr>
          <a:xfrm>
            <a:off x="500040" y="1428840"/>
            <a:ext cx="7858080" cy="524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Century Schoolbook"/>
              </a:rPr>
              <a:t>ГЕРБ МУРОМ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1" name="Содержимое 3" descr="герб мурома.jpg"/>
          <p:cNvPicPr/>
          <p:nvPr/>
        </p:nvPicPr>
        <p:blipFill>
          <a:blip r:embed="rId1"/>
          <a:stretch/>
        </p:blipFill>
        <p:spPr>
          <a:xfrm>
            <a:off x="2143080" y="1500120"/>
            <a:ext cx="414360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3" name="Содержимое 3" descr="на стих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5"/>
          <p:cNvSpPr txBox="1"/>
          <p:nvPr/>
        </p:nvSpPr>
        <p:spPr>
          <a:xfrm>
            <a:off x="826920" y="2247840"/>
            <a:ext cx="7921800" cy="19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668c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рай, в котором ты живёшь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668c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Прямоугольник 3" descr=""/>
          <p:cNvPicPr/>
          <p:nvPr/>
        </p:nvPicPr>
        <p:blipFill>
          <a:blip r:embed="rId2"/>
          <a:stretch/>
        </p:blipFill>
        <p:spPr>
          <a:xfrm>
            <a:off x="2992320" y="55440"/>
            <a:ext cx="5823000" cy="1981440"/>
          </a:xfrm>
          <a:prstGeom prst="rect">
            <a:avLst/>
          </a:prstGeom>
          <a:ln w="0">
            <a:noFill/>
          </a:ln>
        </p:spPr>
      </p:pic>
      <p:pic>
        <p:nvPicPr>
          <p:cNvPr id="588" name="Прямоугольник 4" descr=""/>
          <p:cNvPicPr/>
          <p:nvPr/>
        </p:nvPicPr>
        <p:blipFill>
          <a:blip r:embed="rId3"/>
          <a:stretch/>
        </p:blipFill>
        <p:spPr>
          <a:xfrm>
            <a:off x="993600" y="2073240"/>
            <a:ext cx="6461280" cy="1981080"/>
          </a:xfrm>
          <a:prstGeom prst="rect">
            <a:avLst/>
          </a:prstGeom>
          <a:ln w="0">
            <a:noFill/>
          </a:ln>
        </p:spPr>
      </p:pic>
      <p:pic>
        <p:nvPicPr>
          <p:cNvPr id="589" name="Прямоугольник 5" descr=""/>
          <p:cNvPicPr/>
          <p:nvPr/>
        </p:nvPicPr>
        <p:blipFill>
          <a:blip r:embed="rId4"/>
          <a:stretch/>
        </p:blipFill>
        <p:spPr>
          <a:xfrm>
            <a:off x="1657440" y="4187880"/>
            <a:ext cx="5145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36656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76360" y="333360"/>
            <a:ext cx="54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611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Род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чудное привол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нивы и пол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ое раздол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ая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горы и до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степи и луг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ие карт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один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Слышу пенье жавор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Слышу трели соловь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ая стор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одина мо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99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35120" y="112536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одной край – сердцу ра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т в мире краше Родины наш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 своём доме и стены помогаю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ить – Родине служи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то за Родину горой, тот истинный гер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 дружба велика, будет Родина креп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 народ един, он непобеди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роды нашей страны дружбой силь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одину-мать учись защищ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ерой – за Родину гор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лавное в жизни – служить отчиз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WordArt 5"/>
          <p:cNvSpPr txBox="1"/>
          <p:nvPr/>
        </p:nvSpPr>
        <p:spPr>
          <a:xfrm>
            <a:off x="1476360" y="260280"/>
            <a:ext cx="6581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ы о Родине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G:\1класс  по программе Критской\Музыка и ты картинки к урокам\0005-005-CHto-my-Rodinoj-zovjom.jpg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G:\1класс  по программе Критской\Музыка и ты картинки к урокам\0003-003-CHto-my-Rodinoj-zovjom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G:\1класс  по программе Критской\Музыка и ты картинки к урокам\0004-004-CHto-my-Rodinoj-zovjom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G:\1класс  по программе Критской\Музыка и ты картинки к урокам\0009-009-Moskva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G:\1класс  по программе Критской\Музыка и ты картинки к урокам\0006-006-Gerb-Ross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37:12Z</dcterms:created>
  <dc:creator>Natali</dc:creator>
  <dc:description/>
  <dc:language>en-US</dc:language>
  <cp:lastModifiedBy>admin</cp:lastModifiedBy>
  <dcterms:modified xsi:type="dcterms:W3CDTF">2015-01-29T20:41:36Z</dcterms:modified>
  <cp:revision>27</cp:revision>
  <dc:subject/>
  <dc:title>Презентация PowerPoint</dc:title>
</cp:coreProperties>
</file>