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CDD-C5A7-41D2-9265-6A15CE45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8BD-CAD0-46E8-B695-C7F828F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10-839A-45B5-9DC2-B8DC79D8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B18-4D59-4D06-9C11-E99CC6E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B1BE0-7812-4343-AFCC-569EE63F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49434-8F73-4BE8-8D73-09667474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7FC2-C372-43BA-8B19-CED0CA4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A5E5-C734-4D86-9FA8-5673598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42B3E-C918-4950-8E40-E2358D5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C7EF-5355-4198-B64C-936A9B6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C8A8-5624-437A-83C0-EEDE4D7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732-2560-4D0C-A4FD-AD81E751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7A76-0E2D-48D3-B22C-180BE250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4AFA6-5C5B-4407-A92D-3BDD01A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C0C67-A86A-4814-9F24-15E9FDA4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9753D-16F3-415D-B143-35483F72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669E-0BDD-414E-9736-1FE66C8B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F8A-1288-4149-9B30-9263FAE0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F41-E7EC-4DF5-955A-D3742662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664-BFCB-44B3-AE95-916606A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86E-8A8C-49C0-A6CC-B63C7CD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06E-A577-48A3-8E8B-23BE8D8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159-25F5-489E-9692-88F83A9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078-1B1B-4B4F-8F7D-EF6F1A6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2CA4-0974-4AC3-8997-1564243FD8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9E1-754F-49B8-B724-601823D40E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hk-sch1902.narod.ru/str3/rimgogol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vlintour.ru/wp-content/uploads/2012/02/piter5dn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terburge.ru/pictures/adm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b/3/27/941/27941283_1214510905_11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bugaga.ru/uploads/posts/1178528866_spb_8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7_&#1084;&#1072;&#1103;" TargetMode="External"/><Relationship Id="rId3" Type="http://schemas.openxmlformats.org/officeDocument/2006/relationships/hyperlink" Target="http://ru.wikipedia.org/wiki/1703_&#1075;&#1086;&#1076;" TargetMode="External"/><Relationship Id="rId4" Type="http://schemas.openxmlformats.org/officeDocument/2006/relationships/hyperlink" Target="http://ru.wikipedia.org/wiki/&#1055;&#1105;&#1090;&#1088;_I_&#1042;&#1077;&#1083;&#1080;&#1082;&#1080;&#1081;" TargetMode="External"/><Relationship Id="rId5" Type="http://schemas.openxmlformats.org/officeDocument/2006/relationships/hyperlink" Target="http://ru.wikipedia.org/wiki/&#1056;&#1091;&#1089;&#1089;&#1082;&#1086;-&#1096;&#1074;&#1077;&#1076;&#1089;&#1082;&#1080;&#1077;_&#1074;&#1086;&#1081;&#1085;&#1099;" TargetMode="External"/><Relationship Id="rId6" Type="http://schemas.openxmlformats.org/officeDocument/2006/relationships/hyperlink" Target="http://ru.wikipedia.org/wiki/&#1064;&#1074;&#1077;&#1094;&#1080;&#1103;" TargetMode="External"/><Relationship Id="rId7" Type="http://schemas.openxmlformats.org/officeDocument/2006/relationships/hyperlink" Target="http://ru.wikipedia.org/wiki/&#1048;&#1085;&#1075;&#1077;&#1088;&#1084;&#1072;&#1085;&#1083;&#1072;&#1085;&#1076;&#1080;&#1103;" TargetMode="External"/><Relationship Id="rId8" Type="http://schemas.openxmlformats.org/officeDocument/2006/relationships/hyperlink" Target="http://ru.wikipedia.org/wiki/&#1055;&#1077;&#1090;&#1088;&#1086;&#1087;&#1072;&#1074;&#1083;&#1086;&#1074;&#1089;&#1082;&#1072;&#1103;_&#1082;&#1088;&#1077;&#1087;&#1086;&#1089;&#1090;&#1100;" TargetMode="External"/><Relationship Id="rId9" Type="http://schemas.openxmlformats.org/officeDocument/2006/relationships/hyperlink" Target="http://ru.wikipedia.org/wiki/&#1057;&#1072;&#1085;&#1082;&#1090;-&#1055;&#1080;&#1090;&#1077;&#1088;-&#1041;&#1091;&#1088;&#1093;" TargetMode="External"/><Relationship Id="rId10" Type="http://schemas.openxmlformats.org/officeDocument/2006/relationships/hyperlink" Target="http://ru.wikipedia.org/wiki/&#1055;&#1105;&#1090;&#1088;_I_&#1042;&#1077;&#1083;&#1080;&#1082;&#1080;&#1081;" TargetMode="External"/><Relationship Id="rId11" Type="http://schemas.openxmlformats.org/officeDocument/2006/relationships/hyperlink" Target="http://ru.wikipedia.org/wiki/&#1040;&#1087;&#1086;&#1089;&#1090;&#1086;&#1083;_&#1055;&#1105;&#1090;&#1088;" TargetMode="External"/><Relationship Id="rId12" Type="http://schemas.openxmlformats.org/officeDocument/2006/relationships/hyperlink" Target="http://ru.wikipedia.org/wiki/1720_&#1075;&#1086;&#1076;" TargetMode="External"/><Relationship Id="rId13" Type="http://schemas.openxmlformats.org/officeDocument/2006/relationships/hyperlink" Target="http://ru.wikipedia.org/wiki/&#1057;&#1072;&#1085;&#1082;&#1090;-&#1055;&#1080;&#1090;&#1077;&#1088;-&#1041;&#1091;&#1088;&#1093;" TargetMode="External"/><Relationship Id="rId14" Type="http://schemas.openxmlformats.org/officeDocument/2006/relationships/hyperlink" Target="http://ru.wikipedia.org/wiki/&#1057;&#1072;&#1085;&#1082;&#1090;-&#1055;&#1077;&#1090;&#1077;&#1088;&#1073;&#1091;&#1088;&#1075;" TargetMode="External"/><Relationship Id="rId15" Type="http://schemas.openxmlformats.org/officeDocument/2006/relationships/hyperlink" Target="http://ru.wikipedia.org/wiki/&#1053;&#1077;&#1084;&#1077;&#1094;&#1082;&#1080;&#1081;_&#1103;&#1079;&#1099;&#1082;" TargetMode="External"/><Relationship Id="rId16" Type="http://schemas.openxmlformats.org/officeDocument/2006/relationships/hyperlink" Target="http://ru.wikipedia.org/wiki/&#1055;&#1080;&#1090;&#1077;&#1088;_(&#1088;&#1072;&#1079;&#1075;&#1086;&#1074;&#1086;&#1088;&#1085;&#1086;&#1077;_&#1085;&#1072;&#1079;&#1074;&#1072;&#1085;&#1080;&#1077;_&#1057;&#1072;&#1085;&#1082;&#1090;-&#1055;&#1077;&#1090;&#1077;&#1088;&#1073;&#1091;&#1088;&#1075;&#1072;)" TargetMode="External"/><Relationship Id="rId17" Type="http://schemas.openxmlformats.org/officeDocument/2006/relationships/hyperlink" Target="http://upload.wikimedia.org/wikipedia/commons/7/72/Peter_der-Grosse_1838.jpg" TargetMode="Externa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allpaper.goodfon.ru/wallpaper/previews-middle/6820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seng.org/uploads/posts/2009-04/1238841795_s0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i.ua/photo/images/pic/4/9/4990494_97b69597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4416.vkontakte.ru/u84345271/-14/x_2c232fc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teboss.ru/wp-content/uploads/2011/09/1100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lidaym.ru/images/img_tour/tour_4171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9.radikal.ru/i083/1010/7e/315ac9023184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50;&#1088;&#1077;&#1081;&#1089;&#1077;&#1088;_&#1040;&#1074;&#1088;&#1086;&#1088;&#1072;" TargetMode="External"/><Relationship Id="rId5" Type="http://schemas.openxmlformats.org/officeDocument/2006/relationships/hyperlink" Target="http://ru.wikipedia.org/wiki/&#1054;&#1082;&#1090;&#1103;&#1073;&#1088;&#1100;&#1089;&#1082;&#1072;&#1103;_&#1088;&#1077;&#1074;&#1086;&#1083;&#1102;&#1094;&#1080;&#1103;_1917_&#1075;&#1086;&#1076;&#1072;_&#1074;_&#1056;&#1086;&#1089;&#1089;&#1080;&#1080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2000" y="189000"/>
            <a:ext cx="698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род на не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Картинка 44 из 397413"/>
          <p:cNvPicPr/>
          <p:nvPr/>
        </p:nvPicPr>
        <p:blipFill>
          <a:blip r:embed="rId2"/>
          <a:stretch/>
        </p:blipFill>
        <p:spPr>
          <a:xfrm>
            <a:off x="395280" y="2133720"/>
            <a:ext cx="842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13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89000"/>
            <a:ext cx="371952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83 из 415491"/>
          <p:cNvPicPr/>
          <p:nvPr/>
        </p:nvPicPr>
        <p:blipFill>
          <a:blip r:embed="rId4"/>
          <a:stretch/>
        </p:blipFill>
        <p:spPr>
          <a:xfrm>
            <a:off x="3635280" y="2708280"/>
            <a:ext cx="352908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788000" y="476280"/>
            <a:ext cx="3695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мятники го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9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332000" y="4437000"/>
            <a:ext cx="66675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мятник Петру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 названием Медный всад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60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713800" cy="633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63640" y="333360"/>
            <a:ext cx="55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дмиралтей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724280"/>
            <a:ext cx="687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91 из 397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0"/>
            <a:ext cx="6408720" cy="307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108 из 4154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35280" y="3284640"/>
            <a:ext cx="6265800" cy="318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11280" y="278136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го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Картинка 193 из 415491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Картинка 2 из 179158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-326160"/>
            <a:ext cx="518328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6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(27) м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703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усским царем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етром 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отвоеванны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шведо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землях называвших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Ингерманландие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была заложена крепост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анкт-Питер-Бур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так же стал называться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ород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Название было выбран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Петром 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честь святог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апостола Петр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Первоначально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Sankt-Piter-Burc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было имитацией голландского произношени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Sint-Petersburg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так как Пётр жил и учился некоторое время в Нидерландах.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720 году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названи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Санкт-Питер-Бур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няется 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Санкт-Петербург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(близкое к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нем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ankt Petersburg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 Кроме официального названия в народе появляется также сокращённое, на русский манер «Питер-град» или просто «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Питер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Картинка 3 из 4998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80000" y="404640"/>
            <a:ext cx="338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49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нкт-Петербург занимает территорию площадью 1439 км², лежащую на берегах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обережье Невской губы Финского залива Балтийского моря, а также на многочисленных островах Невской дельты. Протяженность Невы в пределах Санкт-Петербурга: 32 километра. Территорию города пересекают около ста рек, ручьев и проток, а также более двадцати каналов. В черте Санкт-Петербурга насчитывается 112 естественных и искусственных водоемов. Большая часть города расположена в Приневской низменности. Центральные районы находятся на высоте от одного до пяти метров над уровнем моря. Окраины располагаются на Дудергофских, Пулковских и Парголовских высотах. Высшая точка – Дудергофские высоты в районе Красного Села (176 метров)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Картинка 29 из 397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3429000"/>
            <a:ext cx="5076720" cy="322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95280" y="4437000"/>
            <a:ext cx="2990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-на -кров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2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47628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енатская площад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Картинка 102 из 405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228600">
            <a:off x="826560" y="260280"/>
            <a:ext cx="770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имний дворец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130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260280"/>
            <a:ext cx="8280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одной мо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132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116000" y="5373720"/>
            <a:ext cx="74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нтаны Санкт-Петербур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Картинка 139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39640" y="333360"/>
            <a:ext cx="810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нкт-Петербург - с высоты птичьего полё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3 из 18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497800" cy="509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 rot="10831800">
            <a:off x="1433160" y="5424840"/>
            <a:ext cx="62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Крейсер Аврор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стал символом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Октябрьской револю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1:31:46Z</dcterms:created>
  <dc:creator>User</dc:creator>
  <dc:description/>
  <dc:language>en-US</dc:language>
  <cp:lastModifiedBy>User</cp:lastModifiedBy>
  <dcterms:modified xsi:type="dcterms:W3CDTF">2012-05-06T12:47:03Z</dcterms:modified>
  <cp:revision>9</cp:revision>
  <dc:subject/>
  <dc:title>Слайд 1</dc:title>
</cp:coreProperties>
</file>