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96D-4A40-4B3A-98D9-55CDF54A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A84-7DE8-43D3-98B9-97606317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589-540E-40D9-9132-4150B06A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A3C-30F2-4FFA-906A-A265DE35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2A2A1-5F71-4448-9B90-4A41D0B8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AAB4C-3421-4C16-9A16-A679F5E2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39DA6-03CE-4EF9-AAE3-66CEB4CF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2DD50-1B1B-4120-9A98-F893FD84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AB5C2-5319-4F41-8EE7-77987200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0A698-FF3D-47E3-974D-6F682F24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3E36C-26FA-48EA-819A-50AD87D3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8A9-5386-4A51-B289-1F2882E3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3BECD-D1C6-4774-9F4A-E7182C64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A8605-45B3-4658-B616-7F7AC85D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CBE2D-F80D-4496-B173-C709D629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01A7B-70BB-4752-A4EE-9AA43BF2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F8789-0406-4CD9-844E-58071362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D7F-0A09-4467-BE9A-72663746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2D2-5DCF-4A46-811B-27B6A411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2FE-6EE4-4FA5-BC78-EDF85B5C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F63-3AE4-4784-A07E-F489A73D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F43-8113-486E-AE2C-E19563C0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9C1-4C18-4FD2-BB2E-BE1354A0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6C9-770B-4535-A1C2-7CC5C7BF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1A0C-38E1-47C5-9A1B-BF8FD10919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B54E-9C30-4389-8191-E238BDF08B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hk-sch1902.narod.ru/str3/rimgogol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avlintour.ru/wp-content/uploads/2012/02/piter5dn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peterburge.ru/pictures/adm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1.liveinternet.ru/images/attach/b/3/27/941/27941283_1214510905_11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www.bugaga.ru/uploads/posts/1178528866_spb_8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27_&#1084;&#1072;&#1103;" TargetMode="External"/><Relationship Id="rId3" Type="http://schemas.openxmlformats.org/officeDocument/2006/relationships/hyperlink" Target="http://ru.wikipedia.org/wiki/1703_&#1075;&#1086;&#1076;" TargetMode="External"/><Relationship Id="rId4" Type="http://schemas.openxmlformats.org/officeDocument/2006/relationships/hyperlink" Target="http://ru.wikipedia.org/wiki/&#1055;&#1105;&#1090;&#1088;_I_&#1042;&#1077;&#1083;&#1080;&#1082;&#1080;&#1081;" TargetMode="External"/><Relationship Id="rId5" Type="http://schemas.openxmlformats.org/officeDocument/2006/relationships/hyperlink" Target="http://ru.wikipedia.org/wiki/&#1056;&#1091;&#1089;&#1089;&#1082;&#1086;-&#1096;&#1074;&#1077;&#1076;&#1089;&#1082;&#1080;&#1077;_&#1074;&#1086;&#1081;&#1085;&#1099;" TargetMode="External"/><Relationship Id="rId6" Type="http://schemas.openxmlformats.org/officeDocument/2006/relationships/hyperlink" Target="http://ru.wikipedia.org/wiki/&#1064;&#1074;&#1077;&#1094;&#1080;&#1103;" TargetMode="External"/><Relationship Id="rId7" Type="http://schemas.openxmlformats.org/officeDocument/2006/relationships/hyperlink" Target="http://ru.wikipedia.org/wiki/&#1048;&#1085;&#1075;&#1077;&#1088;&#1084;&#1072;&#1085;&#1083;&#1072;&#1085;&#1076;&#1080;&#1103;" TargetMode="External"/><Relationship Id="rId8" Type="http://schemas.openxmlformats.org/officeDocument/2006/relationships/hyperlink" Target="http://ru.wikipedia.org/wiki/&#1055;&#1077;&#1090;&#1088;&#1086;&#1087;&#1072;&#1074;&#1083;&#1086;&#1074;&#1089;&#1082;&#1072;&#1103;_&#1082;&#1088;&#1077;&#1087;&#1086;&#1089;&#1090;&#1100;" TargetMode="External"/><Relationship Id="rId9" Type="http://schemas.openxmlformats.org/officeDocument/2006/relationships/hyperlink" Target="http://ru.wikipedia.org/wiki/&#1057;&#1072;&#1085;&#1082;&#1090;-&#1055;&#1080;&#1090;&#1077;&#1088;-&#1041;&#1091;&#1088;&#1093;" TargetMode="External"/><Relationship Id="rId10" Type="http://schemas.openxmlformats.org/officeDocument/2006/relationships/hyperlink" Target="http://ru.wikipedia.org/wiki/&#1055;&#1105;&#1090;&#1088;_I_&#1042;&#1077;&#1083;&#1080;&#1082;&#1080;&#1081;" TargetMode="External"/><Relationship Id="rId11" Type="http://schemas.openxmlformats.org/officeDocument/2006/relationships/hyperlink" Target="http://ru.wikipedia.org/wiki/&#1040;&#1087;&#1086;&#1089;&#1090;&#1086;&#1083;_&#1055;&#1105;&#1090;&#1088;" TargetMode="External"/><Relationship Id="rId12" Type="http://schemas.openxmlformats.org/officeDocument/2006/relationships/hyperlink" Target="http://ru.wikipedia.org/wiki/1720_&#1075;&#1086;&#1076;" TargetMode="External"/><Relationship Id="rId13" Type="http://schemas.openxmlformats.org/officeDocument/2006/relationships/hyperlink" Target="http://ru.wikipedia.org/wiki/&#1057;&#1072;&#1085;&#1082;&#1090;-&#1055;&#1080;&#1090;&#1077;&#1088;-&#1041;&#1091;&#1088;&#1093;" TargetMode="External"/><Relationship Id="rId14" Type="http://schemas.openxmlformats.org/officeDocument/2006/relationships/hyperlink" Target="http://ru.wikipedia.org/wiki/&#1057;&#1072;&#1085;&#1082;&#1090;-&#1055;&#1077;&#1090;&#1077;&#1088;&#1073;&#1091;&#1088;&#1075;" TargetMode="External"/><Relationship Id="rId15" Type="http://schemas.openxmlformats.org/officeDocument/2006/relationships/hyperlink" Target="http://ru.wikipedia.org/wiki/&#1053;&#1077;&#1084;&#1077;&#1094;&#1082;&#1080;&#1081;_&#1103;&#1079;&#1099;&#1082;" TargetMode="External"/><Relationship Id="rId16" Type="http://schemas.openxmlformats.org/officeDocument/2006/relationships/hyperlink" Target="http://ru.wikipedia.org/wiki/&#1055;&#1080;&#1090;&#1077;&#1088;_(&#1088;&#1072;&#1079;&#1075;&#1086;&#1074;&#1086;&#1088;&#1085;&#1086;&#1077;_&#1085;&#1072;&#1079;&#1074;&#1072;&#1085;&#1080;&#1077;_&#1057;&#1072;&#1085;&#1082;&#1090;-&#1055;&#1077;&#1090;&#1077;&#1088;&#1073;&#1091;&#1088;&#1075;&#1072;)" TargetMode="External"/><Relationship Id="rId17" Type="http://schemas.openxmlformats.org/officeDocument/2006/relationships/hyperlink" Target="http://upload.wikimedia.org/wikipedia/commons/7/72/Peter_der-Grosse_1838.jpg" TargetMode="External"/><Relationship Id="rId18" Type="http://schemas.openxmlformats.org/officeDocument/2006/relationships/image" Target="../media/image3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allpaper.goodfon.ru/wallpaper/previews-middle/68206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oseng.org/uploads/posts/2009-04/1238841795_s0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.i.ua/photo/images/pic/4/9/4990494_97b69597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4416.vkontakte.ru/u84345271/-14/x_2c232fc4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teboss.ru/wp-content/uploads/2011/09/1100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olidaym.ru/images/img_tour/tour_4171_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39.radikal.ru/i083/1010/7e/315ac9023184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ru.wikipedia.org/wiki/&#1050;&#1088;&#1077;&#1081;&#1089;&#1077;&#1088;_&#1040;&#1074;&#1088;&#1086;&#1088;&#1072;" TargetMode="External"/><Relationship Id="rId5" Type="http://schemas.openxmlformats.org/officeDocument/2006/relationships/hyperlink" Target="http://ru.wikipedia.org/wiki/&#1054;&#1082;&#1090;&#1103;&#1073;&#1088;&#1100;&#1089;&#1082;&#1072;&#1103;_&#1088;&#1077;&#1074;&#1086;&#1083;&#1102;&#1094;&#1080;&#1103;_1917_&#1075;&#1086;&#1076;&#1072;_&#1074;_&#1056;&#1086;&#1089;&#1089;&#1080;&#1080;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332000" y="189000"/>
            <a:ext cx="6985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род на не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Картинка 44 из 397413"/>
          <p:cNvPicPr/>
          <p:nvPr/>
        </p:nvPicPr>
        <p:blipFill>
          <a:blip r:embed="rId2"/>
          <a:stretch/>
        </p:blipFill>
        <p:spPr>
          <a:xfrm>
            <a:off x="395280" y="2133720"/>
            <a:ext cx="8424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Картинка 13 из 4027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89000"/>
            <a:ext cx="3719520" cy="424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183 из 415491"/>
          <p:cNvPicPr/>
          <p:nvPr/>
        </p:nvPicPr>
        <p:blipFill>
          <a:blip r:embed="rId4"/>
          <a:stretch/>
        </p:blipFill>
        <p:spPr>
          <a:xfrm>
            <a:off x="3635280" y="2708280"/>
            <a:ext cx="3529080" cy="3809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788000" y="476280"/>
            <a:ext cx="3695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мятники горо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9 из 4027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332000" y="4437000"/>
            <a:ext cx="66675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мятник Петру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д названием Медный всад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Картинка 60 из 4027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8713800" cy="6330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763640" y="333360"/>
            <a:ext cx="554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дмиралтейств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4724280"/>
            <a:ext cx="687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Картинка 91 из 3974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0"/>
            <a:ext cx="6408720" cy="3071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108 из 4154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835280" y="3284640"/>
            <a:ext cx="6265800" cy="318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611280" y="2781360"/>
            <a:ext cx="79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 горо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Картинка 193 из 415491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Картинка 2 из 179158"/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-326160"/>
            <a:ext cx="5183280" cy="69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н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6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(27) ма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703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русским царем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Петром I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на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отвоеванных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у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шведов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землях называвшихся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Ингерманландие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, была заложена крепость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Санкт-Питер-Бурх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, так же стал называться и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город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Название было выбрано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Петром I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честь святого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апостола Петр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Первоначальное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Sankt-Piter-Burch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было имитацией голландского произношения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Sint-Petersburg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, так как Пётр жил и учился некоторое время в Нидерландах. В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1720 году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название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Санкт-Питер-Бурх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меняется на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Санкт-Петербург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(близкое к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нем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de-DE" sz="2000" spc="-1" strike="noStrike">
                <a:solidFill>
                  <a:srgbClr val="ffffff"/>
                </a:solidFill>
                <a:latin typeface="Tahoma"/>
              </a:rPr>
              <a:t>Sankt Petersburg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. Кроме официального названия в народе появляется также сокращённое, на русский манер «Питер-град» или просто «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Питер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Картинка 3 из 4998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80000" y="404640"/>
            <a:ext cx="33847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149400"/>
            <a:ext cx="88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нкт-Петербург занимает территорию площадью 1439 км², лежащую на берегах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в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побережье Невской губы Финского залива Балтийского моря, а также на многочисленных островах Невской дельты. Протяженность Невы в пределах Санкт-Петербурга: 32 километра. Территорию города пересекают около ста рек, ручьев и проток, а также более двадцати каналов. В черте Санкт-Петербурга насчитывается 112 естественных и искусственных водоемов. Большая часть города расположена в Приневской низменности. Центральные районы находятся на высоте от одного до пяти метров над уровнем моря. Окраины располагаются на Дудергофских, Пулковских и Парголовских высотах. Высшая точка – Дудергофские высоты в районе Красного Села (176 метров)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Картинка 29 из 3974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0000" y="3429000"/>
            <a:ext cx="5076720" cy="322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95280" y="4437000"/>
            <a:ext cx="2990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-на -кров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Картинка 2 из 4027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68360" y="476280"/>
            <a:ext cx="806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енатская площад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Картинка 102 из 405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 rot="228600">
            <a:off x="826560" y="260280"/>
            <a:ext cx="770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имний дворец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Картинка 130 из 509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95280" y="260280"/>
            <a:ext cx="82803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водной мо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Картинка 132 из 509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116000" y="5373720"/>
            <a:ext cx="7416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нтаны Санкт-Петербург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Картинка 139 из 509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39640" y="333360"/>
            <a:ext cx="810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нкт-Петербург - с высоты птичьего полё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Картинка 3 из 18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8497800" cy="509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V="1" rot="10831800">
            <a:off x="1433160" y="5424840"/>
            <a:ext cx="62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Крейсер Аврор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стал символом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Октябрьской револю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1:31:46Z</dcterms:created>
  <dc:creator>User</dc:creator>
  <dc:description/>
  <dc:language>en-US</dc:language>
  <cp:lastModifiedBy>User</cp:lastModifiedBy>
  <dcterms:modified xsi:type="dcterms:W3CDTF">2012-05-06T12:47:03Z</dcterms:modified>
  <cp:revision>9</cp:revision>
  <dc:subject/>
  <dc:title>Слайд 1</dc:title>
</cp:coreProperties>
</file>