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AFAB-F258-4E9B-941F-156A53854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F163-3D98-4C35-971C-E61E7E9F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3248-9E44-42B6-879F-8EEC0149C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7DBB-7E16-489F-A67F-D7D4E5F89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85926-612B-4E2F-B3D2-09AC93A81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1E0F-AFFA-4AB8-9A9E-7D1F7AB8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5D0B-2880-453E-8ADF-9ED09F31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398B-778C-4D31-AA72-56729322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C963-F65A-48EB-AEA3-54861A18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2012-9934-45A3-8731-2AAF155C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F950-D610-4E14-AA64-85ACDA35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17F2-09DA-421E-81F5-1CD18C8C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A165-B8EF-49CC-A40E-E83F9D2C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0597-1BC0-4FA7-AE38-A902AF89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1C30-28A5-41ED-BB43-8C99B8EE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1335-3617-4C70-B58B-2DA7BA243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733B-8A01-40C3-A439-3D2C25C7C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0F854-2F2D-4496-B5FB-92B63C7F9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52C95-8644-4010-9913-5043BA1C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82177-C256-4784-B548-56D827A3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884BA-6789-46ED-B825-3A2315DE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C5072-0D83-4621-9799-DA4DE82E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24E6-9A80-472B-97C5-5635B838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530B7-9A47-42FF-A46E-C675DA5A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52323-BD1E-4735-944F-43918B9F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C52BC-91BC-486C-AF30-0778CEA8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1E75D-8F8C-4C4F-B13C-463825E9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A3CF8-6067-49A8-B7C9-529EEB96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F5F20-1A7A-4EAE-9FA7-D0EC19888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B2606-320A-4B42-BB5C-CED780FF3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2F5B3-7234-4487-B487-8454F3764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25B4C-7464-4D0F-A0D7-B4A1CFB2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FC315-99D4-4579-8FBC-B9BF2690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F6F7-756C-4C1C-ACF0-A395E015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95C4C-9398-4415-97D7-D8BA1277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C0B7D-2E4C-4051-8A96-CBEEC433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BA8D4-79AC-4B3C-AA7E-7349EB19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4909A-7AB1-40D4-AF6E-F4F5F8F7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ACFAC-E07A-4E1B-B643-400153DB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FE8EB-1AF7-4120-9DC5-B140E4B6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91508-61D5-4CF9-981E-7955ED93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EACF4-6F2B-48EC-9218-7BC045305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A4623-2CA1-47D1-99DD-C448FADAA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7D05-5603-4C16-90FB-90AE94B5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0742-87E6-48D0-B27C-0E429E0E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BA15-4FE1-4589-843D-AA391454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7264-09CA-4E89-A44F-7D94E8D7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7BBA-4EE0-449A-B76B-E6A1DF97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3532-BB47-43B8-8F32-596E656B3EBE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2936-4A23-4994-A273-0B694DD6914E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2153-171C-45BD-97BA-A20C3D289640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A1F4-384D-4F66-A288-BBE74C01C515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28036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Прямоугольник 1" descr=""/>
          <p:cNvPicPr/>
          <p:nvPr/>
        </p:nvPicPr>
        <p:blipFill>
          <a:blip r:embed="rId1"/>
          <a:stretch/>
        </p:blipFill>
        <p:spPr>
          <a:xfrm>
            <a:off x="2182680" y="1116000"/>
            <a:ext cx="475452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9880" y="2446200"/>
            <a:ext cx="363528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94320" y="731520"/>
            <a:ext cx="4016160" cy="489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28600" indent="-18252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Наступила весна! Пробуждается природа после зимы, солнце светит ярко-ярко, тает снег, скоро вернуться в лес птицы из теплых краев, наполнив лес пением. Вот-вот запоют птицы, зацветут цветы, а лес оденется в зеленую листву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Весной снег начинает таять на солнце и превращается в воду; ручьи наполняют озера водой; прилетают птицы; появляются почки на деревьях из которых вырастают маленькие листики; птицы вьют гнезда, а в лесу появляются насекомые и весь растительный и животный мир пробуждается от спячки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76400" y="3497400"/>
            <a:ext cx="33876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28080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1"/>
          <p:cNvSpPr/>
          <p:nvPr/>
        </p:nvSpPr>
        <p:spPr>
          <a:xfrm>
            <a:off x="2195640" y="189000"/>
            <a:ext cx="4537080" cy="64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Народные приметы на весну: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Вода на лугу — сено в стогу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Весною день упустишь — годом не вернешь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Рано затеет — долго не растает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Ранняя весна — признак того, что летом будет много непогожих дней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Когда весенняя вода пойдет, а лед держится, то это к плохому году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Если весной снег тает быстро, а вода бежит дружно — к мокрому лету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Весною как грязь, так и хлебушка даст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Перелетная птица течет стаями — к дружной весне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Птицы вьют гнезда на солнечной стороне — к холодному лету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Когда весною появляется много мышей — это предвещает голодный год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Если встретишь весной белого зайца, то снег обязательно выпадет еще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Весной запашку затянешь — ножки протянешь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В великий четверток полнолуние — весной большая вода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Когда весенний лед по затонам и озерам не тронется, а потонет, то год будет для людей тяжелый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Река вскрылась в постный день — коровы будут недойные</a:t>
            </a: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0T15:37:16Z</dcterms:created>
  <dc:creator>Windows User</dc:creator>
  <dc:description/>
  <dc:language>en-US</dc:language>
  <cp:lastModifiedBy>Windows User</cp:lastModifiedBy>
  <dcterms:modified xsi:type="dcterms:W3CDTF">2014-05-20T16:34:13Z</dcterms:modified>
  <cp:revision>5</cp:revision>
  <dc:subject/>
  <dc:title>Презентация PowerPoint</dc:title>
</cp:coreProperties>
</file>