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BE35-EFE4-47AD-93CC-66AB36020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649C-7947-48A7-9086-44F3A300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AD3D-71B8-4E49-8DA8-324AF1709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A13E-B57F-4A1F-83C0-278EA903A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83D7-0113-40F8-AEEC-AE4FAE2D0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892A-6EA8-466E-BE7C-913656F7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DF3C-0478-42D0-91DE-7DAE0506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35EE-1894-4F51-8A7B-589D893E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B501-7F92-4D3B-9171-62880FAB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8419-EC01-4FB0-8009-CF5B854B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5A9F-C1C4-49EA-8E93-B27C4A0B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9595-5338-415F-BA64-117AF563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2A09-4DF8-4C3C-BCF1-C4F3E994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9E7C-F96B-407B-83BF-00E8087E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1682-AB52-45E1-A043-4277FEC6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8199-766D-471D-A541-AF827196D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E196-1665-4878-8D7E-B5783703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A61F6-6B40-4B49-9751-C44F70CD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B5BC9-7E5A-4FE4-B7AF-3C380BCF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B5111-DD31-41B9-AD9D-A75F9509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B501E-C115-4F34-B69D-8A38E7E4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2B858-5E28-4E1D-958C-A1C580BC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3F33-58DB-4D98-8E33-AA220A51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1997B-4234-42D7-8EBA-8939017E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ECE53-DEFA-41AE-B3F3-7C4184AB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576CD-A20C-41D1-93D5-3E7318B9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0DB11-2ECD-418B-90F6-689532CA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E2B4B-277D-4BCD-8A86-49D3CDBF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46007-A186-4AD3-8252-1F0E8BA9B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DAEDE-B20D-4937-B641-E95A715A4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207D7-C13C-4217-B5CF-A18BA20DA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E6FE1-8FCA-41F2-899E-57049D18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3CDB1-D18C-45A7-AADD-4BBD9192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005C-E9BF-4B3C-B920-9892BD60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1BCF5-CF30-4302-9ED4-2208706C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4D857-726B-4025-B126-F0BCD19D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5CFC4-68C8-4FA1-8525-380E5916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482D5-C12F-45A0-98B4-E89C1A9D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94E02-1C4A-4896-9134-341B9AFB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F9717-51A2-4DAB-B929-35C8D8FF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88338-E665-4B38-B7AF-EFFA43AC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BE893-ED52-4177-AD98-E5DB9424A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10F4E-CC1C-46E8-802B-E2FEBB19F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4B5A-FE78-4805-B2E3-7DE82B6E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B679-F16D-431B-BBC4-DA898689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9B2E-EF8F-4E37-94F3-666ED058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A907-109A-40BA-8176-09F37CCC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30F2-CE9A-4F83-888D-867D2964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9797-A673-46ED-B8AF-19D441AAAADF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462F-4A92-4A6B-A016-4896A1B64E3D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AEA9-68F6-4706-93D4-50F0F5D557A9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E706-EA3B-4623-88AA-891FC4FE6683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28036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Прямоугольник 1" descr=""/>
          <p:cNvPicPr/>
          <p:nvPr/>
        </p:nvPicPr>
        <p:blipFill>
          <a:blip r:embed="rId1"/>
          <a:stretch/>
        </p:blipFill>
        <p:spPr>
          <a:xfrm>
            <a:off x="2182680" y="1116000"/>
            <a:ext cx="475452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9880" y="2446200"/>
            <a:ext cx="363528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94320" y="731520"/>
            <a:ext cx="4016160" cy="489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8600" indent="-18252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Наступила весна! Пробуждается природа после зимы, солнце светит ярко-ярко, тает снег, скоро вернуться в лес птицы из теплых краев, наполнив лес пением. Вот-вот запоют птицы, зацветут цветы, а лес оденется в зеленую листву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Весной снег начинает таять на солнце и превращается в воду; ручьи наполняют озера водой; прилетают птицы; появляются почки на деревьях из которых вырастают маленькие листики; птицы вьют гнезда, а в лесу появляются насекомые и весь растительный и животный мир пробуждается от спячки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76400" y="3497400"/>
            <a:ext cx="33876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28080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2195640" y="189000"/>
            <a:ext cx="4537080" cy="64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Народные приметы на весну: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Вода на лугу — сено в стогу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Весною день упустишь — годом не вернешь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Рано затеет — долго не растает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Ранняя весна — признак того, что летом будет много непогожих дней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Когда весенняя вода пойдет, а лед держится, то это к плохому году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Если весной снег тает быстро, а вода бежит дружно — к мокрому лету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Весною как грязь, так и хлебушка даст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Перелетная птица течет стаями — к дружной весне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Птицы вьют гнезда на солнечной стороне — к холодному лету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Когда весною появляется много мышей — это предвещает голодный год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Если встретишь весной белого зайца, то снег обязательно выпадет еще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Весной запашку затянешь — ножки протянешь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В великий четверток полнолуние — весной большая вода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Когда весенний лед по затонам и озерам не тронется, а потонет, то год будет для людей тяжелый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Река вскрылась в постный день — коровы будут недойные</a:t>
            </a: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0T15:37:16Z</dcterms:created>
  <dc:creator>Windows User</dc:creator>
  <dc:description/>
  <dc:language>en-US</dc:language>
  <cp:lastModifiedBy>Windows User</cp:lastModifiedBy>
  <dcterms:modified xsi:type="dcterms:W3CDTF">2014-05-20T16:34:13Z</dcterms:modified>
  <cp:revision>5</cp:revision>
  <dc:subject/>
  <dc:title>Презентация PowerPoint</dc:title>
</cp:coreProperties>
</file>