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121-AA8A-4CC9-8EAD-645AFE87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1A2-D29A-4E98-9D18-E6E5EAC8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410-4091-43CE-B3F9-2460AAAD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00B-6E4C-4296-9A0D-C86593CD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623-D699-416B-A4D2-A5F13E1D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010-7B06-4610-97BD-E8051562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E07-F579-44DD-BCA0-4FA45534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F6A-FDBE-4494-8024-580A896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039-E86F-4401-A22C-30AAEF9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380-8C6F-4243-A155-06689E2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BB4-78E6-4746-850A-1EA1822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0B2-100F-4C05-A30F-9549D41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B68A-2AE7-47EA-837A-926A8964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2924280"/>
            <a:ext cx="7488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треугольник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476280"/>
            <a:ext cx="7775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страна 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 rot="258600">
            <a:off x="1230480" y="199800"/>
            <a:ext cx="67910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достающий кораб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4941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342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1916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941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3357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84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989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501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93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 4 №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хняя строка – 1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жняя строка – 2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5640" y="260280"/>
            <a:ext cx="7632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о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  примеро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79640" y="115920"/>
            <a:ext cx="5329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адача"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920" y="2133720"/>
            <a:ext cx="338472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и назов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чертеж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треугольников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797360"/>
            <a:ext cx="3816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32360" y="2997360"/>
            <a:ext cx="576360" cy="1800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2997360"/>
            <a:ext cx="3240000" cy="1800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08720" y="2997360"/>
            <a:ext cx="647640" cy="1800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56360" y="3789360"/>
            <a:ext cx="792000" cy="1008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64000" y="234936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716360" y="4797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56360" y="4869000"/>
            <a:ext cx="2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020000" y="321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604360" y="4941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66"/>
                </a:solidFill>
                <a:latin typeface="Arial"/>
              </a:rPr>
              <a:t>Вывод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66"/>
                </a:solidFill>
                <a:latin typeface="Arial"/>
              </a:rPr>
              <a:t>д/з с 4 №13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03280" y="47628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4360" y="692280"/>
            <a:ext cx="7991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закончен</a:t>
            </a:r>
            <a:endParaRPr b="0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19640" y="4221000"/>
            <a:ext cx="1850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ё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19700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2060640"/>
            <a:ext cx="170532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105264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98900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119700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98900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203640" y="21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773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300720" y="191628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213000"/>
            <a:ext cx="936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2852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60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8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3141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869000"/>
            <a:ext cx="1057320" cy="113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5734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797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501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734080"/>
            <a:ext cx="120168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3573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32000" y="378900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645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04000" y="342864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537372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00360" y="5734080"/>
            <a:ext cx="934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435640" y="5589360"/>
            <a:ext cx="1081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5589720"/>
            <a:ext cx="5580000" cy="107928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6021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5950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602136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6308640"/>
            <a:ext cx="43164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6308640"/>
            <a:ext cx="50472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250920" y="189000"/>
            <a:ext cx="1441440" cy="35272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2064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62064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0526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557360"/>
            <a:ext cx="502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023800">
            <a:off x="7235640" y="3573000"/>
            <a:ext cx="1657080" cy="2880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400536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532720" y="400536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4292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64400">
            <a:off x="8172000" y="4869000"/>
            <a:ext cx="503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94920" y="47628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97164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19280" y="580536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843280" y="587664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7885080" y="3789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8459280" y="3789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5975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ы на меня, ты на 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 всех нас посмо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 нас всего, у нас вс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 нас всего по 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ри стороны и три уг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 столько же верш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 трижды трудные д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ы трижды соверш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се в нашем городе друз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ружнее- не сыск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ы треугольников сем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с каждый должен зн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340000" y="404640"/>
            <a:ext cx="5400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Узнает очень прост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Меня любой школьни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Я тупо-прямо-остр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угольный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ТРЕУГОЛЬНИК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292640"/>
            <a:ext cx="5580000" cy="1079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86900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5084640"/>
            <a:ext cx="43200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59280" y="5084640"/>
            <a:ext cx="50472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50920" y="189000"/>
            <a:ext cx="1441440" cy="35272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2064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62064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0526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557360"/>
            <a:ext cx="502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1023800">
            <a:off x="7235640" y="3573000"/>
            <a:ext cx="1657080" cy="2880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00536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32720" y="400536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4292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64400">
            <a:off x="8172000" y="4869000"/>
            <a:ext cx="503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4920" y="47628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97164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360" y="458136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556000" y="458100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7885080" y="3789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8459280" y="3789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42920" y="549360"/>
            <a:ext cx="7345440" cy="34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итаем о треугольника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781360"/>
            <a:ext cx="1562040" cy="3217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149720"/>
            <a:ext cx="3240000" cy="1706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708600">
            <a:off x="5748120" y="2255400"/>
            <a:ext cx="2638440" cy="20541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66"/>
                </a:solidFill>
                <a:latin typeface="Arial"/>
              </a:rPr>
              <a:t>Задач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№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14172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716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87640" y="4005360"/>
            <a:ext cx="324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25 к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40360" y="1916280"/>
            <a:ext cx="230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5к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16000" y="134136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0км/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971640" y="2708280"/>
            <a:ext cx="27367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08000" y="2708280"/>
            <a:ext cx="20876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484360" y="2349360"/>
            <a:ext cx="237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25-85 =     (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40:60=       (        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0920" y="260280"/>
            <a:ext cx="8281800" cy="448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Жител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страны    Геометри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передвигают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на       таки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корабля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3645000"/>
            <a:ext cx="172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45:16Z</dcterms:created>
  <dc:creator>k1User</dc:creator>
  <dc:description/>
  <dc:language>en-US</dc:language>
  <cp:lastModifiedBy>k1User</cp:lastModifiedBy>
  <dcterms:modified xsi:type="dcterms:W3CDTF">2010-01-24T13:53:07Z</dcterms:modified>
  <cp:revision>2</cp:revision>
  <dc:subject/>
  <dc:title>Слайд 1</dc:title>
</cp:coreProperties>
</file>