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763-63E1-4087-95DF-9C4DA4F8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4AF-0014-456D-B7C5-64D2C02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C4E-31F9-4337-A7B5-9602FA3A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361-AE65-4CC2-862F-3B649CB5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BAA-520F-4F7A-9997-61E6411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74A-8E22-48F9-BAB9-3896D16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E35-E1D7-42C5-B7D4-B57EB57A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7F6-7A4C-4696-9CFA-EEE0A577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929-32EC-41C0-A28D-FAFB762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C0E-1C90-4F2D-B39A-C1A7717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C09-B4C8-4575-9C58-A4E1076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592-2DF4-40A0-BF91-AEE17B7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4A9F-17A0-4D75-ABB4-AC6FDD4B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2924280"/>
            <a:ext cx="7488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треугольник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476280"/>
            <a:ext cx="7775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страна 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 rot="258600">
            <a:off x="1230480" y="199800"/>
            <a:ext cx="67910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достающий кораб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4941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342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989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1916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941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3357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84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989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501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3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 4 №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хняя строка – 1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жняя строка – 2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5640" y="260280"/>
            <a:ext cx="763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о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ение   пример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79640" y="115920"/>
            <a:ext cx="5329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адача"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920" y="2133720"/>
            <a:ext cx="338472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и назов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чертеж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треугольников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797360"/>
            <a:ext cx="3816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32360" y="2997360"/>
            <a:ext cx="57636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2997360"/>
            <a:ext cx="324000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720" y="2997360"/>
            <a:ext cx="647640" cy="1800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56360" y="3789360"/>
            <a:ext cx="792000" cy="100800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64000" y="234936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360" y="4797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56360" y="4869000"/>
            <a:ext cx="2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020000" y="321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604360" y="4941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Arial"/>
              </a:rPr>
              <a:t>Вывод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Arial"/>
              </a:rPr>
              <a:t>д/з с 4 №13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03280" y="47628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4360" y="692280"/>
            <a:ext cx="7991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закончен</a:t>
            </a:r>
            <a:endParaRPr b="0" lang="en-US" sz="1800" spc="1" strike="noStrike">
              <a:ln w="0">
                <a:noFill/>
              </a:ln>
              <a:solidFill>
                <a:srgbClr val="99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19640" y="4221000"/>
            <a:ext cx="18507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ё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97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2060640"/>
            <a:ext cx="17053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05264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989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1197000"/>
            <a:ext cx="17049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98900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03640" y="21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773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300720" y="191628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213000"/>
            <a:ext cx="936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285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8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31417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1057320" cy="113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5734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797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5013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734080"/>
            <a:ext cx="120168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3573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32000" y="378900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3645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04000" y="342864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537372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700360" y="5734080"/>
            <a:ext cx="934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435640" y="5589360"/>
            <a:ext cx="1081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5589720"/>
            <a:ext cx="5580000" cy="107928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6021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5950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6021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6308640"/>
            <a:ext cx="43164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6308640"/>
            <a:ext cx="50472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250920" y="189000"/>
            <a:ext cx="1441440" cy="35272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206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62064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0526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502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023800">
            <a:off x="7235640" y="3573000"/>
            <a:ext cx="1657080" cy="288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4005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532720" y="400536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4292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64400">
            <a:off x="8172000" y="4869000"/>
            <a:ext cx="503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94920" y="476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97164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19280" y="580536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843280" y="587664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7885080" y="3789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459280" y="3789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5975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ы на меня, ты на 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 всех нас посмо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 нас всего, у нас вс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 нас всего по 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ри стороны и три у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 столько же верш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 трижды трудные д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ы трижды соверш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се в нашем городе друз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ружнее- не сыск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ы треугольников сем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с каждый должен зн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340000" y="404640"/>
            <a:ext cx="5400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Узнает очень прос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Меня любой школьни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Я тупо-прямо-остр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угольны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ТРЕУГОЛЬНИК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292640"/>
            <a:ext cx="5580000" cy="1079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86900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5084640"/>
            <a:ext cx="43200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59280" y="5084640"/>
            <a:ext cx="504720" cy="14472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50920" y="189000"/>
            <a:ext cx="1441440" cy="35272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206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62064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0526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557360"/>
            <a:ext cx="50292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1023800">
            <a:off x="7235640" y="3573000"/>
            <a:ext cx="1657080" cy="288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005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32720" y="400536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4292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64400">
            <a:off x="8172000" y="4869000"/>
            <a:ext cx="503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94920" y="476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97164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360" y="458136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56000" y="458100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7885080" y="3789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459280" y="3789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42920" y="549360"/>
            <a:ext cx="7345440" cy="34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итаем о треугольника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781360"/>
            <a:ext cx="1562040" cy="3217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149720"/>
            <a:ext cx="3240000" cy="1706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708600">
            <a:off x="5748120" y="2255400"/>
            <a:ext cx="2638440" cy="20541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66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№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314172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71628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87640" y="4005360"/>
            <a:ext cx="324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25 к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40360" y="191628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5к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16000" y="134136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0км/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971640" y="2708280"/>
            <a:ext cx="273672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08000" y="2708280"/>
            <a:ext cx="2087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84360" y="2349360"/>
            <a:ext cx="237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5-85 =     (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40:60=       (        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0920" y="260280"/>
            <a:ext cx="8281800" cy="448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Жител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страны    Геометри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передвигаютс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на       таки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корабля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364500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45:16Z</dcterms:created>
  <dc:creator>k1User</dc:creator>
  <dc:description/>
  <dc:language>en-US</dc:language>
  <cp:lastModifiedBy>k1User</cp:lastModifiedBy>
  <dcterms:modified xsi:type="dcterms:W3CDTF">2010-01-24T13:53:07Z</dcterms:modified>
  <cp:revision>2</cp:revision>
  <dc:subject/>
  <dc:title>Слайд 1</dc:title>
</cp:coreProperties>
</file>