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42E-A49B-4750-8FCC-452D06EF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13A-0C5E-432E-A9C5-51C1C583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44A-21AC-4D7B-AD30-273C57B1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005-F7FA-4CA0-BABA-39440A38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FE29-AF87-46B1-A034-0FC34D1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D329-C56C-454E-AC24-01D9072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8907-E0F8-45A5-B880-C1A3438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A07B-724D-4AFF-B09A-85140DCB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C8D4-379F-40A3-82E7-A73A28A3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A30C-79C8-4C51-9FF2-D7D48BC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528-F2E8-441C-BB9E-430C107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9B1-F669-4F92-9BE8-22D3106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6E4-9940-4712-9D03-777750D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5283-3282-4A76-AC4D-AB64DF7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3673-2D5A-420E-A783-36464B0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D47-5115-4574-B71A-63034ED2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612-0C12-47E5-A652-64BC46EE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471-0BCD-4250-84E0-FCE6246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C6E-C904-4D30-B309-B3D61804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32E-F7B0-4D7E-AB7B-69338C0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554-170F-4BB6-BDB6-F26EAC2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757-E6DE-4702-881B-86F9677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B7F-8FA8-4824-907A-7EA6D27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8DC-D4FA-4565-ADFD-3F9D26E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D20C-2120-48C3-9F05-F27A699A0F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CEDA-AEC1-4AF9-90B0-3E5BF08877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f22e"/>
                </a:solidFill>
                <a:latin typeface="Rockwell Extra Bold"/>
              </a:rPr>
              <a:t>Боевые орден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Neizvestnyy ispolnitel Boevye ordena (mp3top100.net).mp3" descr=""/>
          <p:cNvPicPr/>
          <p:nvPr/>
        </p:nvPicPr>
        <p:blipFill>
          <a:blip r:embed="rId1"/>
          <a:stretch/>
        </p:blipFill>
        <p:spPr>
          <a:xfrm>
            <a:off x="8458200" y="76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освобождение г. Праг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освобождение Праги» награждались военнослужащие частей Советской Армии, НКВД и НКГБ, которые принимали непосредственное участие в освобождении г. Пра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Медаль За освобождение Праги"/>
          <p:cNvPicPr/>
          <p:nvPr/>
        </p:nvPicPr>
        <p:blipFill>
          <a:blip r:embed="rId1"/>
          <a:stretch/>
        </p:blipFill>
        <p:spPr>
          <a:xfrm>
            <a:off x="5181480" y="1523880"/>
            <a:ext cx="2530440" cy="49532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освобождение Варшав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освобождение Варшавы» награждались непосредственные участники боевой операции по освобождению Варшавы, а именно: лица воинского состава частей, соединений Советской Армии, НКВД и НКГБ, участвовавшие в освобождении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8" descr="Медаль За освобождение Варшавы"/>
          <p:cNvPicPr/>
          <p:nvPr/>
        </p:nvPicPr>
        <p:blipFill>
          <a:blip r:embed="rId1"/>
          <a:stretch/>
        </p:blipFill>
        <p:spPr>
          <a:xfrm>
            <a:off x="4952880" y="1523880"/>
            <a:ext cx="2671920" cy="48006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Уша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Ушакова награждались военнослужащие Военно-Морского Флота, которые проявили мужество, храбрость, отвагу в боях на мор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8" descr="Медаль Ушакова"/>
          <p:cNvPicPr/>
          <p:nvPr/>
        </p:nvPicPr>
        <p:blipFill>
          <a:blip r:embed="rId1"/>
          <a:stretch/>
        </p:blipFill>
        <p:spPr>
          <a:xfrm>
            <a:off x="4572000" y="1752480"/>
            <a:ext cx="3786120" cy="40388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взятие Берлин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взятие Берлина» награждались военнослужащие Советской Армии, Военно-Морского Флота и войск НКВД, которые принимали непосредственное участие в штурме и взятии Берл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8" descr="Медаль За взятие Берлина"/>
          <p:cNvPicPr/>
          <p:nvPr/>
        </p:nvPicPr>
        <p:blipFill>
          <a:blip r:embed="rId1"/>
          <a:stretch/>
        </p:blipFill>
        <p:spPr>
          <a:xfrm>
            <a:off x="5410080" y="1676520"/>
            <a:ext cx="2495520" cy="4647960"/>
          </a:xfrm>
          <a:prstGeom prst="rect">
            <a:avLst/>
          </a:prstGeom>
          <a:ln w="0">
            <a:noFill/>
          </a:ln>
        </p:spPr>
      </p:pic>
    </p:spTree>
  </p:cSld>
  <p:transition advTm="120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Слав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рден Слав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вручался тем бойцам красной армии, которые во время боевых действий проявили себя как мужественные, храбрые и бесстрашные воины, вставшие на защиту Советской родины в таких ситуациях: если боец во время боя или в критической ситуации проявил себя как храбрец, ворвавшийся первым в расположение против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6" descr="Орден Славы"/>
          <p:cNvPicPr/>
          <p:nvPr/>
        </p:nvPicPr>
        <p:blipFill>
          <a:blip r:embed="rId1"/>
          <a:stretch/>
        </p:blipFill>
        <p:spPr>
          <a:xfrm>
            <a:off x="4572000" y="1752480"/>
            <a:ext cx="22510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Орден Славы"/>
          <p:cNvPicPr/>
          <p:nvPr/>
        </p:nvPicPr>
        <p:blipFill>
          <a:blip r:embed="rId2"/>
          <a:stretch/>
        </p:blipFill>
        <p:spPr>
          <a:xfrm>
            <a:off x="6781680" y="1752480"/>
            <a:ext cx="2181240" cy="441972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Муже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но статусу ордена, им награждаются лица, проявившие самоотверженность, мужество и отвагу, проявленные при спасении людей, охране общественного порядка, в борьбе с преступностью, во время стихийных бедств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Орден Мужества"/>
          <p:cNvPicPr/>
          <p:nvPr/>
        </p:nvPicPr>
        <p:blipFill>
          <a:blip r:embed="rId1"/>
          <a:stretch/>
        </p:blipFill>
        <p:spPr>
          <a:xfrm>
            <a:off x="4952880" y="1523880"/>
            <a:ext cx="2676600" cy="48006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Лен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Ленина награждаются как отдельные трудящиеся, так и целые коллективы, и общественные организации СССР за особые заслуги в построении социа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9" descr="Орден Ленина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7624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Кутуз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награждаются командиры Красной Армии за победный план операции, в результате которой врагу нанесено поражение, при сохранении боеспособности войс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7" descr="Орден Кутузова"/>
          <p:cNvPicPr/>
          <p:nvPr/>
        </p:nvPicPr>
        <p:blipFill>
          <a:blip r:embed="rId1"/>
          <a:stretch/>
        </p:blipFill>
        <p:spPr>
          <a:xfrm>
            <a:off x="4724280" y="1905120"/>
            <a:ext cx="3838680" cy="393372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Сувор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даль Сувор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вручается военнослужащим за проявленное мужество, храбрость и отвагу в боевых действиях при защите Родины и интересов Отечеств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0" descr="Медаль Суворова"/>
          <p:cNvPicPr/>
          <p:nvPr/>
        </p:nvPicPr>
        <p:blipFill>
          <a:blip r:embed="rId1"/>
          <a:stretch/>
        </p:blipFill>
        <p:spPr>
          <a:xfrm>
            <a:off x="4648320" y="1752480"/>
            <a:ext cx="4209840" cy="39420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«Красная Звезд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рада вручалась военнослужащим Красной Армии, как рядовым, так и начальствующему составу. А также целым войсковым частям, кораблям, боевым соединениям, предприятиям, коллективам за выдающиеся заслуги в мероприятиях по обороне Род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2" descr="Орден Красная Звезда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«Красное Знамя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«Красное Знамя» награждались военнослужащие и граждане, проявившие храбрость, и мужество непосредственно при боевой деятель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Орден Красное Знамя"/>
          <p:cNvPicPr/>
          <p:nvPr/>
        </p:nvPicPr>
        <p:blipFill>
          <a:blip r:embed="rId1"/>
          <a:stretch/>
        </p:blipFill>
        <p:spPr>
          <a:xfrm>
            <a:off x="4800600" y="1371600"/>
            <a:ext cx="3914640" cy="49910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«За Отваг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"За отвагу" награждается весь воинский состав от солдат и матросов, включая весь офицерский состав, за проявленное мужество и отвагу на полях боевых действий, при охране государственной границы, а также при борьбе со шпионами и диверсант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Медаль За отвагу"/>
          <p:cNvPicPr/>
          <p:nvPr/>
        </p:nvPicPr>
        <p:blipFill>
          <a:blip r:embed="rId1"/>
          <a:stretch/>
        </p:blipFill>
        <p:spPr>
          <a:xfrm>
            <a:off x="5334120" y="1447920"/>
            <a:ext cx="2333520" cy="49528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6:43:10Z</dcterms:created>
  <dc:creator>Денис</dc:creator>
  <dc:description/>
  <dc:language>en-US</dc:language>
  <cp:lastModifiedBy>Крылова Надежда Валерьевна</cp:lastModifiedBy>
  <dcterms:modified xsi:type="dcterms:W3CDTF">2015-01-20T13:54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