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BAFC-8C03-4B79-98E9-6FEB7D73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5C2-44AF-47BB-9628-D039EF2E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2E4-93C0-4548-B742-4E610DEE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67BF-50F4-463A-844B-94783DED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FFB1-A951-45BA-AEDC-B89F026F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364E-0D47-4797-98D6-6493EAB7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F818-D3B1-4AC7-A1E2-039A96DF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C41E-1609-47A4-A892-CB3B568D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AFF6-6B1C-4E38-837B-36CF9391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406F-ADA8-4571-A9F6-F201A0E7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2A94-3300-4C8B-9A77-C1DA909B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E0B-8CDF-4146-881A-5413317E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251C-9458-44D7-BCA9-84210D7A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825B-2BDB-497A-8966-C0CC0AF0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EA90-68D4-448A-B3BC-334240E2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B2A1-711A-4DEF-A9A0-45FC3483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7DB1-E056-4040-A672-CC07F8BC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3DC7-A23E-4FB6-8518-F61A983B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BC99-E504-4A3D-AC68-14EB300A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B0B1-99FB-418E-9F84-E9977280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912A-54F7-419E-B248-53141CCF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599A-284D-4EBB-B3DD-30E4720F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EB2-BC75-4093-BF31-0E5FA8C5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037-A9C4-45A6-BA70-FCF69CEE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E0EE-3EB8-4587-AC15-A5E5A35458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7680-728B-448C-97D0-B6D57B29519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2f22e"/>
                </a:solidFill>
                <a:latin typeface="Rockwell Extra Bold"/>
              </a:rPr>
              <a:t>Боевые орден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Neizvestnyy ispolnitel Boevye ordena (mp3top100.net).mp3" descr=""/>
          <p:cNvPicPr/>
          <p:nvPr/>
        </p:nvPicPr>
        <p:blipFill>
          <a:blip r:embed="rId1"/>
          <a:stretch/>
        </p:blipFill>
        <p:spPr>
          <a:xfrm>
            <a:off x="8458200" y="76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едаль «За освобождение г. Прага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далью «За освобождение Праги» награждались военнослужащие частей Советской Армии, НКВД и НКГБ, которые принимали непосредственное участие в освобождении г. Праг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8" descr="Медаль За освобождение Праги"/>
          <p:cNvPicPr/>
          <p:nvPr/>
        </p:nvPicPr>
        <p:blipFill>
          <a:blip r:embed="rId1"/>
          <a:stretch/>
        </p:blipFill>
        <p:spPr>
          <a:xfrm>
            <a:off x="5181480" y="1523880"/>
            <a:ext cx="2530440" cy="495324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едаль «За освобождение Варшавы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343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далью «За освобождение Варшавы» награждались непосредственные участники боевой операции по освобождению Варшавы, а именно: лица воинского состава частей, соединений Советской Армии, НКВД и НКГБ, участвовавшие в освобождении гор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8" descr="Медаль За освобождение Варшавы"/>
          <p:cNvPicPr/>
          <p:nvPr/>
        </p:nvPicPr>
        <p:blipFill>
          <a:blip r:embed="rId1"/>
          <a:stretch/>
        </p:blipFill>
        <p:spPr>
          <a:xfrm>
            <a:off x="4952880" y="1523880"/>
            <a:ext cx="2671920" cy="480060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едаль Уша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далью Ушакова награждались военнослужащие Военно-Морского Флота, которые проявили мужество, храбрость, отвагу в боях на мор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8" descr="Медаль Ушакова"/>
          <p:cNvPicPr/>
          <p:nvPr/>
        </p:nvPicPr>
        <p:blipFill>
          <a:blip r:embed="rId1"/>
          <a:stretch/>
        </p:blipFill>
        <p:spPr>
          <a:xfrm>
            <a:off x="4572000" y="1752480"/>
            <a:ext cx="3786120" cy="403884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едаль «За взятие Берлина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далью «За взятие Берлина» награждались военнослужащие Советской Армии, Военно-Морского Флота и войск НКВД, которые принимали непосредственное участие в штурме и взятии Берли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8" descr="Медаль За взятие Берлина"/>
          <p:cNvPicPr/>
          <p:nvPr/>
        </p:nvPicPr>
        <p:blipFill>
          <a:blip r:embed="rId1"/>
          <a:stretch/>
        </p:blipFill>
        <p:spPr>
          <a:xfrm>
            <a:off x="5410080" y="1676520"/>
            <a:ext cx="2495520" cy="4647960"/>
          </a:xfrm>
          <a:prstGeom prst="rect">
            <a:avLst/>
          </a:prstGeom>
          <a:ln w="0">
            <a:noFill/>
          </a:ln>
        </p:spPr>
      </p:pic>
    </p:spTree>
  </p:cSld>
  <p:transition advTm="120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рден Слав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рден Слав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вручался тем бойцам красной армии, которые во время боевых действий проявили себя как мужественные, храбрые и бесстрашные воины, вставшие на защиту Советской родины в таких ситуациях: если боец во время боя или в критической ситуации проявил себя как храбрец, ворвавшийся первым в расположение противни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16" descr="Орден Славы"/>
          <p:cNvPicPr/>
          <p:nvPr/>
        </p:nvPicPr>
        <p:blipFill>
          <a:blip r:embed="rId1"/>
          <a:stretch/>
        </p:blipFill>
        <p:spPr>
          <a:xfrm>
            <a:off x="4572000" y="1752480"/>
            <a:ext cx="2251080" cy="441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Орден Славы"/>
          <p:cNvPicPr/>
          <p:nvPr/>
        </p:nvPicPr>
        <p:blipFill>
          <a:blip r:embed="rId2"/>
          <a:stretch/>
        </p:blipFill>
        <p:spPr>
          <a:xfrm>
            <a:off x="6781680" y="1752480"/>
            <a:ext cx="2181240" cy="441972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рден Мужест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гласно статусу ордена, им награждаются лица, проявившие самоотверженность, мужество и отвагу, проявленные при спасении людей, охране общественного порядка, в борьбе с преступностью, во время стихийных бедстви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8" descr="Орден Мужества"/>
          <p:cNvPicPr/>
          <p:nvPr/>
        </p:nvPicPr>
        <p:blipFill>
          <a:blip r:embed="rId1"/>
          <a:stretch/>
        </p:blipFill>
        <p:spPr>
          <a:xfrm>
            <a:off x="4952880" y="1523880"/>
            <a:ext cx="2676600" cy="480060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рден Лени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деном Ленина награждаются как отдельные трудящиеся, так и целые коллективы, и общественные организации СССР за особые заслуги в построении социализ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9" descr="Орден Ленина"/>
          <p:cNvPicPr/>
          <p:nvPr/>
        </p:nvPicPr>
        <p:blipFill>
          <a:blip r:embed="rId1"/>
          <a:stretch/>
        </p:blipFill>
        <p:spPr>
          <a:xfrm>
            <a:off x="4572000" y="1676520"/>
            <a:ext cx="4172040" cy="476244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рден Кутуз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деном награждаются командиры Красной Армии за победный план операции, в результате которой врагу нанесено поражение, при сохранении боеспособности войс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27" descr="Орден Кутузова"/>
          <p:cNvPicPr/>
          <p:nvPr/>
        </p:nvPicPr>
        <p:blipFill>
          <a:blip r:embed="rId1"/>
          <a:stretch/>
        </p:blipFill>
        <p:spPr>
          <a:xfrm>
            <a:off x="4724280" y="1905120"/>
            <a:ext cx="3838680" cy="393372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едаль Сувор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даль Суворов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вручается военнослужащим за проявленное мужество, храбрость и отвагу в боевых действиях при защите Родины и интересов Отечеств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10" descr="Медаль Суворова"/>
          <p:cNvPicPr/>
          <p:nvPr/>
        </p:nvPicPr>
        <p:blipFill>
          <a:blip r:embed="rId1"/>
          <a:stretch/>
        </p:blipFill>
        <p:spPr>
          <a:xfrm>
            <a:off x="4648320" y="1752480"/>
            <a:ext cx="4209840" cy="394200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рден «Красная Звезд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града вручалась военнослужащим Красной Армии, как рядовым, так и начальствующему составу. А также целым войсковым частям, кораблям, боевым соединениям, предприятиям, коллективам за выдающиеся заслуги в мероприятиях по обороне Род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12" descr="Орден Красная Звезда"/>
          <p:cNvPicPr/>
          <p:nvPr/>
        </p:nvPicPr>
        <p:blipFill>
          <a:blip r:embed="rId1"/>
          <a:stretch/>
        </p:blipFill>
        <p:spPr>
          <a:xfrm>
            <a:off x="4648320" y="18288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рден «Красное Знамя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деном «Красное Знамя» награждались военнослужащие и граждане, проявившие храбрость, и мужество непосредственно при боевой деятельност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9" descr="Орден Красное Знамя"/>
          <p:cNvPicPr/>
          <p:nvPr/>
        </p:nvPicPr>
        <p:blipFill>
          <a:blip r:embed="rId1"/>
          <a:stretch/>
        </p:blipFill>
        <p:spPr>
          <a:xfrm>
            <a:off x="4800600" y="1371600"/>
            <a:ext cx="3914640" cy="499104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едаль «За Отвагу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далью "За отвагу" награждается весь воинский состав от солдат и матросов, включая весь офицерский состав, за проявленное мужество и отвагу на полях боевых действий, при охране государственной границы, а также при борьбе со шпионами и диверсанта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8" descr="Медаль За отвагу"/>
          <p:cNvPicPr/>
          <p:nvPr/>
        </p:nvPicPr>
        <p:blipFill>
          <a:blip r:embed="rId1"/>
          <a:stretch/>
        </p:blipFill>
        <p:spPr>
          <a:xfrm>
            <a:off x="5334120" y="1447920"/>
            <a:ext cx="2333520" cy="4952880"/>
          </a:xfrm>
          <a:prstGeom prst="rect">
            <a:avLst/>
          </a:prstGeom>
          <a:ln w="0">
            <a:noFill/>
          </a:ln>
        </p:spPr>
      </p:pic>
    </p:spTree>
  </p:cSld>
  <p:transition advTm="14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7T16:43:10Z</dcterms:created>
  <dc:creator>Денис</dc:creator>
  <dc:description/>
  <dc:language>en-US</dc:language>
  <cp:lastModifiedBy>Крылова Надежда Валерьевна</cp:lastModifiedBy>
  <dcterms:modified xsi:type="dcterms:W3CDTF">2015-01-20T13:54:3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