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5.png" ContentType="image/png"/>
  <Override PartName="/ppt/media/image23.png" ContentType="image/png"/>
  <Override PartName="/ppt/media/image30.gif" ContentType="image/gif"/>
  <Override PartName="/ppt/media/image19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29.gif" ContentType="image/gif"/>
  <Override PartName="/ppt/media/image12.png" ContentType="image/png"/>
  <Override PartName="/ppt/media/image8.png" ContentType="image/png"/>
  <Override PartName="/ppt/media/image13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1.gif" ContentType="image/gif"/>
  <Override PartName="/ppt/media/image14.gif" ContentType="image/gif"/>
  <Override PartName="/ppt/media/image17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14AA-F919-4978-A645-FB982F2AC2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C2CD-AECF-4BFF-84D7-92A2556D90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7821-891E-46D8-A8D2-E19AB78CD3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277D-58B3-4A54-AFFF-2F5B341F4C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FCB4-5A89-4762-A789-C745AD66ED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14BE-A652-4886-99E4-D06985DB63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B4EE-8039-4A41-B6B3-E5AAD76F08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BE1D-5471-46CD-9776-9A70398809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2DB6-6ED5-4504-8575-8B09A3DB8A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A3A4-6E3F-41F9-A4D6-0541D95E25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A430-84CC-4BB0-ACDC-CA74629132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A94C-7BE8-4856-B824-1012D861C1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22D1-729B-4C01-BA25-AA13CF0B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2296-829F-4F0C-BC07-1D4E63A9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70D5-F952-4D71-908E-BEC2E965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E41-7626-4DA0-B567-9B42D7B7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B4FF-7BB0-414D-B378-4181C899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9355-159E-435A-AC93-E0B9CA43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B429-1753-4C27-BDA6-F8417C18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57C2-AA39-4CFD-B8BE-07FC66DE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843F-4628-4C8F-8718-7FE30EA1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21D7-97F0-4DD1-81E6-40B33FC1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E155-F1E0-4CB5-BA8A-C6E5A26C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7A9-2C3E-410F-92C3-3D655FAA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C444-EE34-4A05-9C87-8BCEC318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15DE-8D54-492C-BD0C-5EC2D0AF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7687-64B4-4AA3-96F2-E3C018FF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7E2B-5C1B-44FD-9F68-59BB06ED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4681-3D56-46B2-82D1-2A2B61DA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514-9F85-4C12-8357-22E771BC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2FB-8BEF-4B67-8B4B-1E03B8E9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DE28-761B-4098-89A7-C0F4BDBB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050-D4FA-4460-9800-D68A2D64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BD5-1F66-4881-AD12-401D6C1A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8F8-7941-40EC-B398-A9784250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83B-CCB9-4C7C-8C8A-FFD48F77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BC4A-3450-4A8A-A831-DBAF908FD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46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AB3B-2185-405C-8F02-5F398853F1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cior.edu.ru/" TargetMode="External"/><Relationship Id="rId2" Type="http://schemas.openxmlformats.org/officeDocument/2006/relationships/hyperlink" Target="http://eor.edu.ru/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9144000" cy="165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спользование цифровых образовательных ресурсов в образовательном процессе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533520" y="3276720"/>
            <a:ext cx="838080" cy="228600"/>
            <a:chOff x="533520" y="3276720"/>
            <a:chExt cx="838080" cy="228600"/>
          </a:xfrm>
        </p:grpSpPr>
        <p:sp>
          <p:nvSpPr>
            <p:cNvPr id="98" name="Oval 5"/>
            <p:cNvSpPr/>
            <p:nvPr/>
          </p:nvSpPr>
          <p:spPr>
            <a:xfrm>
              <a:off x="533520" y="3276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65d135"/>
                </a:gs>
                <a:gs pos="100000">
                  <a:srgbClr val="2f61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>
              <a:off x="838080" y="3276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ae0404"/>
                </a:gs>
                <a:gs pos="100000">
                  <a:srgbClr val="51020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>
              <a:off x="1143000" y="3276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tangle 8" descr=""/>
          <p:cNvPicPr/>
          <p:nvPr/>
        </p:nvPicPr>
        <p:blipFill>
          <a:blip r:embed="rId1"/>
          <a:stretch/>
        </p:blipFill>
        <p:spPr>
          <a:xfrm>
            <a:off x="285840" y="-55440"/>
            <a:ext cx="8645400" cy="1182600"/>
          </a:xfrm>
          <a:prstGeom prst="rect">
            <a:avLst/>
          </a:prstGeom>
          <a:ln w="0">
            <a:noFill/>
          </a:ln>
        </p:spPr>
      </p:pic>
      <p:grpSp>
        <p:nvGrpSpPr>
          <p:cNvPr id="102" name="Rectangle 9"/>
          <p:cNvGrpSpPr/>
          <p:nvPr/>
        </p:nvGrpSpPr>
        <p:grpSpPr>
          <a:xfrm>
            <a:off x="3803760" y="5888160"/>
            <a:ext cx="1536480" cy="641160"/>
            <a:chOff x="3803760" y="5888160"/>
            <a:chExt cx="1536480" cy="641160"/>
          </a:xfrm>
        </p:grpSpPr>
        <p:pic>
          <p:nvPicPr>
            <p:cNvPr id="103" name="Rectangle 9" descr=""/>
            <p:cNvPicPr/>
            <p:nvPr/>
          </p:nvPicPr>
          <p:blipFill>
            <a:blip r:embed="rId2"/>
            <a:stretch/>
          </p:blipFill>
          <p:spPr>
            <a:xfrm>
              <a:off x="3803760" y="5888160"/>
              <a:ext cx="153648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857760" y="6000840"/>
              <a:ext cx="14284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2014 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4582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ьзование ИКТ для самообразования учителя-логопед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Блок-схема: альтернативный процесс 32"/>
          <p:cNvGrpSpPr/>
          <p:nvPr/>
        </p:nvGrpSpPr>
        <p:grpSpPr>
          <a:xfrm>
            <a:off x="5711760" y="2682720"/>
            <a:ext cx="2981520" cy="2687760"/>
            <a:chOff x="5711760" y="2682720"/>
            <a:chExt cx="2981520" cy="2687760"/>
          </a:xfrm>
        </p:grpSpPr>
        <p:pic>
          <p:nvPicPr>
            <p:cNvPr id="271" name="Блок-схема: альтернативный процесс 32" descr=""/>
            <p:cNvPicPr/>
            <p:nvPr/>
          </p:nvPicPr>
          <p:blipFill>
            <a:blip r:embed="rId1"/>
            <a:stretch/>
          </p:blipFill>
          <p:spPr>
            <a:xfrm>
              <a:off x="5711760" y="2682720"/>
              <a:ext cx="298152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181560" y="2817720"/>
              <a:ext cx="238608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создание и внедрение модели единого открытого информационно-образовательного пространств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Блок-схема: альтернативный процесс 34"/>
          <p:cNvGrpSpPr/>
          <p:nvPr/>
        </p:nvGrpSpPr>
        <p:grpSpPr>
          <a:xfrm>
            <a:off x="2925720" y="1268280"/>
            <a:ext cx="2878200" cy="2127240"/>
            <a:chOff x="2925720" y="1268280"/>
            <a:chExt cx="2878200" cy="2127240"/>
          </a:xfrm>
        </p:grpSpPr>
        <p:pic>
          <p:nvPicPr>
            <p:cNvPr id="274" name="Блок-схема: альтернативный процесс 34" descr=""/>
            <p:cNvPicPr/>
            <p:nvPr/>
          </p:nvPicPr>
          <p:blipFill>
            <a:blip r:embed="rId2"/>
            <a:stretch/>
          </p:blipFill>
          <p:spPr>
            <a:xfrm>
              <a:off x="2925720" y="1268280"/>
              <a:ext cx="287820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3373560" y="1373040"/>
              <a:ext cx="2325600" cy="16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открытость и доступность информации информ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Блок-схема: альтернативный процесс 35"/>
          <p:cNvGrpSpPr/>
          <p:nvPr/>
        </p:nvGrpSpPr>
        <p:grpSpPr>
          <a:xfrm>
            <a:off x="212760" y="2766960"/>
            <a:ext cx="2871720" cy="2567160"/>
            <a:chOff x="212760" y="2766960"/>
            <a:chExt cx="2871720" cy="2567160"/>
          </a:xfrm>
        </p:grpSpPr>
        <p:pic>
          <p:nvPicPr>
            <p:cNvPr id="277" name="Блок-схема: альтернативный процесс 35" descr=""/>
            <p:cNvPicPr/>
            <p:nvPr/>
          </p:nvPicPr>
          <p:blipFill>
            <a:blip r:embed="rId3"/>
            <a:stretch/>
          </p:blipFill>
          <p:spPr>
            <a:xfrm>
              <a:off x="212760" y="2766960"/>
              <a:ext cx="2871720" cy="25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81120" y="2889360"/>
              <a:ext cx="228132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использование ЦОР в индивидуальной работе с детьм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Блок-схема: альтернативный процесс 36"/>
          <p:cNvGrpSpPr/>
          <p:nvPr/>
        </p:nvGrpSpPr>
        <p:grpSpPr>
          <a:xfrm>
            <a:off x="3067200" y="4773600"/>
            <a:ext cx="2876400" cy="2114640"/>
            <a:chOff x="3067200" y="4773600"/>
            <a:chExt cx="2876400" cy="2114640"/>
          </a:xfrm>
        </p:grpSpPr>
        <p:pic>
          <p:nvPicPr>
            <p:cNvPr id="280" name="Блок-схема: альтернативный процесс 36" descr=""/>
            <p:cNvPicPr/>
            <p:nvPr/>
          </p:nvPicPr>
          <p:blipFill>
            <a:blip r:embed="rId4"/>
            <a:stretch/>
          </p:blipFill>
          <p:spPr>
            <a:xfrm>
              <a:off x="3067200" y="4773600"/>
              <a:ext cx="287640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3513240" y="4870440"/>
              <a:ext cx="2332080" cy="15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внедрение дистанционных форм общения педагогов с родителя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17"/>
          <p:cNvSpPr/>
          <p:nvPr/>
        </p:nvSpPr>
        <p:spPr>
          <a:xfrm>
            <a:off x="4459680" y="748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0" descr="C:\Documents and Settings\User\Рабочий стол\сайтд.с\наш сайт\95937509.gif"/>
          <p:cNvPicPr/>
          <p:nvPr/>
        </p:nvPicPr>
        <p:blipFill>
          <a:blip r:embed="rId5"/>
          <a:stretch/>
        </p:blipFill>
        <p:spPr>
          <a:xfrm>
            <a:off x="3780000" y="3213000"/>
            <a:ext cx="1512720" cy="1440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5" descr="monitor_w"/>
          <p:cNvPicPr/>
          <p:nvPr/>
        </p:nvPicPr>
        <p:blipFill>
          <a:blip r:embed="rId1"/>
          <a:stretch/>
        </p:blipFill>
        <p:spPr>
          <a:xfrm>
            <a:off x="3000240" y="3357720"/>
            <a:ext cx="5819760" cy="35002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86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пользование ЦОИ и ЦОР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деятельности педагог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Прямоугольник с двумя скругленными противолежащими углами 4"/>
          <p:cNvGrpSpPr/>
          <p:nvPr/>
        </p:nvGrpSpPr>
        <p:grpSpPr>
          <a:xfrm>
            <a:off x="811080" y="1359000"/>
            <a:ext cx="5559480" cy="2963880"/>
            <a:chOff x="811080" y="1359000"/>
            <a:chExt cx="5559480" cy="2963880"/>
          </a:xfrm>
        </p:grpSpPr>
        <p:pic>
          <p:nvPicPr>
            <p:cNvPr id="287" name="Прямоугольник с двумя скругле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811080" y="1359000"/>
              <a:ext cx="5559480" cy="29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971640" y="1515960"/>
              <a:ext cx="5236920" cy="26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«Недостаточно только получить знания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надо найти им приложение. Недостаточ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только желать, надо делать!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1" i="1" lang="ru-RU" sz="1800" spc="-1" strike="noStrike">
                  <a:solidFill>
                    <a:srgbClr val="000066"/>
                  </a:solidFill>
                  <a:latin typeface="Arial"/>
                </a:rPr>
                <a:t>Иоганн Вольфганг Гё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Прямоугольник с двумя скругленными противолежащими углами 5"/>
          <p:cNvGrpSpPr/>
          <p:nvPr/>
        </p:nvGrpSpPr>
        <p:grpSpPr>
          <a:xfrm>
            <a:off x="1676520" y="4280040"/>
            <a:ext cx="5553000" cy="2260440"/>
            <a:chOff x="1676520" y="4280040"/>
            <a:chExt cx="5553000" cy="2260440"/>
          </a:xfrm>
        </p:grpSpPr>
        <p:pic>
          <p:nvPicPr>
            <p:cNvPr id="290" name="Прямоугольник с двумя скругленными противолежащими углами 5" descr=""/>
            <p:cNvPicPr/>
            <p:nvPr/>
          </p:nvPicPr>
          <p:blipFill>
            <a:blip r:embed="rId3"/>
            <a:stretch/>
          </p:blipFill>
          <p:spPr>
            <a:xfrm>
              <a:off x="1676520" y="4280040"/>
              <a:ext cx="5553000" cy="22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1800360" y="4402080"/>
              <a:ext cx="530676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Расскажи мне, и я забуду, покажи мне, и я запомню, дай мне попробовать, и я научусь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Китайская мудрость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3"/>
          <p:cNvSpPr txBox="1"/>
          <p:nvPr/>
        </p:nvSpPr>
        <p:spPr>
          <a:xfrm>
            <a:off x="684360" y="2997360"/>
            <a:ext cx="7848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внимание!</a:t>
            </a:r>
            <a:endParaRPr b="1" lang="en-US" sz="32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grpSp>
        <p:nvGrpSpPr>
          <p:cNvPr id="293" name="Rectangle 9"/>
          <p:cNvGrpSpPr/>
          <p:nvPr/>
        </p:nvGrpSpPr>
        <p:grpSpPr>
          <a:xfrm>
            <a:off x="3786120" y="5810400"/>
            <a:ext cx="1535040" cy="639720"/>
            <a:chOff x="3786120" y="5810400"/>
            <a:chExt cx="1535040" cy="639720"/>
          </a:xfrm>
        </p:grpSpPr>
        <p:pic>
          <p:nvPicPr>
            <p:cNvPr id="294" name="Rectangle 9" descr=""/>
            <p:cNvPicPr/>
            <p:nvPr/>
          </p:nvPicPr>
          <p:blipFill>
            <a:blip r:embed="rId1"/>
            <a:stretch/>
          </p:blipFill>
          <p:spPr>
            <a:xfrm>
              <a:off x="3786120" y="5810400"/>
              <a:ext cx="15350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3840120" y="5924520"/>
              <a:ext cx="1428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2014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7120" y="71280"/>
            <a:ext cx="84297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тизация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1835280" y="5300640"/>
            <a:ext cx="564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формление документ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вышение проф.масте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board"/>
          <p:cNvPicPr/>
          <p:nvPr/>
        </p:nvPicPr>
        <p:blipFill>
          <a:blip r:embed="rId1"/>
          <a:stretch/>
        </p:blipFill>
        <p:spPr>
          <a:xfrm>
            <a:off x="6858000" y="1143000"/>
            <a:ext cx="2019240" cy="201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original_metal_w"/>
          <p:cNvPicPr/>
          <p:nvPr/>
        </p:nvPicPr>
        <p:blipFill>
          <a:blip r:embed="rId2"/>
          <a:stretch/>
        </p:blipFill>
        <p:spPr>
          <a:xfrm>
            <a:off x="214200" y="5357880"/>
            <a:ext cx="1447920" cy="13143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8"/>
          <p:cNvSpPr/>
          <p:nvPr/>
        </p:nvSpPr>
        <p:spPr>
          <a:xfrm>
            <a:off x="2714760" y="2000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0"/>
          <p:cNvSpPr/>
          <p:nvPr/>
        </p:nvSpPr>
        <p:spPr>
          <a:xfrm>
            <a:off x="2700360" y="29973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2714760" y="35719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2"/>
          <p:cNvSpPr/>
          <p:nvPr/>
        </p:nvSpPr>
        <p:spPr>
          <a:xfrm>
            <a:off x="2714760" y="40719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3"/>
          <p:cNvSpPr/>
          <p:nvPr/>
        </p:nvSpPr>
        <p:spPr>
          <a:xfrm>
            <a:off x="2071800" y="464328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2" descr="074"/>
          <p:cNvPicPr/>
          <p:nvPr/>
        </p:nvPicPr>
        <p:blipFill>
          <a:blip r:embed="rId3"/>
          <a:stretch/>
        </p:blipFill>
        <p:spPr>
          <a:xfrm>
            <a:off x="357120" y="1500120"/>
            <a:ext cx="1524240" cy="1339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3D_28"/>
          <p:cNvPicPr/>
          <p:nvPr/>
        </p:nvPicPr>
        <p:blipFill>
          <a:blip r:embed="rId4"/>
          <a:stretch/>
        </p:blipFill>
        <p:spPr>
          <a:xfrm>
            <a:off x="2500200" y="5572080"/>
            <a:ext cx="1285920" cy="952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3D_26"/>
          <p:cNvPicPr/>
          <p:nvPr/>
        </p:nvPicPr>
        <p:blipFill>
          <a:blip r:embed="rId5"/>
          <a:stretch/>
        </p:blipFill>
        <p:spPr>
          <a:xfrm>
            <a:off x="324000" y="3645000"/>
            <a:ext cx="1428480" cy="1057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3D_24"/>
          <p:cNvPicPr/>
          <p:nvPr/>
        </p:nvPicPr>
        <p:blipFill>
          <a:blip r:embed="rId6"/>
          <a:stretch/>
        </p:blipFill>
        <p:spPr>
          <a:xfrm>
            <a:off x="7740720" y="5300640"/>
            <a:ext cx="888840" cy="107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3D_32"/>
          <p:cNvPicPr/>
          <p:nvPr/>
        </p:nvPicPr>
        <p:blipFill>
          <a:blip r:embed="rId7"/>
          <a:stretch/>
        </p:blipFill>
        <p:spPr>
          <a:xfrm>
            <a:off x="5286240" y="53578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3D_21"/>
          <p:cNvPicPr/>
          <p:nvPr/>
        </p:nvPicPr>
        <p:blipFill>
          <a:blip r:embed="rId8"/>
          <a:stretch/>
        </p:blipFill>
        <p:spPr>
          <a:xfrm>
            <a:off x="7358040" y="3643200"/>
            <a:ext cx="1247760" cy="928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original_metal_w"/>
          <p:cNvPicPr/>
          <p:nvPr/>
        </p:nvPicPr>
        <p:blipFill>
          <a:blip r:embed="rId9"/>
          <a:stretch/>
        </p:blipFill>
        <p:spPr>
          <a:xfrm>
            <a:off x="214200" y="5286240"/>
            <a:ext cx="1447920" cy="1314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3D_28"/>
          <p:cNvPicPr/>
          <p:nvPr/>
        </p:nvPicPr>
        <p:blipFill>
          <a:blip r:embed="rId10"/>
          <a:stretch/>
        </p:blipFill>
        <p:spPr>
          <a:xfrm>
            <a:off x="2500200" y="5500800"/>
            <a:ext cx="128592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3D_26"/>
          <p:cNvPicPr/>
          <p:nvPr/>
        </p:nvPicPr>
        <p:blipFill>
          <a:blip r:embed="rId11"/>
          <a:stretch/>
        </p:blipFill>
        <p:spPr>
          <a:xfrm>
            <a:off x="324000" y="3573360"/>
            <a:ext cx="1428480" cy="105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3D_24"/>
          <p:cNvPicPr/>
          <p:nvPr/>
        </p:nvPicPr>
        <p:blipFill>
          <a:blip r:embed="rId12"/>
          <a:stretch/>
        </p:blipFill>
        <p:spPr>
          <a:xfrm>
            <a:off x="7740720" y="5229360"/>
            <a:ext cx="888840" cy="1071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3D_32"/>
          <p:cNvPicPr/>
          <p:nvPr/>
        </p:nvPicPr>
        <p:blipFill>
          <a:blip r:embed="rId13"/>
          <a:stretch/>
        </p:blipFill>
        <p:spPr>
          <a:xfrm>
            <a:off x="5286240" y="528624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3D_21"/>
          <p:cNvPicPr/>
          <p:nvPr/>
        </p:nvPicPr>
        <p:blipFill>
          <a:blip r:embed="rId14"/>
          <a:stretch/>
        </p:blipFill>
        <p:spPr>
          <a:xfrm>
            <a:off x="7358040" y="3571920"/>
            <a:ext cx="1247760" cy="92880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28"/>
          <p:cNvSpPr/>
          <p:nvPr/>
        </p:nvSpPr>
        <p:spPr>
          <a:xfrm>
            <a:off x="2340000" y="1557360"/>
            <a:ext cx="4248000" cy="3385800"/>
          </a:xfrm>
          <a:prstGeom prst="rect">
            <a:avLst/>
          </a:prstGeom>
          <a:solidFill>
            <a:srgbClr val="f7f1da"/>
          </a:solidFill>
          <a:ln w="76320">
            <a:solidFill>
              <a:srgbClr val="ecc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4d"/>
                </a:solidFill>
                <a:latin typeface="Arial"/>
              </a:rPr>
              <a:t>сбор, накопление, продуцирование, обработка, хранение, передача и использование информации, осуществляемые на основе современных средств микропроцессорной и вычислительной техники , а также на базе разнообразных средств информационного обме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48196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ЦОР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Прямоугольник 4"/>
          <p:cNvGrpSpPr/>
          <p:nvPr/>
        </p:nvGrpSpPr>
        <p:grpSpPr>
          <a:xfrm>
            <a:off x="1060560" y="1285920"/>
            <a:ext cx="7388280" cy="5102280"/>
            <a:chOff x="1060560" y="1285920"/>
            <a:chExt cx="7388280" cy="5102280"/>
          </a:xfrm>
        </p:grpSpPr>
        <p:pic>
          <p:nvPicPr>
            <p:cNvPr id="129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060560" y="1285920"/>
              <a:ext cx="738828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332000" y="1557360"/>
              <a:ext cx="6840360" cy="45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4d"/>
                  </a:solidFill>
                  <a:latin typeface="Arial"/>
                </a:rPr>
                <a:t>цифровой образовательный ресурс - </a:t>
              </a:r>
              <a:r>
                <a:rPr b="0" lang="ru-RU" sz="1800" spc="-1" strike="noStrike">
                  <a:solidFill>
                    <a:srgbClr val="00004d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4d"/>
                  </a:solidFill>
                  <a:latin typeface="Arial"/>
                </a:rPr>
                <a:t>это информационный источник, содержащий графическую, текстовую, цифровую, речевую, музыкальную, видео–, фото– и другую информацию, направленный на реализацию целей и задач современного образования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4" descr="C:\Documents and Settings\User\Рабочий стол\выступление-круглый стол 2012г\19-3.gif"/>
          <p:cNvPicPr/>
          <p:nvPr/>
        </p:nvPicPr>
        <p:blipFill>
          <a:blip r:embed="rId2"/>
          <a:stretch/>
        </p:blipFill>
        <p:spPr>
          <a:xfrm>
            <a:off x="3348000" y="3357720"/>
            <a:ext cx="2879640" cy="2374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ифровые образовательные ресурсы позволяют объединять огромное количество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Схема 2" descr=""/>
          <p:cNvPicPr/>
          <p:nvPr/>
        </p:nvPicPr>
        <p:blipFill>
          <a:blip r:embed="rId1"/>
          <a:stretch/>
        </p:blipFill>
        <p:spPr>
          <a:xfrm>
            <a:off x="1487520" y="1212840"/>
            <a:ext cx="6235560" cy="406548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6"/>
          <p:cNvSpPr/>
          <p:nvPr/>
        </p:nvSpPr>
        <p:spPr>
          <a:xfrm>
            <a:off x="1500120" y="5786280"/>
            <a:ext cx="6096240" cy="78120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Группа 3" descr=""/>
          <p:cNvPicPr/>
          <p:nvPr/>
        </p:nvPicPr>
        <p:blipFill>
          <a:blip r:embed="rId2"/>
          <a:stretch/>
        </p:blipFill>
        <p:spPr>
          <a:xfrm>
            <a:off x="1792440" y="5321160"/>
            <a:ext cx="5864040" cy="1670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ифровые образовательные инструменты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5508720" y="4365720"/>
            <a:ext cx="3295440" cy="19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инструм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соз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и обработ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информ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85840" y="4149720"/>
            <a:ext cx="3349440" cy="20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информацио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(или информацио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- справоч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3635280" y="38606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cce4c"/>
              </a:gs>
              <a:gs pos="100000">
                <a:srgbClr val="f9ef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0"/>
          <p:cNvSpPr/>
          <p:nvPr/>
        </p:nvSpPr>
        <p:spPr>
          <a:xfrm flipH="1">
            <a:off x="4500000" y="393372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5d135"/>
              </a:gs>
              <a:gs pos="100000">
                <a:srgbClr val="cef0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1258920" y="1197000"/>
            <a:ext cx="6696360" cy="2806920"/>
            <a:chOff x="1258920" y="1197000"/>
            <a:chExt cx="6696360" cy="2806920"/>
          </a:xfrm>
        </p:grpSpPr>
        <p:grpSp>
          <p:nvGrpSpPr>
            <p:cNvPr id="143" name="Group 12"/>
            <p:cNvGrpSpPr/>
            <p:nvPr/>
          </p:nvGrpSpPr>
          <p:grpSpPr>
            <a:xfrm>
              <a:off x="1258920" y="1447200"/>
              <a:ext cx="6696360" cy="2556720"/>
              <a:chOff x="1258920" y="1447200"/>
              <a:chExt cx="6696360" cy="2556720"/>
            </a:xfrm>
          </p:grpSpPr>
          <p:sp>
            <p:nvSpPr>
              <p:cNvPr id="144" name="Oval 13"/>
              <p:cNvSpPr/>
              <p:nvPr/>
            </p:nvSpPr>
            <p:spPr>
              <a:xfrm>
                <a:off x="1332000" y="1528560"/>
                <a:ext cx="6623280" cy="2475360"/>
              </a:xfrm>
              <a:prstGeom prst="ellipse">
                <a:avLst/>
              </a:prstGeom>
              <a:gradFill rotWithShape="0">
                <a:gsLst>
                  <a:gs pos="0">
                    <a:srgbClr val="ae0404"/>
                  </a:gs>
                  <a:gs pos="100000">
                    <a:srgbClr val="55020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1258920" y="1447200"/>
                <a:ext cx="6623280" cy="2474640"/>
              </a:xfrm>
              <a:prstGeom prst="ellipse">
                <a:avLst/>
              </a:prstGeom>
              <a:gradFill rotWithShape="0">
                <a:gsLst>
                  <a:gs pos="0">
                    <a:srgbClr val="db9090"/>
                  </a:gs>
                  <a:gs pos="100000">
                    <a:srgbClr val="ae040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Oval 15"/>
            <p:cNvSpPr/>
            <p:nvPr/>
          </p:nvSpPr>
          <p:spPr>
            <a:xfrm>
              <a:off x="1574640" y="1197000"/>
              <a:ext cx="5995440" cy="2351520"/>
            </a:xfrm>
            <a:prstGeom prst="ellipse">
              <a:avLst/>
            </a:prstGeom>
            <a:gradFill rotWithShape="0">
              <a:gsLst>
                <a:gs pos="0">
                  <a:srgbClr val="2f6119"/>
                </a:gs>
                <a:gs pos="100000">
                  <a:srgbClr val="65d1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1652760" y="1210680"/>
              <a:ext cx="5849640" cy="2292840"/>
            </a:xfrm>
            <a:prstGeom prst="ellipse">
              <a:avLst/>
            </a:prstGeom>
            <a:gradFill rotWithShape="0">
              <a:gsLst>
                <a:gs pos="0">
                  <a:srgbClr val="65d135">
                    <a:alpha val="0"/>
                  </a:srgbClr>
                </a:gs>
                <a:gs pos="100000">
                  <a:srgbClr val="c9ef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1712880" y="1233360"/>
              <a:ext cx="5565960" cy="2142000"/>
            </a:xfrm>
            <a:prstGeom prst="ellipse">
              <a:avLst/>
            </a:prstGeom>
            <a:gradFill rotWithShape="0">
              <a:gsLst>
                <a:gs pos="0">
                  <a:srgbClr val="50a62a"/>
                </a:gs>
                <a:gs pos="100000">
                  <a:srgbClr val="65d135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2007360" y="1280880"/>
              <a:ext cx="4899600" cy="173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5d135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Прямоугольник 18"/>
          <p:cNvSpPr/>
          <p:nvPr/>
        </p:nvSpPr>
        <p:spPr>
          <a:xfrm>
            <a:off x="2484360" y="1484280"/>
            <a:ext cx="437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4d"/>
                </a:solidFill>
                <a:latin typeface="Arial"/>
              </a:rPr>
              <a:t>     </a:t>
            </a:r>
            <a:r>
              <a:rPr b="1" lang="ru-RU" sz="6600" spc="-1" strike="noStrike">
                <a:solidFill>
                  <a:srgbClr val="00004d"/>
                </a:solidFill>
                <a:latin typeface="Arial"/>
              </a:rPr>
              <a:t>ЦОР             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3"/>
          <p:cNvGrpSpPr/>
          <p:nvPr/>
        </p:nvGrpSpPr>
        <p:grpSpPr>
          <a:xfrm>
            <a:off x="193680" y="1081080"/>
            <a:ext cx="2376000" cy="1932120"/>
            <a:chOff x="193680" y="1081080"/>
            <a:chExt cx="2376000" cy="1932120"/>
          </a:xfrm>
        </p:grpSpPr>
        <p:sp>
          <p:nvSpPr>
            <p:cNvPr id="152" name="AutoShape 4"/>
            <p:cNvSpPr/>
            <p:nvPr/>
          </p:nvSpPr>
          <p:spPr>
            <a:xfrm>
              <a:off x="193680" y="1228320"/>
              <a:ext cx="2369160" cy="1368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5"/>
            <p:cNvSpPr/>
            <p:nvPr/>
          </p:nvSpPr>
          <p:spPr>
            <a:xfrm>
              <a:off x="230040" y="1232280"/>
              <a:ext cx="2297520" cy="13420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6"/>
            <p:cNvSpPr/>
            <p:nvPr/>
          </p:nvSpPr>
          <p:spPr>
            <a:xfrm>
              <a:off x="249120" y="2220120"/>
              <a:ext cx="226656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249120" y="1242720"/>
              <a:ext cx="2266560" cy="33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8"/>
            <p:cNvSpPr/>
            <p:nvPr/>
          </p:nvSpPr>
          <p:spPr>
            <a:xfrm>
              <a:off x="200520" y="2596680"/>
              <a:ext cx="2369160" cy="4165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9"/>
            <p:cNvSpPr/>
            <p:nvPr/>
          </p:nvSpPr>
          <p:spPr>
            <a:xfrm>
              <a:off x="249120" y="2607840"/>
              <a:ext cx="2266560" cy="37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10"/>
            <p:cNvGrpSpPr/>
            <p:nvPr/>
          </p:nvGrpSpPr>
          <p:grpSpPr>
            <a:xfrm>
              <a:off x="1008720" y="1081080"/>
              <a:ext cx="703800" cy="307800"/>
              <a:chOff x="1008720" y="1081080"/>
              <a:chExt cx="703800" cy="307800"/>
            </a:xfrm>
          </p:grpSpPr>
          <p:sp>
            <p:nvSpPr>
              <p:cNvPr id="159" name="Oval 11"/>
              <p:cNvSpPr/>
              <p:nvPr/>
            </p:nvSpPr>
            <p:spPr>
              <a:xfrm>
                <a:off x="1008720" y="1081080"/>
                <a:ext cx="703800" cy="3078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2"/>
              <p:cNvSpPr/>
              <p:nvPr/>
            </p:nvSpPr>
            <p:spPr>
              <a:xfrm>
                <a:off x="1015920" y="1083240"/>
                <a:ext cx="680400" cy="298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13"/>
              <p:cNvSpPr/>
              <p:nvPr/>
            </p:nvSpPr>
            <p:spPr>
              <a:xfrm>
                <a:off x="1024200" y="1085040"/>
                <a:ext cx="664920" cy="290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14"/>
              <p:cNvSpPr/>
              <p:nvPr/>
            </p:nvSpPr>
            <p:spPr>
              <a:xfrm>
                <a:off x="1031760" y="1087920"/>
                <a:ext cx="632160" cy="271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5"/>
              <p:cNvSpPr/>
              <p:nvPr/>
            </p:nvSpPr>
            <p:spPr>
              <a:xfrm>
                <a:off x="1068480" y="1095120"/>
                <a:ext cx="56160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 Box 16"/>
            <p:cNvSpPr/>
            <p:nvPr/>
          </p:nvSpPr>
          <p:spPr>
            <a:xfrm>
              <a:off x="1258920" y="1125000"/>
              <a:ext cx="18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7"/>
            <p:cNvSpPr/>
            <p:nvPr/>
          </p:nvSpPr>
          <p:spPr>
            <a:xfrm>
              <a:off x="277200" y="1474560"/>
              <a:ext cx="225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ae0404"/>
                  </a:solidFill>
                  <a:uFillTx/>
                  <a:latin typeface="Arial"/>
                  <a:hlinkClick r:id="rId1"/>
                </a:rPr>
                <a:t>http://fcior.edu.r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8"/>
          <p:cNvGrpSpPr/>
          <p:nvPr/>
        </p:nvGrpSpPr>
        <p:grpSpPr>
          <a:xfrm>
            <a:off x="3006720" y="1211400"/>
            <a:ext cx="2534760" cy="2899440"/>
            <a:chOff x="3006720" y="1211400"/>
            <a:chExt cx="2534760" cy="2899440"/>
          </a:xfrm>
        </p:grpSpPr>
        <p:sp>
          <p:nvSpPr>
            <p:cNvPr id="167" name="AutoShape 19"/>
            <p:cNvSpPr/>
            <p:nvPr/>
          </p:nvSpPr>
          <p:spPr>
            <a:xfrm>
              <a:off x="3071880" y="1348560"/>
              <a:ext cx="2466000" cy="12758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20"/>
            <p:cNvSpPr/>
            <p:nvPr/>
          </p:nvSpPr>
          <p:spPr>
            <a:xfrm>
              <a:off x="3109680" y="1352520"/>
              <a:ext cx="2392200" cy="125172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21"/>
            <p:cNvSpPr/>
            <p:nvPr/>
          </p:nvSpPr>
          <p:spPr>
            <a:xfrm>
              <a:off x="3129480" y="2273760"/>
              <a:ext cx="2359440" cy="316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22"/>
            <p:cNvSpPr/>
            <p:nvPr/>
          </p:nvSpPr>
          <p:spPr>
            <a:xfrm>
              <a:off x="3129480" y="1362240"/>
              <a:ext cx="2359440" cy="31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3"/>
            <p:cNvSpPr/>
            <p:nvPr/>
          </p:nvSpPr>
          <p:spPr>
            <a:xfrm>
              <a:off x="3920400" y="1211400"/>
              <a:ext cx="732600" cy="286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4"/>
            <p:cNvSpPr/>
            <p:nvPr/>
          </p:nvSpPr>
          <p:spPr>
            <a:xfrm>
              <a:off x="3927240" y="1213200"/>
              <a:ext cx="709200" cy="277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5"/>
            <p:cNvSpPr/>
            <p:nvPr/>
          </p:nvSpPr>
          <p:spPr>
            <a:xfrm>
              <a:off x="3936600" y="1214640"/>
              <a:ext cx="692640" cy="271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26"/>
            <p:cNvSpPr/>
            <p:nvPr/>
          </p:nvSpPr>
          <p:spPr>
            <a:xfrm>
              <a:off x="3943800" y="1217520"/>
              <a:ext cx="658440" cy="252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7"/>
            <p:cNvSpPr/>
            <p:nvPr/>
          </p:nvSpPr>
          <p:spPr>
            <a:xfrm>
              <a:off x="3983400" y="1224720"/>
              <a:ext cx="584640" cy="20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4181040" y="1252440"/>
              <a:ext cx="19512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3006720" y="1456560"/>
              <a:ext cx="234504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800" spc="-1" strike="noStrike" u="sng">
                  <a:solidFill>
                    <a:srgbClr val="ae0404"/>
                  </a:solidFill>
                  <a:uFillTx/>
                  <a:latin typeface="Arial"/>
                  <a:hlinkClick r:id="rId2"/>
                </a:rPr>
                <a:t>http://eor.edu.ru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br>
                <a:rPr sz="2800"/>
              </a:b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30"/>
            <p:cNvSpPr/>
            <p:nvPr/>
          </p:nvSpPr>
          <p:spPr>
            <a:xfrm>
              <a:off x="3075120" y="2624760"/>
              <a:ext cx="2466360" cy="388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31"/>
            <p:cNvSpPr/>
            <p:nvPr/>
          </p:nvSpPr>
          <p:spPr>
            <a:xfrm>
              <a:off x="3125880" y="2635200"/>
              <a:ext cx="2359440" cy="345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32"/>
          <p:cNvGrpSpPr/>
          <p:nvPr/>
        </p:nvGrpSpPr>
        <p:grpSpPr>
          <a:xfrm>
            <a:off x="5954760" y="1104840"/>
            <a:ext cx="3009600" cy="2386800"/>
            <a:chOff x="5954760" y="1104840"/>
            <a:chExt cx="3009600" cy="2386800"/>
          </a:xfrm>
        </p:grpSpPr>
        <p:sp>
          <p:nvSpPr>
            <p:cNvPr id="181" name="AutoShape 33"/>
            <p:cNvSpPr/>
            <p:nvPr/>
          </p:nvSpPr>
          <p:spPr>
            <a:xfrm>
              <a:off x="5963040" y="1242720"/>
              <a:ext cx="3001320" cy="12816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34"/>
            <p:cNvSpPr/>
            <p:nvPr/>
          </p:nvSpPr>
          <p:spPr>
            <a:xfrm>
              <a:off x="6009480" y="1246320"/>
              <a:ext cx="2910600" cy="125712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35"/>
            <p:cNvSpPr/>
            <p:nvPr/>
          </p:nvSpPr>
          <p:spPr>
            <a:xfrm>
              <a:off x="6033600" y="2171880"/>
              <a:ext cx="2871360" cy="317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36"/>
            <p:cNvSpPr/>
            <p:nvPr/>
          </p:nvSpPr>
          <p:spPr>
            <a:xfrm>
              <a:off x="6033600" y="1256400"/>
              <a:ext cx="2871360" cy="317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37"/>
            <p:cNvGrpSpPr/>
            <p:nvPr/>
          </p:nvGrpSpPr>
          <p:grpSpPr>
            <a:xfrm>
              <a:off x="6995520" y="1104840"/>
              <a:ext cx="891720" cy="288000"/>
              <a:chOff x="6995520" y="1104840"/>
              <a:chExt cx="891720" cy="288000"/>
            </a:xfrm>
          </p:grpSpPr>
          <p:sp>
            <p:nvSpPr>
              <p:cNvPr id="186" name="Oval 38"/>
              <p:cNvSpPr/>
              <p:nvPr/>
            </p:nvSpPr>
            <p:spPr>
              <a:xfrm>
                <a:off x="6995520" y="1104840"/>
                <a:ext cx="891720" cy="2880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39"/>
              <p:cNvSpPr/>
              <p:nvPr/>
            </p:nvSpPr>
            <p:spPr>
              <a:xfrm>
                <a:off x="7004880" y="1107000"/>
                <a:ext cx="862200" cy="279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40"/>
              <p:cNvSpPr/>
              <p:nvPr/>
            </p:nvSpPr>
            <p:spPr>
              <a:xfrm>
                <a:off x="7015320" y="1108440"/>
                <a:ext cx="842400" cy="272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41"/>
              <p:cNvSpPr/>
              <p:nvPr/>
            </p:nvSpPr>
            <p:spPr>
              <a:xfrm>
                <a:off x="7024680" y="1111320"/>
                <a:ext cx="800640" cy="25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42"/>
              <p:cNvSpPr/>
              <p:nvPr/>
            </p:nvSpPr>
            <p:spPr>
              <a:xfrm>
                <a:off x="7071480" y="1118160"/>
                <a:ext cx="711360" cy="206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Text Box 43"/>
            <p:cNvSpPr/>
            <p:nvPr/>
          </p:nvSpPr>
          <p:spPr>
            <a:xfrm>
              <a:off x="7312680" y="1145880"/>
              <a:ext cx="24264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4"/>
            <p:cNvSpPr/>
            <p:nvPr/>
          </p:nvSpPr>
          <p:spPr>
            <a:xfrm>
              <a:off x="6068880" y="1446480"/>
              <a:ext cx="2853360" cy="20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http://school-collection.edu.ru/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45"/>
            <p:cNvSpPr/>
            <p:nvPr/>
          </p:nvSpPr>
          <p:spPr>
            <a:xfrm>
              <a:off x="5954760" y="2524320"/>
              <a:ext cx="3000600" cy="3898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46"/>
            <p:cNvSpPr/>
            <p:nvPr/>
          </p:nvSpPr>
          <p:spPr>
            <a:xfrm>
              <a:off x="6015960" y="2535120"/>
              <a:ext cx="2871000" cy="346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дреса ФЦИОР в Интернет: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Рисунок 1" descr="http://www.dzschool23.ru/images/ebook_fcior.gif"/>
          <p:cNvPicPr/>
          <p:nvPr/>
        </p:nvPicPr>
        <p:blipFill>
          <a:blip r:embed="rId3"/>
          <a:stretch/>
        </p:blipFill>
        <p:spPr>
          <a:xfrm>
            <a:off x="0" y="0"/>
            <a:ext cx="1905120" cy="72396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3"/>
          <p:cNvSpPr/>
          <p:nvPr/>
        </p:nvSpPr>
        <p:spPr>
          <a:xfrm>
            <a:off x="349200" y="2782800"/>
            <a:ext cx="86472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езные ссыл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cior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Федеральный центр информационно-образовательных ресур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Единая коллекция цифровых образовательны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zigrushk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Сайт для дошколь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ch2000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Центр системно-деятельностной педагогики «Школа 2000…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netedu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Сетевое образование. Экспертиза. Учебники. (Скачать рекомендованные учебники в формат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sites.google.com/site/konstruktoruroka/hom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Цифровой конструктор уро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openlesson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Открытый урок. (О режиссуре нескучных уроков в современной школе, премудростях социо-игрового стиля обучения и деловых подсказках в таблице-бабочке для профессионалов) Здесь же 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openlesson.ru/?page_id=215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подсказки, советы и рекомендации, которые могут помочь воспитателям разобраться в своих планах, эмоциях и ожиданиях накануне повседневного или открытого занятия с дошкольни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festival.1september.ru/articles/subjects/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 Фестиваль педагогических идей «Открытый урок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ibooks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Электронно-библиотечная сист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elibrary.ru/defaultx.as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Научная электронная библиот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58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ды цифровых образовательных ресурсов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e040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6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ae040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e0202"/>
              </a:gs>
              <a:gs pos="50000">
                <a:srgbClr val="ae0404"/>
              </a:gs>
              <a:gs pos="100000">
                <a:srgbClr val="5e020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f0303"/>
              </a:gs>
              <a:gs pos="100000">
                <a:srgbClr val="ae040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66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1"/>
          <p:cNvSpPr/>
          <p:nvPr/>
        </p:nvSpPr>
        <p:spPr>
          <a:xfrm>
            <a:off x="755640" y="227664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66c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376e"/>
              </a:gs>
              <a:gs pos="50000">
                <a:srgbClr val="0066cc"/>
              </a:gs>
              <a:gs pos="100000">
                <a:srgbClr val="00376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3"/>
          <p:cNvSpPr/>
          <p:nvPr/>
        </p:nvSpPr>
        <p:spPr>
          <a:xfrm>
            <a:off x="90000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4182"/>
              </a:gs>
              <a:gs pos="100000">
                <a:srgbClr val="0066c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4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5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10" name="Oval 16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7"/>
            <p:cNvSpPr/>
            <p:nvPr/>
          </p:nvSpPr>
          <p:spPr>
            <a:xfrm>
              <a:off x="103824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8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9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Oval 20"/>
          <p:cNvSpPr/>
          <p:nvPr/>
        </p:nvSpPr>
        <p:spPr>
          <a:xfrm>
            <a:off x="3492360" y="170028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5d135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1"/>
          <p:cNvSpPr/>
          <p:nvPr/>
        </p:nvSpPr>
        <p:spPr>
          <a:xfrm>
            <a:off x="3492360" y="170028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5d135">
                  <a:alpha val="32156"/>
                </a:srgbClr>
              </a:gs>
              <a:gs pos="100000">
                <a:srgbClr val="2f611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2"/>
          <p:cNvSpPr/>
          <p:nvPr/>
        </p:nvSpPr>
        <p:spPr>
          <a:xfrm>
            <a:off x="3633840" y="1841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7711d"/>
              </a:gs>
              <a:gs pos="50000">
                <a:srgbClr val="65d135"/>
              </a:gs>
              <a:gs pos="100000">
                <a:srgbClr val="37711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3"/>
          <p:cNvSpPr/>
          <p:nvPr/>
        </p:nvSpPr>
        <p:spPr>
          <a:xfrm>
            <a:off x="3635280" y="18446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08522"/>
              </a:gs>
              <a:gs pos="100000">
                <a:srgbClr val="65d135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4"/>
          <p:cNvSpPr/>
          <p:nvPr/>
        </p:nvSpPr>
        <p:spPr>
          <a:xfrm>
            <a:off x="3727440" y="193500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25"/>
          <p:cNvGrpSpPr/>
          <p:nvPr/>
        </p:nvGrpSpPr>
        <p:grpSpPr>
          <a:xfrm>
            <a:off x="3754440" y="1954080"/>
            <a:ext cx="1636560" cy="1636920"/>
            <a:chOff x="3754440" y="1954080"/>
            <a:chExt cx="1636560" cy="1636920"/>
          </a:xfrm>
        </p:grpSpPr>
        <p:sp>
          <p:nvSpPr>
            <p:cNvPr id="220" name="Oval 26"/>
            <p:cNvSpPr/>
            <p:nvPr/>
          </p:nvSpPr>
          <p:spPr>
            <a:xfrm>
              <a:off x="3754440" y="195408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7"/>
            <p:cNvSpPr/>
            <p:nvPr/>
          </p:nvSpPr>
          <p:spPr>
            <a:xfrm>
              <a:off x="3774960" y="196308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8"/>
            <p:cNvSpPr/>
            <p:nvPr/>
          </p:nvSpPr>
          <p:spPr>
            <a:xfrm>
              <a:off x="3792240" y="197892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9"/>
            <p:cNvSpPr/>
            <p:nvPr/>
          </p:nvSpPr>
          <p:spPr>
            <a:xfrm>
              <a:off x="3881160" y="202068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30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25" name="Oval 31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32"/>
            <p:cNvSpPr/>
            <p:nvPr/>
          </p:nvSpPr>
          <p:spPr>
            <a:xfrm>
              <a:off x="652140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33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34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38"/>
          <p:cNvSpPr/>
          <p:nvPr/>
        </p:nvSpPr>
        <p:spPr>
          <a:xfrm>
            <a:off x="857160" y="308772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фото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9"/>
          <p:cNvSpPr/>
          <p:nvPr/>
        </p:nvSpPr>
        <p:spPr>
          <a:xfrm>
            <a:off x="3564000" y="240984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плака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0"/>
          <p:cNvSpPr/>
          <p:nvPr/>
        </p:nvSpPr>
        <p:spPr>
          <a:xfrm>
            <a:off x="6227640" y="2997360"/>
            <a:ext cx="21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през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т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2"/>
          <p:cNvSpPr/>
          <p:nvPr/>
        </p:nvSpPr>
        <p:spPr>
          <a:xfrm>
            <a:off x="1979640" y="4221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5d135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43"/>
          <p:cNvSpPr/>
          <p:nvPr/>
        </p:nvSpPr>
        <p:spPr>
          <a:xfrm>
            <a:off x="1979640" y="4221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65d135">
                  <a:alpha val="32156"/>
                </a:srgbClr>
              </a:gs>
              <a:gs pos="100000">
                <a:srgbClr val="2f611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4"/>
          <p:cNvSpPr/>
          <p:nvPr/>
        </p:nvSpPr>
        <p:spPr>
          <a:xfrm>
            <a:off x="2120760" y="4362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7711d"/>
              </a:gs>
              <a:gs pos="50000">
                <a:srgbClr val="65d135"/>
              </a:gs>
              <a:gs pos="100000">
                <a:srgbClr val="37711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5"/>
          <p:cNvSpPr/>
          <p:nvPr/>
        </p:nvSpPr>
        <p:spPr>
          <a:xfrm>
            <a:off x="2122560" y="43657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08522"/>
              </a:gs>
              <a:gs pos="100000">
                <a:srgbClr val="65d135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46"/>
          <p:cNvSpPr/>
          <p:nvPr/>
        </p:nvSpPr>
        <p:spPr>
          <a:xfrm>
            <a:off x="2214720" y="4456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47"/>
          <p:cNvGrpSpPr/>
          <p:nvPr/>
        </p:nvGrpSpPr>
        <p:grpSpPr>
          <a:xfrm>
            <a:off x="2241720" y="4475160"/>
            <a:ext cx="1636560" cy="1636560"/>
            <a:chOff x="2241720" y="4475160"/>
            <a:chExt cx="1636560" cy="1636560"/>
          </a:xfrm>
        </p:grpSpPr>
        <p:sp>
          <p:nvSpPr>
            <p:cNvPr id="238" name="Oval 48"/>
            <p:cNvSpPr/>
            <p:nvPr/>
          </p:nvSpPr>
          <p:spPr>
            <a:xfrm>
              <a:off x="2241720" y="4475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49"/>
            <p:cNvSpPr/>
            <p:nvPr/>
          </p:nvSpPr>
          <p:spPr>
            <a:xfrm>
              <a:off x="2262240" y="4484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50"/>
            <p:cNvSpPr/>
            <p:nvPr/>
          </p:nvSpPr>
          <p:spPr>
            <a:xfrm>
              <a:off x="2279520" y="4500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51"/>
            <p:cNvSpPr/>
            <p:nvPr/>
          </p:nvSpPr>
          <p:spPr>
            <a:xfrm>
              <a:off x="2368440" y="4541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52"/>
          <p:cNvSpPr/>
          <p:nvPr/>
        </p:nvSpPr>
        <p:spPr>
          <a:xfrm>
            <a:off x="2303640" y="4653000"/>
            <a:ext cx="152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виде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фраг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53"/>
          <p:cNvSpPr/>
          <p:nvPr/>
        </p:nvSpPr>
        <p:spPr>
          <a:xfrm>
            <a:off x="4838760" y="423216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5d135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54"/>
          <p:cNvSpPr/>
          <p:nvPr/>
        </p:nvSpPr>
        <p:spPr>
          <a:xfrm>
            <a:off x="4838760" y="423216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65d135">
                  <a:alpha val="32156"/>
                </a:srgbClr>
              </a:gs>
              <a:gs pos="100000">
                <a:srgbClr val="2f611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55"/>
          <p:cNvSpPr/>
          <p:nvPr/>
        </p:nvSpPr>
        <p:spPr>
          <a:xfrm>
            <a:off x="4979880" y="43736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37711d"/>
              </a:gs>
              <a:gs pos="50000">
                <a:srgbClr val="65d135"/>
              </a:gs>
              <a:gs pos="100000">
                <a:srgbClr val="37711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56"/>
          <p:cNvSpPr/>
          <p:nvPr/>
        </p:nvSpPr>
        <p:spPr>
          <a:xfrm>
            <a:off x="4981680" y="437688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408522"/>
              </a:gs>
              <a:gs pos="100000">
                <a:srgbClr val="65d135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57"/>
          <p:cNvSpPr/>
          <p:nvPr/>
        </p:nvSpPr>
        <p:spPr>
          <a:xfrm>
            <a:off x="5073480" y="4467240"/>
            <a:ext cx="169092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58"/>
          <p:cNvGrpSpPr/>
          <p:nvPr/>
        </p:nvGrpSpPr>
        <p:grpSpPr>
          <a:xfrm>
            <a:off x="5100480" y="4486320"/>
            <a:ext cx="1636920" cy="1636560"/>
            <a:chOff x="5100480" y="4486320"/>
            <a:chExt cx="1636920" cy="1636560"/>
          </a:xfrm>
        </p:grpSpPr>
        <p:sp>
          <p:nvSpPr>
            <p:cNvPr id="249" name="Oval 59"/>
            <p:cNvSpPr/>
            <p:nvPr/>
          </p:nvSpPr>
          <p:spPr>
            <a:xfrm>
              <a:off x="5100480" y="4486320"/>
              <a:ext cx="163692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60"/>
            <p:cNvSpPr/>
            <p:nvPr/>
          </p:nvSpPr>
          <p:spPr>
            <a:xfrm>
              <a:off x="5121000" y="4495320"/>
              <a:ext cx="159768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61"/>
            <p:cNvSpPr/>
            <p:nvPr/>
          </p:nvSpPr>
          <p:spPr>
            <a:xfrm>
              <a:off x="5138280" y="4511160"/>
              <a:ext cx="151920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62"/>
            <p:cNvSpPr/>
            <p:nvPr/>
          </p:nvSpPr>
          <p:spPr>
            <a:xfrm>
              <a:off x="5227200" y="4552920"/>
              <a:ext cx="135036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63"/>
          <p:cNvSpPr/>
          <p:nvPr/>
        </p:nvSpPr>
        <p:spPr>
          <a:xfrm>
            <a:off x="5099040" y="479736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Arial"/>
              </a:rPr>
              <a:t>видеоро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ьзование мультимедийных технологи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AutoShape 6"/>
          <p:cNvGrpSpPr/>
          <p:nvPr/>
        </p:nvGrpSpPr>
        <p:grpSpPr>
          <a:xfrm>
            <a:off x="317520" y="1170000"/>
            <a:ext cx="3174840" cy="2049480"/>
            <a:chOff x="317520" y="1170000"/>
            <a:chExt cx="3174840" cy="2049480"/>
          </a:xfrm>
        </p:grpSpPr>
        <p:pic>
          <p:nvPicPr>
            <p:cNvPr id="256" name="AutoShape 6" descr=""/>
            <p:cNvPicPr/>
            <p:nvPr/>
          </p:nvPicPr>
          <p:blipFill>
            <a:blip r:embed="rId1"/>
            <a:stretch/>
          </p:blipFill>
          <p:spPr>
            <a:xfrm>
              <a:off x="317520" y="1170000"/>
              <a:ext cx="3174840" cy="20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96880" y="1454040"/>
              <a:ext cx="22874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дл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обозначен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те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AutoShape 7"/>
          <p:cNvGrpSpPr/>
          <p:nvPr/>
        </p:nvGrpSpPr>
        <p:grpSpPr>
          <a:xfrm>
            <a:off x="3213000" y="1170000"/>
            <a:ext cx="3260880" cy="2152800"/>
            <a:chOff x="3213000" y="1170000"/>
            <a:chExt cx="3260880" cy="2152800"/>
          </a:xfrm>
        </p:grpSpPr>
        <p:pic>
          <p:nvPicPr>
            <p:cNvPr id="259" name="AutoShape 7" descr=""/>
            <p:cNvPicPr/>
            <p:nvPr/>
          </p:nvPicPr>
          <p:blipFill>
            <a:blip r:embed="rId2"/>
            <a:stretch/>
          </p:blipFill>
          <p:spPr>
            <a:xfrm>
              <a:off x="3213000" y="1170000"/>
              <a:ext cx="3260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3525840" y="1454040"/>
              <a:ext cx="230652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ка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опровожде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обьясн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едагог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AutoShape 8"/>
          <p:cNvGrpSpPr/>
          <p:nvPr/>
        </p:nvGrpSpPr>
        <p:grpSpPr>
          <a:xfrm>
            <a:off x="6175440" y="1170000"/>
            <a:ext cx="3120840" cy="2049480"/>
            <a:chOff x="6175440" y="1170000"/>
            <a:chExt cx="3120840" cy="2049480"/>
          </a:xfrm>
        </p:grpSpPr>
        <p:pic>
          <p:nvPicPr>
            <p:cNvPr id="262" name="AutoShape 8" descr=""/>
            <p:cNvPicPr/>
            <p:nvPr/>
          </p:nvPicPr>
          <p:blipFill>
            <a:blip r:embed="rId3"/>
            <a:stretch/>
          </p:blipFill>
          <p:spPr>
            <a:xfrm>
              <a:off x="6175440" y="1170000"/>
              <a:ext cx="3120840" cy="20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6454800" y="1454040"/>
              <a:ext cx="22352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дл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мониторинг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зна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Picture 13" descr="C:\Documents and Settings\User\Рабочий стол\выступление-круглый стол 2012г\4-20.gif"/>
          <p:cNvPicPr/>
          <p:nvPr/>
        </p:nvPicPr>
        <p:blipFill>
          <a:blip r:embed="rId4"/>
          <a:stretch/>
        </p:blipFill>
        <p:spPr>
          <a:xfrm>
            <a:off x="2484360" y="3213000"/>
            <a:ext cx="3888000" cy="302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едиатека в ДОУ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2" descr="C:\Documents and Settings\User\Рабочий стол\выступление-круглый стол 2012г\yavleniya_prirody.jpg"/>
          <p:cNvPicPr/>
          <p:nvPr/>
        </p:nvPicPr>
        <p:blipFill>
          <a:blip r:embed="rId1"/>
          <a:stretch/>
        </p:blipFill>
        <p:spPr>
          <a:xfrm>
            <a:off x="971640" y="3789360"/>
            <a:ext cx="3313080" cy="2232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C:\Documents and Settings\User\Рабочий стол\выступление-круглый стол 2012г\nazvanie2.png"/>
          <p:cNvPicPr/>
          <p:nvPr/>
        </p:nvPicPr>
        <p:blipFill>
          <a:blip r:embed="rId2"/>
          <a:stretch/>
        </p:blipFill>
        <p:spPr>
          <a:xfrm>
            <a:off x="1042920" y="1413000"/>
            <a:ext cx="7058160" cy="1871640"/>
          </a:xfrm>
          <a:prstGeom prst="rect">
            <a:avLst/>
          </a:prstGeom>
          <a:ln w="76320">
            <a:solidFill>
              <a:srgbClr val="326b18"/>
            </a:solidFill>
            <a:miter/>
          </a:ln>
        </p:spPr>
      </p:pic>
      <p:pic>
        <p:nvPicPr>
          <p:cNvPr id="268" name="Picture 4" descr="C:\Documents and Settings\User\Рабочий стол\выступление-круглый стол 2012г\znachenie_vody.jpg"/>
          <p:cNvPicPr/>
          <p:nvPr/>
        </p:nvPicPr>
        <p:blipFill>
          <a:blip r:embed="rId3"/>
          <a:stretch/>
        </p:blipFill>
        <p:spPr>
          <a:xfrm>
            <a:off x="4716360" y="3789360"/>
            <a:ext cx="3384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2:41:41Z</dcterms:created>
  <dc:creator>admin08</dc:creator>
  <dc:description/>
  <dc:language>en-US</dc:language>
  <cp:lastModifiedBy>ТАТ</cp:lastModifiedBy>
  <dcterms:modified xsi:type="dcterms:W3CDTF">2015-01-29T02:51:15Z</dcterms:modified>
  <cp:revision>132</cp:revision>
  <dc:subject/>
  <dc:title>Использование компьютерных технологий</dc:title>
</cp:coreProperties>
</file>