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30.gif" ContentType="image/gif"/>
  <Override PartName="/ppt/media/image19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29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14.gif" ContentType="image/gif"/>
  <Override PartName="/ppt/media/image17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5EC-18B0-437E-A78D-D0AD0E4F6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280-1171-40D5-802D-C673A24F7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11C-FC5A-4795-895B-96DDD8036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141-10B5-455A-9353-5415B0F5D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2C75-A7EA-4A7C-B724-097394108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091-CF0C-4A01-AA69-3E76FBA66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1BF-6641-43A9-9E1F-212A241F3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5ACE-B6BB-4A64-8948-85AEF484C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93A9-7284-4FF7-BED7-35C80908D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503F-9F53-479B-A2B1-70A950FAD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F51-CC54-4E5C-A83C-AA73F8F0C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9B09-3A89-4C5E-B4B6-C912CA972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328-F688-4B4E-A86D-2C538C70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93F-9936-4D43-8DBC-BC7B1614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71-28A6-4313-8E25-5B8E163E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5CD-B5FD-4795-BF95-874EC636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E0A-D158-4AF8-8F5E-5024B05D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88C8-4CAC-4753-B2E6-2D50E9E6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A218-1A97-4728-A4D3-EFDA10B7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34FA-BBFE-40E9-A2F9-92B791B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9430-D41C-477E-B629-AB05768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D5F-DA2F-4DFF-BAF8-F104B5FB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CB53-C170-4FC2-8249-74FBCA3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7ED-F425-42C4-A176-144F80B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5654-3EAA-43B5-9E81-F545348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620-E5F8-46E2-A5C7-442BD0C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7AC5-54A3-4057-8D21-651FFBB6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E2E0-EC20-476D-B6CC-994C847A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A5CD-5D99-4192-8651-AE2D9215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D0C-58D5-41B6-8BB5-4DDBD97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0BE-C7E4-446E-88FD-0C3E6A6D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04D-7BDE-46C6-9E32-6A6D2BA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17F-5BB9-4CA6-8AEE-98CEF46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6B0-C169-41E8-8A82-A7AF9AF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B0E-FB78-4501-A35E-EB50571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6D0-2B04-4B23-8F19-932C237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7F2-E157-4284-B938-7324805F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EE2-F5AA-4B13-8519-9D670A85D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cior.edu.ru/" TargetMode="External"/><Relationship Id="rId2" Type="http://schemas.openxmlformats.org/officeDocument/2006/relationships/hyperlink" Target="http://eor.edu.ru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165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спользование цифровых образовательных ресурсов в образовательном процессе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533520" y="3276720"/>
            <a:ext cx="838080" cy="228600"/>
            <a:chOff x="533520" y="3276720"/>
            <a:chExt cx="838080" cy="228600"/>
          </a:xfrm>
        </p:grpSpPr>
        <p:sp>
          <p:nvSpPr>
            <p:cNvPr id="98" name="Oval 5"/>
            <p:cNvSpPr/>
            <p:nvPr/>
          </p:nvSpPr>
          <p:spPr>
            <a:xfrm>
              <a:off x="53352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5d135"/>
                </a:gs>
                <a:gs pos="100000">
                  <a:srgbClr val="2f61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83808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51020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tangle 8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454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9"/>
          <p:cNvGrpSpPr/>
          <p:nvPr/>
        </p:nvGrpSpPr>
        <p:grpSpPr>
          <a:xfrm>
            <a:off x="3803760" y="5888160"/>
            <a:ext cx="1536480" cy="641160"/>
            <a:chOff x="3803760" y="5888160"/>
            <a:chExt cx="1536480" cy="641160"/>
          </a:xfrm>
        </p:grpSpPr>
        <p:pic>
          <p:nvPicPr>
            <p:cNvPr id="103" name="Rectangle 9" descr=""/>
            <p:cNvPicPr/>
            <p:nvPr/>
          </p:nvPicPr>
          <p:blipFill>
            <a:blip r:embed="rId2"/>
            <a:stretch/>
          </p:blipFill>
          <p:spPr>
            <a:xfrm>
              <a:off x="3803760" y="5888160"/>
              <a:ext cx="15364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7760" y="6000840"/>
              <a:ext cx="1428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014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ИКТ для самообразования учителя-логопед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Блок-схема: альтернативный процесс 32"/>
          <p:cNvGrpSpPr/>
          <p:nvPr/>
        </p:nvGrpSpPr>
        <p:grpSpPr>
          <a:xfrm>
            <a:off x="5711760" y="2682720"/>
            <a:ext cx="2981520" cy="2687760"/>
            <a:chOff x="5711760" y="2682720"/>
            <a:chExt cx="2981520" cy="2687760"/>
          </a:xfrm>
        </p:grpSpPr>
        <p:pic>
          <p:nvPicPr>
            <p:cNvPr id="271" name="Блок-схема: альтернативный процесс 32" descr=""/>
            <p:cNvPicPr/>
            <p:nvPr/>
          </p:nvPicPr>
          <p:blipFill>
            <a:blip r:embed="rId1"/>
            <a:stretch/>
          </p:blipFill>
          <p:spPr>
            <a:xfrm>
              <a:off x="5711760" y="2682720"/>
              <a:ext cx="29815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181560" y="2817720"/>
              <a:ext cx="238608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здание и внедрение модели единого открытого информационно-образовательного пространст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Блок-схема: альтернативный процесс 34"/>
          <p:cNvGrpSpPr/>
          <p:nvPr/>
        </p:nvGrpSpPr>
        <p:grpSpPr>
          <a:xfrm>
            <a:off x="2925720" y="1268280"/>
            <a:ext cx="2878200" cy="2127240"/>
            <a:chOff x="2925720" y="1268280"/>
            <a:chExt cx="2878200" cy="2127240"/>
          </a:xfrm>
        </p:grpSpPr>
        <p:pic>
          <p:nvPicPr>
            <p:cNvPr id="274" name="Блок-схема: альтернативный процесс 34" descr=""/>
            <p:cNvPicPr/>
            <p:nvPr/>
          </p:nvPicPr>
          <p:blipFill>
            <a:blip r:embed="rId2"/>
            <a:stretch/>
          </p:blipFill>
          <p:spPr>
            <a:xfrm>
              <a:off x="2925720" y="1268280"/>
              <a:ext cx="28782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373560" y="1373040"/>
              <a:ext cx="23256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ткрытость и доступность информации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Блок-схема: альтернативный процесс 35"/>
          <p:cNvGrpSpPr/>
          <p:nvPr/>
        </p:nvGrpSpPr>
        <p:grpSpPr>
          <a:xfrm>
            <a:off x="212760" y="2766960"/>
            <a:ext cx="2871720" cy="2567160"/>
            <a:chOff x="212760" y="2766960"/>
            <a:chExt cx="2871720" cy="2567160"/>
          </a:xfrm>
        </p:grpSpPr>
        <p:pic>
          <p:nvPicPr>
            <p:cNvPr id="277" name="Блок-схема: альтернативный процесс 35" descr=""/>
            <p:cNvPicPr/>
            <p:nvPr/>
          </p:nvPicPr>
          <p:blipFill>
            <a:blip r:embed="rId3"/>
            <a:stretch/>
          </p:blipFill>
          <p:spPr>
            <a:xfrm>
              <a:off x="212760" y="2766960"/>
              <a:ext cx="287172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81120" y="2889360"/>
              <a:ext cx="2281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спользование ЦОР в индивидуальной работе с деть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Блок-схема: альтернативный процесс 36"/>
          <p:cNvGrpSpPr/>
          <p:nvPr/>
        </p:nvGrpSpPr>
        <p:grpSpPr>
          <a:xfrm>
            <a:off x="3067200" y="4773600"/>
            <a:ext cx="2876400" cy="2114640"/>
            <a:chOff x="3067200" y="4773600"/>
            <a:chExt cx="2876400" cy="2114640"/>
          </a:xfrm>
        </p:grpSpPr>
        <p:pic>
          <p:nvPicPr>
            <p:cNvPr id="280" name="Блок-схема: альтернативный процесс 36" descr=""/>
            <p:cNvPicPr/>
            <p:nvPr/>
          </p:nvPicPr>
          <p:blipFill>
            <a:blip r:embed="rId4"/>
            <a:stretch/>
          </p:blipFill>
          <p:spPr>
            <a:xfrm>
              <a:off x="3067200" y="4773600"/>
              <a:ext cx="287640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513240" y="4870440"/>
              <a:ext cx="233208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недрение дистанционных форм общения педагогов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7"/>
          <p:cNvSpPr/>
          <p:nvPr/>
        </p:nvSpPr>
        <p:spPr>
          <a:xfrm>
            <a:off x="44596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0" descr="C:\Documents and Settings\User\Рабочий стол\сайтд.с\наш сайт\95937509.gif"/>
          <p:cNvPicPr/>
          <p:nvPr/>
        </p:nvPicPr>
        <p:blipFill>
          <a:blip r:embed="rId5"/>
          <a:stretch/>
        </p:blipFill>
        <p:spPr>
          <a:xfrm>
            <a:off x="3780000" y="3213000"/>
            <a:ext cx="1512720" cy="144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monitor_w"/>
          <p:cNvPicPr/>
          <p:nvPr/>
        </p:nvPicPr>
        <p:blipFill>
          <a:blip r:embed="rId1"/>
          <a:stretch/>
        </p:blipFill>
        <p:spPr>
          <a:xfrm>
            <a:off x="3000240" y="3357720"/>
            <a:ext cx="581976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ЦОИ и ЦОР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деятельности педагог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Прямоугольник с двумя скругленными противолежащими углами 4"/>
          <p:cNvGrpSpPr/>
          <p:nvPr/>
        </p:nvGrpSpPr>
        <p:grpSpPr>
          <a:xfrm>
            <a:off x="811080" y="1359000"/>
            <a:ext cx="5559480" cy="2963880"/>
            <a:chOff x="811080" y="1359000"/>
            <a:chExt cx="5559480" cy="2963880"/>
          </a:xfrm>
        </p:grpSpPr>
        <p:pic>
          <p:nvPicPr>
            <p:cNvPr id="287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811080" y="1359000"/>
              <a:ext cx="555948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971640" y="1515960"/>
              <a:ext cx="523692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«Недостаточно только получить знан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адо найти им приложение. Недостаточ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только желать, надо делать!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Иоганн Вольфганг Гё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Прямоугольник с двумя скругленными противолежащими углами 5"/>
          <p:cNvGrpSpPr/>
          <p:nvPr/>
        </p:nvGrpSpPr>
        <p:grpSpPr>
          <a:xfrm>
            <a:off x="1676520" y="4280040"/>
            <a:ext cx="5553000" cy="2260440"/>
            <a:chOff x="1676520" y="4280040"/>
            <a:chExt cx="5553000" cy="2260440"/>
          </a:xfrm>
        </p:grpSpPr>
        <p:pic>
          <p:nvPicPr>
            <p:cNvPr id="290" name="Прямоугольник с двумя скругленными противолежащими углами 5" descr=""/>
            <p:cNvPicPr/>
            <p:nvPr/>
          </p:nvPicPr>
          <p:blipFill>
            <a:blip r:embed="rId3"/>
            <a:stretch/>
          </p:blipFill>
          <p:spPr>
            <a:xfrm>
              <a:off x="1676520" y="4280040"/>
              <a:ext cx="555300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800360" y="4402080"/>
              <a:ext cx="53067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сскажи мне, и я забуду, покажи мне, и я запомню, дай мне попробовать, и я научусь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итайская мудрость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4360" y="2997360"/>
            <a:ext cx="784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32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293" name="Rectangle 9"/>
          <p:cNvGrpSpPr/>
          <p:nvPr/>
        </p:nvGrpSpPr>
        <p:grpSpPr>
          <a:xfrm>
            <a:off x="3786120" y="5810400"/>
            <a:ext cx="1535040" cy="639720"/>
            <a:chOff x="3786120" y="5810400"/>
            <a:chExt cx="1535040" cy="639720"/>
          </a:xfrm>
        </p:grpSpPr>
        <p:pic>
          <p:nvPicPr>
            <p:cNvPr id="294" name="Rectangle 9" descr=""/>
            <p:cNvPicPr/>
            <p:nvPr/>
          </p:nvPicPr>
          <p:blipFill>
            <a:blip r:embed="rId1"/>
            <a:stretch/>
          </p:blipFill>
          <p:spPr>
            <a:xfrm>
              <a:off x="3786120" y="5810400"/>
              <a:ext cx="1535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840120" y="5924520"/>
              <a:ext cx="1428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014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429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зация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1835280" y="530064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документ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ие проф.маст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board"/>
          <p:cNvPicPr/>
          <p:nvPr/>
        </p:nvPicPr>
        <p:blipFill>
          <a:blip r:embed="rId1"/>
          <a:stretch/>
        </p:blipFill>
        <p:spPr>
          <a:xfrm>
            <a:off x="6858000" y="114300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original_metal_w"/>
          <p:cNvPicPr/>
          <p:nvPr/>
        </p:nvPicPr>
        <p:blipFill>
          <a:blip r:embed="rId2"/>
          <a:stretch/>
        </p:blipFill>
        <p:spPr>
          <a:xfrm>
            <a:off x="214200" y="5357880"/>
            <a:ext cx="1447920" cy="13143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2714760" y="2000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2700360" y="29973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714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2714760" y="40719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2071800" y="46432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074"/>
          <p:cNvPicPr/>
          <p:nvPr/>
        </p:nvPicPr>
        <p:blipFill>
          <a:blip r:embed="rId3"/>
          <a:stretch/>
        </p:blipFill>
        <p:spPr>
          <a:xfrm>
            <a:off x="357120" y="1500120"/>
            <a:ext cx="1524240" cy="133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3D_28"/>
          <p:cNvPicPr/>
          <p:nvPr/>
        </p:nvPicPr>
        <p:blipFill>
          <a:blip r:embed="rId4"/>
          <a:stretch/>
        </p:blipFill>
        <p:spPr>
          <a:xfrm>
            <a:off x="2500200" y="557208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3D_26"/>
          <p:cNvPicPr/>
          <p:nvPr/>
        </p:nvPicPr>
        <p:blipFill>
          <a:blip r:embed="rId5"/>
          <a:stretch/>
        </p:blipFill>
        <p:spPr>
          <a:xfrm>
            <a:off x="324000" y="364500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3D_24"/>
          <p:cNvPicPr/>
          <p:nvPr/>
        </p:nvPicPr>
        <p:blipFill>
          <a:blip r:embed="rId6"/>
          <a:stretch/>
        </p:blipFill>
        <p:spPr>
          <a:xfrm>
            <a:off x="7740720" y="5300640"/>
            <a:ext cx="888840" cy="10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D_32"/>
          <p:cNvPicPr/>
          <p:nvPr/>
        </p:nvPicPr>
        <p:blipFill>
          <a:blip r:embed="rId7"/>
          <a:stretch/>
        </p:blipFill>
        <p:spPr>
          <a:xfrm>
            <a:off x="5286240" y="5357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3D_21"/>
          <p:cNvPicPr/>
          <p:nvPr/>
        </p:nvPicPr>
        <p:blipFill>
          <a:blip r:embed="rId8"/>
          <a:stretch/>
        </p:blipFill>
        <p:spPr>
          <a:xfrm>
            <a:off x="7358040" y="364320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original_metal_w"/>
          <p:cNvPicPr/>
          <p:nvPr/>
        </p:nvPicPr>
        <p:blipFill>
          <a:blip r:embed="rId9"/>
          <a:stretch/>
        </p:blipFill>
        <p:spPr>
          <a:xfrm>
            <a:off x="214200" y="528624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3D_28"/>
          <p:cNvPicPr/>
          <p:nvPr/>
        </p:nvPicPr>
        <p:blipFill>
          <a:blip r:embed="rId10"/>
          <a:stretch/>
        </p:blipFill>
        <p:spPr>
          <a:xfrm>
            <a:off x="2500200" y="550080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3D_26"/>
          <p:cNvPicPr/>
          <p:nvPr/>
        </p:nvPicPr>
        <p:blipFill>
          <a:blip r:embed="rId11"/>
          <a:stretch/>
        </p:blipFill>
        <p:spPr>
          <a:xfrm>
            <a:off x="324000" y="357336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3D_24"/>
          <p:cNvPicPr/>
          <p:nvPr/>
        </p:nvPicPr>
        <p:blipFill>
          <a:blip r:embed="rId12"/>
          <a:stretch/>
        </p:blipFill>
        <p:spPr>
          <a:xfrm>
            <a:off x="7740720" y="5229360"/>
            <a:ext cx="888840" cy="107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3D_32"/>
          <p:cNvPicPr/>
          <p:nvPr/>
        </p:nvPicPr>
        <p:blipFill>
          <a:blip r:embed="rId13"/>
          <a:stretch/>
        </p:blipFill>
        <p:spPr>
          <a:xfrm>
            <a:off x="5286240" y="52862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3D_21"/>
          <p:cNvPicPr/>
          <p:nvPr/>
        </p:nvPicPr>
        <p:blipFill>
          <a:blip r:embed="rId14"/>
          <a:stretch/>
        </p:blipFill>
        <p:spPr>
          <a:xfrm>
            <a:off x="7358040" y="3571920"/>
            <a:ext cx="1247760" cy="9288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8"/>
          <p:cNvSpPr/>
          <p:nvPr/>
        </p:nvSpPr>
        <p:spPr>
          <a:xfrm>
            <a:off x="2340000" y="1557360"/>
            <a:ext cx="4248000" cy="3385800"/>
          </a:xfrm>
          <a:prstGeom prst="rect">
            <a:avLst/>
          </a:prstGeom>
          <a:solidFill>
            <a:srgbClr val="f7f1da"/>
          </a:solidFill>
          <a:ln w="76320">
            <a:solidFill>
              <a:srgbClr val="ecc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4d"/>
                </a:solidFill>
                <a:latin typeface="Arial"/>
              </a:rPr>
              <a:t>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 , а также на базе разнообразных средств информационного обм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48196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ЦОР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Прямоугольник 4"/>
          <p:cNvGrpSpPr/>
          <p:nvPr/>
        </p:nvGrpSpPr>
        <p:grpSpPr>
          <a:xfrm>
            <a:off x="1060560" y="1285920"/>
            <a:ext cx="7388280" cy="5102280"/>
            <a:chOff x="1060560" y="1285920"/>
            <a:chExt cx="7388280" cy="510228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60560" y="1285920"/>
              <a:ext cx="738828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32000" y="1557360"/>
              <a:ext cx="684036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4d"/>
                  </a:solidFill>
                  <a:latin typeface="Arial"/>
                </a:rPr>
                <a:t>цифровой образовательный ресурс - </a:t>
              </a:r>
              <a:r>
                <a:rPr b="0" lang="ru-RU" sz="1800" spc="-1" strike="noStrike">
                  <a:solidFill>
                    <a:srgbClr val="00004d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4d"/>
                  </a:solidFill>
                  <a:latin typeface="Arial"/>
                </a:rPr>
                <a:t>это информационный источник, содержащий графическую, текстовую, цифровую, речевую, музыкальную, видео–, фото– и другую информацию, направленный на реализацию целей и задач современного образования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" descr="C:\Documents and Settings\User\Рабочий стол\выступление-круглый стол 2012г\19-3.gif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237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фровые образовательные ресурсы позволяют объединять огромное количество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Схема 2" descr=""/>
          <p:cNvPicPr/>
          <p:nvPr/>
        </p:nvPicPr>
        <p:blipFill>
          <a:blip r:embed="rId1"/>
          <a:stretch/>
        </p:blipFill>
        <p:spPr>
          <a:xfrm>
            <a:off x="1487520" y="1212840"/>
            <a:ext cx="6235560" cy="4065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1500120" y="5786280"/>
            <a:ext cx="6096240" cy="781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Группа 3" descr=""/>
          <p:cNvPicPr/>
          <p:nvPr/>
        </p:nvPicPr>
        <p:blipFill>
          <a:blip r:embed="rId2"/>
          <a:stretch/>
        </p:blipFill>
        <p:spPr>
          <a:xfrm>
            <a:off x="1792440" y="5321160"/>
            <a:ext cx="5864040" cy="167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ифровые образовательные инструмент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5508720" y="4365720"/>
            <a:ext cx="329544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соз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 обрабо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85840" y="4149720"/>
            <a:ext cx="334944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форма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(или информацио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- справо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635280" y="3860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e4c"/>
              </a:gs>
              <a:gs pos="100000">
                <a:srgbClr val="f9ef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500000" y="393372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5d135"/>
              </a:gs>
              <a:gs pos="100000">
                <a:srgbClr val="cef0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1258920" y="1197000"/>
            <a:ext cx="6696360" cy="2806920"/>
            <a:chOff x="1258920" y="1197000"/>
            <a:chExt cx="6696360" cy="2806920"/>
          </a:xfrm>
        </p:grpSpPr>
        <p:grpSp>
          <p:nvGrpSpPr>
            <p:cNvPr id="143" name="Group 12"/>
            <p:cNvGrpSpPr/>
            <p:nvPr/>
          </p:nvGrpSpPr>
          <p:grpSpPr>
            <a:xfrm>
              <a:off x="1258920" y="1447200"/>
              <a:ext cx="6696360" cy="2556720"/>
              <a:chOff x="1258920" y="1447200"/>
              <a:chExt cx="6696360" cy="25567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1332000" y="1528560"/>
                <a:ext cx="6623280" cy="2475360"/>
              </a:xfrm>
              <a:prstGeom prst="ellipse">
                <a:avLst/>
              </a:prstGeom>
              <a:gradFill rotWithShape="0">
                <a:gsLst>
                  <a:gs pos="0">
                    <a:srgbClr val="ae0404"/>
                  </a:gs>
                  <a:gs pos="100000">
                    <a:srgbClr val="5502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1258920" y="1447200"/>
                <a:ext cx="6623280" cy="2474640"/>
              </a:xfrm>
              <a:prstGeom prst="ellipse">
                <a:avLst/>
              </a:prstGeom>
              <a:gradFill rotWithShape="0">
                <a:gsLst>
                  <a:gs pos="0">
                    <a:srgbClr val="db9090"/>
                  </a:gs>
                  <a:gs pos="100000">
                    <a:srgbClr val="ae040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1574640" y="1197000"/>
              <a:ext cx="5995440" cy="2351520"/>
            </a:xfrm>
            <a:prstGeom prst="ellipse">
              <a:avLst/>
            </a:prstGeom>
            <a:gradFill rotWithShape="0">
              <a:gsLst>
                <a:gs pos="0">
                  <a:srgbClr val="2f6119"/>
                </a:gs>
                <a:gs pos="100000">
                  <a:srgbClr val="65d1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1652760" y="1210680"/>
              <a:ext cx="5849640" cy="2292840"/>
            </a:xfrm>
            <a:prstGeom prst="ellipse">
              <a:avLst/>
            </a:prstGeom>
            <a:gradFill rotWithShape="0">
              <a:gsLst>
                <a:gs pos="0">
                  <a:srgbClr val="65d135">
                    <a:alpha val="0"/>
                  </a:srgbClr>
                </a:gs>
                <a:gs pos="100000">
                  <a:srgbClr val="c9e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1712880" y="1233360"/>
              <a:ext cx="5565960" cy="2142000"/>
            </a:xfrm>
            <a:prstGeom prst="ellipse">
              <a:avLst/>
            </a:prstGeom>
            <a:gradFill rotWithShape="0">
              <a:gsLst>
                <a:gs pos="0">
                  <a:srgbClr val="50a62a"/>
                </a:gs>
                <a:gs pos="100000">
                  <a:srgbClr val="65d135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2007360" y="1280880"/>
              <a:ext cx="4899600" cy="173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5d135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18"/>
          <p:cNvSpPr/>
          <p:nvPr/>
        </p:nvSpPr>
        <p:spPr>
          <a:xfrm>
            <a:off x="2484360" y="1484280"/>
            <a:ext cx="437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4d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00004d"/>
                </a:solidFill>
                <a:latin typeface="Arial"/>
              </a:rPr>
              <a:t>ЦОР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"/>
          <p:cNvGrpSpPr/>
          <p:nvPr/>
        </p:nvGrpSpPr>
        <p:grpSpPr>
          <a:xfrm>
            <a:off x="193680" y="1081080"/>
            <a:ext cx="2376000" cy="1932120"/>
            <a:chOff x="193680" y="1081080"/>
            <a:chExt cx="2376000" cy="1932120"/>
          </a:xfrm>
        </p:grpSpPr>
        <p:sp>
          <p:nvSpPr>
            <p:cNvPr id="152" name="AutoShape 4"/>
            <p:cNvSpPr/>
            <p:nvPr/>
          </p:nvSpPr>
          <p:spPr>
            <a:xfrm>
              <a:off x="193680" y="1228320"/>
              <a:ext cx="2369160" cy="136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230040" y="1232280"/>
              <a:ext cx="2297520" cy="13420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249120" y="2220120"/>
              <a:ext cx="226656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249120" y="1242720"/>
              <a:ext cx="2266560" cy="33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200520" y="2596680"/>
              <a:ext cx="2369160" cy="4165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249120" y="2607840"/>
              <a:ext cx="2266560" cy="37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0"/>
            <p:cNvGrpSpPr/>
            <p:nvPr/>
          </p:nvGrpSpPr>
          <p:grpSpPr>
            <a:xfrm>
              <a:off x="1008720" y="1081080"/>
              <a:ext cx="703800" cy="307800"/>
              <a:chOff x="1008720" y="1081080"/>
              <a:chExt cx="703800" cy="307800"/>
            </a:xfrm>
          </p:grpSpPr>
          <p:sp>
            <p:nvSpPr>
              <p:cNvPr id="159" name="Oval 11"/>
              <p:cNvSpPr/>
              <p:nvPr/>
            </p:nvSpPr>
            <p:spPr>
              <a:xfrm>
                <a:off x="1008720" y="1081080"/>
                <a:ext cx="703800" cy="30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2"/>
              <p:cNvSpPr/>
              <p:nvPr/>
            </p:nvSpPr>
            <p:spPr>
              <a:xfrm>
                <a:off x="1015920" y="1083240"/>
                <a:ext cx="680400" cy="29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3"/>
              <p:cNvSpPr/>
              <p:nvPr/>
            </p:nvSpPr>
            <p:spPr>
              <a:xfrm>
                <a:off x="1024200" y="1085040"/>
                <a:ext cx="664920" cy="290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1031760" y="1087920"/>
                <a:ext cx="632160" cy="271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1068480" y="1095120"/>
                <a:ext cx="56160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6"/>
            <p:cNvSpPr/>
            <p:nvPr/>
          </p:nvSpPr>
          <p:spPr>
            <a:xfrm>
              <a:off x="1258920" y="1125000"/>
              <a:ext cx="18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77200" y="1474560"/>
              <a:ext cx="22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e0404"/>
                  </a:solidFill>
                  <a:uFillTx/>
                  <a:latin typeface="Arial"/>
                  <a:hlinkClick r:id="rId1"/>
                </a:rPr>
                <a:t>http://fcior.edu.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3006720" y="1211400"/>
            <a:ext cx="2534760" cy="2899440"/>
            <a:chOff x="3006720" y="1211400"/>
            <a:chExt cx="2534760" cy="2899440"/>
          </a:xfrm>
        </p:grpSpPr>
        <p:sp>
          <p:nvSpPr>
            <p:cNvPr id="167" name="AutoShape 19"/>
            <p:cNvSpPr/>
            <p:nvPr/>
          </p:nvSpPr>
          <p:spPr>
            <a:xfrm>
              <a:off x="3071880" y="1348560"/>
              <a:ext cx="2466000" cy="12758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0"/>
            <p:cNvSpPr/>
            <p:nvPr/>
          </p:nvSpPr>
          <p:spPr>
            <a:xfrm>
              <a:off x="3109680" y="1352520"/>
              <a:ext cx="2392200" cy="12517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1"/>
            <p:cNvSpPr/>
            <p:nvPr/>
          </p:nvSpPr>
          <p:spPr>
            <a:xfrm>
              <a:off x="3129480" y="2273760"/>
              <a:ext cx="2359440" cy="316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"/>
            <p:cNvSpPr/>
            <p:nvPr/>
          </p:nvSpPr>
          <p:spPr>
            <a:xfrm>
              <a:off x="3129480" y="1362240"/>
              <a:ext cx="2359440" cy="31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3"/>
            <p:cNvSpPr/>
            <p:nvPr/>
          </p:nvSpPr>
          <p:spPr>
            <a:xfrm>
              <a:off x="3920400" y="1211400"/>
              <a:ext cx="732600" cy="286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3927240" y="1213200"/>
              <a:ext cx="709200" cy="277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5"/>
            <p:cNvSpPr/>
            <p:nvPr/>
          </p:nvSpPr>
          <p:spPr>
            <a:xfrm>
              <a:off x="3936600" y="1214640"/>
              <a:ext cx="692640" cy="27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6"/>
            <p:cNvSpPr/>
            <p:nvPr/>
          </p:nvSpPr>
          <p:spPr>
            <a:xfrm>
              <a:off x="3943800" y="1217520"/>
              <a:ext cx="658440" cy="252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7"/>
            <p:cNvSpPr/>
            <p:nvPr/>
          </p:nvSpPr>
          <p:spPr>
            <a:xfrm>
              <a:off x="3983400" y="1224720"/>
              <a:ext cx="584640" cy="20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4181040" y="1252440"/>
              <a:ext cx="1951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3006720" y="1456560"/>
              <a:ext cx="23450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 u="sng">
                  <a:solidFill>
                    <a:srgbClr val="ae0404"/>
                  </a:solidFill>
                  <a:uFillTx/>
                  <a:latin typeface="Arial"/>
                  <a:hlinkClick r:id="rId2"/>
                </a:rPr>
                <a:t>http://eor.edu.ru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br>
                <a:rPr sz="28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0"/>
            <p:cNvSpPr/>
            <p:nvPr/>
          </p:nvSpPr>
          <p:spPr>
            <a:xfrm>
              <a:off x="3075120" y="2624760"/>
              <a:ext cx="2466360" cy="388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1"/>
            <p:cNvSpPr/>
            <p:nvPr/>
          </p:nvSpPr>
          <p:spPr>
            <a:xfrm>
              <a:off x="3125880" y="2635200"/>
              <a:ext cx="2359440" cy="345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5954760" y="1104840"/>
            <a:ext cx="3009600" cy="2386800"/>
            <a:chOff x="5954760" y="1104840"/>
            <a:chExt cx="3009600" cy="2386800"/>
          </a:xfrm>
        </p:grpSpPr>
        <p:sp>
          <p:nvSpPr>
            <p:cNvPr id="181" name="AutoShape 33"/>
            <p:cNvSpPr/>
            <p:nvPr/>
          </p:nvSpPr>
          <p:spPr>
            <a:xfrm>
              <a:off x="5963040" y="1242720"/>
              <a:ext cx="3001320" cy="1281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4"/>
            <p:cNvSpPr/>
            <p:nvPr/>
          </p:nvSpPr>
          <p:spPr>
            <a:xfrm>
              <a:off x="6009480" y="1246320"/>
              <a:ext cx="2910600" cy="12571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5"/>
            <p:cNvSpPr/>
            <p:nvPr/>
          </p:nvSpPr>
          <p:spPr>
            <a:xfrm>
              <a:off x="6033600" y="2171880"/>
              <a:ext cx="2871360" cy="31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6"/>
            <p:cNvSpPr/>
            <p:nvPr/>
          </p:nvSpPr>
          <p:spPr>
            <a:xfrm>
              <a:off x="6033600" y="1256400"/>
              <a:ext cx="2871360" cy="31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37"/>
            <p:cNvGrpSpPr/>
            <p:nvPr/>
          </p:nvGrpSpPr>
          <p:grpSpPr>
            <a:xfrm>
              <a:off x="6995520" y="1104840"/>
              <a:ext cx="891720" cy="288000"/>
              <a:chOff x="6995520" y="1104840"/>
              <a:chExt cx="891720" cy="288000"/>
            </a:xfrm>
          </p:grpSpPr>
          <p:sp>
            <p:nvSpPr>
              <p:cNvPr id="186" name="Oval 38"/>
              <p:cNvSpPr/>
              <p:nvPr/>
            </p:nvSpPr>
            <p:spPr>
              <a:xfrm>
                <a:off x="6995520" y="1104840"/>
                <a:ext cx="891720" cy="288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39"/>
              <p:cNvSpPr/>
              <p:nvPr/>
            </p:nvSpPr>
            <p:spPr>
              <a:xfrm>
                <a:off x="7004880" y="1107000"/>
                <a:ext cx="862200" cy="279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40"/>
              <p:cNvSpPr/>
              <p:nvPr/>
            </p:nvSpPr>
            <p:spPr>
              <a:xfrm>
                <a:off x="7015320" y="1108440"/>
                <a:ext cx="842400" cy="272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41"/>
              <p:cNvSpPr/>
              <p:nvPr/>
            </p:nvSpPr>
            <p:spPr>
              <a:xfrm>
                <a:off x="7024680" y="1111320"/>
                <a:ext cx="800640" cy="25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42"/>
              <p:cNvSpPr/>
              <p:nvPr/>
            </p:nvSpPr>
            <p:spPr>
              <a:xfrm>
                <a:off x="7071480" y="1118160"/>
                <a:ext cx="7113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43"/>
            <p:cNvSpPr/>
            <p:nvPr/>
          </p:nvSpPr>
          <p:spPr>
            <a:xfrm>
              <a:off x="7312680" y="1145880"/>
              <a:ext cx="2426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4"/>
            <p:cNvSpPr/>
            <p:nvPr/>
          </p:nvSpPr>
          <p:spPr>
            <a:xfrm>
              <a:off x="6068880" y="1446480"/>
              <a:ext cx="285336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http://school-collection.edu.ru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45"/>
            <p:cNvSpPr/>
            <p:nvPr/>
          </p:nvSpPr>
          <p:spPr>
            <a:xfrm>
              <a:off x="5954760" y="2524320"/>
              <a:ext cx="3000600" cy="3898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6"/>
            <p:cNvSpPr/>
            <p:nvPr/>
          </p:nvSpPr>
          <p:spPr>
            <a:xfrm>
              <a:off x="6015960" y="2535120"/>
              <a:ext cx="2871000" cy="34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дреса ФЦИОР в Интернет: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Рисунок 1" descr="http://www.dzschool23.ru/images/ebook_fcior.gif"/>
          <p:cNvPicPr/>
          <p:nvPr/>
        </p:nvPicPr>
        <p:blipFill>
          <a:blip r:embed="rId3"/>
          <a:stretch/>
        </p:blipFill>
        <p:spPr>
          <a:xfrm>
            <a:off x="0" y="0"/>
            <a:ext cx="1905120" cy="7239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349200" y="2782800"/>
            <a:ext cx="86472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ые ссы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cio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Федеральный центр информационно-образова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Единая коллекция цифровых 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zigrushk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айт для дошколь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ch2000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ентр системно-деятельностной педагогики «Школа 2000…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netedu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Сетевое образование. Экспертиза. Учебники. (Скачать рекомендованные учебники в форма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ites.google.com/site/konstruktoruroka/hom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ифровой конструктор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openlesson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Открытый урок. (О режиссуре нескучных уроков в современной школе, премудростях социо-игрового стиля обучения и деловых подсказках в таблице-бабочке для профессионалов) Здесь же 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openlesson.ru/?page_id=2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подсказки, советы и рекомендации, которые могут помочь воспитателям разобраться в своих планах, эмоциях и ожиданиях накануне повседневного или открытого занятия с дошколь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estival.1september.ru/articles/subjects/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Фестиваль педагогических идей «Открытый уро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ibooks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лектронно-библиотеч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elibrary.ru/defaultx.a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Научная электронная библиот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цифровых образовательных ресурсо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e040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ae040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e0202"/>
              </a:gs>
              <a:gs pos="50000">
                <a:srgbClr val="ae0404"/>
              </a:gs>
              <a:gs pos="100000">
                <a:srgbClr val="5e020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0303"/>
              </a:gs>
              <a:gs pos="100000">
                <a:srgbClr val="ae040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66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755640" y="227664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66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76e"/>
              </a:gs>
              <a:gs pos="50000">
                <a:srgbClr val="0066cc"/>
              </a:gs>
              <a:gs pos="100000">
                <a:srgbClr val="0037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90000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4182"/>
              </a:gs>
              <a:gs pos="100000">
                <a:srgbClr val="0066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10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20"/>
          <p:cNvSpPr/>
          <p:nvPr/>
        </p:nvSpPr>
        <p:spPr>
          <a:xfrm>
            <a:off x="3492360" y="170028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3492360" y="170028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3633840" y="1841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3635280" y="18446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3727440" y="193500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5"/>
          <p:cNvGrpSpPr/>
          <p:nvPr/>
        </p:nvGrpSpPr>
        <p:grpSpPr>
          <a:xfrm>
            <a:off x="3754440" y="1954080"/>
            <a:ext cx="1636560" cy="1636920"/>
            <a:chOff x="3754440" y="1954080"/>
            <a:chExt cx="1636560" cy="1636920"/>
          </a:xfrm>
        </p:grpSpPr>
        <p:sp>
          <p:nvSpPr>
            <p:cNvPr id="220" name="Oval 26"/>
            <p:cNvSpPr/>
            <p:nvPr/>
          </p:nvSpPr>
          <p:spPr>
            <a:xfrm>
              <a:off x="3754440" y="195408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3774960" y="196308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8"/>
            <p:cNvSpPr/>
            <p:nvPr/>
          </p:nvSpPr>
          <p:spPr>
            <a:xfrm>
              <a:off x="3792240" y="197892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9"/>
            <p:cNvSpPr/>
            <p:nvPr/>
          </p:nvSpPr>
          <p:spPr>
            <a:xfrm>
              <a:off x="3881160" y="202068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25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38"/>
          <p:cNvSpPr/>
          <p:nvPr/>
        </p:nvSpPr>
        <p:spPr>
          <a:xfrm>
            <a:off x="857160" y="3087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ото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564000" y="240984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лак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6227640" y="2997360"/>
            <a:ext cx="21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ре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2"/>
          <p:cNvSpPr/>
          <p:nvPr/>
        </p:nvSpPr>
        <p:spPr>
          <a:xfrm>
            <a:off x="1979640" y="4221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1979640" y="4221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2120760" y="4362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2122560" y="43657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6"/>
          <p:cNvSpPr/>
          <p:nvPr/>
        </p:nvSpPr>
        <p:spPr>
          <a:xfrm>
            <a:off x="2214720" y="4456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7"/>
          <p:cNvGrpSpPr/>
          <p:nvPr/>
        </p:nvGrpSpPr>
        <p:grpSpPr>
          <a:xfrm>
            <a:off x="2241720" y="4475160"/>
            <a:ext cx="1636560" cy="1636560"/>
            <a:chOff x="2241720" y="4475160"/>
            <a:chExt cx="1636560" cy="1636560"/>
          </a:xfrm>
        </p:grpSpPr>
        <p:sp>
          <p:nvSpPr>
            <p:cNvPr id="238" name="Oval 48"/>
            <p:cNvSpPr/>
            <p:nvPr/>
          </p:nvSpPr>
          <p:spPr>
            <a:xfrm>
              <a:off x="2241720" y="4475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49"/>
            <p:cNvSpPr/>
            <p:nvPr/>
          </p:nvSpPr>
          <p:spPr>
            <a:xfrm>
              <a:off x="2262240" y="4484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50"/>
            <p:cNvSpPr/>
            <p:nvPr/>
          </p:nvSpPr>
          <p:spPr>
            <a:xfrm>
              <a:off x="2279520" y="4500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51"/>
            <p:cNvSpPr/>
            <p:nvPr/>
          </p:nvSpPr>
          <p:spPr>
            <a:xfrm>
              <a:off x="2368440" y="4541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2303640" y="4653000"/>
            <a:ext cx="152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виде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раг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4838760" y="423216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4"/>
          <p:cNvSpPr/>
          <p:nvPr/>
        </p:nvSpPr>
        <p:spPr>
          <a:xfrm>
            <a:off x="4838760" y="423216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5"/>
          <p:cNvSpPr/>
          <p:nvPr/>
        </p:nvSpPr>
        <p:spPr>
          <a:xfrm>
            <a:off x="4979880" y="4373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6"/>
          <p:cNvSpPr/>
          <p:nvPr/>
        </p:nvSpPr>
        <p:spPr>
          <a:xfrm>
            <a:off x="4981680" y="437688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7"/>
          <p:cNvSpPr/>
          <p:nvPr/>
        </p:nvSpPr>
        <p:spPr>
          <a:xfrm>
            <a:off x="5073480" y="446724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8"/>
          <p:cNvGrpSpPr/>
          <p:nvPr/>
        </p:nvGrpSpPr>
        <p:grpSpPr>
          <a:xfrm>
            <a:off x="5100480" y="4486320"/>
            <a:ext cx="1636920" cy="1636560"/>
            <a:chOff x="5100480" y="4486320"/>
            <a:chExt cx="1636920" cy="1636560"/>
          </a:xfrm>
        </p:grpSpPr>
        <p:sp>
          <p:nvSpPr>
            <p:cNvPr id="249" name="Oval 59"/>
            <p:cNvSpPr/>
            <p:nvPr/>
          </p:nvSpPr>
          <p:spPr>
            <a:xfrm>
              <a:off x="5100480" y="448632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60"/>
            <p:cNvSpPr/>
            <p:nvPr/>
          </p:nvSpPr>
          <p:spPr>
            <a:xfrm>
              <a:off x="5121000" y="449532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61"/>
            <p:cNvSpPr/>
            <p:nvPr/>
          </p:nvSpPr>
          <p:spPr>
            <a:xfrm>
              <a:off x="5138280" y="451116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62"/>
            <p:cNvSpPr/>
            <p:nvPr/>
          </p:nvSpPr>
          <p:spPr>
            <a:xfrm>
              <a:off x="5227200" y="455292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3"/>
          <p:cNvSpPr/>
          <p:nvPr/>
        </p:nvSpPr>
        <p:spPr>
          <a:xfrm>
            <a:off x="5099040" y="479736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видеоро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технологи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AutoShape 6"/>
          <p:cNvGrpSpPr/>
          <p:nvPr/>
        </p:nvGrpSpPr>
        <p:grpSpPr>
          <a:xfrm>
            <a:off x="317520" y="1170000"/>
            <a:ext cx="3174840" cy="2049480"/>
            <a:chOff x="317520" y="1170000"/>
            <a:chExt cx="3174840" cy="2049480"/>
          </a:xfrm>
        </p:grpSpPr>
        <p:pic>
          <p:nvPicPr>
            <p:cNvPr id="256" name="AutoShape 6" descr=""/>
            <p:cNvPicPr/>
            <p:nvPr/>
          </p:nvPicPr>
          <p:blipFill>
            <a:blip r:embed="rId1"/>
            <a:stretch/>
          </p:blipFill>
          <p:spPr>
            <a:xfrm>
              <a:off x="317520" y="1170000"/>
              <a:ext cx="3174840" cy="20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6880" y="1454040"/>
              <a:ext cx="22874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бозна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7"/>
          <p:cNvGrpSpPr/>
          <p:nvPr/>
        </p:nvGrpSpPr>
        <p:grpSpPr>
          <a:xfrm>
            <a:off x="3213000" y="1170000"/>
            <a:ext cx="3260880" cy="2152800"/>
            <a:chOff x="3213000" y="1170000"/>
            <a:chExt cx="3260880" cy="2152800"/>
          </a:xfrm>
        </p:grpSpPr>
        <p:pic>
          <p:nvPicPr>
            <p:cNvPr id="259" name="AutoShape 7" descr=""/>
            <p:cNvPicPr/>
            <p:nvPr/>
          </p:nvPicPr>
          <p:blipFill>
            <a:blip r:embed="rId2"/>
            <a:stretch/>
          </p:blipFill>
          <p:spPr>
            <a:xfrm>
              <a:off x="3213000" y="1170000"/>
              <a:ext cx="3260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525840" y="1454040"/>
              <a:ext cx="23065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а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провожд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бьяс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даго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8"/>
          <p:cNvGrpSpPr/>
          <p:nvPr/>
        </p:nvGrpSpPr>
        <p:grpSpPr>
          <a:xfrm>
            <a:off x="6175440" y="1170000"/>
            <a:ext cx="3120840" cy="2049480"/>
            <a:chOff x="6175440" y="1170000"/>
            <a:chExt cx="3120840" cy="2049480"/>
          </a:xfrm>
        </p:grpSpPr>
        <p:pic>
          <p:nvPicPr>
            <p:cNvPr id="262" name="AutoShape 8" descr=""/>
            <p:cNvPicPr/>
            <p:nvPr/>
          </p:nvPicPr>
          <p:blipFill>
            <a:blip r:embed="rId3"/>
            <a:stretch/>
          </p:blipFill>
          <p:spPr>
            <a:xfrm>
              <a:off x="6175440" y="1170000"/>
              <a:ext cx="3120840" cy="20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454800" y="1454040"/>
              <a:ext cx="22352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ониторинг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13" descr="C:\Documents and Settings\User\Рабочий стол\выступление-круглый стол 2012г\4-20.gif"/>
          <p:cNvPicPr/>
          <p:nvPr/>
        </p:nvPicPr>
        <p:blipFill>
          <a:blip r:embed="rId4"/>
          <a:stretch/>
        </p:blipFill>
        <p:spPr>
          <a:xfrm>
            <a:off x="2484360" y="3213000"/>
            <a:ext cx="388800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диатека в ДОУ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2" descr="C:\Documents and Settings\User\Рабочий стол\выступление-круглый стол 2012г\yavleniya_prirody.jpg"/>
          <p:cNvPicPr/>
          <p:nvPr/>
        </p:nvPicPr>
        <p:blipFill>
          <a:blip r:embed="rId1"/>
          <a:stretch/>
        </p:blipFill>
        <p:spPr>
          <a:xfrm>
            <a:off x="971640" y="378936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Documents and Settings\User\Рабочий стол\выступление-круглый стол 2012г\nazvanie2.pn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1871640"/>
          </a:xfrm>
          <a:prstGeom prst="rect">
            <a:avLst/>
          </a:prstGeom>
          <a:ln w="76320">
            <a:solidFill>
              <a:srgbClr val="326b18"/>
            </a:solidFill>
            <a:miter/>
          </a:ln>
        </p:spPr>
      </p:pic>
      <p:pic>
        <p:nvPicPr>
          <p:cNvPr id="268" name="Picture 4" descr="C:\Documents and Settings\User\Рабочий стол\выступление-круглый стол 2012г\znachenie_vody.jpg"/>
          <p:cNvPicPr/>
          <p:nvPr/>
        </p:nvPicPr>
        <p:blipFill>
          <a:blip r:embed="rId3"/>
          <a:stretch/>
        </p:blipFill>
        <p:spPr>
          <a:xfrm>
            <a:off x="4716360" y="378936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2:41:41Z</dcterms:created>
  <dc:creator>admin08</dc:creator>
  <dc:description/>
  <dc:language>en-US</dc:language>
  <cp:lastModifiedBy>ТАТ</cp:lastModifiedBy>
  <dcterms:modified xsi:type="dcterms:W3CDTF">2015-01-29T02:51:15Z</dcterms:modified>
  <cp:revision>132</cp:revision>
  <dc:subject/>
  <dc:title>Использование компьютерных технологий</dc:title>
</cp:coreProperties>
</file>