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7DF-3857-4DA7-9297-6B0D7529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14F-CAEE-4C43-B669-CE58F3C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D91-65FE-4461-9C4C-A0310B99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C0B-1B42-400C-A785-E3CF2C43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3F2-DF82-4751-8D8A-BEC68CD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118-5066-40A3-A4B8-AA387E7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217-B9C6-4D74-81E3-CFEEBD1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4F2-3F35-405C-AEF8-78DF8C2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AFD-6C15-408F-BEC5-85E7FD6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F01-6ED5-41AF-B14B-2E6DB00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783-458A-4DBA-9E45-BAB3CD4A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F51-E96E-4ECA-B9C4-ECFBDBA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64E3-DABD-4CDE-A888-60CE08E6F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628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292280"/>
            <a:ext cx="640080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 </a:t>
            </a: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ПРОЕКТ ВЫПОЛНИЛ УЧЕНИК 1В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ГБОУ СОШ 893 Г.МОС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КАЗАКОВ  ИЛ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entury Gothic"/>
                <a:ea typeface="AVGmdBU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1090440"/>
            <a:ext cx="5699160" cy="297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мя Иль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– это русский вариант древнееврейского имени Элияху, означающего «Мой Бог – Господь», «верующий». Иначе толкуют, что имя Илья происходит от имени Илия, имеющего значение «крепость Господн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000" y="2133720"/>
            <a:ext cx="8064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nstantia"/>
              </a:rPr>
              <a:t>Краткая форма имени Илья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 Илюха, Илюша, Илюся, Лю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nstantia"/>
              </a:rPr>
              <a:t>Илюня, Люня, Люля, Ильюха, Ильюша, Иля, Иля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Имя у тебя одн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всегда оно да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знь длинна, и отт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ы побереги его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оман Се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C:\Users\Масянь\Desktop\0_833e3_c1b6f605_orig.png"/>
          <p:cNvPicPr/>
          <p:nvPr/>
        </p:nvPicPr>
        <p:blipFill>
          <a:blip r:embed="rId2"/>
          <a:stretch/>
        </p:blipFill>
        <p:spPr>
          <a:xfrm>
            <a:off x="6156360" y="3789360"/>
            <a:ext cx="25192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8" descr=""/>
          <p:cNvPicPr/>
          <p:nvPr/>
        </p:nvPicPr>
        <p:blipFill>
          <a:blip r:embed="rId2"/>
          <a:stretch/>
        </p:blipFill>
        <p:spPr>
          <a:xfrm>
            <a:off x="3024360" y="676440"/>
            <a:ext cx="5887800" cy="540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Масянь\Desktop\cb14de3137d49aa1e725df1b6d71f8e3.jpg"/>
          <p:cNvPicPr/>
          <p:nvPr/>
        </p:nvPicPr>
        <p:blipFill>
          <a:blip r:embed="rId3"/>
          <a:stretch/>
        </p:blipFill>
        <p:spPr>
          <a:xfrm>
            <a:off x="395280" y="3429000"/>
            <a:ext cx="2232000" cy="314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Масянь\Desktop\y_b349493f.jpg"/>
          <p:cNvPicPr/>
          <p:nvPr/>
        </p:nvPicPr>
        <p:blipFill>
          <a:blip r:embed="rId4"/>
          <a:stretch/>
        </p:blipFill>
        <p:spPr>
          <a:xfrm>
            <a:off x="324000" y="333360"/>
            <a:ext cx="230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4040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авославный святой, богатырь, один из глав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ероев русских бы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Масянь\Desktop\iliya2.jpg"/>
          <p:cNvPicPr/>
          <p:nvPr/>
        </p:nvPicPr>
        <p:blipFill>
          <a:blip r:embed="rId3"/>
          <a:stretch/>
        </p:blipFill>
        <p:spPr>
          <a:xfrm>
            <a:off x="1258920" y="2637000"/>
            <a:ext cx="2017800" cy="2678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разец справедливости, честности, мудрости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Масянь\Desktop\17be308c005819e5836834ac3422d15b_i-945.jpg"/>
          <p:cNvPicPr/>
          <p:nvPr/>
        </p:nvPicPr>
        <p:blipFill>
          <a:blip r:embed="rId4"/>
          <a:stretch/>
        </p:blipFill>
        <p:spPr>
          <a:xfrm>
            <a:off x="4932360" y="2637000"/>
            <a:ext cx="2232000" cy="2609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5"/>
          <a:stretch/>
        </p:blipFill>
        <p:spPr>
          <a:xfrm>
            <a:off x="2554200" y="249120"/>
            <a:ext cx="4432320" cy="93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050920" y="5516280"/>
            <a:ext cx="460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е интересен этот герой: его поступки и ка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3" descr=""/>
          <p:cNvPicPr/>
          <p:nvPr/>
        </p:nvPicPr>
        <p:blipFill>
          <a:blip r:embed="rId2"/>
          <a:stretch/>
        </p:blipFill>
        <p:spPr>
          <a:xfrm>
            <a:off x="1616040" y="-6480"/>
            <a:ext cx="7210440" cy="519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Масянь\Desktop\alf330.jpg"/>
          <p:cNvPicPr/>
          <p:nvPr/>
        </p:nvPicPr>
        <p:blipFill>
          <a:blip r:embed="rId3"/>
          <a:stretch/>
        </p:blipFill>
        <p:spPr>
          <a:xfrm>
            <a:off x="179280" y="4005360"/>
            <a:ext cx="23767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1:26Z</dcterms:created>
  <dc:creator>ppsworld.ru</dc:creator>
  <dc:description/>
  <dc:language>en-US</dc:language>
  <cp:lastModifiedBy>Масянь</cp:lastModifiedBy>
  <dcterms:modified xsi:type="dcterms:W3CDTF">2015-01-25T13:39:59Z</dcterms:modified>
  <cp:revision>25</cp:revision>
  <dc:subject/>
  <dc:title>PRESENTATION  NAME</dc:title>
</cp:coreProperties>
</file>