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EB6E-DA4B-46E4-BAC9-9CE79046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417E-E709-4B41-800D-A093193E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5DB-D6DB-4BF7-8AD6-7953DB8E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753-DE0C-4213-ADC8-879318D1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CE42-7D11-48B3-8D35-0B10010E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CC0-B7BC-4CBD-B96A-1122EF94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5667-753F-4550-B277-5CCABDC4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190B-DBA1-4CC6-8BCA-8DAED083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319-2AD4-4F9E-8940-9B6BEA7E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ED71-298D-452E-B4F5-EC8B6C72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D4D-792F-4520-AE0C-C8F935B3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49F2-657C-4877-9C88-5FC0AA65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2fa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133E-0908-459C-81C0-ADD97100C5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0_c47bb_76_XL"/>
          <p:cNvPicPr/>
          <p:nvPr/>
        </p:nvPicPr>
        <p:blipFill>
          <a:blip r:embed="rId1"/>
          <a:stretch/>
        </p:blipFill>
        <p:spPr>
          <a:xfrm>
            <a:off x="324000" y="189000"/>
            <a:ext cx="1638000" cy="220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1" descr="0_c47bb_763_XL"/>
          <p:cNvPicPr/>
          <p:nvPr/>
        </p:nvPicPr>
        <p:blipFill>
          <a:blip r:embed="rId2"/>
          <a:stretch/>
        </p:blipFill>
        <p:spPr>
          <a:xfrm>
            <a:off x="7308720" y="189000"/>
            <a:ext cx="1446480" cy="201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0_c47bb_76332_XL"/>
          <p:cNvPicPr/>
          <p:nvPr/>
        </p:nvPicPr>
        <p:blipFill>
          <a:blip r:embed="rId3"/>
          <a:stretch/>
        </p:blipFill>
        <p:spPr>
          <a:xfrm>
            <a:off x="7594560" y="2349360"/>
            <a:ext cx="1549440" cy="216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4" descr="0_c47bb_763325_XL"/>
          <p:cNvPicPr/>
          <p:nvPr/>
        </p:nvPicPr>
        <p:blipFill>
          <a:blip r:embed="rId4"/>
          <a:stretch/>
        </p:blipFill>
        <p:spPr>
          <a:xfrm>
            <a:off x="6742080" y="4581360"/>
            <a:ext cx="1550880" cy="216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5" descr="0_c47c1_773b8b4c_XL (2)"/>
          <p:cNvPicPr/>
          <p:nvPr/>
        </p:nvPicPr>
        <p:blipFill>
          <a:blip r:embed="rId5"/>
          <a:stretch/>
        </p:blipFill>
        <p:spPr>
          <a:xfrm>
            <a:off x="900000" y="4508640"/>
            <a:ext cx="1754280" cy="2133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7" descr="0_c47bb_7633251_XL"/>
          <p:cNvPicPr/>
          <p:nvPr/>
        </p:nvPicPr>
        <p:blipFill>
          <a:blip r:embed="rId6"/>
          <a:stretch/>
        </p:blipFill>
        <p:spPr>
          <a:xfrm>
            <a:off x="0" y="2421000"/>
            <a:ext cx="1600200" cy="2232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28"/>
          <p:cNvSpPr txBox="1"/>
          <p:nvPr/>
        </p:nvSpPr>
        <p:spPr>
          <a:xfrm>
            <a:off x="2556000" y="2421000"/>
            <a:ext cx="42004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8000"/>
                </a:solidFill>
                <a:latin typeface="Monotype Corsiva"/>
              </a:rPr>
              <a:t>Все профессии нужны,</a:t>
            </a:r>
            <a:endParaRPr b="0" lang="en-US" sz="4000" spc="1" strike="noStrike">
              <a:ln w="0">
                <a:noFill/>
              </a:ln>
              <a:solidFill>
                <a:srgbClr val="008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8000"/>
                </a:solidFill>
                <a:latin typeface="Monotype Corsiva"/>
              </a:rPr>
              <a:t>все профессии важны.</a:t>
            </a:r>
            <a:endParaRPr b="0" lang="en-US" sz="4000" spc="1" strike="noStrike">
              <a:ln w="0">
                <a:noFill/>
              </a:ln>
              <a:solidFill>
                <a:srgbClr val="008000"/>
              </a:solidFill>
              <a:latin typeface="Monotype Corsiva"/>
              <a:ea typeface="Monotype Corsiva"/>
            </a:endParaRPr>
          </a:p>
        </p:txBody>
      </p:sp>
      <p:sp>
        <p:nvSpPr>
          <p:cNvPr id="48" name="WordArt 29"/>
          <p:cNvSpPr txBox="1"/>
          <p:nvPr/>
        </p:nvSpPr>
        <p:spPr>
          <a:xfrm>
            <a:off x="2124000" y="836640"/>
            <a:ext cx="4743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0000"/>
                </a:solidFill>
                <a:latin typeface="Monotype Corsiva"/>
              </a:rPr>
              <a:t>Азбука профессий.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49" name="WordArt 39"/>
          <p:cNvSpPr txBox="1"/>
          <p:nvPr/>
        </p:nvSpPr>
        <p:spPr>
          <a:xfrm>
            <a:off x="3708360" y="4869000"/>
            <a:ext cx="203832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latin typeface="Monotype Corsiva"/>
              </a:rPr>
              <a:t>Работу выполнил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latin typeface="Monotype Corsiva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latin typeface="Monotype Corsiva"/>
              </a:rPr>
              <a:t>ученик 2 класса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latin typeface="Monotype Corsiva"/>
              </a:rPr>
              <a:t>гимназии "Логос"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latin typeface="Monotype Corsiva"/>
              </a:rPr>
              <a:t>Гусев Денис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latin typeface="Monotype Corsiva"/>
              <a:ea typeface="Monotype Corsiva"/>
            </a:endParaRPr>
          </a:p>
        </p:txBody>
      </p:sp>
      <p:pic>
        <p:nvPicPr>
          <p:cNvPr id="50" name="Gitara solo instrumental naya muzyka dlya dushi (mp3top100.net).mp3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40384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окей— профессиональный всадник, работающий на ипподроме, человек, который управляет лошадью на конских скач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4287960" cy="3146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олог – ученый - специалисты по зо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ология - биологическая наука, предметом изучения которой являются представители царства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Unknown Soldier :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539640" y="1125360"/>
            <a:ext cx="388296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пектор ГАИ, ГИБДД — должностное лицо, занимающееся надзором, контролем на доро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4500720" y="1125360"/>
            <a:ext cx="4464000" cy="33433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8"/>
          <p:cNvSpPr txBox="1"/>
          <p:nvPr/>
        </p:nvSpPr>
        <p:spPr>
          <a:xfrm>
            <a:off x="1908000" y="1125360"/>
            <a:ext cx="5400720" cy="417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latin typeface="Arial"/>
              </a:rPr>
              <a:t>Й й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</p:spTree>
  </p:cSld>
  <p:transition spd="slow" advTm="4000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1128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оун — цирковой, эстрадный или театральный артист, использующий приемы гротеска и буффонады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4716360" y="1125360"/>
            <a:ext cx="4210200" cy="3219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ыжник — человек, использующий лыжи для различных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249800" cy="3844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рос — младшее воинское звание в военно-морском флоте, соответствующее званию рядовой в других родах войс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4932360" y="1052640"/>
            <a:ext cx="3348000" cy="4464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фтя́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собирательное название                 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фесс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вязанных с добычей неф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Что–то пошло не так(а может и так и это нормально):"/>
          <p:cNvPicPr/>
          <p:nvPr/>
        </p:nvPicPr>
        <p:blipFill>
          <a:blip r:embed="rId1"/>
          <a:stretch/>
        </p:blipFill>
        <p:spPr>
          <a:xfrm>
            <a:off x="395280" y="105264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фициант  — работник предприятий общественного питания, обслуживающий посетителей в ресторанах, каф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208320" cy="4464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икмахер, парикмахер-стилист — специалист в области создания стиля человека с помощью причё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959280" cy="2798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3026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Monotype Corsiva"/>
              </a:rPr>
              <a:t>Профессия - комплекс теоретических знаний и навыков, приобретенных  в ходе специальной подготовк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76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Monotype Corsiva"/>
                <a:ea typeface="Meiryo"/>
              </a:rPr>
              <a:t>Профессии бываю разные - </a:t>
            </a:r>
            <a:br>
              <a:rPr sz="3200"/>
            </a:br>
            <a:r>
              <a:rPr b="0" lang="ru-RU" sz="3200" spc="-1" strike="noStrike">
                <a:solidFill>
                  <a:srgbClr val="0033cc"/>
                </a:solidFill>
                <a:latin typeface="Monotype Corsiva"/>
                <a:ea typeface="Meiryo"/>
              </a:rPr>
              <a:t>Все они очень важные:</a:t>
            </a:r>
            <a:br>
              <a:rPr sz="3200"/>
            </a:br>
            <a:r>
              <a:rPr b="0" lang="ru-RU" sz="3200" spc="-1" strike="noStrike">
                <a:solidFill>
                  <a:srgbClr val="0033cc"/>
                </a:solidFill>
                <a:latin typeface="Monotype Corsiva"/>
                <a:ea typeface="Meiryo"/>
              </a:rPr>
              <a:t>Повар, плотник и шофер,</a:t>
            </a:r>
            <a:br>
              <a:rPr sz="3200"/>
            </a:br>
            <a:r>
              <a:rPr b="0" lang="ru-RU" sz="3200" spc="-1" strike="noStrike">
                <a:solidFill>
                  <a:srgbClr val="0033cc"/>
                </a:solidFill>
                <a:latin typeface="Monotype Corsiva"/>
                <a:ea typeface="Meiryo"/>
              </a:rPr>
              <a:t>Педагог, маляр, монтер…</a:t>
            </a:r>
            <a:br>
              <a:rPr sz="3200"/>
            </a:br>
            <a:r>
              <a:rPr b="0" lang="ru-RU" sz="3200" spc="-1" strike="noStrike">
                <a:solidFill>
                  <a:srgbClr val="0033cc"/>
                </a:solidFill>
                <a:latin typeface="Monotype Corsiva"/>
                <a:ea typeface="Meiryo"/>
              </a:rPr>
              <a:t>Все профессии нужны,</a:t>
            </a:r>
            <a:br>
              <a:rPr sz="3200"/>
            </a:br>
            <a:r>
              <a:rPr b="0" lang="ru-RU" sz="3200" spc="-1" strike="noStrike">
                <a:solidFill>
                  <a:srgbClr val="0033cc"/>
                </a:solidFill>
                <a:latin typeface="Arial"/>
                <a:ea typeface="Meiryo"/>
              </a:rPr>
              <a:t>В</a:t>
            </a:r>
            <a:r>
              <a:rPr b="0" lang="ru-RU" sz="3200" spc="-1" strike="noStrike">
                <a:solidFill>
                  <a:srgbClr val="0033cc"/>
                </a:solidFill>
                <a:latin typeface="Monotype Corsiva"/>
                <a:ea typeface="Meiryo"/>
              </a:rPr>
              <a:t>се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  <a:ea typeface="Meiryo"/>
              </a:rPr>
              <a:t> профессии</a:t>
            </a:r>
            <a:r>
              <a:rPr b="0" lang="ru-RU" sz="3200" spc="-1" strike="noStrike">
                <a:solidFill>
                  <a:srgbClr val="0033cc"/>
                </a:solidFill>
                <a:latin typeface="Monotype Corsiva"/>
                <a:ea typeface="Meiryo"/>
              </a:rPr>
              <a:t> важны!</a:t>
            </a:r>
            <a:r>
              <a:rPr b="1" lang="ru-RU" sz="3200" spc="-1" strike="noStrike">
                <a:solidFill>
                  <a:srgbClr val="0033cc"/>
                </a:solidFill>
                <a:latin typeface="Monotype Corsiva"/>
                <a:ea typeface="Meiryo"/>
              </a:rPr>
              <a:t> </a:t>
            </a:r>
            <a:r>
              <a:rPr b="0" lang="ru-RU" sz="3200" spc="-1" strike="noStrike">
                <a:solidFill>
                  <a:srgbClr val="0033cc"/>
                </a:solidFill>
                <a:latin typeface="Monotype Corsiva"/>
                <a:ea typeface="Meiry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ст — специалист по передаче и приёму сообщений по ради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4788000" y="1052640"/>
            <a:ext cx="3776400" cy="4752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арщик — рабочий, специалист сварочного произво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4152600" cy="4152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кторист — человек, профессиональной деятельностью которого является управление различными видами тракторов, а также часто и грузовыми автомоби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4572000" y="1052640"/>
            <a:ext cx="4392720" cy="3386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— профессия и должность в системе начального и среднего общего образования, возникшая вследствие выделения последнего в особую социальную функцию, состоящую в обучении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392360" cy="2925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тболист — игрок в футбол, спортсмен, специализировавшийся на игре в футбо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4716360" y="1052640"/>
            <a:ext cx="4176720" cy="3003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удожники — люди, занимающиеся изобразительным искусст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4167000" cy="424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овод - специалист по цветоводству, человек выращивающий цв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067280" y="1052640"/>
            <a:ext cx="4829040" cy="32162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бан  — название пастуха овец в Молдавии, Румынии и части Украины, а также у народов Кавказа и Средней Аз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4319280" cy="3394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хтёр — человек, добывающий уголь и полезные ископаемые из недр земной ко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4932360" y="1052640"/>
            <a:ext cx="3740040" cy="5113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11"/>
          <p:cNvSpPr txBox="1"/>
          <p:nvPr/>
        </p:nvSpPr>
        <p:spPr>
          <a:xfrm>
            <a:off x="1908000" y="1413000"/>
            <a:ext cx="540072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0033cc"/>
                </a:solidFill>
                <a:latin typeface="Arial"/>
              </a:rPr>
              <a:t>Щ щ</a:t>
            </a:r>
            <a:endParaRPr b="0" lang="en-US" sz="9600" spc="1" strike="noStrike">
              <a:ln w="0">
                <a:noFill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pic>
        <p:nvPicPr>
          <p:cNvPr id="104" name="Gitara solo instrumental naya muzyka dlya dushi (mp3top100.net)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1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строном - человек, изучающий небесные объекты, например, звёзды, планеты и их спутники, ком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9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392720" cy="4392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7"/>
          <p:cNvSpPr txBox="1"/>
          <p:nvPr/>
        </p:nvSpPr>
        <p:spPr>
          <a:xfrm>
            <a:off x="3564000" y="1989000"/>
            <a:ext cx="2230200" cy="307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latin typeface="Arial"/>
              </a:rPr>
              <a:t>ъ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</p:spTree>
  </p:cSld>
  <p:transition spd="slow" advTm="4000">
    <p:wheel spokes="1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7"/>
          <p:cNvSpPr txBox="1"/>
          <p:nvPr/>
        </p:nvSpPr>
        <p:spPr>
          <a:xfrm>
            <a:off x="3635280" y="1989000"/>
            <a:ext cx="2038320" cy="278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latin typeface="Arial"/>
              </a:rPr>
              <a:t>ы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ransition spd="slow" advTm="4000">
    <p:wheel spokes="1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5"/>
          <p:cNvSpPr txBox="1"/>
          <p:nvPr/>
        </p:nvSpPr>
        <p:spPr>
          <a:xfrm>
            <a:off x="3635280" y="1989000"/>
            <a:ext cx="1703520" cy="31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latin typeface="Arial"/>
              </a:rPr>
              <a:t>ь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</p:spTree>
  </p:cSld>
  <p:transition spd="slow" advTm="4000"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к — специалист, работающий в области электротехники, занимающийся монтажом, эксплуатацией или ремонтом электрооборуд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394160" cy="3295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велир — мастер по изготовлению и ремонту ювелирных изделий, а также продавец     этих вещей и драгоценных камн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По секрету всему свету."/>
          <p:cNvPicPr/>
          <p:nvPr/>
        </p:nvPicPr>
        <p:blipFill>
          <a:blip r:embed="rId1"/>
          <a:stretch/>
        </p:blipFill>
        <p:spPr>
          <a:xfrm>
            <a:off x="4788000" y="1052640"/>
            <a:ext cx="4032000" cy="2689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мщик - устаревшее — «ямской охотник», — человек, занимающийся грузовыми и/или пассажирскими перевозками на гужевом транспор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4246560" cy="3182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3400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Сколько нужного на св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Люди делают вокру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Те плетут морские се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Те с рассветом косят лу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Варят сталь, штурмуют космо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За станком в цеху сто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Миллионы умных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Учат грамоте реб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Кто-то нефть в тайге кач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Из глубин земных плас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А другие листья ч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Аккуратно рвут с ку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Ежедневно дел в доста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Для тебя и для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Будет все всегда в поряд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Если трудится Зем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heel spokes="1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33cc"/>
                </a:solidFill>
                <a:latin typeface="Arial"/>
              </a:rPr>
              <a:t>Коне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ксёры — спортсмены, занимающиеся бокс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3924360" y="1125360"/>
            <a:ext cx="4964040" cy="3103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ч — лицо, получившее законченное высшее медицинское образование и обязующееся посвятить свои знания и умения предупреждению и лечению заболеваний, сохранению и укреплению здоровья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441792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нщик - профессионал гоночных состязаний. Велосипедист. Участник спортивных го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4140360" y="1052640"/>
            <a:ext cx="4786200" cy="2906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0" y="1052280"/>
            <a:ext cx="403848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орник — профессия, связанная с поддержанием чистоты и порядка во дворе и на улице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361152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40384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ерь - должностное лицо в охотничьих хозяйствах России; специалист-охотник, обслуживающий охотников-любителей. Егерь контролирует соблюдение правил природопользования и законов об охо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4284720" y="1052640"/>
            <a:ext cx="4572000" cy="3063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13"/>
          <p:cNvSpPr txBox="1"/>
          <p:nvPr/>
        </p:nvSpPr>
        <p:spPr>
          <a:xfrm>
            <a:off x="1835280" y="1268280"/>
            <a:ext cx="5486400" cy="411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3300"/>
                </a:solidFill>
                <a:latin typeface="Arial"/>
              </a:rPr>
              <a:t>Ё ё</a:t>
            </a:r>
            <a:endParaRPr b="0" lang="en-US" sz="9600" spc="1" strike="noStrike">
              <a:ln w="0">
                <a:noFill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ransition spd="slow" advTm="4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7T14:35:20Z</dcterms:created>
  <dc:creator>11111</dc:creator>
  <dc:description/>
  <dc:language>en-US</dc:language>
  <cp:lastModifiedBy>САНЯ</cp:lastModifiedBy>
  <dcterms:modified xsi:type="dcterms:W3CDTF">2015-01-29T06:45:27Z</dcterms:modified>
  <cp:revision>14</cp:revision>
  <dc:subject/>
  <dc:title>Слайд 1</dc:title>
</cp:coreProperties>
</file>