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1CCF-51B5-411C-B1A6-0828AD9478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7CC5-17FF-4BBC-9215-7919ED4E5A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504D-CD7F-4429-915B-F7AC96CC48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46A8-2586-46C5-AFAA-6FD3857D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E51D-C8F9-47DD-94E3-2811DCD4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99BA-1C34-424A-AB87-263697EA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E59-55B9-4A31-99A1-68C8CF16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F797-AB3E-4702-A460-663C30FB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2CA8-7CE9-49AD-8435-CDBBF164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AC77-3560-40DC-B9F5-585E1FF1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F6A0-8B9E-4268-9E76-ED64AF43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F5C8-F73B-4E44-8CE8-49C3C77E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71C0-0312-4917-B7CC-C59097D0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DDA1-56E7-41EF-AE7C-A7129491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28F1-881D-4547-96FF-A202A30F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fcc99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51FD-240A-4AC8-B2FE-1474D0F749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fcc99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8"/>
          <p:cNvGrpSpPr/>
          <p:nvPr/>
        </p:nvGrpSpPr>
        <p:grpSpPr>
          <a:xfrm>
            <a:off x="9360" y="1440"/>
            <a:ext cx="9075960" cy="6861240"/>
            <a:chOff x="9360" y="1440"/>
            <a:chExt cx="9075960" cy="6861240"/>
          </a:xfrm>
        </p:grpSpPr>
        <p:sp>
          <p:nvSpPr>
            <p:cNvPr id="49" name="Rectangle 5"/>
            <p:cNvSpPr/>
            <p:nvPr/>
          </p:nvSpPr>
          <p:spPr>
            <a:xfrm>
              <a:off x="9360" y="1440"/>
              <a:ext cx="9075960" cy="6861240"/>
            </a:xfrm>
            <a:prstGeom prst="rect">
              <a:avLst/>
            </a:prstGeom>
            <a:noFill/>
            <a:ln w="190440">
              <a:solidFill>
                <a:srgbClr val="c00000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7"/>
            <p:cNvSpPr/>
            <p:nvPr/>
          </p:nvSpPr>
          <p:spPr>
            <a:xfrm>
              <a:off x="281160" y="289080"/>
              <a:ext cx="8532720" cy="6286320"/>
            </a:xfrm>
            <a:prstGeom prst="rect">
              <a:avLst/>
            </a:prstGeom>
            <a:noFill/>
            <a:ln w="57240">
              <a:solidFill>
                <a:srgbClr val="c00000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8"/>
          <p:cNvGrpSpPr/>
          <p:nvPr/>
        </p:nvGrpSpPr>
        <p:grpSpPr>
          <a:xfrm>
            <a:off x="9360" y="1440"/>
            <a:ext cx="9075960" cy="6861240"/>
            <a:chOff x="9360" y="1440"/>
            <a:chExt cx="9075960" cy="6861240"/>
          </a:xfrm>
        </p:grpSpPr>
        <p:sp>
          <p:nvSpPr>
            <p:cNvPr id="52" name="Rectangle 5"/>
            <p:cNvSpPr/>
            <p:nvPr/>
          </p:nvSpPr>
          <p:spPr>
            <a:xfrm>
              <a:off x="9360" y="1440"/>
              <a:ext cx="907596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281160" y="289080"/>
              <a:ext cx="853272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7"/>
          <p:cNvSpPr/>
          <p:nvPr/>
        </p:nvSpPr>
        <p:spPr>
          <a:xfrm>
            <a:off x="684360" y="5946840"/>
            <a:ext cx="7704000" cy="398880"/>
          </a:xfrm>
          <a:prstGeom prst="rect">
            <a:avLst/>
          </a:prstGeom>
          <a:gradFill rotWithShape="0">
            <a:gsLst>
              <a:gs pos="0">
                <a:srgbClr val="fecf8a"/>
              </a:gs>
              <a:gs pos="50000">
                <a:srgbClr val="ffffff"/>
              </a:gs>
              <a:gs pos="100000">
                <a:srgbClr val="fecf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d7bb9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г. Москва                        28.01. 2015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799308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партамент образования г. Москвы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еверо-Западно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окружное управление образова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БОУ Школа №1191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школьное отделение здание №8 «Бриз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уппа №9 «Млечный путь» (подготовительный возраст)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7280" y="2060280"/>
            <a:ext cx="6840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030a0"/>
                </a:solidFill>
                <a:latin typeface="Arial"/>
              </a:rPr>
              <a:t>«Движение может по своему действию</a:t>
            </a:r>
            <a:br>
              <a:rPr sz="1400"/>
            </a:br>
            <a:r>
              <a:rPr b="1" i="1" lang="ru-RU" sz="1400" spc="-1" strike="noStrike">
                <a:solidFill>
                  <a:srgbClr val="7030a0"/>
                </a:solidFill>
                <a:latin typeface="Arial"/>
              </a:rPr>
              <a:t>заменить любое средство, но все лечебные</a:t>
            </a:r>
            <a:br>
              <a:rPr sz="1400"/>
            </a:br>
            <a:r>
              <a:rPr b="1" i="1" lang="ru-RU" sz="1400" spc="-1" strike="noStrike">
                <a:solidFill>
                  <a:srgbClr val="7030a0"/>
                </a:solidFill>
                <a:latin typeface="Arial"/>
              </a:rPr>
              <a:t>средства мира не могут заменить действие</a:t>
            </a:r>
            <a:br>
              <a:rPr sz="1400"/>
            </a:br>
            <a:r>
              <a:rPr b="1" i="1" lang="ru-RU" sz="1400" spc="-1" strike="noStrike">
                <a:solidFill>
                  <a:srgbClr val="7030a0"/>
                </a:solidFill>
                <a:latin typeface="Arial"/>
              </a:rPr>
              <a:t>движения».</a:t>
            </a:r>
            <a:br>
              <a:rPr sz="1400"/>
            </a:br>
            <a:r>
              <a:rPr b="1" i="1" lang="ru-RU" sz="1400" spc="-1" strike="noStrike">
                <a:solidFill>
                  <a:srgbClr val="7030a0"/>
                </a:solidFill>
                <a:latin typeface="Arial"/>
              </a:rPr>
              <a:t>Торквато Тасс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оминаци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«Дети, спорт и здоровь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оект «Минутки-Малют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едагог-психолог: Остапенко М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оспитатель: Казакова Л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Свободная 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Утренняя гимна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Самостоятельная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ОД (рисование, лепка, аппликация, конструировани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рогу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Гимнастика пробу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Чтение художественной лит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ключение упражнений в режим дн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Координирует работу левого и правого полуша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Расширяет поля зрительного восприя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Развивает пространственные представления,  способность к произвольному самоконтро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Улучшает деятельность мышц р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Повышает внимание и организованность ребе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вуручное рис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исуем двумя ру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3" descr="C:\Users\bvc1\Documents\фото дети проект\30122014069.jpg"/>
          <p:cNvPicPr/>
          <p:nvPr/>
        </p:nvPicPr>
        <p:blipFill>
          <a:blip r:embed="rId1"/>
          <a:stretch/>
        </p:blipFill>
        <p:spPr>
          <a:xfrm rot="21144600">
            <a:off x="539640" y="1267920"/>
            <a:ext cx="2448000" cy="2376720"/>
          </a:xfrm>
          <a:prstGeom prst="rect">
            <a:avLst/>
          </a:prstGeom>
          <a:ln w="9360">
            <a:solidFill>
              <a:srgbClr val="002060">
                <a:alpha val="75000"/>
              </a:srgbClr>
            </a:solidFill>
            <a:miter/>
          </a:ln>
        </p:spPr>
      </p:pic>
      <p:pic>
        <p:nvPicPr>
          <p:cNvPr id="80" name="Рисунок 4" descr="C:\Users\bvc1\Documents\фото дети проект\30122014071.jpg"/>
          <p:cNvPicPr/>
          <p:nvPr/>
        </p:nvPicPr>
        <p:blipFill>
          <a:blip r:embed="rId2"/>
          <a:stretch/>
        </p:blipFill>
        <p:spPr>
          <a:xfrm rot="369600">
            <a:off x="6267240" y="3878280"/>
            <a:ext cx="2592360" cy="2484360"/>
          </a:xfrm>
          <a:prstGeom prst="rect">
            <a:avLst/>
          </a:prstGeom>
          <a:ln w="9360">
            <a:solidFill>
              <a:srgbClr val="ffc000">
                <a:alpha val="80000"/>
              </a:srgbClr>
            </a:solidFill>
            <a:miter/>
          </a:ln>
        </p:spPr>
      </p:pic>
      <p:pic>
        <p:nvPicPr>
          <p:cNvPr id="81" name="Рисунок 6" descr="C:\Users\bvc1\Documents\фото дети проект\DSC04293.JPG"/>
          <p:cNvPicPr/>
          <p:nvPr/>
        </p:nvPicPr>
        <p:blipFill>
          <a:blip r:embed="rId3"/>
          <a:stretch/>
        </p:blipFill>
        <p:spPr>
          <a:xfrm rot="21184200">
            <a:off x="534960" y="3922560"/>
            <a:ext cx="2448000" cy="2495880"/>
          </a:xfrm>
          <a:prstGeom prst="rect">
            <a:avLst/>
          </a:prstGeom>
          <a:ln w="9360">
            <a:solidFill>
              <a:srgbClr val="ffff00">
                <a:alpha val="70000"/>
              </a:srgbClr>
            </a:solidFill>
            <a:miter/>
          </a:ln>
        </p:spPr>
      </p:pic>
      <p:pic>
        <p:nvPicPr>
          <p:cNvPr id="82" name="Рисунок 5" descr="C:\Users\bvc1\Documents\фото дети проект\DSC04288.JPG"/>
          <p:cNvPicPr/>
          <p:nvPr/>
        </p:nvPicPr>
        <p:blipFill>
          <a:blip r:embed="rId4"/>
          <a:stretch/>
        </p:blipFill>
        <p:spPr>
          <a:xfrm rot="319800">
            <a:off x="5851080" y="1267920"/>
            <a:ext cx="2952720" cy="2376720"/>
          </a:xfrm>
          <a:prstGeom prst="rect">
            <a:avLst/>
          </a:prstGeom>
          <a:ln w="9360">
            <a:solidFill>
              <a:srgbClr val="00b050">
                <a:alpha val="75000"/>
              </a:srgbClr>
            </a:solidFill>
            <a:miter/>
          </a:ln>
        </p:spPr>
      </p:pic>
      <p:pic>
        <p:nvPicPr>
          <p:cNvPr id="83" name="Рисунок 7" descr="C:\Users\bvc1\Documents\фото дети проект\30122014090.jpg"/>
          <p:cNvPicPr/>
          <p:nvPr/>
        </p:nvPicPr>
        <p:blipFill>
          <a:blip r:embed="rId5"/>
          <a:stretch/>
        </p:blipFill>
        <p:spPr>
          <a:xfrm>
            <a:off x="2852640" y="3633840"/>
            <a:ext cx="3452760" cy="2808360"/>
          </a:xfrm>
          <a:prstGeom prst="rect">
            <a:avLst/>
          </a:prstGeom>
          <a:ln w="9360">
            <a:solidFill>
              <a:srgbClr val="ffc000">
                <a:alpha val="70000"/>
              </a:srgbClr>
            </a:solidFill>
            <a:miter/>
          </a:ln>
        </p:spPr>
      </p:pic>
      <p:pic>
        <p:nvPicPr>
          <p:cNvPr id="84" name="Рисунок 8" descr="C:\Users\bvc1\Documents\фото дети проект\30122014094.jpg"/>
          <p:cNvPicPr/>
          <p:nvPr/>
        </p:nvPicPr>
        <p:blipFill>
          <a:blip r:embed="rId6"/>
          <a:stretch/>
        </p:blipFill>
        <p:spPr>
          <a:xfrm>
            <a:off x="2771640" y="1197000"/>
            <a:ext cx="3495960" cy="2376360"/>
          </a:xfrm>
          <a:prstGeom prst="rect">
            <a:avLst/>
          </a:prstGeom>
          <a:ln w="9360">
            <a:solidFill>
              <a:srgbClr val="c00000">
                <a:alpha val="70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Движения пальцев и кистей рук оказывают огромное влияние на развитие речевой и всей высшей нервной деятельности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екция кисти руки в головном мозге расположена очень близко с речевой моторной зо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ренировка движений пальцев и кистей рук повышают работоспособность коры головного мозга и, следовательно, уровень развития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альчиковые упраж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Выполнение упражнений доставляет детям  удовольствие, заряжает их энергией и позитивом, повышает работоспособ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Улучшается внешняя социализация и коммуникация детей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(дети с радостью делятся новыми навыками со сверстниками, демонстрируя свои новые умения),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повысилась их самооц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Повышается мотивация родителей в участии в образовательной деятельности ДО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Значительно растет уровень психолого-педагогической компетентности воспитателей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езультаты реализации проекта на 28.01.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04640" y="404640"/>
            <a:ext cx="8560080" cy="62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33"/>
                </a:solidFill>
                <a:latin typeface="Arial"/>
              </a:rPr>
              <a:t>Творческих успехов, уважаемые коллег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052"/>
          <p:cNvPicPr/>
          <p:nvPr/>
        </p:nvPicPr>
        <p:blipFill>
          <a:blip r:embed="rId1"/>
          <a:stretch/>
        </p:blipFill>
        <p:spPr>
          <a:xfrm>
            <a:off x="7174080" y="4292640"/>
            <a:ext cx="164592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Значительное число современных детей  демонстрируют объективно существующие признаки недостаточности, отставания и/или искажений психического развития, несформированность произвольной регуляции, повышенную возбудимость/истощаемость, склонность к неврозам, соматическую и психосоматическую уязвим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 совокупности это приводит к эмоционально-личностной и когнитивной неготовности к обучению и к адекватной адаптации к социуму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42560" y="2997000"/>
            <a:ext cx="74898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ЕТСКАЯ НЕЙРОПСИХОЛОГ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ука о формировании функциональной мозговой организации в онтогенезе (процессе развит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оритетное участие в решении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широкого круга проблем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скажения процессов развития в современной детской популяции принимает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низ 1"/>
          <p:cNvSpPr/>
          <p:nvPr/>
        </p:nvSpPr>
        <p:spPr>
          <a:xfrm>
            <a:off x="4284720" y="1989000"/>
            <a:ext cx="934920" cy="100836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ff0000"/>
          </a:solidFill>
          <a:ln w="25560">
            <a:solidFill>
              <a:srgbClr val="c0000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утем внедрения в образовательную деятельность нейропсихологических упражнений  способствовать формированию   межполушарных связей у детей 6-7 лет, что является необходимым условием для успешного обучения детей в шк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онцепция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Нейропсихологические упражнения вводятся в режимные моменты детского сада, учитывая специфику образовательной деятельности в учрежден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дея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Способствовать гармоничному сбалансированному развитию тонкой моторики рук и взаимодействию обоих полушарий мозга дет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6-7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Цель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boy4"/>
          <p:cNvPicPr/>
          <p:nvPr/>
        </p:nvPicPr>
        <p:blipFill>
          <a:blip r:embed="rId1"/>
          <a:stretch/>
        </p:blipFill>
        <p:spPr>
          <a:xfrm>
            <a:off x="3564000" y="4221000"/>
            <a:ext cx="1368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18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Расширить представление детей о собственном теле и его возможностях, снять психомоторную напряж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Сформировать у детей позитивную оценку собственного «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овлечь родителей в образовательный процесс ДОО, активизировать и  обогатить их педагогические возмо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овысить психолого-педагогическую компетентность воспитател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дачи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fcc99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Этапы реализации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бучение педагогов и родителей теории по вопросам формирования мозговой организации в дошкольном возрасте (педагог-психоло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одбор упражнений на развитие межполушарного взаимодействия у детей (педагог-психоло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лассификация упражнений по видам деятельности (педагог-психолог, воспитател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Ежедневное выполнение упражнений (воспитате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ривлечение специалистов. Включение двуручного рисования  и других упражнений в ООД с дефектоло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овлечение родителей ( качественное выполнение упражнений с ребенком дома, используя диск с видео-материал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До 3 лет полушария почти разобщ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 3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лет процесс созревания нервных волокон, которые связывают ПП и ЛП, позволяют передавать информацию с ПП в ЛП и обра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 5 годам – созревание П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До 6-7 лет формируется взаимосвязь двух полушарий. Это необходимо для функционирования мозга как единого цел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 8-12 годам – созревание ЛП (в частности его речевые зон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08:02:48Z</dcterms:created>
  <dc:creator>Системный инженер</dc:creator>
  <dc:description/>
  <dc:language>en-US</dc:language>
  <cp:lastModifiedBy>bvc1</cp:lastModifiedBy>
  <dcterms:modified xsi:type="dcterms:W3CDTF">2015-01-29T17:38:57Z</dcterms:modified>
  <cp:revision>100</cp:revision>
  <dc:subject/>
  <dc:title>Слайд 1</dc:title>
</cp:coreProperties>
</file>