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82C8-A12E-412D-B0E2-F533C4867D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9D0F-484B-4976-BEFD-05CB361476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A559-7B12-4626-83A3-B68F5E9100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E092-0D8B-4447-8EA0-2C858B409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F9F2-96C9-426A-AB24-9CC9F3BC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2D42-E794-4B0A-A3F0-E19667B39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A074-120A-4FF0-BF41-F1A85F02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60EE-4A51-4740-857A-3DBFE89A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F2BD-6C87-4C6A-B06F-53C67284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640C-454A-4956-84BC-2CD730ED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C677-1D2E-46DC-9A25-BC094A0B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2FB2-22FB-425D-8E64-14892FDA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9669-B81D-4C6C-AF9B-1758AC29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DF0C-128B-4D62-8BB3-B427E04C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8B79-D520-4712-B66F-B6012052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ffcc99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5278-880D-4722-BB82-8EAB8E6EB7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ffcc99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8"/>
          <p:cNvGrpSpPr/>
          <p:nvPr/>
        </p:nvGrpSpPr>
        <p:grpSpPr>
          <a:xfrm>
            <a:off x="9360" y="1440"/>
            <a:ext cx="9075960" cy="6861240"/>
            <a:chOff x="9360" y="1440"/>
            <a:chExt cx="9075960" cy="6861240"/>
          </a:xfrm>
        </p:grpSpPr>
        <p:sp>
          <p:nvSpPr>
            <p:cNvPr id="49" name="Rectangle 5"/>
            <p:cNvSpPr/>
            <p:nvPr/>
          </p:nvSpPr>
          <p:spPr>
            <a:xfrm>
              <a:off x="9360" y="1440"/>
              <a:ext cx="9075960" cy="6861240"/>
            </a:xfrm>
            <a:prstGeom prst="rect">
              <a:avLst/>
            </a:prstGeom>
            <a:noFill/>
            <a:ln w="190440">
              <a:solidFill>
                <a:srgbClr val="c00000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7"/>
            <p:cNvSpPr/>
            <p:nvPr/>
          </p:nvSpPr>
          <p:spPr>
            <a:xfrm>
              <a:off x="281160" y="289080"/>
              <a:ext cx="8532720" cy="6286320"/>
            </a:xfrm>
            <a:prstGeom prst="rect">
              <a:avLst/>
            </a:prstGeom>
            <a:noFill/>
            <a:ln w="57240">
              <a:solidFill>
                <a:srgbClr val="c00000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8"/>
          <p:cNvGrpSpPr/>
          <p:nvPr/>
        </p:nvGrpSpPr>
        <p:grpSpPr>
          <a:xfrm>
            <a:off x="9360" y="1440"/>
            <a:ext cx="9075960" cy="6861240"/>
            <a:chOff x="9360" y="1440"/>
            <a:chExt cx="9075960" cy="6861240"/>
          </a:xfrm>
        </p:grpSpPr>
        <p:sp>
          <p:nvSpPr>
            <p:cNvPr id="52" name="Rectangle 5"/>
            <p:cNvSpPr/>
            <p:nvPr/>
          </p:nvSpPr>
          <p:spPr>
            <a:xfrm>
              <a:off x="9360" y="1440"/>
              <a:ext cx="907596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281160" y="289080"/>
              <a:ext cx="853272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17"/>
          <p:cNvSpPr/>
          <p:nvPr/>
        </p:nvSpPr>
        <p:spPr>
          <a:xfrm>
            <a:off x="684360" y="5946840"/>
            <a:ext cx="7704000" cy="398880"/>
          </a:xfrm>
          <a:prstGeom prst="rect">
            <a:avLst/>
          </a:prstGeom>
          <a:gradFill rotWithShape="0">
            <a:gsLst>
              <a:gs pos="0">
                <a:srgbClr val="fecf8a"/>
              </a:gs>
              <a:gs pos="50000">
                <a:srgbClr val="ffffff"/>
              </a:gs>
              <a:gs pos="100000">
                <a:srgbClr val="fecf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d7bb9"/>
                </a:solidFill>
                <a:latin typeface="Arial"/>
                <a:ea typeface="Arial"/>
              </a:rPr>
              <a:t>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г. Москва                        28.01. 2015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799308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партамент образования г. Москвы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еверо-Западное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окружное управление образова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БОУ Школа №1191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школьное отделение здание №8 «Бриз»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уппа №9 «Млечный путь» (подготовительный возраст)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7280" y="2060280"/>
            <a:ext cx="6840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7030a0"/>
                </a:solidFill>
                <a:latin typeface="Arial"/>
              </a:rPr>
              <a:t>«Движение может по своему действию</a:t>
            </a:r>
            <a:br>
              <a:rPr sz="1400"/>
            </a:br>
            <a:r>
              <a:rPr b="1" i="1" lang="ru-RU" sz="1400" spc="-1" strike="noStrike">
                <a:solidFill>
                  <a:srgbClr val="7030a0"/>
                </a:solidFill>
                <a:latin typeface="Arial"/>
              </a:rPr>
              <a:t>заменить любое средство, но все лечебные</a:t>
            </a:r>
            <a:br>
              <a:rPr sz="1400"/>
            </a:br>
            <a:r>
              <a:rPr b="1" i="1" lang="ru-RU" sz="1400" spc="-1" strike="noStrike">
                <a:solidFill>
                  <a:srgbClr val="7030a0"/>
                </a:solidFill>
                <a:latin typeface="Arial"/>
              </a:rPr>
              <a:t>средства мира не могут заменить действие</a:t>
            </a:r>
            <a:br>
              <a:rPr sz="1400"/>
            </a:br>
            <a:r>
              <a:rPr b="1" i="1" lang="ru-RU" sz="1400" spc="-1" strike="noStrike">
                <a:solidFill>
                  <a:srgbClr val="7030a0"/>
                </a:solidFill>
                <a:latin typeface="Arial"/>
              </a:rPr>
              <a:t>движения».</a:t>
            </a:r>
            <a:br>
              <a:rPr sz="1400"/>
            </a:br>
            <a:r>
              <a:rPr b="1" i="1" lang="ru-RU" sz="1400" spc="-1" strike="noStrike">
                <a:solidFill>
                  <a:srgbClr val="7030a0"/>
                </a:solidFill>
                <a:latin typeface="Arial"/>
              </a:rPr>
              <a:t>Торквато Тасс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оминаци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«Дети, спорт и здоровь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оект «Минутки-Малютк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Педагог-психолог: Остапенко М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оспитатель: Казакова Л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280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Свободная иг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Утренняя гимнас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Самостоятельная деяте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ООД (рисование, лепка, аппликация, конструировани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Прогул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Гимнастика пробуж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Чтение художественной литера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ключение упражнений в режим дн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000" y="112536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Координирует работу левого и правого полушар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Расширяет поля зрительного восприя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Развивает пространственные представления,  способность к произвольному самоконтро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Улучшает деятельность мышц р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Повышает внимание и организованность ребен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Двуручное рис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000" y="1197000"/>
            <a:ext cx="82803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исуем двумя ру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3" descr="C:\Users\bvc1\Documents\фото дети проект\30122014069.jpg"/>
          <p:cNvPicPr/>
          <p:nvPr/>
        </p:nvPicPr>
        <p:blipFill>
          <a:blip r:embed="rId1"/>
          <a:stretch/>
        </p:blipFill>
        <p:spPr>
          <a:xfrm rot="21144600">
            <a:off x="539640" y="1267920"/>
            <a:ext cx="2448000" cy="2376720"/>
          </a:xfrm>
          <a:prstGeom prst="rect">
            <a:avLst/>
          </a:prstGeom>
          <a:ln w="9360">
            <a:solidFill>
              <a:srgbClr val="002060">
                <a:alpha val="75000"/>
              </a:srgbClr>
            </a:solidFill>
            <a:miter/>
          </a:ln>
        </p:spPr>
      </p:pic>
      <p:pic>
        <p:nvPicPr>
          <p:cNvPr id="80" name="Рисунок 4" descr="C:\Users\bvc1\Documents\фото дети проект\30122014071.jpg"/>
          <p:cNvPicPr/>
          <p:nvPr/>
        </p:nvPicPr>
        <p:blipFill>
          <a:blip r:embed="rId2"/>
          <a:stretch/>
        </p:blipFill>
        <p:spPr>
          <a:xfrm rot="369600">
            <a:off x="6267240" y="3878280"/>
            <a:ext cx="2592360" cy="2484360"/>
          </a:xfrm>
          <a:prstGeom prst="rect">
            <a:avLst/>
          </a:prstGeom>
          <a:ln w="9360">
            <a:solidFill>
              <a:srgbClr val="ffc000">
                <a:alpha val="80000"/>
              </a:srgbClr>
            </a:solidFill>
            <a:miter/>
          </a:ln>
        </p:spPr>
      </p:pic>
      <p:pic>
        <p:nvPicPr>
          <p:cNvPr id="81" name="Рисунок 6" descr="C:\Users\bvc1\Documents\фото дети проект\DSC04293.JPG"/>
          <p:cNvPicPr/>
          <p:nvPr/>
        </p:nvPicPr>
        <p:blipFill>
          <a:blip r:embed="rId3"/>
          <a:stretch/>
        </p:blipFill>
        <p:spPr>
          <a:xfrm rot="21184200">
            <a:off x="534960" y="3922560"/>
            <a:ext cx="2448000" cy="2495880"/>
          </a:xfrm>
          <a:prstGeom prst="rect">
            <a:avLst/>
          </a:prstGeom>
          <a:ln w="9360">
            <a:solidFill>
              <a:srgbClr val="ffff00">
                <a:alpha val="70000"/>
              </a:srgbClr>
            </a:solidFill>
            <a:miter/>
          </a:ln>
        </p:spPr>
      </p:pic>
      <p:pic>
        <p:nvPicPr>
          <p:cNvPr id="82" name="Рисунок 5" descr="C:\Users\bvc1\Documents\фото дети проект\DSC04288.JPG"/>
          <p:cNvPicPr/>
          <p:nvPr/>
        </p:nvPicPr>
        <p:blipFill>
          <a:blip r:embed="rId4"/>
          <a:stretch/>
        </p:blipFill>
        <p:spPr>
          <a:xfrm rot="319800">
            <a:off x="5851080" y="1267920"/>
            <a:ext cx="2952720" cy="2376720"/>
          </a:xfrm>
          <a:prstGeom prst="rect">
            <a:avLst/>
          </a:prstGeom>
          <a:ln w="9360">
            <a:solidFill>
              <a:srgbClr val="00b050">
                <a:alpha val="75000"/>
              </a:srgbClr>
            </a:solidFill>
            <a:miter/>
          </a:ln>
        </p:spPr>
      </p:pic>
      <p:pic>
        <p:nvPicPr>
          <p:cNvPr id="83" name="Рисунок 7" descr="C:\Users\bvc1\Documents\фото дети проект\30122014090.jpg"/>
          <p:cNvPicPr/>
          <p:nvPr/>
        </p:nvPicPr>
        <p:blipFill>
          <a:blip r:embed="rId5"/>
          <a:stretch/>
        </p:blipFill>
        <p:spPr>
          <a:xfrm>
            <a:off x="2852640" y="3633840"/>
            <a:ext cx="3452760" cy="2808360"/>
          </a:xfrm>
          <a:prstGeom prst="rect">
            <a:avLst/>
          </a:prstGeom>
          <a:ln w="9360">
            <a:solidFill>
              <a:srgbClr val="ffc000">
                <a:alpha val="70000"/>
              </a:srgbClr>
            </a:solidFill>
            <a:miter/>
          </a:ln>
        </p:spPr>
      </p:pic>
      <p:pic>
        <p:nvPicPr>
          <p:cNvPr id="84" name="Рисунок 8" descr="C:\Users\bvc1\Documents\фото дети проект\30122014094.jpg"/>
          <p:cNvPicPr/>
          <p:nvPr/>
        </p:nvPicPr>
        <p:blipFill>
          <a:blip r:embed="rId6"/>
          <a:stretch/>
        </p:blipFill>
        <p:spPr>
          <a:xfrm>
            <a:off x="2771640" y="1197000"/>
            <a:ext cx="3495960" cy="2376360"/>
          </a:xfrm>
          <a:prstGeom prst="rect">
            <a:avLst/>
          </a:prstGeom>
          <a:ln w="9360">
            <a:solidFill>
              <a:srgbClr val="c00000">
                <a:alpha val="70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Движения пальцев и кистей рук оказывают огромное влияние на развитие речевой и всей высшей нервной деятельности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оекция кисти руки в головном мозге расположена очень близко с речевой моторной зо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Тренировка движений пальцев и кистей рук повышают работоспособность коры головного мозга и, следовательно, уровень развития 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альчиковые упраж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424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Выполнение упражнений доставляет детям  удовольствие, заряжает их энергией и позитивом, повышает работоспособ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Улучшается внешняя социализация и коммуникация детей 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(дети с радостью делятся новыми навыками со сверстниками, демонстрируя свои новые умения), 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повысилась их самооц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Повышается мотивация родителей в участии в образовательной деятельности ДО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Значительно растет уровень психолого-педагогической компетентности воспитателей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езультаты реализации проекта на 28.01.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04640" y="404640"/>
            <a:ext cx="8560080" cy="62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33"/>
                </a:solidFill>
                <a:latin typeface="Arial"/>
              </a:rPr>
              <a:t>Творческих успехов, уважаемые коллег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052"/>
          <p:cNvPicPr/>
          <p:nvPr/>
        </p:nvPicPr>
        <p:blipFill>
          <a:blip r:embed="rId1"/>
          <a:stretch/>
        </p:blipFill>
        <p:spPr>
          <a:xfrm>
            <a:off x="7174080" y="4292640"/>
            <a:ext cx="1645920" cy="23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Значительное число современных детей  демонстрируют объективно существующие признаки недостаточности, отставания и/или искажений психического развития, несформированность произвольной регуляции, повышенную возбудимость/истощаемость, склонность к неврозам, соматическую и психосоматическую уязвим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В совокупности это приводит к эмоционально-личностной и когнитивной неготовности к обучению и к адекватной адаптации к социуму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042560" y="2997000"/>
            <a:ext cx="74898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ДЕТСКАЯ НЕЙРОПСИХОЛОГ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аука о формировании функциональной мозговой организации в онтогенезе (процессе развит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9636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оритетное участие в решении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широкого круга проблем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скажения процессов развития в современной детской популяции принимает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 вниз 1"/>
          <p:cNvSpPr/>
          <p:nvPr/>
        </p:nvSpPr>
        <p:spPr>
          <a:xfrm>
            <a:off x="4284720" y="1989000"/>
            <a:ext cx="934920" cy="100836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ff0000"/>
          </a:solidFill>
          <a:ln w="25560">
            <a:solidFill>
              <a:srgbClr val="c0000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Путем внедрения в образовательную деятельность нейропсихологических упражнений  способствовать формированию   межполушарных связей у детей 6-7 лет, что является необходимым условием для успешного обучения детей в шк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онцепция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Нейропсихологические упражнения вводятся в режимные моменты детского сада, учитывая специфику образовательной деятельности в учреждени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Идея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Способствовать гармоничному сбалансированному развитию тонкой моторики рук и взаимодействию обоих полушарий мозга дет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6-7 л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Цель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boy4"/>
          <p:cNvPicPr/>
          <p:nvPr/>
        </p:nvPicPr>
        <p:blipFill>
          <a:blip r:embed="rId1"/>
          <a:stretch/>
        </p:blipFill>
        <p:spPr>
          <a:xfrm>
            <a:off x="3564000" y="4221000"/>
            <a:ext cx="1368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8218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Расширить представление детей о собственном теле и его возможностях, снять психомоторную напряже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Сформировать у детей позитивную оценку собственного «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Вовлечь родителей в образовательный процесс ДОО, активизировать и  обогатить их педагогические возмож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Повысить психолого-педагогическую компетентность воспитател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адачи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ffcc99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Этапы реализации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Обучение педагогов и родителей теории по вопросам формирования мозговой организации в дошкольном возрасте (педагог-психолог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одбор упражнений на развитие межполушарного взаимодействия у детей (педагог-психолог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Классификация упражнений по видам деятельности (педагог-психолог, воспитател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Ежедневное выполнение упражнений (воспитате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ривлечение специалистов. Включение двуручного рисования  и других упражнений в ООД с дефектоло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овлечение родителей ( качественное выполнение упражнений с ребенком дома, используя диск с видео-материала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До 3 лет полушария почти разобщ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C 3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лет процесс созревания нервных волокон, которые связывают ПП и ЛП, позволяют передавать информацию с ПП в ЛП и обра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 5 годам – созревание П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До 6-7 лет формируется взаимосвязь двух полушарий. Это необходимо для функционирования мозга как единого цел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 8-12 годам – созревание ЛП (в частности его речевые зон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6T08:02:48Z</dcterms:created>
  <dc:creator>Системный инженер</dc:creator>
  <dc:description/>
  <dc:language>en-US</dc:language>
  <cp:lastModifiedBy>bvc1</cp:lastModifiedBy>
  <dcterms:modified xsi:type="dcterms:W3CDTF">2015-01-29T17:38:57Z</dcterms:modified>
  <cp:revision>100</cp:revision>
  <dc:subject/>
  <dc:title>Слайд 1</dc:title>
</cp:coreProperties>
</file>