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7.jpeg" ContentType="image/jpeg"/>
  <Override PartName="/ppt/media/image5.wmf" ContentType="image/x-wmf"/>
  <Override PartName="/ppt/media/image6.jpeg" ContentType="image/jpeg"/>
  <Override PartName="/ppt/media/image11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4298-0659-4D5E-9C0D-E45A3A58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A408-CA3C-4A84-8154-0AB10DAD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11EA-92C5-4A7F-8A4E-2699048B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CDD7-2AC2-4CAA-8742-C0EAB4F0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B12A-2F54-453E-B231-DF5B9935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CB6D-752F-4653-B671-81190E78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EA59-7D2C-4E75-B33E-647B6EB3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A4E3-05FC-43B6-B5EC-1C509835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86A8-4934-4A35-B477-257BE81F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664F-C623-42C5-9659-F6D52568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E10F-26E3-4E51-ADDB-B0725696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01EF-A8BD-4482-A51C-0C958C04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A2B4-D783-4242-B010-9F04B693B5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bakaras@krasmail.ru" TargetMode="External"/><Relationship Id="rId2" Type="http://schemas.openxmlformats.org/officeDocument/2006/relationships/hyperlink" Target="mailto:goupy#81@mail.ru" TargetMode="External"/><Relationship Id="rId3" Type="http://schemas.openxmlformats.org/officeDocument/2006/relationships/hyperlink" Target="mailto:goupy#81@mail.ru" TargetMode="External"/><Relationship Id="rId4" Type="http://schemas.openxmlformats.org/officeDocument/2006/relationships/hyperlink" Target="mailto:goupy#81@mail.ru" TargetMode="External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05264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cc"/>
                </a:solidFill>
                <a:latin typeface="Comic Sans MS"/>
              </a:rPr>
              <a:t>ПРОЕКТ </a:t>
            </a:r>
            <a:br>
              <a:rPr sz="4400"/>
            </a:br>
            <a:r>
              <a:rPr b="1" lang="ru-RU" sz="4400" spc="-1" strike="noStrike">
                <a:solidFill>
                  <a:srgbClr val="0000cc"/>
                </a:solidFill>
                <a:latin typeface="Comic Sans MS"/>
              </a:rPr>
              <a:t>Образовательная технология</a:t>
            </a:r>
            <a:br>
              <a:rPr sz="4400"/>
            </a:br>
            <a:r>
              <a:rPr b="1" lang="ru-RU" sz="4400" spc="-1" strike="noStrike">
                <a:solidFill>
                  <a:srgbClr val="0000cc"/>
                </a:solidFill>
                <a:latin typeface="Comic Sans MS"/>
              </a:rPr>
              <a:t>«</a:t>
            </a:r>
            <a:r>
              <a:rPr b="1" lang="ru-RU" sz="3600" spc="-1" strike="noStrike">
                <a:solidFill>
                  <a:srgbClr val="0000cc"/>
                </a:solidFill>
                <a:latin typeface="Comic Sans MS"/>
              </a:rPr>
              <a:t>Учебные фирмы 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Comic Sans MS"/>
              </a:rPr>
              <a:t>                КГАОУ НПО ПУ №81»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Comic Sans MS"/>
              </a:rPr>
              <a:t>               </a:t>
            </a:r>
            <a:r>
              <a:rPr b="1" lang="ru-RU" sz="2400" spc="-1" strike="noStrike">
                <a:solidFill>
                  <a:srgbClr val="009999"/>
                </a:solidFill>
                <a:latin typeface="Comic Sans MS"/>
              </a:rPr>
              <a:t>п. Березовка</a:t>
            </a:r>
            <a:br>
              <a:rPr sz="2400"/>
            </a:br>
            <a:r>
              <a:rPr b="1" lang="ru-RU" sz="2400" spc="-1" strike="noStrike">
                <a:solidFill>
                  <a:srgbClr val="009999"/>
                </a:solidFill>
                <a:latin typeface="Comic Sans MS"/>
              </a:rPr>
              <a:t>                        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29-1"/>
          <p:cNvPicPr/>
          <p:nvPr/>
        </p:nvPicPr>
        <p:blipFill>
          <a:blip r:embed="rId1"/>
          <a:stretch/>
        </p:blipFill>
        <p:spPr>
          <a:xfrm rot="21049800">
            <a:off x="457200" y="380880"/>
            <a:ext cx="2808360" cy="1974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PIC_0063"/>
          <p:cNvPicPr/>
          <p:nvPr/>
        </p:nvPicPr>
        <p:blipFill>
          <a:blip r:embed="rId2"/>
          <a:stretch/>
        </p:blipFill>
        <p:spPr>
          <a:xfrm>
            <a:off x="609480" y="4267080"/>
            <a:ext cx="3170520" cy="2278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27-1"/>
          <p:cNvPicPr/>
          <p:nvPr/>
        </p:nvPicPr>
        <p:blipFill>
          <a:blip r:embed="rId3"/>
          <a:stretch/>
        </p:blipFill>
        <p:spPr>
          <a:xfrm>
            <a:off x="6248520" y="0"/>
            <a:ext cx="1876320" cy="2666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BD05179_"/>
          <p:cNvPicPr/>
          <p:nvPr/>
        </p:nvPicPr>
        <p:blipFill>
          <a:blip r:embed="rId4"/>
          <a:stretch/>
        </p:blipFill>
        <p:spPr>
          <a:xfrm>
            <a:off x="304920" y="3657600"/>
            <a:ext cx="1474560" cy="158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BD05093_"/>
          <p:cNvPicPr/>
          <p:nvPr/>
        </p:nvPicPr>
        <p:blipFill>
          <a:blip r:embed="rId5"/>
          <a:stretch/>
        </p:blipFill>
        <p:spPr>
          <a:xfrm rot="20494200">
            <a:off x="7543440" y="1447920"/>
            <a:ext cx="137160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11280" y="304920"/>
            <a:ext cx="807552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Рабочие места в учебной фирме  обязанности учащихся соответствуют рабочим местам  и функциональным обязанностям сотрудников реальных предприя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Таким образом, в учебной фирме происходит совершенствование и закрепление профессиональных ключевых умений и навыков, а сама работа в учебной фирме – это важнейший элемент практической работы, необходимой для будущей профессиональной деятельности учащего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Comic Sans MS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J0079061"/>
          <p:cNvPicPr/>
          <p:nvPr/>
        </p:nvPicPr>
        <p:blipFill>
          <a:blip r:embed="rId1"/>
          <a:stretch/>
        </p:blipFill>
        <p:spPr>
          <a:xfrm>
            <a:off x="6659640" y="0"/>
            <a:ext cx="1942920" cy="1527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468360" y="1413000"/>
            <a:ext cx="8244000" cy="40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витие у учащихся таких профессиональных навыков и компетенций, которые повышают его конкурентоспособность на современном рынке и способствуют развитию его творческого потенциала и индивидуальных способ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Comic Sans MS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28600" y="609480"/>
            <a:ext cx="876312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Формирование навыков конкретных видов деятельности на рабочем месте при помощи имитации ситуации работы реальной фирмы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Организация занятий и деятельности, направленных на активное поведение, обучаемого, связанное с решением практических зад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Овладение новыми технологиями, в том числе коммуникативными и информационны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Ознакомление с коммерческой и другой деятельностью в бизне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Развитие ключевых навыков самостоятельности, творческого отношения к работе, умения принимать решение, работы в команде, способности разрешать конфликты, коммуникабель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олучение опыта работы с реальными фирмами без участия в реальном бизне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Comic Sans MS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28600" y="609480"/>
            <a:ext cx="876312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Формирование навыков конкретных видов деятельности на рабочем месте при помощи имитации ситуации работы реальной фирмы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Организация занятий и деятельности, направленных на активное поведение, обучаемого, связанное с решением практических зад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Овладение новыми технологиями, в том числе коммуникативными и информационны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Ознакомление с коммерческой и другой деятельностью в бизне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Развитие ключевых навыков самостоятельности, творческого отношения к работе, умения принимать решение, работы в команде, способности разрешать конфликты, коммуникабель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олучение опыта работы с реальными фирмами без участия в реальном бизне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447920" y="914400"/>
            <a:ext cx="6019560" cy="1139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альный офис учебных фи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0" y="2971800"/>
            <a:ext cx="198108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ая фир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Ферм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395280" y="189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Сеть учебных фирм ПУ №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2133720" y="2971800"/>
            <a:ext cx="190476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ая фир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еха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4267080" y="2971800"/>
            <a:ext cx="190512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ая фир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варщ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6324480" y="2895480"/>
            <a:ext cx="259092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ая фир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фи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"/>
          <p:cNvSpPr/>
          <p:nvPr/>
        </p:nvSpPr>
        <p:spPr>
          <a:xfrm flipH="1">
            <a:off x="1219320" y="2133720"/>
            <a:ext cx="7617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6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>
            <a:off x="5257800" y="2133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8"/>
          <p:cNvSpPr/>
          <p:nvPr/>
        </p:nvSpPr>
        <p:spPr>
          <a:xfrm>
            <a:off x="6629400" y="22096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 flipV="1">
            <a:off x="380880" y="41907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380880" y="518148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1"/>
          <p:cNvSpPr/>
          <p:nvPr/>
        </p:nvSpPr>
        <p:spPr>
          <a:xfrm flipV="1">
            <a:off x="769608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 flipV="1">
            <a:off x="762120" y="4190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5"/>
          <p:cNvSpPr/>
          <p:nvPr/>
        </p:nvSpPr>
        <p:spPr>
          <a:xfrm>
            <a:off x="7621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6"/>
          <p:cNvSpPr/>
          <p:nvPr/>
        </p:nvSpPr>
        <p:spPr>
          <a:xfrm flipV="1">
            <a:off x="73152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43"/>
          <p:cNvGrpSpPr/>
          <p:nvPr/>
        </p:nvGrpSpPr>
        <p:grpSpPr>
          <a:xfrm>
            <a:off x="3124080" y="4191120"/>
            <a:ext cx="4038480" cy="380880"/>
            <a:chOff x="3124080" y="4191120"/>
            <a:chExt cx="4038480" cy="380880"/>
          </a:xfrm>
        </p:grpSpPr>
        <p:sp>
          <p:nvSpPr>
            <p:cNvPr id="85" name="Line 27"/>
            <p:cNvSpPr/>
            <p:nvPr/>
          </p:nvSpPr>
          <p:spPr>
            <a:xfrm flipV="1">
              <a:off x="3124080" y="4191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8"/>
            <p:cNvSpPr/>
            <p:nvPr/>
          </p:nvSpPr>
          <p:spPr>
            <a:xfrm>
              <a:off x="3124080" y="457200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9"/>
            <p:cNvSpPr/>
            <p:nvPr/>
          </p:nvSpPr>
          <p:spPr>
            <a:xfrm flipV="1">
              <a:off x="7162560" y="4191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38"/>
          <p:cNvGrpSpPr/>
          <p:nvPr/>
        </p:nvGrpSpPr>
        <p:grpSpPr>
          <a:xfrm>
            <a:off x="1371600" y="4190760"/>
            <a:ext cx="914400" cy="228960"/>
            <a:chOff x="1371600" y="4190760"/>
            <a:chExt cx="914400" cy="228960"/>
          </a:xfrm>
        </p:grpSpPr>
        <p:sp>
          <p:nvSpPr>
            <p:cNvPr id="89" name="Line 30"/>
            <p:cNvSpPr/>
            <p:nvPr/>
          </p:nvSpPr>
          <p:spPr>
            <a:xfrm flipV="1">
              <a:off x="1371600" y="4190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1"/>
            <p:cNvSpPr/>
            <p:nvPr/>
          </p:nvSpPr>
          <p:spPr>
            <a:xfrm>
              <a:off x="1371600" y="4419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32"/>
            <p:cNvSpPr/>
            <p:nvPr/>
          </p:nvSpPr>
          <p:spPr>
            <a:xfrm flipV="1">
              <a:off x="2286000" y="4190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Line 33"/>
          <p:cNvSpPr/>
          <p:nvPr/>
        </p:nvSpPr>
        <p:spPr>
          <a:xfrm>
            <a:off x="3657600" y="4419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4"/>
          <p:cNvSpPr/>
          <p:nvPr/>
        </p:nvSpPr>
        <p:spPr>
          <a:xfrm flipV="1">
            <a:off x="3657600" y="4190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5"/>
          <p:cNvSpPr/>
          <p:nvPr/>
        </p:nvSpPr>
        <p:spPr>
          <a:xfrm flipV="1">
            <a:off x="4572000" y="4190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39"/>
          <p:cNvGrpSpPr/>
          <p:nvPr/>
        </p:nvGrpSpPr>
        <p:grpSpPr>
          <a:xfrm>
            <a:off x="5791320" y="4266720"/>
            <a:ext cx="914400" cy="228960"/>
            <a:chOff x="5791320" y="4266720"/>
            <a:chExt cx="914400" cy="228960"/>
          </a:xfrm>
        </p:grpSpPr>
        <p:sp>
          <p:nvSpPr>
            <p:cNvPr id="96" name="Line 40"/>
            <p:cNvSpPr/>
            <p:nvPr/>
          </p:nvSpPr>
          <p:spPr>
            <a:xfrm flipV="1">
              <a:off x="5791320" y="426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41"/>
            <p:cNvSpPr/>
            <p:nvPr/>
          </p:nvSpPr>
          <p:spPr>
            <a:xfrm>
              <a:off x="5791320" y="4495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42"/>
            <p:cNvSpPr/>
            <p:nvPr/>
          </p:nvSpPr>
          <p:spPr>
            <a:xfrm flipV="1">
              <a:off x="6705720" y="426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44"/>
          <p:cNvGrpSpPr/>
          <p:nvPr/>
        </p:nvGrpSpPr>
        <p:grpSpPr>
          <a:xfrm>
            <a:off x="1066680" y="4191120"/>
            <a:ext cx="4038480" cy="380880"/>
            <a:chOff x="1066680" y="4191120"/>
            <a:chExt cx="4038480" cy="380880"/>
          </a:xfrm>
        </p:grpSpPr>
        <p:sp>
          <p:nvSpPr>
            <p:cNvPr id="100" name="Line 45"/>
            <p:cNvSpPr/>
            <p:nvPr/>
          </p:nvSpPr>
          <p:spPr>
            <a:xfrm flipV="1">
              <a:off x="1066680" y="4191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46"/>
            <p:cNvSpPr/>
            <p:nvPr/>
          </p:nvSpPr>
          <p:spPr>
            <a:xfrm>
              <a:off x="1066680" y="457200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47"/>
            <p:cNvSpPr/>
            <p:nvPr/>
          </p:nvSpPr>
          <p:spPr>
            <a:xfrm flipV="1">
              <a:off x="5105160" y="4191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361960"/>
            <a:ext cx="3048120" cy="1066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omic Sans MS"/>
              </a:rPr>
              <a:t>ЦЕНТРАЛЬНЫЙ ОФИС УЧЕБНЫХ ФИ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462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Comic Sans MS"/>
              </a:rPr>
              <a:t>Имитирует внешнюю среду, реализуя функции организаций рыночной инфраструктуры, включая органы упр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Центральный офис играет роль «системного интегратора», формируя условия для развития творческих инициатив и взаимного обучения всех участников с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181480" y="2209680"/>
            <a:ext cx="33530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еджмент (руковод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5181480" y="2895480"/>
            <a:ext cx="33530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кретариат (кад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5181480" y="3733920"/>
            <a:ext cx="33530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хгалт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5181480" y="4495680"/>
            <a:ext cx="33530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дел 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5181480" y="5257800"/>
            <a:ext cx="33530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ерческий 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5105520" y="6019920"/>
            <a:ext cx="35049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водственный 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3581280" y="23623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3581280" y="2514600"/>
            <a:ext cx="1524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3657600" y="2743200"/>
            <a:ext cx="14479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>
            <a:off x="3505320" y="2971800"/>
            <a:ext cx="167616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3505320" y="3200400"/>
            <a:ext cx="160020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3429000" y="3352680"/>
            <a:ext cx="160020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228600" y="3657600"/>
            <a:ext cx="373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Bookman Old Style"/>
              </a:rPr>
              <a:t>Деятельность этих организаций создает условия для обеспечения эффективной системы обучения, контроля и объективной оценки, как индивидуальных результатов учащихся, так и командных достижений каждой учебной фи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250920" y="260280"/>
          <a:ext cx="8569080" cy="6230880"/>
        </p:xfrm>
        <a:graphic>
          <a:graphicData uri="http://schemas.openxmlformats.org/drawingml/2006/table">
            <a:tbl>
              <a:tblPr/>
              <a:tblGrid>
                <a:gridCol w="511200"/>
                <a:gridCol w="2590560"/>
                <a:gridCol w="4419720"/>
                <a:gridCol w="1047600"/>
              </a:tblGrid>
              <a:tr h="6541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тический план «Учебной фирмы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времени на факультативные занятия выделено 102 часа на изучения курс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разделов и т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 первый. Создание учебной фи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едение в курс «Учебная фирм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 и задачи курса, принципы создания, функционирования учебных фирм. Центральный офис сети учебных фир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552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ы предпринимательск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ложения о предпринимательской деятельности в РФ. Формы собственности. Виды предпринимательской деятельности, учредительные документы. Порядок регистрации фи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ера коммерческ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. Рынок товаров и услуг. Исследование спроса и предложений товара и услуг. Планирование бизне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идж фи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, миссия фирмы, логотип. Бизнес-этикет. Корпоративная куль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250920" y="260280"/>
          <a:ext cx="8569080" cy="6369120"/>
        </p:xfrm>
        <a:graphic>
          <a:graphicData uri="http://schemas.openxmlformats.org/drawingml/2006/table">
            <a:tbl>
              <a:tblPr/>
              <a:tblGrid>
                <a:gridCol w="511200"/>
                <a:gridCol w="2590560"/>
                <a:gridCol w="4419720"/>
                <a:gridCol w="1047600"/>
              </a:tblGrid>
              <a:tr h="433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тический план «Учебной фирмы»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ол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разделов и т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ая структура фи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ятие организационной структуры. Функции отделов. Штатное расписание. Должностные обязанности сотрудников фи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3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ы фирмы и документооборо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ы и их классификация, назначение и форм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ядок регистрации, хранение и документообор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по раздел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0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 второй. Функционирование учебной фи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фирм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ципы, методы, стили, формы управления предприятием. Функции управления, стратегическое и текущее планирование. Прием на работу и работа с персоналом. Анализ работы фи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50920" y="260280"/>
          <a:ext cx="8569080" cy="6162840"/>
        </p:xfrm>
        <a:graphic>
          <a:graphicData uri="http://schemas.openxmlformats.org/drawingml/2006/table">
            <a:tbl>
              <a:tblPr/>
              <a:tblGrid>
                <a:gridCol w="511200"/>
                <a:gridCol w="2590560"/>
                <a:gridCol w="4419720"/>
                <a:gridCol w="1047600"/>
              </a:tblGrid>
              <a:tr h="432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тический план «Учебной фирмы»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ол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разделов и т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ретарское де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ядок работы с исходящими и входящими документами фирмы. Правила составления деловых писем. Порядок подготовки к проведению совещаний. Порядок ведения телефонных перегов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кетинговая деятельность фи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ь и задачи маркетинга на предприятии. План маркетинга фирмы. Маркетинговые исследования рынка товаров и услуг. Прайс-лист и каталог продукции фирмы, реклама. Презентация. Ярмар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покупок и прода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ядок осуществления и формирования торговых сделок (покупка/продажа) Работа с клиентом, работа с банком, ведение складской докумен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228600" y="838080"/>
          <a:ext cx="8569440" cy="3329280"/>
        </p:xfrm>
        <a:graphic>
          <a:graphicData uri="http://schemas.openxmlformats.org/drawingml/2006/table">
            <a:tbl>
              <a:tblPr/>
              <a:tblGrid>
                <a:gridCol w="511200"/>
                <a:gridCol w="2590920"/>
                <a:gridCol w="4419360"/>
                <a:gridCol w="1047960"/>
              </a:tblGrid>
              <a:tr h="43344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тический план «Учебной фирмы»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ол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разделов и т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71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хгалтерский у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ы организации бухгалтерской службы предприятия. Оформление первичных документов, ведение учета, уплаты налогов, финансовая отчетность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по раздел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58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Краевое государственное образовательное учреждение 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Профессиональное училище №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431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Century Gothic"/>
              </a:rPr>
              <a:t>Адрес: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6625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Красноярский кр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. Берез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л. Полевая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Century Gothic"/>
              </a:rPr>
              <a:t>Телефон:</a:t>
            </a:r>
            <a:r>
              <a:rPr b="0" lang="ru-RU" sz="2400" spc="-1" strike="noStrike">
                <a:solidFill>
                  <a:srgbClr val="bbe0e3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8 (39175) 2-17-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Century Gothic"/>
              </a:rPr>
              <a:t>Факс:       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8 (39175) 2-12-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Century Gothic"/>
              </a:rPr>
              <a:t>e- mail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bakaras@krasmail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entury Gothic"/>
              </a:rPr>
              <a:t>                     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goupy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№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entury Gothic"/>
                <a:hlinkClick r:id="rId4"/>
              </a:rPr>
              <a:t>81@mail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01-1"/>
          <p:cNvPicPr/>
          <p:nvPr/>
        </p:nvPicPr>
        <p:blipFill>
          <a:blip r:embed="rId5"/>
          <a:stretch/>
        </p:blipFill>
        <p:spPr>
          <a:xfrm>
            <a:off x="5334120" y="2057400"/>
            <a:ext cx="3354120" cy="2355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05-1"/>
          <p:cNvPicPr/>
          <p:nvPr/>
        </p:nvPicPr>
        <p:blipFill>
          <a:blip r:embed="rId6"/>
          <a:stretch/>
        </p:blipFill>
        <p:spPr>
          <a:xfrm>
            <a:off x="5562720" y="4419720"/>
            <a:ext cx="3111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Comic Sans MS"/>
              </a:rPr>
              <a:t>Материально –техническое оснащение учебных фирм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4358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Comic Sans MS"/>
              </a:rPr>
              <a:t>Центральный офис учебных фир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обору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мещение 40 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фисная мебель (столы 6шт, стулья 6 шт, диван -1шт, журнальный столик -1ш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мпьютер – 2 ш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нтер – 1 ш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канер-1ш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пировальный аппарат -1 ш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елефон -1 ш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одем- 1ш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анцелярские товары и бухгалтерские бл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нформационное обеспечение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(прикладные программы пакет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S Office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, бухгалтерские программы, учебно- методические пособия, экономическая литерату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omic Sans MS"/>
              </a:rPr>
              <a:t>Материально-техническая база учебной фирмы «Ферме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4358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оизводственный корпус ремонтно-технических мастерских           1050 кв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ельскохозяйственная техника и автотранспорт -                    15 един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емельные поливные угод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0 га (арен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втотрактородром -                    3,5 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бинеты для теоретических и лабораторно-практических занятий – 3ш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астерские                             - 2ш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omic Sans MS"/>
              </a:rPr>
              <a:t>Материально-техническая база учебной фирмы «Механ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4358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втогараж 250 кв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окс для мелкосрочного ремонта автомобилей 40 кв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втосервис для ремонта и ТО автомобилей 150 кв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Шиномонтажная мастерская 50кв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бинеты для теоретических и лабораторно-практических занятий                     120кв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астерские 60 кв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втотранспорт -10 един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снастка, инструмент – 20 компл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Comic Sans MS"/>
              </a:rPr>
              <a:t>Материально-техническая база учебной фирмы «Сварщи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358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варочная мастерская 180 кв.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лесарная мастерская 60кв.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абинет теоретического обучения по сварке 70 кв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узница 30 кв.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ытовая комната 20 кв.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клад для материалов 2 шт.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Comic Sans MS"/>
              </a:rPr>
              <a:t>Материально-техническая база учебной фирмы «Офис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358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ерверная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омпьютерные кабинеты 130 кв.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етодический кабинет 100 кв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395280" y="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1.4. Организационная структура и функции учебных фи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16292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omic Sans MS"/>
              </a:rPr>
              <a:t>ЦЕНТРАЛЬНЫЙ ОФИС УЧЕБНЫХ ФИ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4"/>
          <p:cNvSpPr/>
          <p:nvPr/>
        </p:nvSpPr>
        <p:spPr>
          <a:xfrm>
            <a:off x="2819520" y="1600200"/>
            <a:ext cx="33526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еджме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6781680" y="1752480"/>
            <a:ext cx="19051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кретари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ад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6858000" y="2666880"/>
            <a:ext cx="198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хгалт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3048120" y="2743200"/>
            <a:ext cx="16002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де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8"/>
          <p:cNvSpPr/>
          <p:nvPr/>
        </p:nvSpPr>
        <p:spPr>
          <a:xfrm>
            <a:off x="457200" y="2743200"/>
            <a:ext cx="17524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ер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9"/>
          <p:cNvSpPr/>
          <p:nvPr/>
        </p:nvSpPr>
        <p:spPr>
          <a:xfrm>
            <a:off x="4952880" y="2743200"/>
            <a:ext cx="16765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вод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0"/>
          <p:cNvSpPr/>
          <p:nvPr/>
        </p:nvSpPr>
        <p:spPr>
          <a:xfrm>
            <a:off x="228600" y="4038480"/>
            <a:ext cx="2514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чальник отд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неджер по продаж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1"/>
          <p:cNvSpPr/>
          <p:nvPr/>
        </p:nvSpPr>
        <p:spPr>
          <a:xfrm>
            <a:off x="2895480" y="4038480"/>
            <a:ext cx="2133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чальник отд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ркето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2"/>
          <p:cNvSpPr/>
          <p:nvPr/>
        </p:nvSpPr>
        <p:spPr>
          <a:xfrm>
            <a:off x="5181480" y="4038480"/>
            <a:ext cx="1600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чальн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д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хно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3"/>
          <p:cNvSpPr/>
          <p:nvPr/>
        </p:nvSpPr>
        <p:spPr>
          <a:xfrm>
            <a:off x="6934320" y="4038480"/>
            <a:ext cx="198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.бухгал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хгал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4"/>
          <p:cNvSpPr/>
          <p:nvPr/>
        </p:nvSpPr>
        <p:spPr>
          <a:xfrm flipH="1">
            <a:off x="1905120" y="19810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5"/>
          <p:cNvSpPr/>
          <p:nvPr/>
        </p:nvSpPr>
        <p:spPr>
          <a:xfrm>
            <a:off x="388620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6"/>
          <p:cNvSpPr/>
          <p:nvPr/>
        </p:nvSpPr>
        <p:spPr>
          <a:xfrm>
            <a:off x="548640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7"/>
          <p:cNvSpPr/>
          <p:nvPr/>
        </p:nvSpPr>
        <p:spPr>
          <a:xfrm>
            <a:off x="6248520" y="19051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8"/>
          <p:cNvSpPr/>
          <p:nvPr/>
        </p:nvSpPr>
        <p:spPr>
          <a:xfrm>
            <a:off x="6248520" y="213372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9"/>
          <p:cNvSpPr/>
          <p:nvPr/>
        </p:nvSpPr>
        <p:spPr>
          <a:xfrm>
            <a:off x="396252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0"/>
          <p:cNvSpPr/>
          <p:nvPr/>
        </p:nvSpPr>
        <p:spPr>
          <a:xfrm>
            <a:off x="129528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1"/>
          <p:cNvSpPr/>
          <p:nvPr/>
        </p:nvSpPr>
        <p:spPr>
          <a:xfrm>
            <a:off x="594360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2"/>
          <p:cNvSpPr/>
          <p:nvPr/>
        </p:nvSpPr>
        <p:spPr>
          <a:xfrm>
            <a:off x="784872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Comic Sans MS"/>
              </a:rPr>
              <a:t>Функции отде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358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ru-RU" sz="2400" spc="-1" strike="noStrike">
                <a:solidFill>
                  <a:srgbClr val="009999"/>
                </a:solidFill>
                <a:latin typeface="Comic Sans MS"/>
              </a:rPr>
              <a:t>Менеджмент (директ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пределяет миссию и цели деятельности учебных фи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ланирует деятельность учебных фи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едет работу по приему и управлению персона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изирует бухгалтерские, юридические и другие документы фи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станавливает и поддерживает партнерские отношения учебных фи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иректором учебных фирм является заместитель директора по производственной работе училища. Параллельно работает дублер из числа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435880" cy="61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ru-RU" sz="2400" spc="-1" strike="noStrike">
                <a:solidFill>
                  <a:srgbClr val="009999"/>
                </a:solidFill>
                <a:latin typeface="Comic Sans MS"/>
              </a:rPr>
              <a:t>Секретариат (кадры-секретар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едет прием и оформление сотрудников на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едет прием всех входящих и исходящих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ставляет организационно – распорядительные доку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беспечивает проведение собраний и совещ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рганизует прием посет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формляет кадровую документ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едет табель учета рабочего времени сотрудников фи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рганизует мероприятия по формированию дружеских корпоративных отно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уководит работой секретарь училища, а в отделе работает три сотрудника из числа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435880" cy="61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ru-RU" sz="2800" spc="-1" strike="noStrike">
                <a:solidFill>
                  <a:srgbClr val="009999"/>
                </a:solidFill>
                <a:latin typeface="Comic Sans MS"/>
              </a:rPr>
              <a:t>Коммерческий отд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едет поиск и учет поставщ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существляет закупку тов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едет учет клиентов и работу с н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едет складской учет тов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тгружает готовую продукцию заказч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тролирует выполнение договорных обязательств и своевременную оплату сч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уководит работой отдела мастер п/о, а в отделе работает четыре сотрудника из числа учащихся- менеджер по продажам, кладовщик и два сотруд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435880" cy="61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1" lang="ru-RU" sz="2400" spc="-1" strike="noStrike">
                <a:solidFill>
                  <a:srgbClr val="009999"/>
                </a:solidFill>
                <a:latin typeface="Comic Sans MS"/>
              </a:rPr>
              <a:t>Отдел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зрабатывает и координирует стратегию поведения на рынке товаров и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зрабатывает фирменный сти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егулярно следит за состоянием рынка, проводит его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едлагает и разрабатывает новые виды товров и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нимается ценообразов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ланирует и организует мероприятия по продвижению и формированию спр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водит анализ продаж товаров и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уководит работой отдела мастер п/о ( помогает дублер из числа учащихся), а в отделе работает четыре сотрудника из числа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Comic Sans MS"/>
              </a:rPr>
              <a:t>Авторский коллекти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Comic Sans MS"/>
              </a:rPr>
              <a:t>Руководи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акарас А.А– мастер производственного обучения КГАОУ НПО ПУ №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Comic Sans MS"/>
              </a:rPr>
              <a:t>Члены проектной групп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Comic Sans MS"/>
              </a:rPr>
              <a:t>Лелаус Г.В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. –преподаватель КГАОУ НПО ПУ №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Comic Sans MS"/>
              </a:rPr>
              <a:t>Лапина Г.П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. –преподаватель КГАОУ НПО ПУ №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Comic Sans MS"/>
              </a:rPr>
              <a:t>Матяш С.В-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генеральный директор агрохолдинга «Огород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Comic Sans MS"/>
              </a:rPr>
              <a:t>Никитин А.А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– мастер производственного обучения КГАОУ НПО ПУ №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Comic Sans MS"/>
              </a:rPr>
              <a:t>Любященко В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.</a:t>
            </a:r>
            <a:r>
              <a:rPr b="1" lang="ru-RU" sz="2000" spc="-1" strike="noStrike">
                <a:solidFill>
                  <a:srgbClr val="009999"/>
                </a:solidFill>
                <a:latin typeface="Comic Sans MS"/>
              </a:rPr>
              <a:t>В</a:t>
            </a: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.</a:t>
            </a:r>
            <a:r>
              <a:rPr b="1" lang="ru-RU" sz="1800" spc="-1" strike="noStrike">
                <a:solidFill>
                  <a:srgbClr val="009999"/>
                </a:solidFill>
                <a:latin typeface="Comic Sans MS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мастер производственного обучения КГАОУ НПО ПУ №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435880" cy="61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1" lang="ru-RU" sz="2400" spc="-1" strike="noStrike">
                <a:solidFill>
                  <a:srgbClr val="009999"/>
                </a:solidFill>
                <a:latin typeface="Comic Sans MS"/>
              </a:rPr>
              <a:t>Производственный от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ланирует производственную деятельность фи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едет учет сырья, материалов и рабоче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ланирует повышение эффективности производства про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беспечивает контроль качества выпускаемой про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звивает технологию производства продукции и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уководит работой отдела мастер п/о ( помогает дублер из числа учащихся), а в отделе работает четыре сотрудника из числа учащихся (технолог и три сотрудн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435880" cy="61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1" lang="ru-RU" sz="2000" spc="-1" strike="noStrike">
                <a:solidFill>
                  <a:srgbClr val="009999"/>
                </a:solidFill>
                <a:latin typeface="Comic Sans MS"/>
              </a:rPr>
              <a:t>Бухгалт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едет учет первичных документов по хозяйственным операциям фи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ставляет смету доходов и расходов учебных фи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едет расчеты по заработной пла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едет работу с бюджетом по налогам и взносам в социальные фон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егулярно ставит в известность руководство фирм о их финансовом состоя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ставляет финансовую отчетность фи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едставляет финансовую отчетность в налоговую инспек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уководит работой отдела бухгалтер училища ( помогает дублер из числа учащихся), а в отделе работает четыре сотрудника из числа учащихся (бухгалтер и три сотрудн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9999"/>
                </a:solidFill>
                <a:latin typeface="Comic Sans MS"/>
              </a:rPr>
              <a:t>СХЕМА УЧЕБНОЙ ФИРМЫ №1 ФЕР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581280" y="2819520"/>
            <a:ext cx="213372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ЧЕБ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«ФЕРМЕ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 rot="1480200">
            <a:off x="449280" y="1665000"/>
            <a:ext cx="2724120" cy="1344600"/>
          </a:xfrm>
          <a:prstGeom prst="rightArrowCallout">
            <a:avLst>
              <a:gd name="adj1" fmla="val 25002"/>
              <a:gd name="adj2" fmla="val 25000"/>
              <a:gd name="adj3" fmla="val 33766"/>
              <a:gd name="adj4" fmla="val 6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ИЗВ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ТВ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РПУ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ЕМОНТ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АСТЕРСК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 rot="2836200">
            <a:off x="1191240" y="3282120"/>
            <a:ext cx="1366920" cy="2813040"/>
          </a:xfrm>
          <a:prstGeom prst="upArrowCallout">
            <a:avLst>
              <a:gd name="adj1" fmla="val 25002"/>
              <a:gd name="adj2" fmla="val 25000"/>
              <a:gd name="adj3" fmla="val 34299"/>
              <a:gd name="adj4" fmla="val 6666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ЕМЕ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ГО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/>
          <p:cNvSpPr/>
          <p:nvPr/>
        </p:nvSpPr>
        <p:spPr>
          <a:xfrm rot="19691400">
            <a:off x="5943240" y="1374480"/>
            <a:ext cx="3171960" cy="1334880"/>
          </a:xfrm>
          <a:prstGeom prst="leftArrowCallout">
            <a:avLst>
              <a:gd name="adj1" fmla="val 25002"/>
              <a:gd name="adj2" fmla="val 25000"/>
              <a:gd name="adj3" fmla="val 39604"/>
              <a:gd name="adj4" fmla="val 6667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/Х ТЕХ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ВТО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/>
          <p:cNvSpPr/>
          <p:nvPr/>
        </p:nvSpPr>
        <p:spPr>
          <a:xfrm rot="2450400">
            <a:off x="5951520" y="4317480"/>
            <a:ext cx="2868480" cy="1457640"/>
          </a:xfrm>
          <a:prstGeom prst="leftArrowCallout">
            <a:avLst>
              <a:gd name="adj1" fmla="val 24734"/>
              <a:gd name="adj2" fmla="val 29597"/>
              <a:gd name="adj3" fmla="val 26894"/>
              <a:gd name="adj4" fmla="val 66673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В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АКТО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3733920" y="3962520"/>
            <a:ext cx="1698480" cy="2747880"/>
          </a:xfrm>
          <a:prstGeom prst="upArrowCallout">
            <a:avLst>
              <a:gd name="adj1" fmla="val 25002"/>
              <a:gd name="adj2" fmla="val 25000"/>
              <a:gd name="adj3" fmla="val 26964"/>
              <a:gd name="adj4" fmla="val 6666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ЕСА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АСТЕ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3048120" y="762120"/>
            <a:ext cx="3124080" cy="1828800"/>
          </a:xfrm>
          <a:prstGeom prst="downArrowCallout">
            <a:avLst>
              <a:gd name="adj1" fmla="val 42710"/>
              <a:gd name="adj2" fmla="val 42707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Кабин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Для теоретиче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И лаборато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-Практиче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Зан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учебной фирмы №1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Фермер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дственное обучение по профессиям: «тракторист- машинист с/х производства», «овощевод», «ферм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щивание и реализация овощей (картофель, морковь, свекла, капус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с/х услуг населению (вспашка огородов, вывоз с/х проду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ческое обслуживание и ремонт с/х 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24-1"/>
          <p:cNvPicPr/>
          <p:nvPr/>
        </p:nvPicPr>
        <p:blipFill>
          <a:blip r:embed="rId1"/>
          <a:stretch/>
        </p:blipFill>
        <p:spPr>
          <a:xfrm>
            <a:off x="5562720" y="1447920"/>
            <a:ext cx="3111480" cy="2185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27-1"/>
          <p:cNvPicPr/>
          <p:nvPr/>
        </p:nvPicPr>
        <p:blipFill>
          <a:blip r:embed="rId2"/>
          <a:stretch/>
        </p:blipFill>
        <p:spPr>
          <a:xfrm>
            <a:off x="7604280" y="914400"/>
            <a:ext cx="1539720" cy="21891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5257800" y="4038480"/>
            <a:ext cx="3657600" cy="1923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фирме работают 50 человек учащихся, руководит фирмой –менеджер-мастер п/о, у него есть дублер из числа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0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10920" y="404280"/>
            <a:ext cx="7777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Comic Sans MS"/>
              </a:rPr>
              <a:t>СХЕМА УЧЕБНОЙ  ФИРМЫ № 2 «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МЕХАНИК</a:t>
            </a:r>
            <a:r>
              <a:rPr b="1" lang="ru-RU" sz="2000" spc="-1" strike="noStrike" u="sng">
                <a:solidFill>
                  <a:srgbClr val="009999"/>
                </a:solidFill>
                <a:uFillTx/>
                <a:latin typeface="Comic Sans MS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505320" y="2743200"/>
            <a:ext cx="2408040" cy="1862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ЧЕБНАЯ ФИ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ХА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 rot="981600">
            <a:off x="1066680" y="1752120"/>
            <a:ext cx="2286000" cy="1114560"/>
          </a:xfrm>
          <a:prstGeom prst="rightArrowCallout">
            <a:avLst>
              <a:gd name="adj1" fmla="val 47606"/>
              <a:gd name="adj2" fmla="val 44801"/>
              <a:gd name="adj3" fmla="val 42673"/>
              <a:gd name="adj4" fmla="val 6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ОК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елкосроч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ЕМО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 rot="1117200">
            <a:off x="533160" y="3123720"/>
            <a:ext cx="2879640" cy="1266840"/>
          </a:xfrm>
          <a:prstGeom prst="rightArrowCallout">
            <a:avLst>
              <a:gd name="adj1" fmla="val 47606"/>
              <a:gd name="adj2" fmla="val 44801"/>
              <a:gd name="adj3" fmla="val 47293"/>
              <a:gd name="adj4" fmla="val 6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гараж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 rot="20207400">
            <a:off x="1066680" y="5028840"/>
            <a:ext cx="2730600" cy="1266840"/>
          </a:xfrm>
          <a:prstGeom prst="rightArrowCallout">
            <a:avLst>
              <a:gd name="adj1" fmla="val 47606"/>
              <a:gd name="adj2" fmla="val 44801"/>
              <a:gd name="adj3" fmla="val 44845"/>
              <a:gd name="adj4" fmla="val 6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лесарн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астер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 rot="3072000">
            <a:off x="3060360" y="1206360"/>
            <a:ext cx="1785960" cy="1353960"/>
          </a:xfrm>
          <a:prstGeom prst="rightArrowCallout">
            <a:avLst>
              <a:gd name="adj1" fmla="val 47606"/>
              <a:gd name="adj2" fmla="val 44801"/>
              <a:gd name="adj3" fmla="val 27444"/>
              <a:gd name="adj4" fmla="val 6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ВТОСЕРВИ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ля 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ремо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 rot="16386000">
            <a:off x="3655080" y="5317200"/>
            <a:ext cx="2000160" cy="1081080"/>
          </a:xfrm>
          <a:prstGeom prst="rightArrowCallout">
            <a:avLst>
              <a:gd name="adj1" fmla="val 47606"/>
              <a:gd name="adj2" fmla="val 44801"/>
              <a:gd name="adj3" fmla="val 38493"/>
              <a:gd name="adj4" fmla="val 6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втотранспор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9"/>
          <p:cNvSpPr/>
          <p:nvPr/>
        </p:nvSpPr>
        <p:spPr>
          <a:xfrm rot="5400000">
            <a:off x="7037280" y="1898280"/>
            <a:ext cx="1262160" cy="2951280"/>
          </a:xfrm>
          <a:prstGeom prst="downArrowCallout">
            <a:avLst>
              <a:gd name="adj1" fmla="val 65312"/>
              <a:gd name="adj2" fmla="val 50000"/>
              <a:gd name="adj3" fmla="val 40508"/>
              <a:gd name="adj4" fmla="val 73778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КАБИНЕТЫ ДЛЯ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ТЕОРЕТИЧЕСКОГ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И ЛАБОРАТОРНО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ПРАКТИЧЕСКОГ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ОБУЧ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0"/>
          <p:cNvSpPr/>
          <p:nvPr/>
        </p:nvSpPr>
        <p:spPr>
          <a:xfrm rot="19185600">
            <a:off x="6171840" y="4343040"/>
            <a:ext cx="1684440" cy="1995480"/>
          </a:xfrm>
          <a:prstGeom prst="upArrowCallout">
            <a:avLst>
              <a:gd name="adj1" fmla="val 36476"/>
              <a:gd name="adj2" fmla="val 39750"/>
              <a:gd name="adj3" fmla="val 18049"/>
              <a:gd name="adj4" fmla="val 59659"/>
            </a:avLst>
          </a:prstGeom>
          <a:solidFill>
            <a:srgbClr val="bbe0e3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БОРУДОВА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СНАСТ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НСТРУ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1"/>
          <p:cNvSpPr/>
          <p:nvPr/>
        </p:nvSpPr>
        <p:spPr>
          <a:xfrm rot="3119400">
            <a:off x="5738400" y="585720"/>
            <a:ext cx="1133640" cy="2552760"/>
          </a:xfrm>
          <a:prstGeom prst="downArrowCallout">
            <a:avLst>
              <a:gd name="adj1" fmla="val 31846"/>
              <a:gd name="adj2" fmla="val 47903"/>
              <a:gd name="adj3" fmla="val 53085"/>
              <a:gd name="adj4" fmla="val 69264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ШИНОМОНТАЖ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АСТЕР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Comic Sans MS"/>
              </a:rPr>
              <a:t>Функции учебной фирмы№2</a:t>
            </a:r>
            <a:br>
              <a:rPr sz="4000"/>
            </a:br>
            <a:r>
              <a:rPr b="1" lang="ru-RU" sz="4000" spc="-1" strike="noStrike">
                <a:solidFill>
                  <a:srgbClr val="009999"/>
                </a:solidFill>
                <a:latin typeface="Comic Sans MS"/>
              </a:rPr>
              <a:t>«Механи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дственное обучение по профессиям: «автомеханик»; «слесарь по ремонту автомобил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ческое обслуживание автомоби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зовной ремонт легковых автомоби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лкосрочный ремонт автомоби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номонт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транспортных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28-1"/>
          <p:cNvPicPr/>
          <p:nvPr/>
        </p:nvPicPr>
        <p:blipFill>
          <a:blip r:embed="rId1"/>
          <a:stretch/>
        </p:blipFill>
        <p:spPr>
          <a:xfrm>
            <a:off x="5638680" y="1447920"/>
            <a:ext cx="1973520" cy="1388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08-1"/>
          <p:cNvPicPr/>
          <p:nvPr/>
        </p:nvPicPr>
        <p:blipFill>
          <a:blip r:embed="rId2"/>
          <a:stretch/>
        </p:blipFill>
        <p:spPr>
          <a:xfrm>
            <a:off x="6781680" y="762120"/>
            <a:ext cx="2206800" cy="15523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 rot="20402400">
            <a:off x="5258160" y="3200040"/>
            <a:ext cx="3429000" cy="253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фирме работают 30 человек учащихся. Руководит фирмой менеджер –мастер производственного обучения и  у него есть дублер из числа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0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2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2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009999"/>
                </a:solidFill>
                <a:latin typeface="Comic Sans MS"/>
              </a:rPr>
              <a:t>СХЕМА УЧЕБНОЙ ФИРМЫ №3</a:t>
            </a:r>
            <a:br>
              <a:rPr sz="3600"/>
            </a:br>
            <a:r>
              <a:rPr b="1" lang="ru-RU" sz="3600" spc="-1" strike="noStrike">
                <a:solidFill>
                  <a:srgbClr val="009999"/>
                </a:solidFill>
                <a:latin typeface="Comic Sans MS"/>
              </a:rPr>
              <a:t> « СВАРЩИК-МОНТАЖНИ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324000" y="2421000"/>
            <a:ext cx="216036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ВАРОЧНАЯ МАСТЕР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429000" y="1371600"/>
            <a:ext cx="305928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ЛЕСАРНАЯ МАСТЕР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24000" y="4076640"/>
            <a:ext cx="1800000" cy="1130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АБИНЕТ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 СВАР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209680" y="5562720"/>
            <a:ext cx="237672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ЫТОВАЯ КОМН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5638680" y="4648320"/>
            <a:ext cx="3025800" cy="131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КЛАДЫ МАТЕРИАЛОВ ГОТОВОЙ ПРОДУ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6084720" y="2895480"/>
            <a:ext cx="30592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УЗ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1"/>
          <p:cNvSpPr/>
          <p:nvPr/>
        </p:nvSpPr>
        <p:spPr>
          <a:xfrm>
            <a:off x="2050920" y="2492280"/>
            <a:ext cx="4249800" cy="2664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ЧЕБНАЯ ФИР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ВАРЩ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учебной фирмы №3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Сварщи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0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одственное обучение по профессиям: «Сварщик», «Монтажник санитарно-технических, вентиляционных систем  и оборудов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уск и реализация товаров народного потребления из мет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азание услуг населению в сфере ЖК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29-1"/>
          <p:cNvPicPr/>
          <p:nvPr/>
        </p:nvPicPr>
        <p:blipFill>
          <a:blip r:embed="rId1"/>
          <a:stretch/>
        </p:blipFill>
        <p:spPr>
          <a:xfrm>
            <a:off x="5638680" y="1295280"/>
            <a:ext cx="2967120" cy="2087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30-1"/>
          <p:cNvPicPr/>
          <p:nvPr/>
        </p:nvPicPr>
        <p:blipFill>
          <a:blip r:embed="rId2"/>
          <a:stretch/>
        </p:blipFill>
        <p:spPr>
          <a:xfrm>
            <a:off x="7467480" y="838080"/>
            <a:ext cx="1449360" cy="20574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 rot="20402400">
            <a:off x="5334480" y="3885840"/>
            <a:ext cx="3429000" cy="253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фирме работают 50 человек учащихся. Руководит фирмой менеджер –мастер производственного обучения и  у него есть дублер из числа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nodeType="clickEffect" fill="hold">
                      <p:stCondLst>
                        <p:cond delay="0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47880" y="0"/>
            <a:ext cx="77724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СХЕМА УЧЕБНОЙ ФИРМЫ №4 «ОФИ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3048120" y="2971800"/>
            <a:ext cx="3124080" cy="1295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ЕБНАЯ ФИ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«ОФИ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3809880" y="1143000"/>
            <a:ext cx="1797120" cy="1697040"/>
          </a:xfrm>
          <a:prstGeom prst="downArrowCallout">
            <a:avLst>
              <a:gd name="adj1" fmla="val 26477"/>
              <a:gd name="adj2" fmla="val 26474"/>
              <a:gd name="adj3" fmla="val 16667"/>
              <a:gd name="adj4" fmla="val 6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ЕРВЕ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3498840" y="4489560"/>
            <a:ext cx="2146320" cy="1770120"/>
          </a:xfrm>
          <a:prstGeom prst="upArrowCallout">
            <a:avLst>
              <a:gd name="adj1" fmla="val 30316"/>
              <a:gd name="adj2" fmla="val 30313"/>
              <a:gd name="adj3" fmla="val 16667"/>
              <a:gd name="adj4" fmla="val 6666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ЕТОДИЧЕ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АБИ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493560" y="2627280"/>
            <a:ext cx="2467080" cy="1408320"/>
          </a:xfrm>
          <a:prstGeom prst="rightArrowCallout">
            <a:avLst>
              <a:gd name="adj1" fmla="val 47690"/>
              <a:gd name="adj2" fmla="val 40417"/>
              <a:gd name="adj3" fmla="val 29196"/>
              <a:gd name="adj4" fmla="val 73745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МПЬЮТЕР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абинет №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6313320" y="2800440"/>
            <a:ext cx="2598840" cy="1249200"/>
          </a:xfrm>
          <a:prstGeom prst="leftArrowCallout">
            <a:avLst>
              <a:gd name="adj1" fmla="val 52986"/>
              <a:gd name="adj2" fmla="val 44662"/>
              <a:gd name="adj3" fmla="val 34693"/>
              <a:gd name="adj4" fmla="val 75021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МПЬЮТЕР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абинет №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учебной фирмы№4 «Офи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дственное обучение по профессиям: «секретарь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ператор ЭВМ», «делопроизводит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услуг населению  по копированию докум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нет -усл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методической помощи (дипломы, рефераты, курсовые работы, методические разработ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PIC_0063"/>
          <p:cNvPicPr/>
          <p:nvPr/>
        </p:nvPicPr>
        <p:blipFill>
          <a:blip r:embed="rId1"/>
          <a:stretch/>
        </p:blipFill>
        <p:spPr>
          <a:xfrm>
            <a:off x="5867280" y="914400"/>
            <a:ext cx="2819520" cy="20257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9"/>
          <p:cNvSpPr/>
          <p:nvPr/>
        </p:nvSpPr>
        <p:spPr>
          <a:xfrm rot="20402400">
            <a:off x="5486760" y="3580920"/>
            <a:ext cx="3429000" cy="253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фирме работают 30  учащихся. Руководит фирмой менеджер –мастер производственного обучения и  у него есть дублер из числа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Comic Sans MS"/>
              </a:rPr>
              <a:t>Актуальность 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8281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В переходный период  к рыночной экономике в профессиональном образовании одной из главных проблем стала адаптация выпускников на производстве. Даже самый успешный выпускник, придя в новый коллектив на производство, с трудом вписывается в рыночные отношения, и порой не может найти себе достойного применения. В первую очередь это касается частного предпринимательства и малого бизне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Наш выпускник получает теоретические знания и практические навыки по избранной профессии, в соответствии с государственным образовательным стандартом. В учебных программах и планах нет дисциплин, которые могли бы дать специальные знания и навыки работы в рыночных услов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ru-RU" sz="3200" spc="-1" strike="noStrike">
                <a:solidFill>
                  <a:srgbClr val="0000cc"/>
                </a:solidFill>
                <a:latin typeface="Comic Sans MS"/>
              </a:rPr>
              <a:t>.5 Этапы реализаци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4358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I</a:t>
            </a: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 этап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-2012-2013 годы –организационный (разработка проекта, нормативно-правовых документ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II</a:t>
            </a: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 этап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-2013 год –апробация, корректировка, отработка механизмов реализаци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III</a:t>
            </a: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 этап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-2014 год – функционирование учебных фирм компл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ru-RU" sz="3200" spc="-1" strike="noStrike">
                <a:solidFill>
                  <a:srgbClr val="0000cc"/>
                </a:solidFill>
                <a:latin typeface="Comic Sans MS"/>
              </a:rPr>
              <a:t>.6 Организационно-правовые механизмы и и инстр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4358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азработка учредительных документов учебной фир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отокол учредительного собрания №1 по организации ОО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чредительный договор ОО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став ОО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. Разработка организационных структур учебных фир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35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3. Разработка  документов для работы учебной фир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Положение о персона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Штатное распис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Контракт с директором фир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Контракт с работниками учебных фирм (У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Трудовой договор с работниками У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Табель учета использования рабочего вре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Форма составления протокола совещ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Шаблон пись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Форма проведения исследования потреб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Формы составления плана прода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Рекламное 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Прайс-ли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Бланк зака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Карточка складского уч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Книга прода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Счет покупате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Накладная на отпуск товара покупате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Доверенность на покупателя тов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Заявка персонала на покупку тов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Журнал регистрации хозяйственных опер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Расходный кассовый орд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Сч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Отчет о прибылях и убытк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nodeType="clickEffect" fill="hold">
                      <p:stCondLst>
                        <p:cond delay="indefinite"/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nodeType="clickEffect" fill="hold">
                      <p:stCondLst>
                        <p:cond delay="indefinite"/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2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21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21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1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1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21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21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4358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. Разработка учебных планов и программ «учебная фирм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. Разработка положения «Учебная фирм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6. Переподготовка и повышение квалификации преподавателей и мастеров п/о для работы в условиях Учебной фи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6" dur="indefinite" restart="never" nodeType="tmRoot">
          <p:childTnLst>
            <p:seq>
              <p:cTn id="1467" dur="indefinite" nodeType="mainSeq">
                <p:childTnLst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ru-RU" sz="3200" spc="-1" strike="noStrike">
                <a:solidFill>
                  <a:srgbClr val="0000cc"/>
                </a:solidFill>
                <a:latin typeface="Comic Sans MS"/>
              </a:rPr>
              <a:t>.7 материально-финансовые механизмы и инструменты </a:t>
            </a: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80880" y="1066680"/>
          <a:ext cx="8763120" cy="4542120"/>
        </p:xfrm>
        <a:graphic>
          <a:graphicData uri="http://schemas.openxmlformats.org/drawingml/2006/table">
            <a:tbl>
              <a:tblPr/>
              <a:tblGrid>
                <a:gridCol w="5639040"/>
                <a:gridCol w="1143000"/>
                <a:gridCol w="1042920"/>
                <a:gridCol w="938160"/>
              </a:tblGrid>
              <a:tr h="15548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именование финансир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сточники доходов финансирования, тыс.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елевые средства из внебюджета на укрепление и обновление материально-технической, учебно-методической базы учебных фир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ru-RU" sz="3200" spc="-1" strike="noStrike">
                <a:solidFill>
                  <a:srgbClr val="0000cc"/>
                </a:solidFill>
                <a:latin typeface="Comic Sans MS"/>
              </a:rPr>
              <a:t>.8 Ожидаемые результаты от внедрения «учебных фир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4358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ущественное сокращение разрыва между профессиональным образованием и требованиями рынка труда путем максимального приближения условий работы учебной фирмы к условиям работы реальных фи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вершенствование качества профессионального образования за счет определенной реструктуризации практического обучающего блока, как важнейшего элемента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становление новых взаимоотношений как между учащимися, так и между инженерно-педагогическими работниками и учащимися в рамках работы учебной фи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4358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4. Значительное повышение требований к уровню практических знаний и умений преподавателем и мастеров – консультантов, которые основываются на современных условиях экономических и трудовых взаимоотношениях- это означает повышение качества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5. Выявление учащимися своих личных возможностей в профессиональном, морально-нравственном росте, рост их мотиваций в обучении по избранной профессии, умение работать в коман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6. Приобретение  опыта работы в рыночных условиях, но безлопастных для бизнеса, что исключит значительные ошибки выпускников уже в условиях реального бизн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nodeType="clickEffect" fill="hold">
                      <p:stCondLst>
                        <p:cond delay="indefinite"/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nodeType="clickEffect" fill="hold">
                      <p:stCondLst>
                        <p:cond delay="indefinite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nodeType="clickEffect" fill="hold">
                      <p:stCondLst>
                        <p:cond delay="indefinite"/>
                      </p:stCondLst>
                      <p:childTnLst>
                        <p:par>
                          <p:cTn id="1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ru-RU" sz="3200" spc="-1" strike="noStrike">
                <a:solidFill>
                  <a:srgbClr val="0000cc"/>
                </a:solidFill>
                <a:latin typeface="Comic Sans MS"/>
              </a:rPr>
              <a:t>.9 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838080"/>
            <a:ext cx="8435880" cy="52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ригорьева Е.Н. Инновации в профессиональном образовании. Образовательная технология «учебная фирма», СП -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икитин М.В. Практический маркетинг в микроэкономике учреждений профессионального образования, М-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Фрейкман Р.Ф. Экономика и бизнес, М-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икитин М.В. , Глазуков А.Г Особенности организации внебюджетной подготовки учащихся в НПО , М-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овиков А.М. Научно-экспериментальная работа в профессиональном образовании, М-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озов В.Н. Инновации как способ модернизации системы НПО, Тамбов-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nodeType="clickEffect" fill="hold">
                      <p:stCondLst>
                        <p:cond delay="indefinite"/>
                      </p:stCondLst>
                      <p:childTnLst>
                        <p:par>
                          <p:cTn id="1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10920" y="981000"/>
            <a:ext cx="8281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9999"/>
                </a:solidFill>
                <a:uFillTx/>
                <a:latin typeface="Comic Sans MS"/>
              </a:rPr>
              <a:t>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Работа в коман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Основы маркетинга и менеджмен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бухгалтерского учета, финансов и кред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Налогообложения, анализа хозяйственной деятельности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При наличии таких специальных знаний и навыков выпускнику проще адаптироваться в новом коллективе или начать свое дело.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10920" y="981000"/>
            <a:ext cx="8281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9999"/>
                </a:solidFill>
                <a:uFillTx/>
                <a:latin typeface="Comic Sans MS"/>
              </a:rPr>
              <a:t>Каким образом решить  проблему и преодолеть барьер между профессиональным образованием и рынком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Решением данной проблемы, на наш взгляд, может стать внедрение в учебный процесс активных методов и технологий обучения, самостоятельное место среди которых занимает «Учебная фирм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10920" y="304920"/>
            <a:ext cx="828180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«Учебная фирма» является местом обучения, где происходит имитационное моделирование деятельности предприятия со всеми присущими ему организационными формами и рабочими процессами. В «Учебной фирме» деятельность предприятия имитируется с образовательными целями. Теория бизнеса изучается через практику. Работая в учебной фирме, учащиеся приобретают навыки предпринимательства, менеджмента, бухгалтерского учета, делопроизводства, коммуникативные навыки, навыки работы в команде, необходимые работникам всех производственных структур от предпринимателя до исполн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1280" y="304920"/>
            <a:ext cx="807552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В «Учебной фирме» учащиеся осуществляют основные коммерческо – административные виды деятельности, начиная от оформления всех необходимых документов до предоставления услуг и реализации изготовленных ими товаров. Учащиеся изучают рынок услуг, заказы на произведенную ими продукцию, ведут переговоры, принимают и обслуживают клиентов, оформляют заявки, финансовые документы, совершают сделки с другими предприятиями. При этом вся деятельность проводится с учетом существующего законодательства и правовых нор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11280" y="304920"/>
            <a:ext cx="807552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Главная особенность образовательной технологии «Учебная фирма» состоит в том, что обучение организовывается в специфической среде, имитирующих деятельность реальных фирм и компаний различных отрас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В этом случае суть дидактической концепции заключается в эффекте «погружения» учащихся в процессе принятия хозяйственных решений, в котором реальная ситуация имитируется образовательными ц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15-01-23T08:13:54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