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3A9-2412-4D68-B697-0B6C6EC6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1F7-7DAE-4439-B4A3-D80BB6CB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D5D-B32E-4221-B9E1-D98AC58D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1FA-422B-4BFA-A1AC-E7685122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C37-F201-43B5-8C15-7B43CA55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625-7DA9-4C40-B612-D0515B9C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C23-70E1-4BA2-87F5-86CCFF52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64A-C330-4C8A-911B-5251A69C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3DE-9DF1-4586-945D-642E01FC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3B5-4D96-45A6-8AC4-6A637257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9BF-3B27-4830-B3B9-27BE3F3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2CA-FFA4-4AC3-B366-041A08AE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BE0B-93AD-4297-AD81-8D0D1E3F9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bakaras@krasmail.ru" TargetMode="External"/><Relationship Id="rId2" Type="http://schemas.openxmlformats.org/officeDocument/2006/relationships/hyperlink" Target="mailto:goupy#81@mail.ru" TargetMode="External"/><Relationship Id="rId3" Type="http://schemas.openxmlformats.org/officeDocument/2006/relationships/hyperlink" Target="mailto:goupy#81@mail.ru" TargetMode="External"/><Relationship Id="rId4" Type="http://schemas.openxmlformats.org/officeDocument/2006/relationships/hyperlink" Target="mailto:goupy#81@mail.ru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ПРОЕКТ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Образовательная технология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Учебные фирмы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                КГАОУ НПО ПУ №81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              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п. Березовка</a:t>
            </a:r>
            <a:br>
              <a:rPr sz="2400"/>
            </a:b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                        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29-1"/>
          <p:cNvPicPr/>
          <p:nvPr/>
        </p:nvPicPr>
        <p:blipFill>
          <a:blip r:embed="rId1"/>
          <a:stretch/>
        </p:blipFill>
        <p:spPr>
          <a:xfrm rot="21049800">
            <a:off x="457200" y="380880"/>
            <a:ext cx="2808360" cy="1974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IC_0063"/>
          <p:cNvPicPr/>
          <p:nvPr/>
        </p:nvPicPr>
        <p:blipFill>
          <a:blip r:embed="rId2"/>
          <a:stretch/>
        </p:blipFill>
        <p:spPr>
          <a:xfrm>
            <a:off x="609480" y="4267080"/>
            <a:ext cx="3170520" cy="227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27-1"/>
          <p:cNvPicPr/>
          <p:nvPr/>
        </p:nvPicPr>
        <p:blipFill>
          <a:blip r:embed="rId3"/>
          <a:stretch/>
        </p:blipFill>
        <p:spPr>
          <a:xfrm>
            <a:off x="6248520" y="0"/>
            <a:ext cx="187632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BD05179_"/>
          <p:cNvPicPr/>
          <p:nvPr/>
        </p:nvPicPr>
        <p:blipFill>
          <a:blip r:embed="rId4"/>
          <a:stretch/>
        </p:blipFill>
        <p:spPr>
          <a:xfrm>
            <a:off x="304920" y="3657600"/>
            <a:ext cx="147456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D05093_"/>
          <p:cNvPicPr/>
          <p:nvPr/>
        </p:nvPicPr>
        <p:blipFill>
          <a:blip r:embed="rId5"/>
          <a:stretch/>
        </p:blipFill>
        <p:spPr>
          <a:xfrm rot="20494200">
            <a:off x="7543440" y="1447920"/>
            <a:ext cx="137160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304920"/>
            <a:ext cx="8075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Рабочие места в учебной фирме  обязанности учащихся соответствуют рабочим местам  и функциональным обязанностям сотрудников реальных пред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Таким образом, в учебной фирме происходит совершенствование и закрепление профессиональных ключевых умений и навыков, а сама работа в учебной фирме – это важнейший элемент практической работы, необходимой для будущей профессиональной деятельности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J0079061"/>
          <p:cNvPicPr/>
          <p:nvPr/>
        </p:nvPicPr>
        <p:blipFill>
          <a:blip r:embed="rId1"/>
          <a:stretch/>
        </p:blipFill>
        <p:spPr>
          <a:xfrm>
            <a:off x="6659640" y="0"/>
            <a:ext cx="1942920" cy="152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68360" y="1413000"/>
            <a:ext cx="824400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 у учащихся таких профессиональных навыков и компетенций, которые повышают его конкурентоспособность на современном рынке и способствуют развитию его творческого потенциала и индивидуальн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Comic Sans MS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28600" y="609480"/>
            <a:ext cx="87631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Формирование навыков конкретных видов деятельности на рабочем месте при помощи имитации ситуации работы реальной фир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рганизация занятий и деятельности, направленных на активное поведение, обучаемого, связанное с решением практически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владение новыми технологиями, в том числе коммуникативными и информацион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знакомление с коммерческой и другой деятельностью в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звитие ключевых навыков самостоятельности, творческого отношения к работе, умения принимать решение, работы в команде, способности разрешать конфликты, коммуникаб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олучение опыта работы с реальными фирмами без участия в реальн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Comic Sans MS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609480"/>
            <a:ext cx="87631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Формирование навыков конкретных видов деятельности на рабочем месте при помощи имитации ситуации работы реальной фир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рганизация занятий и деятельности, направленных на активное поведение, обучаемого, связанное с решением практически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владение новыми технологиями, в том числе коммуникативными и информацион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знакомление с коммерческой и другой деятельностью в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звитие ключевых навыков самостоятельности, творческого отношения к работе, умения принимать решение, работы в команде, способности разрешать конфликты, коммуникаб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олучение опыта работы с реальными фирмами без участия в реальн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447920" y="914400"/>
            <a:ext cx="6019560" cy="113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офис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2971800"/>
            <a:ext cx="198108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ая фи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Ферм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95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Сеть учебных фирм ПУ №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2133720" y="2971800"/>
            <a:ext cx="19047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ая фи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еха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267080" y="2971800"/>
            <a:ext cx="19051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ая фи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варщ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324480" y="2895480"/>
            <a:ext cx="25909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ая фи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фи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H="1">
            <a:off x="1219320" y="21337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525780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6629400" y="22096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V="1">
            <a:off x="380880" y="4190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380880" y="51814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76960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V="1">
            <a:off x="762120" y="419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>
            <a:off x="7621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 flipV="1">
            <a:off x="73152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3"/>
          <p:cNvGrpSpPr/>
          <p:nvPr/>
        </p:nvGrpSpPr>
        <p:grpSpPr>
          <a:xfrm>
            <a:off x="3124080" y="4191120"/>
            <a:ext cx="4038480" cy="380880"/>
            <a:chOff x="3124080" y="4191120"/>
            <a:chExt cx="4038480" cy="380880"/>
          </a:xfrm>
        </p:grpSpPr>
        <p:sp>
          <p:nvSpPr>
            <p:cNvPr id="85" name="Line 27"/>
            <p:cNvSpPr/>
            <p:nvPr/>
          </p:nvSpPr>
          <p:spPr>
            <a:xfrm flipV="1">
              <a:off x="31240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3124080" y="45720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 flipV="1">
              <a:off x="716256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8"/>
          <p:cNvGrpSpPr/>
          <p:nvPr/>
        </p:nvGrpSpPr>
        <p:grpSpPr>
          <a:xfrm>
            <a:off x="1371600" y="4190760"/>
            <a:ext cx="914400" cy="228960"/>
            <a:chOff x="1371600" y="4190760"/>
            <a:chExt cx="914400" cy="228960"/>
          </a:xfrm>
        </p:grpSpPr>
        <p:sp>
          <p:nvSpPr>
            <p:cNvPr id="89" name="Line 30"/>
            <p:cNvSpPr/>
            <p:nvPr/>
          </p:nvSpPr>
          <p:spPr>
            <a:xfrm flipV="1">
              <a:off x="137160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1"/>
            <p:cNvSpPr/>
            <p:nvPr/>
          </p:nvSpPr>
          <p:spPr>
            <a:xfrm>
              <a:off x="1371600" y="4419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2"/>
            <p:cNvSpPr/>
            <p:nvPr/>
          </p:nvSpPr>
          <p:spPr>
            <a:xfrm flipV="1">
              <a:off x="228600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Line 33"/>
          <p:cNvSpPr/>
          <p:nvPr/>
        </p:nvSpPr>
        <p:spPr>
          <a:xfrm>
            <a:off x="36576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4"/>
          <p:cNvSpPr/>
          <p:nvPr/>
        </p:nvSpPr>
        <p:spPr>
          <a:xfrm flipV="1">
            <a:off x="365760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5"/>
          <p:cNvSpPr/>
          <p:nvPr/>
        </p:nvSpPr>
        <p:spPr>
          <a:xfrm flipV="1">
            <a:off x="457200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9"/>
          <p:cNvGrpSpPr/>
          <p:nvPr/>
        </p:nvGrpSpPr>
        <p:grpSpPr>
          <a:xfrm>
            <a:off x="5791320" y="4266720"/>
            <a:ext cx="914400" cy="228960"/>
            <a:chOff x="5791320" y="4266720"/>
            <a:chExt cx="914400" cy="228960"/>
          </a:xfrm>
        </p:grpSpPr>
        <p:sp>
          <p:nvSpPr>
            <p:cNvPr id="96" name="Line 40"/>
            <p:cNvSpPr/>
            <p:nvPr/>
          </p:nvSpPr>
          <p:spPr>
            <a:xfrm flipV="1">
              <a:off x="5791320" y="426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1"/>
            <p:cNvSpPr/>
            <p:nvPr/>
          </p:nvSpPr>
          <p:spPr>
            <a:xfrm>
              <a:off x="5791320" y="4495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2"/>
            <p:cNvSpPr/>
            <p:nvPr/>
          </p:nvSpPr>
          <p:spPr>
            <a:xfrm flipV="1">
              <a:off x="6705720" y="426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44"/>
          <p:cNvGrpSpPr/>
          <p:nvPr/>
        </p:nvGrpSpPr>
        <p:grpSpPr>
          <a:xfrm>
            <a:off x="1066680" y="4191120"/>
            <a:ext cx="4038480" cy="380880"/>
            <a:chOff x="1066680" y="4191120"/>
            <a:chExt cx="4038480" cy="380880"/>
          </a:xfrm>
        </p:grpSpPr>
        <p:sp>
          <p:nvSpPr>
            <p:cNvPr id="100" name="Line 45"/>
            <p:cNvSpPr/>
            <p:nvPr/>
          </p:nvSpPr>
          <p:spPr>
            <a:xfrm flipV="1">
              <a:off x="10666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46"/>
            <p:cNvSpPr/>
            <p:nvPr/>
          </p:nvSpPr>
          <p:spPr>
            <a:xfrm>
              <a:off x="1066680" y="45720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7"/>
            <p:cNvSpPr/>
            <p:nvPr/>
          </p:nvSpPr>
          <p:spPr>
            <a:xfrm flipV="1">
              <a:off x="510516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3048120" cy="106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ЦЕНТРАЛЬНЫЙ ОФИС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6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Comic Sans MS"/>
              </a:rPr>
              <a:t>Имитирует внешнюю среду, реализуя функции организаций рыночной инфраструктуры, включая органы 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Центральный офис играет роль «системного интегратора», формируя условия для развития творческих инициатив и взаимного обучения всех участников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181480" y="2209680"/>
            <a:ext cx="33530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еджмент (руковод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181480" y="2895480"/>
            <a:ext cx="33530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кретариат (кад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5181480" y="3733920"/>
            <a:ext cx="33530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хгал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181480" y="4495680"/>
            <a:ext cx="33530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 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5181480" y="5257800"/>
            <a:ext cx="33530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ер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5105520" y="6019920"/>
            <a:ext cx="3504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енн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3581280" y="2362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3581280" y="251460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3657600" y="27432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3505320" y="2971800"/>
            <a:ext cx="16761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3505320" y="3200400"/>
            <a:ext cx="16002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3429000" y="3352680"/>
            <a:ext cx="160020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28600" y="3657600"/>
            <a:ext cx="373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Bookman Old Style"/>
              </a:rPr>
              <a:t>Деятельность этих организаций создает условия для обеспечения эффективной системы обучения, контроля и объективной оценки, как индивидуальных результатов учащихся, так и командных достижений каждой учебной фи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50920" y="260280"/>
          <a:ext cx="8569080" cy="6230880"/>
        </p:xfrm>
        <a:graphic>
          <a:graphicData uri="http://schemas.openxmlformats.org/drawingml/2006/table">
            <a:tbl>
              <a:tblPr/>
              <a:tblGrid>
                <a:gridCol w="511200"/>
                <a:gridCol w="2590560"/>
                <a:gridCol w="4419720"/>
                <a:gridCol w="1047600"/>
              </a:tblGrid>
              <a:tr h="6541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ий план «Учебной фирм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времени на факультативные занятия выделено 102 часа на изучения курс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первый. Создание учебной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ие в курс «Учебная фирм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и задачи курса, принципы создания, функционирования учебных фирм. Центральный офис сети учебных фи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5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ы предприниматель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о предпринимательской деятельности в РФ. Формы собственности. Виды предпринимательской деятельности, учредительные документы. Порядок регистрации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ера коммерче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. Рынок товаров и услуг. Исследование спроса и предложений товара и услуг. Планирование бизн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идж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, миссия фирмы, логотип. Бизнес-этикет. Корпоративная 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50920" y="260280"/>
          <a:ext cx="8569080" cy="6369120"/>
        </p:xfrm>
        <a:graphic>
          <a:graphicData uri="http://schemas.openxmlformats.org/drawingml/2006/table">
            <a:tbl>
              <a:tblPr/>
              <a:tblGrid>
                <a:gridCol w="511200"/>
                <a:gridCol w="2590560"/>
                <a:gridCol w="4419720"/>
                <a:gridCol w="1047600"/>
              </a:tblGrid>
              <a:tr h="433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ий план «Учебной фирмы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ая структура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ятие организационной структуры. Функции отделов. Штатное расписание. Должностные обязанности сотрудников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ы фирмы и документообор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ы и их классификация, назначение и фор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 регистрации, хранение и документообор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азде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0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второй. Функционирование учебной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фир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, методы, стили, формы управления предприятием. Функции управления, стратегическое и текущее планирование. Прием на работу и работа с персоналом. Анализ работы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260280"/>
          <a:ext cx="8569080" cy="6162840"/>
        </p:xfrm>
        <a:graphic>
          <a:graphicData uri="http://schemas.openxmlformats.org/drawingml/2006/table">
            <a:tbl>
              <a:tblPr/>
              <a:tblGrid>
                <a:gridCol w="511200"/>
                <a:gridCol w="2590560"/>
                <a:gridCol w="4419720"/>
                <a:gridCol w="1047600"/>
              </a:tblGrid>
              <a:tr h="432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ий план «Учебной фирмы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тарск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 работы с исходящими и входящими документами фирмы. Правила составления деловых писем. Порядок подготовки к проведению совещаний. Порядок ведения телефонных пере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кетинговая деятельность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и задачи маркетинга на предприятии. План маркетинга фирмы. Маркетинговые исследования рынка товаров и услуг. Прайс-лист и каталог продукции фирмы, реклама. Презентация. Ярмар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покупок и прода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 осуществления и формирования торговых сделок (покупка/продажа) Работа с клиентом, работа с банком, ведение складской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28600" y="838080"/>
          <a:ext cx="8569440" cy="3329280"/>
        </p:xfrm>
        <a:graphic>
          <a:graphicData uri="http://schemas.openxmlformats.org/drawingml/2006/table">
            <a:tbl>
              <a:tblPr/>
              <a:tblGrid>
                <a:gridCol w="511200"/>
                <a:gridCol w="2590920"/>
                <a:gridCol w="4419360"/>
                <a:gridCol w="1047960"/>
              </a:tblGrid>
              <a:tr h="43344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ий план «Учебной фирмы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хгалтерский 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организации бухгалтерской службы предприятия. Оформление первичных документов, ведение учета, уплаты налогов, финансовая отчетнос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азде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5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Краевое государственное образовательное учреждение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Профессиональное училище №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Century Gothic"/>
              </a:rPr>
              <a:t>Адрес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662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расноя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. Берез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л. Полевая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Century Gothic"/>
              </a:rPr>
              <a:t>Телефон:</a:t>
            </a:r>
            <a:r>
              <a:rPr b="0" lang="ru-RU" sz="2400" spc="-1" strike="noStrike">
                <a:solidFill>
                  <a:srgbClr val="bbe0e3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8 (39175) 2-17-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Century Gothic"/>
              </a:rPr>
              <a:t>Факс:    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8 (39175) 2-12-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entury Gothic"/>
              </a:rPr>
              <a:t>e- mai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bakaras@kras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goupy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№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81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1-1"/>
          <p:cNvPicPr/>
          <p:nvPr/>
        </p:nvPicPr>
        <p:blipFill>
          <a:blip r:embed="rId5"/>
          <a:stretch/>
        </p:blipFill>
        <p:spPr>
          <a:xfrm>
            <a:off x="5334120" y="2057400"/>
            <a:ext cx="3354120" cy="235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5-1"/>
          <p:cNvPicPr/>
          <p:nvPr/>
        </p:nvPicPr>
        <p:blipFill>
          <a:blip r:embed="rId6"/>
          <a:stretch/>
        </p:blipFill>
        <p:spPr>
          <a:xfrm>
            <a:off x="5562720" y="4419720"/>
            <a:ext cx="3111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Материально –техническое оснащение учебных фир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omic Sans MS"/>
              </a:rPr>
              <a:t>Центральный офис учебных фир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мещение 40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фисная мебель (столы 6шт, стулья 6 шт, диван -1шт, журнальный столик -1ш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ьютер – 2 ш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тер – 1 ш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анер-1ш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пировальный аппарат -1 ш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лефон -1 ш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дем- 1ш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нцелярские товары и бухгалтерские бл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ое обеспечени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прикладные программы пакет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S Office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бухгалтерские программы, учебно- методические пособия, экономическая литера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Материально-техническая база учебной фирмы «Ферм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изводственный корпус ремонтно-технических мастерских           1050 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ельскохозяйственная техника и автотранспорт -                    15 еди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емельные поливные уго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0 га (аре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трактородром -                    3,5 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бинеты для теоретических и лабораторно-практических занятий – 3ш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стерские                             - 2ш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Материально-техническая база учебной фирмы «Меха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гараж 250 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окс для мелкосрочного ремонта автомобилей 40 кв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сервис для ремонта и ТО автомобилей 150 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иномонтажная мастерская 50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бинеты для теоретических и лабораторно-практических занятий                     120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стерские 60 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транспорт -10 еди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снастка, инструмент – 20 компл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Материально-техническая база учебной фирмы «Сварщ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арочная мастерская 180 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лесарная мастерская 60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бинет теоретического обучения по сварке 70 кв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узница 30 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ытовая комната 20 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клад для материалов 2 шт.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Материально-техническая база учебной фирмы «Офи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рверна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пьютерные кабинеты 130 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тодический кабинет 100 кв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395280" y="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1.4. Организационная структура и функции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16292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ЦЕНТРАЛЬНЫЙ ОФИС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2819520" y="1600200"/>
            <a:ext cx="3352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еджм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6781680" y="1752480"/>
            <a:ext cx="1905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кретари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д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6858000" y="266688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хгал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3048120" y="27432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457200" y="2743200"/>
            <a:ext cx="17524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ер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4952880" y="27432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228600" y="4038480"/>
            <a:ext cx="2514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ик от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еджер по продаж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2895480" y="4038480"/>
            <a:ext cx="2133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ик от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кет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5181480" y="40384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6934320" y="403848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.бухгал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хгал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4"/>
          <p:cNvSpPr/>
          <p:nvPr/>
        </p:nvSpPr>
        <p:spPr>
          <a:xfrm flipH="1">
            <a:off x="1905120" y="19810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>
            <a:off x="38862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>
            <a:off x="54864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7"/>
          <p:cNvSpPr/>
          <p:nvPr/>
        </p:nvSpPr>
        <p:spPr>
          <a:xfrm>
            <a:off x="6248520" y="1905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>
            <a:off x="6248520" y="2133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39625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12952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1"/>
          <p:cNvSpPr/>
          <p:nvPr/>
        </p:nvSpPr>
        <p:spPr>
          <a:xfrm>
            <a:off x="59436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>
            <a:off x="7848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Функции отде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Менеджмент (дирек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яет миссию и цели деятельности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ланирует деятельность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работу по приему и управлению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изирует бухгалтерские, юридические и другие документы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станавливает и поддерживает партнерские отношения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иректором учебных фирм является заместитель директора по производственной работе училища. Параллельно работает дублер из числ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Секретариат (кадры-секрет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прием и оформление сотрудников на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прием всех входящих и исходящи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авляет организационно – распорядитель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еспечивает проведение собраний и совещ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ует прием посет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формляет кадровую документ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табель учета рабочего времени сотрудников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ует мероприятия по формированию дружеских корпоративны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уководит работой секретарь училища, а в отделе работает три сотрудника из числ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2800" spc="-1" strike="noStrike">
                <a:solidFill>
                  <a:srgbClr val="009999"/>
                </a:solidFill>
                <a:latin typeface="Comic Sans MS"/>
              </a:rPr>
              <a:t>Коммерческий от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ет поиск и учет поставщ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существляет закупку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ет учет клиентов и работу с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ет складской учет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гружает готовую продукцию заказч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тролирует выполнение договорных обязательств и своевременную оплату с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уководит работой отдела мастер п/о, а в отделе работает четыре сотрудника из числа учащихся- менеджер по продажам, кладовщик и два сотру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Отдел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рабатывает и координирует стратегию поведения на рынке товаров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рабатывает фирменный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гулярно следит за состоянием рынка, проводит его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длагает и разрабатывает новые виды товров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нимается ценообразов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ланирует и организует мероприятия по продвижению и формированию с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одит анализ продаж товаров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уководит работой отдела мастер п/о ( помогает дублер из числа учащихся), а в отделе работает четыре сотрудника из числ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Авторский коллект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Comic Sans MS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акарас А.А– мастер производственного обучения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Comic Sans MS"/>
              </a:rPr>
              <a:t>Члены проект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Лелаус Г.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–преподаватель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Лапина Г.П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–преподаватель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Матяш С.В-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генеральный директор агрохолдинга «Огоро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Никитин А.А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– мастер производственного обучения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Любященко В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.</a:t>
            </a:r>
            <a:r>
              <a:rPr b="1" lang="ru-RU" sz="2000" spc="-1" strike="noStrike">
                <a:solidFill>
                  <a:srgbClr val="009999"/>
                </a:solidFill>
                <a:latin typeface="Comic Sans MS"/>
              </a:rPr>
              <a:t>В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мастер производственного обучения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Производственны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ланирует производственную деятельность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учет сырья, материалов и рабоч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ланирует повышение эффективности производства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еспечивает контроль качества выпуск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вивает технологию производства продукции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уководит работой отдела мастер п/о ( помогает дублер из числа учащихся), а в отделе работает четыре сотрудника из числа учащихся (технолог и три сотруд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ru-RU" sz="2000" spc="-1" strike="noStrike">
                <a:solidFill>
                  <a:srgbClr val="009999"/>
                </a:solidFill>
                <a:latin typeface="Comic Sans MS"/>
              </a:rPr>
              <a:t>Бухгал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дет учет первичных документов по хозяйственным операциям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ставляет смету доходов и расходов учеб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дет расчеты по заработной пл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дет работу с бюджетом по налогам и взносам в социальные фо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гулярно ставит в известность руководство фирм о их финансовом со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ставляет финансовую отчетность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едставляет финансовую отчетность в налоговую инспе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уководит работой отдела бухгалтер училища ( помогает дублер из числа учащихся), а в отделе работает четыре сотрудника из числа учащихся (бухгалтер и три сотруд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Comic Sans MS"/>
              </a:rPr>
              <a:t>СХЕМА УЧЕБНОЙ ФИРМЫ №1 ФЕР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581280" y="2819520"/>
            <a:ext cx="213372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ЕБ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ФЕРМ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 rot="1480200">
            <a:off x="449280" y="1665000"/>
            <a:ext cx="2724120" cy="1344600"/>
          </a:xfrm>
          <a:prstGeom prst="rightArrowCallout">
            <a:avLst>
              <a:gd name="adj1" fmla="val 25002"/>
              <a:gd name="adj2" fmla="val 25000"/>
              <a:gd name="adj3" fmla="val 33766"/>
              <a:gd name="adj4" fmla="val 6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ИЗ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РП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МОН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СТЕР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 rot="2836200">
            <a:off x="1191240" y="3282120"/>
            <a:ext cx="1366920" cy="2813040"/>
          </a:xfrm>
          <a:prstGeom prst="upArrowCallout">
            <a:avLst>
              <a:gd name="adj1" fmla="val 25002"/>
              <a:gd name="adj2" fmla="val 25000"/>
              <a:gd name="adj3" fmla="val 34299"/>
              <a:gd name="adj4" fmla="val 6666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ЕМ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ГО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 rot="19691400">
            <a:off x="5943240" y="1374480"/>
            <a:ext cx="3171960" cy="1334880"/>
          </a:xfrm>
          <a:prstGeom prst="leftArrowCallout">
            <a:avLst>
              <a:gd name="adj1" fmla="val 25002"/>
              <a:gd name="adj2" fmla="val 25000"/>
              <a:gd name="adj3" fmla="val 39604"/>
              <a:gd name="adj4" fmla="val 666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/Х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ВТО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 rot="2450400">
            <a:off x="5951520" y="4317480"/>
            <a:ext cx="2868480" cy="1457640"/>
          </a:xfrm>
          <a:prstGeom prst="leftArrowCallout">
            <a:avLst>
              <a:gd name="adj1" fmla="val 24734"/>
              <a:gd name="adj2" fmla="val 29597"/>
              <a:gd name="adj3" fmla="val 26894"/>
              <a:gd name="adj4" fmla="val 66673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АКТ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733920" y="3962520"/>
            <a:ext cx="1698480" cy="2747880"/>
          </a:xfrm>
          <a:prstGeom prst="upArrowCallout">
            <a:avLst>
              <a:gd name="adj1" fmla="val 25002"/>
              <a:gd name="adj2" fmla="val 25000"/>
              <a:gd name="adj3" fmla="val 26964"/>
              <a:gd name="adj4" fmla="val 6666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СА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048120" y="762120"/>
            <a:ext cx="3124080" cy="1828800"/>
          </a:xfrm>
          <a:prstGeom prst="downArrowCallout">
            <a:avLst>
              <a:gd name="adj1" fmla="val 42710"/>
              <a:gd name="adj2" fmla="val 42707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Кабин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ля теоре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 лаборато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-Прак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учебной фирмы №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Ферм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ное обучение по профессиям: «тракторист- машинист с/х производства», «овощевод», «фер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щивание и реализация овощей (картофель, морковь, свекла, капу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с/х услуг населению (вспашка огородов, вывоз с/х про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обслуживание и ремонт с/х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24-1"/>
          <p:cNvPicPr/>
          <p:nvPr/>
        </p:nvPicPr>
        <p:blipFill>
          <a:blip r:embed="rId1"/>
          <a:stretch/>
        </p:blipFill>
        <p:spPr>
          <a:xfrm>
            <a:off x="5562720" y="1447920"/>
            <a:ext cx="3111480" cy="218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27-1"/>
          <p:cNvPicPr/>
          <p:nvPr/>
        </p:nvPicPr>
        <p:blipFill>
          <a:blip r:embed="rId2"/>
          <a:stretch/>
        </p:blipFill>
        <p:spPr>
          <a:xfrm>
            <a:off x="7604280" y="914400"/>
            <a:ext cx="1539720" cy="21891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5257800" y="4038480"/>
            <a:ext cx="3657600" cy="192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фирме работают 50 человек учащихся, руководит фирмой –менеджер-мастер п/о, у него есть дублер из чис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0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10920" y="404280"/>
            <a:ext cx="7777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Comic Sans MS"/>
              </a:rPr>
              <a:t>СХЕМА УЧЕБНОЙ  ФИРМЫ № 2 «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МЕХАНИК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505320" y="2743200"/>
            <a:ext cx="2408040" cy="1862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ЕБНАЯ ФИ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ХА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 rot="981600">
            <a:off x="1066680" y="1752120"/>
            <a:ext cx="2286000" cy="1114560"/>
          </a:xfrm>
          <a:prstGeom prst="rightArrowCallout">
            <a:avLst>
              <a:gd name="adj1" fmla="val 47606"/>
              <a:gd name="adj2" fmla="val 44801"/>
              <a:gd name="adj3" fmla="val 42673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О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лкосроч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МО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 rot="1117200">
            <a:off x="533160" y="3123720"/>
            <a:ext cx="2879640" cy="1266840"/>
          </a:xfrm>
          <a:prstGeom prst="rightArrowCallout">
            <a:avLst>
              <a:gd name="adj1" fmla="val 47606"/>
              <a:gd name="adj2" fmla="val 44801"/>
              <a:gd name="adj3" fmla="val 47293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гара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 rot="20207400">
            <a:off x="1066680" y="5028840"/>
            <a:ext cx="2730600" cy="1266840"/>
          </a:xfrm>
          <a:prstGeom prst="rightArrowCallout">
            <a:avLst>
              <a:gd name="adj1" fmla="val 47606"/>
              <a:gd name="adj2" fmla="val 44801"/>
              <a:gd name="adj3" fmla="val 44845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лесарн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стер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3072000">
            <a:off x="3060360" y="1206360"/>
            <a:ext cx="1785960" cy="1353960"/>
          </a:xfrm>
          <a:prstGeom prst="rightArrowCallout">
            <a:avLst>
              <a:gd name="adj1" fmla="val 47606"/>
              <a:gd name="adj2" fmla="val 44801"/>
              <a:gd name="adj3" fmla="val 27444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ВТОСЕРВ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ля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ремо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16386000">
            <a:off x="3655080" y="5317200"/>
            <a:ext cx="2000160" cy="1081080"/>
          </a:xfrm>
          <a:prstGeom prst="rightArrowCallout">
            <a:avLst>
              <a:gd name="adj1" fmla="val 47606"/>
              <a:gd name="adj2" fmla="val 44801"/>
              <a:gd name="adj3" fmla="val 38493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втотранспор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 rot="5400000">
            <a:off x="7037280" y="1898280"/>
            <a:ext cx="1262160" cy="2951280"/>
          </a:xfrm>
          <a:prstGeom prst="downArrowCallout">
            <a:avLst>
              <a:gd name="adj1" fmla="val 65312"/>
              <a:gd name="adj2" fmla="val 50000"/>
              <a:gd name="adj3" fmla="val 40508"/>
              <a:gd name="adj4" fmla="val 73778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АБИНЕТЫ ДЛЯ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ТЕОРЕТИЧЕСК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И ЛАБОРАТОРН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АКТИЧЕСК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ОБУ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 rot="19185600">
            <a:off x="6171840" y="4343040"/>
            <a:ext cx="1684440" cy="1995480"/>
          </a:xfrm>
          <a:prstGeom prst="upArrowCallout">
            <a:avLst>
              <a:gd name="adj1" fmla="val 36476"/>
              <a:gd name="adj2" fmla="val 39750"/>
              <a:gd name="adj3" fmla="val 18049"/>
              <a:gd name="adj4" fmla="val 59659"/>
            </a:avLst>
          </a:prstGeom>
          <a:solidFill>
            <a:srgbClr val="bbe0e3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БОРУД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СНАСТ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 rot="3119400">
            <a:off x="5738400" y="585720"/>
            <a:ext cx="1133640" cy="2552760"/>
          </a:xfrm>
          <a:prstGeom prst="downArrowCallout">
            <a:avLst>
              <a:gd name="adj1" fmla="val 31846"/>
              <a:gd name="adj2" fmla="val 47903"/>
              <a:gd name="adj3" fmla="val 53085"/>
              <a:gd name="adj4" fmla="val 69264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ШИНОМОНТАЖ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АСТЕР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Функции учебной фирмы№2</a:t>
            </a:r>
            <a:br>
              <a:rPr sz="4000"/>
            </a:b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«Меха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ное обучение по профессиям: «автомеханик»; «слесарь по ремонту автомоби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обслуживание автомоб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овной ремонт легковых автомоб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косрочный ремонт автомоб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номон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транспорт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28-1"/>
          <p:cNvPicPr/>
          <p:nvPr/>
        </p:nvPicPr>
        <p:blipFill>
          <a:blip r:embed="rId1"/>
          <a:stretch/>
        </p:blipFill>
        <p:spPr>
          <a:xfrm>
            <a:off x="5638680" y="1447920"/>
            <a:ext cx="1973520" cy="1388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08-1"/>
          <p:cNvPicPr/>
          <p:nvPr/>
        </p:nvPicPr>
        <p:blipFill>
          <a:blip r:embed="rId2"/>
          <a:stretch/>
        </p:blipFill>
        <p:spPr>
          <a:xfrm>
            <a:off x="6781680" y="762120"/>
            <a:ext cx="2206800" cy="15523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 rot="20402400">
            <a:off x="5258160" y="3200040"/>
            <a:ext cx="3429000" cy="25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фирме работают 30 человек учащихся. Руководит фирмой менеджер –мастер производственного обучения и  у него есть дублер из чис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0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СХЕМА УЧЕБНОЙ ФИРМЫ №3</a:t>
            </a:r>
            <a:br>
              <a:rPr sz="3600"/>
            </a:b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 « СВАРЩИК-МОНТАЖН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24000" y="2421000"/>
            <a:ext cx="216036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ВАРОЧНАЯ МАСТ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429000" y="1371600"/>
            <a:ext cx="305928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ЛЕСАРНАЯ МАСТ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24000" y="4076640"/>
            <a:ext cx="1800000" cy="113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БИНЕ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СВА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209680" y="5562720"/>
            <a:ext cx="23767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ЫТОВАЯ КОМ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638680" y="4648320"/>
            <a:ext cx="3025800" cy="131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ЛАДЫ МАТЕРИАЛОВ ГОТОВОЙ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84720" y="2895480"/>
            <a:ext cx="3059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УЗ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2050920" y="2492280"/>
            <a:ext cx="4249800" cy="2664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ЕБНАЯ ФИР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ВАР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учебной фирмы №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варщ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енное обучение по профессиям: «Сварщик», «Монтажник санитарно-технических, вентиляционных систем  и оборуд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 и реализация товаров народного потребления из мет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ание услуг населению в сфере ЖК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29-1"/>
          <p:cNvPicPr/>
          <p:nvPr/>
        </p:nvPicPr>
        <p:blipFill>
          <a:blip r:embed="rId1"/>
          <a:stretch/>
        </p:blipFill>
        <p:spPr>
          <a:xfrm>
            <a:off x="5638680" y="1295280"/>
            <a:ext cx="2967120" cy="208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30-1"/>
          <p:cNvPicPr/>
          <p:nvPr/>
        </p:nvPicPr>
        <p:blipFill>
          <a:blip r:embed="rId2"/>
          <a:stretch/>
        </p:blipFill>
        <p:spPr>
          <a:xfrm>
            <a:off x="7467480" y="838080"/>
            <a:ext cx="144936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 rot="20402400">
            <a:off x="5334480" y="3885840"/>
            <a:ext cx="3429000" cy="25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фирме работают 50 человек учащихся. Руководит фирмой менеджер –мастер производственного обучения и  у него есть дублер из чис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47880" y="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ХЕМА УЧЕБНОЙ ФИРМЫ №4 «ОФИ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048120" y="2971800"/>
            <a:ext cx="3124080" cy="1295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АЯ ФИ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ОФИ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809880" y="1143000"/>
            <a:ext cx="1797120" cy="1697040"/>
          </a:xfrm>
          <a:prstGeom prst="downArrowCallout">
            <a:avLst>
              <a:gd name="adj1" fmla="val 26477"/>
              <a:gd name="adj2" fmla="val 26474"/>
              <a:gd name="adj3" fmla="val 16667"/>
              <a:gd name="adj4" fmla="val 6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В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3498840" y="4489560"/>
            <a:ext cx="2146320" cy="1770120"/>
          </a:xfrm>
          <a:prstGeom prst="upArrowCallout">
            <a:avLst>
              <a:gd name="adj1" fmla="val 30316"/>
              <a:gd name="adj2" fmla="val 30313"/>
              <a:gd name="adj3" fmla="val 16667"/>
              <a:gd name="adj4" fmla="val 6666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ТОД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АБИ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493560" y="2627280"/>
            <a:ext cx="2467080" cy="1408320"/>
          </a:xfrm>
          <a:prstGeom prst="rightArrowCallout">
            <a:avLst>
              <a:gd name="adj1" fmla="val 47690"/>
              <a:gd name="adj2" fmla="val 40417"/>
              <a:gd name="adj3" fmla="val 29196"/>
              <a:gd name="adj4" fmla="val 73745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ЬЮТЕ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бинет №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6313320" y="2800440"/>
            <a:ext cx="2598840" cy="1249200"/>
          </a:xfrm>
          <a:prstGeom prst="leftArrowCallout">
            <a:avLst>
              <a:gd name="adj1" fmla="val 52986"/>
              <a:gd name="adj2" fmla="val 44662"/>
              <a:gd name="adj3" fmla="val 34693"/>
              <a:gd name="adj4" fmla="val 7502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ЬЮТЕ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бинет №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учебной фирмы№4 «Офи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ное обучение по профессиям: «секретарь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ператор ЭВМ», «делопроизвод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услуг населению  по копированию докум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-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методической помощи (дипломы, рефераты, курсовые работы, методические разработ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PIC_0063"/>
          <p:cNvPicPr/>
          <p:nvPr/>
        </p:nvPicPr>
        <p:blipFill>
          <a:blip r:embed="rId1"/>
          <a:stretch/>
        </p:blipFill>
        <p:spPr>
          <a:xfrm>
            <a:off x="5867280" y="914400"/>
            <a:ext cx="2819520" cy="2025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 rot="20402400">
            <a:off x="5486760" y="3580920"/>
            <a:ext cx="3429000" cy="25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фирме работают 30  учащихся. Руководит фирмой менеджер –мастер производственного обучения и  у него есть дублер из чис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Актуальность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переходный период  к рыночной экономике в профессиональном образовании одной из главных проблем стала адаптация выпускников на производстве. Даже самый успешный выпускник, придя в новый коллектив на производство, с трудом вписывается в рыночные отношения, и порой не может найти себе достойного применения. В первую очередь это касается частного предпринимательства и малого бизн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ш выпускник получает теоретические знания и практические навыки по избранной профессии, в соответствии с государственным образовательным стандартом. В учебных программах и планах нет дисциплин, которые могли бы дать специальные знания и навыки работы в рыночных услов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5 Этапы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I</a:t>
            </a: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 этап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-2012-2013 годы –организационный (разработка проекта, нормативно-правовых доку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II</a:t>
            </a: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 этап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-2013 год –апробация, корректировка, отработка механизмов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III</a:t>
            </a: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 этап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-2014 год – функционирование учебных фирм компл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6 Организационно-правовые механизмы и и инстр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зработка учредительных документов учебной фир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токол учредительного собрания №1 по организации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чредительный договор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став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Разработка организационных структур учебных фи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35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Разработка  документов для работы учебной фи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ложение о персона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Штатное распис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онтракт с директором фи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онтракт с работниками учебных фирм (У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Трудовой договор с работниками У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Табель учета использования рабочего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Форма составления протокола совещ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Шаблон пись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Форма проведения исследования потреб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Формы составления плана прод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екламное 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айс-л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Бланк зак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арточка складского у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нига прод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чет покупат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акладная на отпуск товара покупат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оверенность на покупателя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аявка персонала на покупку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Журнал регистрации хозяйственных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асходный кассовый ор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тчет о прибылях и убыт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2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 Разработка учебных планов и программ «учебная фир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. Разработка положения «Учебная фир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. Переподготовка и повышение квалификации преподавателей и мастеров п/о для работы в условиях Учебной фи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7 материально-финансовые механизмы и инструменты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80880" y="1066680"/>
          <a:ext cx="8763120" cy="4542120"/>
        </p:xfrm>
        <a:graphic>
          <a:graphicData uri="http://schemas.openxmlformats.org/drawingml/2006/table">
            <a:tbl>
              <a:tblPr/>
              <a:tblGrid>
                <a:gridCol w="5639040"/>
                <a:gridCol w="1143000"/>
                <a:gridCol w="1042920"/>
                <a:gridCol w="938160"/>
              </a:tblGrid>
              <a:tr h="15548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именование финанс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точники доходов финансирования, тыс.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левые средства из внебюджета на укрепление и обновление материально-технической, учебно-методической базы учебных фир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8 Ожидаемые результаты от внедрения «учебных фир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ущественное сокращение разрыва между профессиональным образованием и требованиями рынка труда путем максимального приближения условий работы учебной фирмы к условиям работы реаль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вершенствование качества профессионального образования за счет определенной реструктуризации практического обучающего блока, как важнейшего элемента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становление новых взаимоотношений как между учащимися, так и между инженерно-педагогическими работниками и учащимися в рамках работы учебной фи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Значительное повышение требований к уровню практических знаний и умений преподавателем и мастеров – консультантов, которые основываются на современных условиях экономических и трудовых взаимоотношениях- это означает повышение 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Выявление учащимися своих личных возможностей в профессиональном, морально-нравственном росте, рост их мотиваций в обучении по избранной профессии, 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. Приобретение  опыта работы в рыночных условиях, но безлопастных для бизнеса, что исключит значительные ошибки выпускников уже в условиях реального бизн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9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838080"/>
            <a:ext cx="843588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игорьева Е.Н. Инновации в профессиональном образовании. Образовательная технология «учебная фирма», СП 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икитин М.В. Практический маркетинг в микроэкономике учреждений профессионального образования, М-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рейкман Р.Ф. Экономика и бизнес, М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икитин М.В. , Глазуков А.Г Особенности организации внебюджетной подготовки учащихся в НПО , М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овиков А.М. Научно-экспериментальная работа в профессиональном образовании, М-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озов В.Н. Инновации как способ модернизации системы НПО, Тамбов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9999"/>
                </a:solidFill>
                <a:uFillTx/>
                <a:latin typeface="Comic Sans MS"/>
              </a:rPr>
              <a:t>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Работа в коман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Основы маркетинга и менеджмен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бухгалтерского учета, финансов и кред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Налогообложения, анализа хозяйственной деятельност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При наличии таких специальных знаний и навыков выпускнику проще адаптироваться в новом коллективе или начать свое дело.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9999"/>
                </a:solidFill>
                <a:uFillTx/>
                <a:latin typeface="Comic Sans MS"/>
              </a:rPr>
              <a:t>Каким образом решить  проблему и преодолеть барьер между профессиональным образованием и рынком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Решением данной проблемы, на наш взгляд, может стать внедрение в учебный процесс активных методов и технологий обучения, самостоятельное место среди которых занимает «Учебная фир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0920" y="304920"/>
            <a:ext cx="82818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Учебная фирма» является местом обучения, где происходит имитационное моделирование деятельности предприятия со всеми присущими ему организационными формами и рабочими процессами. В «Учебной фирме» деятельность предприятия имитируется с образовательными целями. Теория бизнеса изучается через практику. Работая в учебной фирме, учащиеся приобретают навыки предпринимательства, менеджмента, бухгалтерского учета, делопроизводства, коммуникативные навыки, навыки работы в команде, необходимые работникам всех производственных структур от предпринимателя до исполн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304920"/>
            <a:ext cx="8075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 «Учебной фирме» учащиеся осуществляют основные коммерческо – административные виды деятельности, начиная от оформления всех необходимых документов до предоставления услуг и реализации изготовленных ими товаров. Учащиеся изучают рынок услуг, заказы на произведенную ими продукцию, ведут переговоры, принимают и обслуживают клиентов, оформляют заявки, финансовые документы, совершают сделки с другими предприятиями. При этом вся деятельность проводится с учетом существующего законодательства и правовых н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1280" y="304920"/>
            <a:ext cx="8075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Главная особенность образовательной технологии «Учебная фирма» состоит в том, что обучение организовывается в специфической среде, имитирующих деятельность реальных фирм и компаний различных отрас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 этом случае суть дидактической концепции заключается в эффекте «погружения» учащихся в процессе принятия хозяйственных решений, в котором реальная ситуация имитируется образовательными ц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5-01-23T08:13:54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