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88F-9338-47CF-8732-34E16A08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B9A-A7EC-4E40-964A-3D134DFB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805-BF6E-42ED-B954-5500051D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025-E940-4E56-94A2-C99D9506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3D5-82B1-48D2-88D2-D48E2A9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6B3-CEAD-4A13-B699-8C8F07CD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B50-D460-4116-89B3-BE518A0C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535-49C5-454B-97C1-E1757103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11F-9985-4F65-9FFA-7035ECAE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D47-700A-487C-A294-8000D9F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69-81B2-4B8A-A234-82D981F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344-F3D3-4905-9CFB-0FDB5D2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2C54-7A25-4113-A888-BECC18982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74905563_0_53b38_a291a9ec_XL.jpg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3960"/>
            <a:ext cx="914400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исследования: «ВЛИЯ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СВЕТА НА ПРОРАСТАНИЕ СЕМЯН ПОДСОЛНЕЧ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news.bbc.co.uk/nol/shared/spl/hi/sci_nat/10/bees_uv/glow_compare/img/split_uv.jpg"/>
          <p:cNvPicPr/>
          <p:nvPr/>
        </p:nvPicPr>
        <p:blipFill>
          <a:blip r:embed="rId1"/>
          <a:stretch/>
        </p:blipFill>
        <p:spPr>
          <a:xfrm>
            <a:off x="2000160" y="214200"/>
            <a:ext cx="5572080" cy="3786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000080" y="4429080"/>
            <a:ext cx="742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тение испытывает дефицит си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ей, например в запущенных посевах, то его стебли становятся нежными и легко полегающими под тяжестью плодов и ветра. Полегание хлебов при загущении посевов наносит большой урон сельскому  хозяйству. Такой  урожай трудно убирать. Вытягивание растений происходит нередко и в теплицах, стёкла которых задерживают синие и сине- 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tatic.neuerdings.com/1370875198/370b87f0daefa167722a3efd36f87a45_large.png"/>
          <p:cNvPicPr/>
          <p:nvPr/>
        </p:nvPicPr>
        <p:blipFill>
          <a:blip r:embed="rId1"/>
          <a:stretch/>
        </p:blipFill>
        <p:spPr>
          <a:xfrm>
            <a:off x="1714680" y="214200"/>
            <a:ext cx="5929200" cy="3857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71680" y="4286160"/>
            <a:ext cx="81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 значение из спектра видимого света имеют красные и оранжевые лучи, именно они являются основными поставщиками энергии для фотосинтеза и влияют на процессы, связанные с изменением развития растений. Эти лучи стимулируют появление всходов. К примеру, облучение семян сосны красным светом в шесть раз увеличивает их всхож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42920" y="3571920"/>
            <a:ext cx="238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ика проведения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 чашек Петри разложить на влажную фильтровальную бумагу по 20 семя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ечника. Сухие семена мож­но подсчитывать при обычном освещении, так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ы к свету только набухшие с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семена разложены, быстро запаковать 8 чашек в фольгу для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вета. Две  чашки без фольги  поставить на дневной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Из 8 чашек две оставить запакованными и поместить в темное место (контр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). Остальные облучать лампой по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екунд —2чашки;               20 секунд — 2 чашки;     2 минуты — 2 ч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ученные чашки снова быстро за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3786120" cy="3273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572000" y="214200"/>
            <a:ext cx="42148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14200" y="357192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рез два дня в каждом из опытных вариантов подсчитать общее для трех повторностей число семян,  у которых лопнула кожура и показался кончик корня  (Ν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 всхожесть семян. Для этого рассчитать долю проросших семян в процентах от общего числа (Ν, делённое на 60, умноженное на 10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928880" y="428760"/>
            <a:ext cx="49291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7875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462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214880" cy="316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4714920" y="3517920"/>
            <a:ext cx="4071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857760" y="1214280"/>
            <a:ext cx="4851360" cy="364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785880" y="428760"/>
            <a:ext cx="2714400" cy="294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785880" y="3429000"/>
            <a:ext cx="27144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42960" y="1214280"/>
          <a:ext cx="8215200" cy="4641840"/>
        </p:xfrm>
        <a:graphic>
          <a:graphicData uri="http://schemas.openxmlformats.org/drawingml/2006/table">
            <a:tbl>
              <a:tblPr/>
              <a:tblGrid>
                <a:gridCol w="2178000"/>
                <a:gridCol w="2050920"/>
                <a:gridCol w="1779840"/>
                <a:gridCol w="2206440"/>
              </a:tblGrid>
              <a:tr h="100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 (число семя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росших семя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хожесть семян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темн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секу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секу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в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27720" y="4320"/>
            <a:ext cx="9243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ы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результате проведения эксперимента были получены следующи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растание семян подсолне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480" y="-17280"/>
            <a:ext cx="9251280" cy="59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одя итоги проделанной нами работы, считае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вленная цель работы и задачи  выполнены, так как мы  выясн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ет ли свет на  прорастание семян подсолнеч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на подсолнечника  прорастают как в темноте, так и на св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поставленного нами  эксперимента отчётливо видно, что 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учения светом   всё же оказывает действия на прораста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уемых сем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ходя из полученных результатов, можно сделать следующие 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т, как экологический фактор,  не является лимитирую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ом  при прорастании семян подсолнеч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епень облучения светом  всё же оказывает влия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качество  и скорость  прорастания  исследуемых семя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  полного  развития растения    свет,  как 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, необх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1000080"/>
            <a:ext cx="48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и: учащиеся 5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Нягани «СОШ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юшко 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лее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000840" y="857160"/>
            <a:ext cx="2490840" cy="203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357200" y="3357720"/>
            <a:ext cx="2571840" cy="2388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500800" y="4429080"/>
            <a:ext cx="285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ель биологии Терез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57120" y="214200"/>
            <a:ext cx="83581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влияния света на прорастание семян и развитие растений остаётся  открытой. Те работы, которые  проводятся в научных лабораториях, ещё не завершены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аётся много вопросов, на которые пока  нет от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воей работе мы выясняли, влияет ли свет видимого спектра на прорастание семян. Ответ был найден – влияет, но не является лимитирующим. Т.е. семена и без света прорастают, однако свет  всё же оказывает влияние  на качество и скорость  прорастания  исследуемых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 наши исследования  помогут повысить урожайность и вырастить некоторые виды растений из семян с меньшими  временными затра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214200"/>
            <a:ext cx="8782200" cy="6429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571680" y="4287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дсолнухи пахнут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олнечной свежестью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Ещё, обязательно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тренней нежностью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 пахнут всегд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е смотря на погоду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згляните на них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 забудьте невз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77_4hJ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640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361800" y="285840"/>
            <a:ext cx="8782200" cy="6429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785880" y="150012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7_4hJ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3640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57120" y="357120"/>
            <a:ext cx="5214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ам, где-то в глубине земли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пит семечко до сро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д ним – промерзшие слои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колыбель – глубо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плом гниющая ли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Его хранит от стужи…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что над ним царит зима,-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 знать ему не нужно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ступит срок. Помчится сок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 треснет оболоч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обьется тоненький росток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 ладошкою листочка…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к лету, утром выйдя в сад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од птичьи переборы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столбенею: чудеса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одсолнух у заб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77_4hJ.mp3" descr=""/>
          <p:cNvPicPr/>
          <p:nvPr/>
        </p:nvPicPr>
        <p:blipFill>
          <a:blip r:embed="rId2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640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85840" y="21420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В настоящий момент времени проблема пропитания человека не стоит  так остро, как десятки, а может и сотни лет назад.  Но она не уходит с поля зрения и продолжает волновать  людей.  Человек делает всё возможное, чтобы улучшить урожайность культурных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 неживой природы постоянно  влияют на рост и развитие растений, и свет является одним из важнейших факторов. Человечество учится использовать абиотические факторы с максимальной пользой для себя,  изучает влияние различных видов спектра  солнечного излучения на прорастание, рост и развитие  растений, выясняет влияние длины светового дня на урожай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я действие света на конкретный вид растений, человек  может увеличить не только процент всхожести растений, но и их урожай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честве объекта исследования нами были выбраны семена подсолнечника, так как подсолнечник является очень важной сельскохозяйственной культурой для нашей страны. Мы не нашли информацию о том, что подобные исследования проводились в отношении дан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142920"/>
            <a:ext cx="8740800" cy="6600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28760" y="357120"/>
            <a:ext cx="8072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яснить, влияет  ли  свет видимого спектра  на всхожесть семян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теоретический материал по теме «Влияние видимого света на прорастание семя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экспериментальное исследование, в рамках котор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цент проросших семян, находящихся в чашках Петри на свет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ов процент проросших семян,  облучённых по предложенной схеме свето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мпы мощностью в  5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секунд — 3 чашки;     20 секунд — 3 чашки;     2 минуты — 3 ча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цент проросших семян в контрольном варианте (семена растений находились в темн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ить полученные результаты с контрольным вариа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 одинаково ли влияет интенсивность и продолжительность освещения на  прорастание семян 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 о  влиянии света на прорастание семян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олученные результаты, и сформулировать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071720" y="1093680"/>
            <a:ext cx="4572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а  подсолнечника  (300 шт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Desktop\916414-sunflower-sprouts-close-up-isolated-on-white-background.jpg"/>
          <p:cNvPicPr/>
          <p:nvPr/>
        </p:nvPicPr>
        <p:blipFill>
          <a:blip r:embed="rId2"/>
          <a:stretch/>
        </p:blipFill>
        <p:spPr>
          <a:xfrm>
            <a:off x="428760" y="285840"/>
            <a:ext cx="2714400" cy="182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Desktop\936813-sunflower-sprout-close-up-isolated-on-white-background.jpg"/>
          <p:cNvPicPr/>
          <p:nvPr/>
        </p:nvPicPr>
        <p:blipFill>
          <a:blip r:embed="rId3"/>
          <a:stretch/>
        </p:blipFill>
        <p:spPr>
          <a:xfrm>
            <a:off x="2214720" y="2190600"/>
            <a:ext cx="2000160" cy="297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Desktop\400_F_2913775_j5g02i2qfTau5kvtUS3a3rXebzbu5P.jpg"/>
          <p:cNvPicPr/>
          <p:nvPr/>
        </p:nvPicPr>
        <p:blipFill>
          <a:blip r:embed="rId4"/>
          <a:stretch/>
        </p:blipFill>
        <p:spPr>
          <a:xfrm>
            <a:off x="5500800" y="3786120"/>
            <a:ext cx="3357360" cy="22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Desktop\sunflower-sprouts-278x157.jpg"/>
          <p:cNvPicPr/>
          <p:nvPr/>
        </p:nvPicPr>
        <p:blipFill>
          <a:blip r:embed="rId5"/>
          <a:stretch/>
        </p:blipFill>
        <p:spPr>
          <a:xfrm>
            <a:off x="4357800" y="642960"/>
            <a:ext cx="455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nadidem.net/kf/tocimlen/images/tocimlen%20%288%29_jpg.jpg"/>
          <p:cNvPicPr/>
          <p:nvPr/>
        </p:nvPicPr>
        <p:blipFill>
          <a:blip r:embed="rId1"/>
          <a:stretch/>
        </p:blipFill>
        <p:spPr>
          <a:xfrm>
            <a:off x="4071960" y="714240"/>
            <a:ext cx="4638600" cy="4067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357200" y="1357200"/>
            <a:ext cx="150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7120" y="593280"/>
            <a:ext cx="2786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 попало на тот клочок почвы, где ему суждено прорасти и дать начало новой жизни – новому растению, на котором вновь распустятся цветы и вновь созреют семена. Как же из крохотных, порой размерами менее 1 мм семян, вырастают большие деревья, кустарники, травянистые рас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05440" cy="3143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85840" y="3286080"/>
            <a:ext cx="864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ое действие света  зависит от длины волны, интенсивности и периодичности. Ультрафиолетовое излучение задерживает «вытягивание» растений, стимулирует синтез некоторых  витаминов, повышает холодостойкость. Инфракрасное излучение является источником тепловой энергии и обеспечивает процесс терморегуляции у животных. Наибольшее значение для растений имеет видимый свет. Он составляет 45% спектра излучения солнца. Максимальное  значение из спектра видимого света имеют красные и оранжевые лучи, именно они являются основными поставщиками энергии для фотосинтеза и влияют на процессы, связанные с изменением развития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учи стимулируют появление вс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3:09:34Z</dcterms:created>
  <dc:creator>инесса</dc:creator>
  <dc:description/>
  <dc:language>en-US</dc:language>
  <cp:lastModifiedBy>Учитель</cp:lastModifiedBy>
  <dcterms:modified xsi:type="dcterms:W3CDTF">2015-01-29T17:34:06Z</dcterms:modified>
  <cp:revision>57</cp:revision>
  <dc:subject/>
  <dc:title>Слайд 1</dc:title>
</cp:coreProperties>
</file>