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0C1-6B8A-4FD8-BB7F-2C0BD479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3E8-C248-4ED2-83D6-F05D706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7D9-4E5C-48CD-B348-A46F6304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989-FEB7-47F6-A2C8-7AAA0423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F020-C483-4F81-A747-F16E5F1C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A1A-4F59-49FA-9238-A581C790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03A-AA34-46A4-999D-341A881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EF3F-E295-4870-9EC3-4424104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6F4-1A81-40C0-91B1-96DAFD3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17F7-30DB-4BA1-B111-D32E9D91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F2F2-E280-451E-BC6A-10573B4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01D-F6A4-4ACD-9BB5-A2D1A2F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647-F614-4E7C-A934-EA21697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D1E-87F4-4A0A-8B1E-CF897405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5B1-3ADA-4D08-91D6-3B5E9C62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3382-1D65-4277-A826-3B638446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1022-07DE-4F69-9B55-50C7CC7C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04F-9067-4A8E-8A86-6C78BEBA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105-8CF9-4F70-8F0A-B0D7803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603-C69D-4330-B6BC-07C2730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969-FEBD-4396-8B1D-B142E9E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C4C-63FC-4DA0-BE45-A4675E0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AC8-93CE-4737-81D0-1D7BEFC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119-7FD5-4706-AECB-971A924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8B3-E9DC-4154-BD53-7DF4EB99D3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7AA-949C-42B3-921C-5505DD91E4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«Проектная технология как средство организации внеаудиторной самостоятельной работы обучающихся»</a:t>
            </a: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методического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6596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913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990720" y="1281240"/>
            <a:ext cx="7315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Педагогические условия, необходимые для организации эффективной самостоятельной работы обучающихс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ичие у учащегося положительной мотивации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ая постановка познавательных задач и пояснение способа их выполнения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ение преподавателем форм отчетности, объема работы, срока сдачи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ение видов консультационной помощи и критерий оценок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знание учащимся полученного нового знания как личностной ценности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…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ы ученик воспринимал знания как действительно нужные, ему необходимо поставить перед собой и решить значимую для него проблем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021360" y="43434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Основной тезис современного понимания метода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, что я познаю, я знаю, для чего это мне надо и где и как я могу эти знания при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Цели проектного обуч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здать условия, при которых обучающиеся самостоятельно и охотно приобретают недостающие знания из разных источников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вают системное мыш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Основными требованиями  к использованию метода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личие значимой в исследовательском, творческом плане проблемы или задачи, требующей интегрированного знания, исследовательского поиска для ее решения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ктическая, теоретическая, познавательная значимость предполагаемых результа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мостоятельная (индивидуальная, парная, групповая) деятельность учащих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Классификация  учебных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•    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рактико-ориентированные проект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(от учебного пособия до пакета каких-либо рекомендаций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исследовательские 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исследование какой-либо проблемы по всем правилам научного исследования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информационные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сбор и обработка информации по значимой проблеме с целью ее презентации широкой аудито­рии: статья в СМИ, информация в сети Интернет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творческие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максимально свободный авторский под­ход в решении проблемы: видеофильмы, театрализации, произведения изо  и т.п.)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олевые 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литературные, исторические проекты, деловые ролевые игр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предмет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зависимости от поставленных целей 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ни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рок или его часть)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4-6 уроков)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0-40 часов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дичные прое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Формы презентации учебного проект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учный доклад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монстрация мультимедиапроекта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кскурсия; путешеств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сс-конференция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ловая игра; инсценировка; театрализац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алог исторических или литературных персонажей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ортивная иг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клама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5-01-29T14:21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