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F1A1-7D1A-4B8D-BA9E-6FD9EA49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14A-1939-4664-BC16-AEDEF804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B20B-6DCD-444B-8D13-406EE257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197-FFC3-4FA0-B5A0-6B64D4A6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C76B-EBB4-4840-A2C7-394BD332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543D-3094-424E-BA9D-EF64C34B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3772-9588-4145-B2C6-DD6E73D9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B0B0-2DE3-41E1-8D28-18ED8AA9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AC0D-1811-4D0D-82FE-D8BE4BCE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4A8A-C695-42FC-9A3D-6E8E2578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2509-08F0-4BE4-8276-30949809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FBE0-1C9F-44E5-847C-5433B237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DD74-800C-4F67-A803-A5D0E7FA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3C0E-3788-4989-8927-6B43D4B7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1FC6-47E3-4334-80F3-6EE27A60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74DB-2812-48BE-94E9-F9051FAB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FF70-9838-4039-A88A-D9414DDC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A88-BB31-4125-A871-C12BC490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81C3-1AFA-4CED-A814-4D96EB4C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4958-482D-41DB-8490-640CD99E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549-9A58-4DD1-8D10-3DE0F495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E135-248D-4E1D-97AD-4FC7F2D8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19BB-43FC-4F57-8C05-E34E4FC5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F7C-12A3-400F-B59D-44A4D551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C0E4-447A-49AE-BB5C-4446BBBC685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1592-5F87-495F-81D3-1E61B3E0E08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«Проектная технология как средство организации внеаудиторной самостоятельной работы обучающихся»</a:t>
            </a: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39625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 методического 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33"/>
                </a:solidFill>
                <a:uFillTx/>
                <a:latin typeface="Garamond"/>
              </a:rPr>
              <a:t>Система действий преподавателя и обучающихся  на стадиях работы над проектом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65964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33"/>
                </a:solidFill>
                <a:uFillTx/>
                <a:latin typeface="Garamond"/>
              </a:rPr>
              <a:t>Система действий преподавателя и обучающихся  на стадиях работы над проектом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69132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33"/>
                </a:solidFill>
                <a:uFillTx/>
                <a:latin typeface="Garamond"/>
              </a:rPr>
              <a:t>Система действий преподавателя и обучающихся  на стадиях работы над проектом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990720" y="1281240"/>
            <a:ext cx="731520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33"/>
                </a:solidFill>
                <a:uFillTx/>
                <a:latin typeface="Garamond"/>
              </a:rPr>
              <a:t>Педагогические условия, необходимые для организации эффективной самостоятельной работы обучающихся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ичие у учащегося положительной мотивации;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ткая постановка познавательных задач и пояснение способа их выполнения;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ределение преподавателем форм отчетности, объема работы, срока сдачи;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ределение видов консультационной помощи и критерий оценок;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ознание учащимся полученного нового знания как личностной ценности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…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бы ученик воспринимал знания как действительно нужные, ему необходимо поставить перед собой и решить значимую для него проблему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021360" y="43434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жон Дью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33"/>
                </a:solidFill>
                <a:uFillTx/>
                <a:latin typeface="Garamond"/>
              </a:rPr>
              <a:t>Основной тезис современного понимания метода проектов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се, что я познаю, я знаю, для чего это мне надо и где и как я могу эти знания приме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33"/>
                </a:solidFill>
                <a:uFillTx/>
                <a:latin typeface="Garamond"/>
              </a:rPr>
              <a:t>Цели проектного обучения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здать условия, при которых обучающиеся самостоятельно и охотно приобретают недостающие знания из разных источников;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чатся пользоваться приобретенными знаниями для решения познавательных и практических задач;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обретают коммуникативные умения, работая в различных группах;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звивают у себя исследовательские ум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звивают системное мышл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33"/>
                </a:solidFill>
                <a:uFillTx/>
                <a:latin typeface="Garamond"/>
              </a:rPr>
              <a:t>Основными требованиями  к использованию метода проектов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   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личие значимой в исследовательском, творческом плане проблемы или задачи, требующей интегрированного знания, исследовательского поиска для ее решения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актическая, теоретическая, познавательная значимость предполагаемых результа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амостоятельная (индивидуальная, парная, групповая) деятельность учащихс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33"/>
                </a:solidFill>
                <a:uFillTx/>
                <a:latin typeface="Garamond"/>
              </a:rPr>
              <a:t>Классификация  учебных проектов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•    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практико-ориентированные проект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(от учебного пособия до пакета каких-либо рекомендаций);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исследовательские  проект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 (исследование какой-либо проблемы по всем правилам научного исследования);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информационные проект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 (сбор и обработка информации по значимой проблеме с целью ее презентации широкой аудито­рии: статья в СМИ, информация в сети Интернет);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творческие проект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 (максимально свободный авторский под­ход в решении проблемы: видеофильмы, театрализации, произведения изо  и т.п.)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ролевые  проект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 (литературные, исторические проекты, деловые ролевые игры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комплекс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нопроек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жпредметные проек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зависимости от поставленных целей и зад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инипроек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рок или его часть)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ткосроч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4-6 уроков)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дель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30-40 часов)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лгосроч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одичные проек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33"/>
                </a:solidFill>
                <a:uFillTx/>
                <a:latin typeface="Garamond"/>
              </a:rPr>
              <a:t>Формы презентации учебного проекта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учный доклад;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емонстрация мультимедиапроекта;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кскурсия; путешеств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есс-конференция;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еловая игра; инсценировка; театрализац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иалог исторических или литературных персонажей;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портивная игр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клама 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t</cp:lastModifiedBy>
  <dcterms:modified xsi:type="dcterms:W3CDTF">2015-01-29T14:21:4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