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15C-2C17-4858-9487-FA87809A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A9F-C9D2-48A4-A86E-C9F98621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DF3-91AA-4B53-B5FE-CFF53F0B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67B-77F8-47D4-8E68-615858F0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2DC-5E3B-49E7-A72D-6515F1F4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A1E-DA28-4C99-BE72-997FB72E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558-E3DE-43FE-8726-45B1E84D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368-63E1-410B-BB16-8C76F6D5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21F-14F4-458F-AF1F-ECB958EF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F56-3005-458E-84F7-503C8F5A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F29-3B9F-4695-99C1-24630D35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77E-E8E1-4200-92B3-E7A713A2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F10A-EE0F-4B9D-9B07-FD832E4B3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557360"/>
            <a:ext cx="6480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у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46280" y="620640"/>
            <a:ext cx="5708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3168" b="0"/>
          <a:stretch/>
        </p:blipFill>
        <p:spPr>
          <a:xfrm>
            <a:off x="2050920" y="981000"/>
            <a:ext cx="4897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576440"/>
            <a:ext cx="842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603" b="0"/>
          <a:stretch/>
        </p:blipFill>
        <p:spPr>
          <a:xfrm>
            <a:off x="755640" y="1149480"/>
            <a:ext cx="76327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8409" r="3236" b="4667"/>
          <a:stretch/>
        </p:blipFill>
        <p:spPr>
          <a:xfrm>
            <a:off x="539640" y="1969920"/>
            <a:ext cx="79200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996" r="872" b="0"/>
          <a:stretch/>
        </p:blipFill>
        <p:spPr>
          <a:xfrm>
            <a:off x="324000" y="2349360"/>
            <a:ext cx="8496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contrast="12000"/>
          </a:blip>
          <a:srcRect l="0" t="4181" r="4849" b="9851"/>
          <a:stretch/>
        </p:blipFill>
        <p:spPr>
          <a:xfrm>
            <a:off x="826920" y="1550880"/>
            <a:ext cx="7561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58920" y="1484280"/>
            <a:ext cx="66978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гадки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868" b="0"/>
          <a:stretch/>
        </p:blipFill>
        <p:spPr>
          <a:xfrm>
            <a:off x="468360" y="2154240"/>
            <a:ext cx="8136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2000"/>
          </a:blip>
          <a:srcRect l="0" t="2140" r="1809" b="0"/>
          <a:stretch/>
        </p:blipFill>
        <p:spPr>
          <a:xfrm>
            <a:off x="539640" y="1844640"/>
            <a:ext cx="777744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716" r="859" b="0"/>
          <a:stretch/>
        </p:blipFill>
        <p:spPr>
          <a:xfrm>
            <a:off x="395280" y="1989000"/>
            <a:ext cx="8209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12000"/>
          </a:blip>
          <a:srcRect l="0" t="5107" r="1747" b="0"/>
          <a:stretch/>
        </p:blipFill>
        <p:spPr>
          <a:xfrm>
            <a:off x="468360" y="2060640"/>
            <a:ext cx="8207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8738" r="1689" b="0"/>
          <a:stretch/>
        </p:blipFill>
        <p:spPr>
          <a:xfrm>
            <a:off x="250920" y="2492280"/>
            <a:ext cx="8424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427" b="0"/>
          <a:stretch/>
        </p:blipFill>
        <p:spPr>
          <a:xfrm>
            <a:off x="1692360" y="2133720"/>
            <a:ext cx="60498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9850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3808" b="0"/>
          <a:stretch/>
        </p:blipFill>
        <p:spPr>
          <a:xfrm>
            <a:off x="2556000" y="765000"/>
            <a:ext cx="4103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7:56:35Z</dcterms:created>
  <dc:creator>Admin</dc:creator>
  <dc:description/>
  <dc:language>en-US</dc:language>
  <cp:lastModifiedBy>Admin</cp:lastModifiedBy>
  <dcterms:modified xsi:type="dcterms:W3CDTF">2012-10-26T18:16:01Z</dcterms:modified>
  <cp:revision>2</cp:revision>
  <dc:subject/>
  <dc:title>Ребусы</dc:title>
</cp:coreProperties>
</file>