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CF7-A769-41A3-8CC5-468F1D47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B4D-557F-4F93-8A8B-228D7365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F30-02E8-499D-A301-3BCFFA90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B78-C218-41B4-BE35-A9011DB7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D9E-AC7D-4DE9-9B40-0CBBA879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149-EE61-4646-8AB8-725ECD31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439-F10F-4F36-9AAB-D87B9ADF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785-F2E6-4375-BCF0-33039FEC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604-A66C-4E34-AC0A-DF4D04DA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AB5-08B7-4F67-9786-0DB2B6B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E25-6D5F-4EB6-8771-351B6083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EBD-692F-4DDE-A552-AFA08D96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CB3D-C424-42D5-B6D5-E4797EB40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557360"/>
            <a:ext cx="6480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у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46280" y="620640"/>
            <a:ext cx="5708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3168" b="0"/>
          <a:stretch/>
        </p:blipFill>
        <p:spPr>
          <a:xfrm>
            <a:off x="2050920" y="981000"/>
            <a:ext cx="4897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576440"/>
            <a:ext cx="842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603" b="0"/>
          <a:stretch/>
        </p:blipFill>
        <p:spPr>
          <a:xfrm>
            <a:off x="755640" y="1149480"/>
            <a:ext cx="76327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8409" r="3236" b="4667"/>
          <a:stretch/>
        </p:blipFill>
        <p:spPr>
          <a:xfrm>
            <a:off x="539640" y="1969920"/>
            <a:ext cx="79200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996" r="872" b="0"/>
          <a:stretch/>
        </p:blipFill>
        <p:spPr>
          <a:xfrm>
            <a:off x="324000" y="2349360"/>
            <a:ext cx="8496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contrast="12000"/>
          </a:blip>
          <a:srcRect l="0" t="4181" r="4849" b="9851"/>
          <a:stretch/>
        </p:blipFill>
        <p:spPr>
          <a:xfrm>
            <a:off x="826920" y="1550880"/>
            <a:ext cx="7561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58920" y="1484280"/>
            <a:ext cx="6697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гадки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868" b="0"/>
          <a:stretch/>
        </p:blipFill>
        <p:spPr>
          <a:xfrm>
            <a:off x="468360" y="2154240"/>
            <a:ext cx="8136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2000"/>
          </a:blip>
          <a:srcRect l="0" t="2140" r="1809" b="0"/>
          <a:stretch/>
        </p:blipFill>
        <p:spPr>
          <a:xfrm>
            <a:off x="539640" y="1844640"/>
            <a:ext cx="777744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716" r="859" b="0"/>
          <a:stretch/>
        </p:blipFill>
        <p:spPr>
          <a:xfrm>
            <a:off x="395280" y="1989000"/>
            <a:ext cx="8209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12000"/>
          </a:blip>
          <a:srcRect l="0" t="5107" r="1747" b="0"/>
          <a:stretch/>
        </p:blipFill>
        <p:spPr>
          <a:xfrm>
            <a:off x="468360" y="2060640"/>
            <a:ext cx="8207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8738" r="1689" b="0"/>
          <a:stretch/>
        </p:blipFill>
        <p:spPr>
          <a:xfrm>
            <a:off x="250920" y="2492280"/>
            <a:ext cx="8424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427" b="0"/>
          <a:stretch/>
        </p:blipFill>
        <p:spPr>
          <a:xfrm>
            <a:off x="1692360" y="2133720"/>
            <a:ext cx="60498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9850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3808" b="0"/>
          <a:stretch/>
        </p:blipFill>
        <p:spPr>
          <a:xfrm>
            <a:off x="2556000" y="765000"/>
            <a:ext cx="4103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7:56:35Z</dcterms:created>
  <dc:creator>Admin</dc:creator>
  <dc:description/>
  <dc:language>en-US</dc:language>
  <cp:lastModifiedBy>Admin</cp:lastModifiedBy>
  <dcterms:modified xsi:type="dcterms:W3CDTF">2012-10-26T18:16:01Z</dcterms:modified>
  <cp:revision>2</cp:revision>
  <dc:subject/>
  <dc:title>Ребусы</dc:title>
</cp:coreProperties>
</file>