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60D-BE6A-4062-9140-390FC9B1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40A-31D9-444B-8FEF-EA89E49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A37-79D3-47F0-AEA2-AD74C0D8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9EF-5FEB-4EB6-9E3B-4CE1B950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EAC-4736-4CA1-9610-626BFF4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2B4-4FAF-4C06-9886-C233012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CF5-F4CE-4117-82C0-9B13282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5BF-FF4F-4027-8049-BEB7962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02-A4C4-4ED5-ACD8-C137D2E0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C18-E116-4B67-80AE-E47AF77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94F-38D2-41E9-97D6-9855B27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056-5B44-4804-87C2-E80188B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BE0-6103-455A-A91D-EA78B5930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45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Рукописные книги               Древней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5444640"/>
            <a:ext cx="64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акин Илья, ученик 3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54_2_b"/>
          <p:cNvPicPr/>
          <p:nvPr/>
        </p:nvPicPr>
        <p:blipFill>
          <a:blip r:embed="rId1"/>
          <a:stretch/>
        </p:blipFill>
        <p:spPr>
          <a:xfrm>
            <a:off x="2050920" y="2133720"/>
            <a:ext cx="6337440" cy="3124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новными центрами литературного творчества стали крупные монастыри и соборные церкви, где трудились образованны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0610874_novgorod_sophia"/>
          <p:cNvPicPr/>
          <p:nvPr/>
        </p:nvPicPr>
        <p:blipFill>
          <a:blip r:embed="rId1"/>
          <a:stretch/>
        </p:blipFill>
        <p:spPr>
          <a:xfrm>
            <a:off x="5435640" y="1341360"/>
            <a:ext cx="3009960" cy="381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3860640"/>
            <a:ext cx="65516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украшения книг применяли цветные краски, а также золото, реже серебро. Переплёты отделывали драгоценными кам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OOK_2"/>
          <p:cNvPicPr/>
          <p:nvPr/>
        </p:nvPicPr>
        <p:blipFill>
          <a:blip r:embed="rId1"/>
          <a:stretch/>
        </p:blipFill>
        <p:spPr>
          <a:xfrm>
            <a:off x="1000080" y="476280"/>
            <a:ext cx="7143840" cy="338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Чаще всего книги писались и переписывались учёными монах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topisetz101"/>
          <p:cNvPicPr/>
          <p:nvPr/>
        </p:nvPicPr>
        <p:blipFill>
          <a:blip r:embed="rId1"/>
          <a:stretch/>
        </p:blipFill>
        <p:spPr>
          <a:xfrm>
            <a:off x="4572000" y="549360"/>
            <a:ext cx="3962520" cy="5600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8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укописными были и первые летописи – ценный источник для изучения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библиотека"/>
          <p:cNvPicPr/>
          <p:nvPr/>
        </p:nvPicPr>
        <p:blipFill>
          <a:blip r:embed="rId1"/>
          <a:stretch/>
        </p:blipFill>
        <p:spPr>
          <a:xfrm>
            <a:off x="1187280" y="476280"/>
            <a:ext cx="6913800" cy="3457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укописные книги были очень дороги и доступны далеко не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ook"/>
          <p:cNvPicPr/>
          <p:nvPr/>
        </p:nvPicPr>
        <p:blipFill>
          <a:blip r:embed="rId1"/>
          <a:stretch/>
        </p:blipFill>
        <p:spPr>
          <a:xfrm>
            <a:off x="1238400" y="1719360"/>
            <a:ext cx="6667200" cy="3419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655344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ниги высоко ценили.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ниги, как глубина морская, окунувшись в них, мы находим драгоценные жемчужин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zastavka"/>
          <p:cNvPicPr/>
          <p:nvPr/>
        </p:nvPicPr>
        <p:blipFill>
          <a:blip r:embed="rId1"/>
          <a:stretch/>
        </p:blipFill>
        <p:spPr>
          <a:xfrm>
            <a:off x="971640" y="765000"/>
            <a:ext cx="4824360" cy="236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описные книги Древней Руси – настоящие произведения искусств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684360" y="25509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ttp://www.vinograd.su/education/detail.php?id=43065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971640" y="199692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ttp://nsportal.ru/blog/nachalnaya-shkola/all/2012/09/25/rukopisnye-knigi-drevney-rusi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04:58Z</dcterms:created>
  <dc:creator>User</dc:creator>
  <dc:description/>
  <dc:language>en-US</dc:language>
  <cp:lastModifiedBy>Берта</cp:lastModifiedBy>
  <dcterms:modified xsi:type="dcterms:W3CDTF">2015-01-30T17:26:14Z</dcterms:modified>
  <cp:revision>8</cp:revision>
  <dc:subject/>
  <dc:title>Рукописные книги                       Древней Руси</dc:title>
</cp:coreProperties>
</file>