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6147-975B-4C36-B9F1-257E34CF5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4211-2715-4A0C-80EB-8A2C5637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22E1-4EFB-4ADD-AEE7-159670592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54FB-2393-415C-9B7B-0627CEA04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E457-E766-4227-BEC2-403AB996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14AA-48EA-4D8B-88E8-BD164078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E6D8-F7EE-4A11-BAF0-C61376EF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171C-895F-43B0-94D4-0C8A9BCA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619B-4B6C-4E50-AC50-56E4F315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8776-66C9-4D22-BAD4-3D4CA664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9D65-C977-480C-B3FD-0B55835F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49F4-618A-4F76-B53C-856CB022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E295-6602-4F7D-B591-5545014B30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34544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cc"/>
                </a:solidFill>
                <a:latin typeface="Arial"/>
              </a:rPr>
              <a:t>Рукописные книги               Древней Ру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68360" y="5444640"/>
            <a:ext cx="64072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Выполни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Лакин Илья, ученик 3а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54_2_b"/>
          <p:cNvPicPr/>
          <p:nvPr/>
        </p:nvPicPr>
        <p:blipFill>
          <a:blip r:embed="rId1"/>
          <a:stretch/>
        </p:blipFill>
        <p:spPr>
          <a:xfrm>
            <a:off x="2050920" y="2133720"/>
            <a:ext cx="6337440" cy="31240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475160" cy="509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Основными центрами литературного творчества стали крупные монастыри и соборные церкви, где трудились образованные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лю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20610874_novgorod_sophia"/>
          <p:cNvPicPr/>
          <p:nvPr/>
        </p:nvPicPr>
        <p:blipFill>
          <a:blip r:embed="rId1"/>
          <a:stretch/>
        </p:blipFill>
        <p:spPr>
          <a:xfrm>
            <a:off x="5435640" y="1341360"/>
            <a:ext cx="3009960" cy="38102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68000" y="3860640"/>
            <a:ext cx="655164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Для украшения книг применяли цветные краски, а также золото, реже серебро. Переплёты отделывали драгоценными камн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BOOK_2"/>
          <p:cNvPicPr/>
          <p:nvPr/>
        </p:nvPicPr>
        <p:blipFill>
          <a:blip r:embed="rId1"/>
          <a:stretch/>
        </p:blipFill>
        <p:spPr>
          <a:xfrm>
            <a:off x="1000080" y="476280"/>
            <a:ext cx="7143840" cy="3384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Чаще всего книги писались и переписывались учёными монах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letopisetz101"/>
          <p:cNvPicPr/>
          <p:nvPr/>
        </p:nvPicPr>
        <p:blipFill>
          <a:blip r:embed="rId1"/>
          <a:stretch/>
        </p:blipFill>
        <p:spPr>
          <a:xfrm>
            <a:off x="4572000" y="549360"/>
            <a:ext cx="3962520" cy="56005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78900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Рукописными были и первые летописи – ценный источник для изучения исто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библиотека"/>
          <p:cNvPicPr/>
          <p:nvPr/>
        </p:nvPicPr>
        <p:blipFill>
          <a:blip r:embed="rId1"/>
          <a:stretch/>
        </p:blipFill>
        <p:spPr>
          <a:xfrm>
            <a:off x="1187280" y="476280"/>
            <a:ext cx="6913800" cy="34574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Рукописные книги были очень дороги и доступны далеко не вс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book"/>
          <p:cNvPicPr/>
          <p:nvPr/>
        </p:nvPicPr>
        <p:blipFill>
          <a:blip r:embed="rId1"/>
          <a:stretch/>
        </p:blipFill>
        <p:spPr>
          <a:xfrm>
            <a:off x="1238400" y="1719360"/>
            <a:ext cx="6667200" cy="34192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0920" y="3284280"/>
            <a:ext cx="655344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Книги высоко ценили. </a:t>
            </a:r>
            <a:br>
              <a:rPr sz="3200"/>
            </a:b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«Книги, как глубина морская, окунувшись в них, мы находим драгоценные жемчужины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zastavka"/>
          <p:cNvPicPr/>
          <p:nvPr/>
        </p:nvPicPr>
        <p:blipFill>
          <a:blip r:embed="rId1"/>
          <a:stretch/>
        </p:blipFill>
        <p:spPr>
          <a:xfrm>
            <a:off x="971640" y="765000"/>
            <a:ext cx="4824360" cy="23655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3640" y="1052640"/>
            <a:ext cx="835164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у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кописные книги Древней Руси – настоящие произведения искусства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Используем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"/>
          <p:cNvSpPr/>
          <p:nvPr/>
        </p:nvSpPr>
        <p:spPr>
          <a:xfrm>
            <a:off x="684360" y="255096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http://www.vinograd.su/education/detail.php?id=43065</a:t>
            </a:r>
            <a:endParaRPr b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971640" y="1996920"/>
            <a:ext cx="7200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ttp://nsportal.ru/blog/nachalnaya-shkola/all/2012/09/25/rukopisnye-knigi-drevney-rusi</a:t>
            </a:r>
            <a:endParaRPr b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15:04:58Z</dcterms:created>
  <dc:creator>User</dc:creator>
  <dc:description/>
  <dc:language>en-US</dc:language>
  <cp:lastModifiedBy>Берта</cp:lastModifiedBy>
  <dcterms:modified xsi:type="dcterms:W3CDTF">2015-01-30T17:26:14Z</dcterms:modified>
  <cp:revision>8</cp:revision>
  <dc:subject/>
  <dc:title>Рукописные книги                       Древней Руси</dc:title>
</cp:coreProperties>
</file>