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32E-B74B-4DD2-B8FB-FEB82E44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53E-3372-43EC-8C81-3CD8EC5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D2C-19F3-42BA-B584-14FA14B6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5EB-5BA3-48DF-8E56-A9A19919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3E4-83EA-490C-9E32-7F54E5A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8BB-128B-4D1F-B126-19F493E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61A-8041-4A67-B9D8-DF3DCDD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C14-8E4B-448C-86F1-152A394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4A8-5DE1-426D-BF76-BD5754D1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E0B-74A5-4648-B6B6-00D266C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9E6-2058-4389-8792-E046E72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5A3-2374-40DC-AB0B-E8E6443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EE1-5F03-47AB-B774-88196A93A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00040" y="1071720"/>
            <a:ext cx="7929720" cy="41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АЯ МАТРЁШК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отипом русской матрёшки является японская кукла фукур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44360" y="500040"/>
            <a:ext cx="4861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683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сская деревянная расписная кукла появилась в России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е. Игрушка получила широкое распространение. Появилось несколько видов росписи матрёш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Семенговская 2"/>
          <p:cNvPicPr/>
          <p:nvPr/>
        </p:nvPicPr>
        <p:blipFill>
          <a:blip r:embed="rId2"/>
          <a:stretch/>
        </p:blipFill>
        <p:spPr>
          <a:xfrm>
            <a:off x="539640" y="620640"/>
            <a:ext cx="3867120" cy="511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55640" y="5877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меновская матрё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Майдановская матрешка"/>
          <p:cNvPicPr/>
          <p:nvPr/>
        </p:nvPicPr>
        <p:blipFill>
          <a:blip r:embed="rId2"/>
          <a:stretch/>
        </p:blipFill>
        <p:spPr>
          <a:xfrm>
            <a:off x="250920" y="189000"/>
            <a:ext cx="3914640" cy="568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Жостовская"/>
          <p:cNvPicPr/>
          <p:nvPr/>
        </p:nvPicPr>
        <p:blipFill>
          <a:blip r:embed="rId3"/>
          <a:stretch/>
        </p:blipFill>
        <p:spPr>
          <a:xfrm>
            <a:off x="4500720" y="189000"/>
            <a:ext cx="4267080" cy="56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76200" y="6108840"/>
            <a:ext cx="83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34360" y="603396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йдановская матрёшка.            Жостовская матрё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менитая русская матрёшка известна далеко за пределами России, стала символом русского народного искус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Много синих"/>
          <p:cNvPicPr/>
          <p:nvPr/>
        </p:nvPicPr>
        <p:blipFill>
          <a:blip r:embed="rId2"/>
          <a:stretch/>
        </p:blipFill>
        <p:spPr>
          <a:xfrm>
            <a:off x="1332000" y="260280"/>
            <a:ext cx="6624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858000" cy="4857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В МУЗЕЕ МАТРЁШ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040" y="259920"/>
            <a:ext cx="74739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рёшка – самый лучший сувен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ь для неё открыт в любые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рёшку знает весь огромный м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тому ей – честь, хвала и слав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68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МАТРЁШКИ\matr.jpg"/>
          <p:cNvPicPr/>
          <p:nvPr/>
        </p:nvPicPr>
        <p:blipFill>
          <a:blip r:embed="rId2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ЗА 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РАБОТУ!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4:58:28Z</dcterms:created>
  <dc:creator>Елена</dc:creator>
  <dc:description/>
  <dc:language>en-US</dc:language>
  <cp:lastModifiedBy>Елена</cp:lastModifiedBy>
  <dcterms:modified xsi:type="dcterms:W3CDTF">2012-04-18T16:52:34Z</dcterms:modified>
  <cp:revision>17</cp:revision>
  <dc:subject/>
  <dc:title>Слайд 1</dc:title>
</cp:coreProperties>
</file>