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9C4-AD8A-4D13-8F66-4ADC8CC5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0F4-2EAA-469F-9D15-EA24354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913-6E34-42FA-AE6B-F02EC14A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E44-0C06-41A4-B637-116D1FD8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08C-108B-4F76-940D-D03F787A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351-629C-477D-9306-D7227A2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1AF-067F-40E3-BB9D-4EE7586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CD7-6907-4CB7-B7C9-FC572ABD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6EA-A1C0-45A0-A86C-71AEEF2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729-9862-468B-B14B-A91BC999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F21-B794-4EE5-A3E3-DAA0AAA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C41-C844-417F-8FC4-E1526FFD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9F4-8E30-4747-A2A3-5973A8F0A1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00040" y="1071720"/>
            <a:ext cx="7929720" cy="41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АЯ МАТРЁШКА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отипом русской матрёшки является японская кукла фукуру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44360" y="500040"/>
            <a:ext cx="4861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003280" y="476280"/>
            <a:ext cx="3683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сская деревянная расписная кукла появилась в России 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X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е. Игрушка получила широкое распространение. Появилось несколько видов росписи матрёш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Семенговская 2"/>
          <p:cNvPicPr/>
          <p:nvPr/>
        </p:nvPicPr>
        <p:blipFill>
          <a:blip r:embed="rId2"/>
          <a:stretch/>
        </p:blipFill>
        <p:spPr>
          <a:xfrm>
            <a:off x="539640" y="620640"/>
            <a:ext cx="3867120" cy="511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55640" y="5877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меновская матрёш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Майдановская матрешка"/>
          <p:cNvPicPr/>
          <p:nvPr/>
        </p:nvPicPr>
        <p:blipFill>
          <a:blip r:embed="rId2"/>
          <a:stretch/>
        </p:blipFill>
        <p:spPr>
          <a:xfrm>
            <a:off x="250920" y="189000"/>
            <a:ext cx="3914640" cy="568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Жостовская"/>
          <p:cNvPicPr/>
          <p:nvPr/>
        </p:nvPicPr>
        <p:blipFill>
          <a:blip r:embed="rId3"/>
          <a:stretch/>
        </p:blipFill>
        <p:spPr>
          <a:xfrm>
            <a:off x="4500720" y="189000"/>
            <a:ext cx="4267080" cy="56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76200" y="6108840"/>
            <a:ext cx="83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34360" y="603396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йдановская матрёшка.            Жостовская матрёш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5157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менитая русская матрёшка известна далеко за пределами России, стала символом русского народного искус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Много синих"/>
          <p:cNvPicPr/>
          <p:nvPr/>
        </p:nvPicPr>
        <p:blipFill>
          <a:blip r:embed="rId2"/>
          <a:stretch/>
        </p:blipFill>
        <p:spPr>
          <a:xfrm>
            <a:off x="1332000" y="260280"/>
            <a:ext cx="66247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6858000" cy="4857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В МУЗЕЕ МАТРЁШ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040" y="259920"/>
            <a:ext cx="74739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рёшка – самый лучший сувен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ь для неё открыт в любые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рёшку знает весь огромный м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тому ей – честь, хвала и слав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6840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МАТРЁШКИ\matr.jpg"/>
          <p:cNvPicPr/>
          <p:nvPr/>
        </p:nvPicPr>
        <p:blipFill>
          <a:blip r:embed="rId2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ЗА 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РАБОТУ!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4:58:28Z</dcterms:created>
  <dc:creator>Елена</dc:creator>
  <dc:description/>
  <dc:language>en-US</dc:language>
  <cp:lastModifiedBy>Елена</cp:lastModifiedBy>
  <dcterms:modified xsi:type="dcterms:W3CDTF">2012-04-18T16:52:34Z</dcterms:modified>
  <cp:revision>17</cp:revision>
  <dc:subject/>
  <dc:title>Слайд 1</dc:title>
</cp:coreProperties>
</file>