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A58-28CF-4C9A-9BEF-3170CB6B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779-B0F8-471A-94B4-97353E3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6F90D-CB50-47B3-BB6E-053F24D1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5FDBA-58E3-4281-B382-A056A60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1117-426E-46DE-BA38-4873A90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D7599-EBF1-4414-A1DC-1ECBF92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986BB-57F2-4D87-8800-CF824DA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0B89-8A87-407D-B68D-A650C30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B2DCB-C4AB-4FFC-B8C8-DECA74D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995B1-98FD-4601-BF39-877ED071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31584-F8BB-44C7-B6E5-206EF4ED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B71-624F-4BAC-8F8A-02D909F5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895-F85C-4F62-8638-66AB9C53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62FE-B558-48D2-8E02-4FDB751D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22E-50EA-4C54-946D-D1FE3D2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DF6-55D6-41D9-8530-18BB285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2400-10B6-4B23-9A27-3853C3A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29AF-A146-4336-9199-20E8CF4C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7237-0514-4039-90D5-45ABD7A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F2F5-A79D-409C-9067-12828D8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EF5-9AD6-4D6A-8308-1367703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AD3A-84B9-499C-975E-1F66A9F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BE9E-6BE2-4EF0-B874-8EFCA01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9DEA-1687-444C-BC94-BF7599F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6D1-D310-4854-B242-938615D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5B85-21AB-4E65-9342-9D9BE9C2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EBD7-D009-460E-BEEF-9000D7C4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D076-3304-4BA2-9BB6-E095EBD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C004-988B-4DB7-AB8F-E052532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465C-B716-4238-8C41-430AFBB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5D15-4A69-46D7-8499-E0C42E91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F15-0127-4DFB-AF6F-B621745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30F7-3B76-4E87-99DA-6CC47180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5605-B318-4D99-B0F1-3D19A70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C381-2D14-4E46-81FB-1144BA4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707F-14F3-449C-BFAF-9315BEDA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B5DC-FD94-4EC9-AA54-BE503C25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0FE0-E213-4FD2-A756-0E3F23A0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2D80-A943-4640-8AF9-B8C12C73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C33A-2299-4162-9EFC-1F9DE004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9329-641A-452B-87DC-59E9A75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C9EA-7D17-48F4-A877-3D6720DB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D66-960F-4FD2-B161-D708A720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8530-49C9-4A63-9258-3BA4031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2203-D75D-433D-B10F-398F2B3E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C3CD-1440-4213-B67C-D543811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BBA0-CA7B-4EDB-90DD-0850E87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5B52-6311-4D0F-9F64-76AF43F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8932-90D2-4E44-ADC4-200716C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B15A-AC2A-4623-8837-1CE85394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BEB5-4D1A-4257-A069-F7009361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294E-B424-473C-8AFA-BD5CA9D7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4EDF-7FF1-4613-9CCE-B7CC1441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925-DBBD-47BA-858D-876A0043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B7CC-6F5F-4057-92B3-6F5695F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7FF41-5BF0-4465-9CDB-9ACEACD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4D35-6EAD-45B7-A1A2-7CC7C47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8324-F544-476F-8BD7-D14BAC2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B278-260E-4DFC-8359-D97F8DC8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BCBC-56A0-4CB2-8DF5-6A23E8A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C588-2B6D-4574-9D1E-DB7475D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211C-40C4-4CCF-9C63-C9F8B02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B6DE-4516-4686-A77D-C076CBE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DFE8-1AD1-4AEE-A975-E8B8B8CF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7B1-974E-4E51-B248-612A695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FD270-A1EB-4BAF-9C3B-8BC7BA4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7997-49E1-4DF8-8207-5468304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0653-6E68-40BB-A461-20E4E6D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CAB7-743C-49BF-B38F-D69293C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4E1A-B9A6-481E-B012-CB7A18F7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CCFF5-2B27-4402-95FF-42C881F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E6466-27FD-46A0-B540-37AC6ADF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BE056-E13C-416D-ABE7-83F5AD0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7D62-D40F-4630-A125-3298225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A590-3927-47DD-8CFF-395C81B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92F-A4BD-4D8A-87C2-D10C3F6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9D47-14DB-494C-9253-CE4B5EF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EC49-9ECD-41D1-BC11-5C59AF89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F228-2DEF-4F1F-8CE9-0186FB3C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80C7-3D5C-4529-B668-909D4B96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8F81-817C-4589-96C1-29E08DF0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48BF-2207-46AD-AA62-7911D4A7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A636-FA7A-46E6-ABFB-94677D5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8454-D9C7-4485-86B1-40EA76B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AA12A-570C-467D-82A8-0DEAFC7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8506-9640-4686-9BD9-950E007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2F8-0C21-4521-96CD-1B5E081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E1BC1-D14D-40FF-A17E-8A94081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3B77-B7C3-48D9-AC3B-45E4162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D71C-B59C-4947-865A-D265704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6908-72D1-403A-A976-F78FB58F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537D-FA73-4BCA-A64D-F55F47A9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325DA-F215-4214-8498-28B9EAC9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C808-6688-43DF-BD70-E33CD4F4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F378-FD5C-470E-AD7C-B75FB577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1067-5C7E-4CAC-BF1E-6073EEE6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F20A2-AE48-42A7-9FC5-84740AD7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80A-E999-485C-8177-F3AE01D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6CD2C-DC2F-4F53-BB91-68FD41F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4B6B-DC62-4F58-BF66-6ECB023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6AC51-3672-48FE-BC63-F01BCAE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CD50-FCCB-43B2-841E-272CA20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19733-62A0-4BA6-ABDF-81297DC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7F1E-512B-4C40-BBF7-571090F5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0F0C5-A9B8-477A-8325-A5F1D28D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8C377-6BB3-403E-BD20-1C65701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3448D-0794-48D0-8793-BDE92A66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45A21-CEEF-4ED4-8A2B-2BE86B5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A169-1581-427E-AB16-55C69306F8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CE9-CCD2-435D-9D4D-D27CAE821E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BDD3-257C-42D4-9A4C-8D5F7BEA26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F4E-3760-44A4-991A-9F49B5BAF1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3982-8D2C-40ED-820E-9B3D0BA619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7DF-4CD3-4AE0-91A6-F0A9DE4EB5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629D-D982-4B85-BBF1-2E76B53EEF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163-1B92-4BD2-A58F-5DB8E0EBAE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9785-6A7C-4E8F-B270-2FE07BF91E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52675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a2e4e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13920" y="1294920"/>
            <a:ext cx="7472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Смотри вдаль — увидишь даль; смотри в небо — увидишь небо; посмотрев в маленькое зеркальце, увидишь только себя, а всмотрись в детские глаза попробуй понять детскую душу и ты откроешь для себя своего ребенк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73" name="Picture 13" descr="i?id=289516260-02-72"/>
          <p:cNvPicPr/>
          <p:nvPr/>
        </p:nvPicPr>
        <p:blipFill>
          <a:blip r:embed="rId2"/>
          <a:stretch/>
        </p:blipFill>
        <p:spPr>
          <a:xfrm>
            <a:off x="5264280" y="4267080"/>
            <a:ext cx="387324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i?id=396780670-31-72"/>
          <p:cNvPicPr/>
          <p:nvPr/>
        </p:nvPicPr>
        <p:blipFill>
          <a:blip r:embed="rId2"/>
          <a:stretch/>
        </p:blipFill>
        <p:spPr>
          <a:xfrm>
            <a:off x="384120" y="3276720"/>
            <a:ext cx="3994200" cy="3200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Анимашки Дети"/>
          <p:cNvPicPr/>
          <p:nvPr/>
        </p:nvPicPr>
        <p:blipFill>
          <a:blip r:embed="rId3"/>
          <a:stretch/>
        </p:blipFill>
        <p:spPr>
          <a:xfrm>
            <a:off x="5791320" y="1981080"/>
            <a:ext cx="295272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i?id=488905288-08-72"/>
          <p:cNvPicPr/>
          <p:nvPr/>
        </p:nvPicPr>
        <p:blipFill>
          <a:blip r:embed="rId2"/>
          <a:stretch/>
        </p:blipFill>
        <p:spPr>
          <a:xfrm>
            <a:off x="2359080" y="1901880"/>
            <a:ext cx="3456000" cy="2309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i?id=50162328-57-72"/>
          <p:cNvPicPr/>
          <p:nvPr/>
        </p:nvPicPr>
        <p:blipFill>
          <a:blip r:embed="rId3"/>
          <a:stretch/>
        </p:blipFill>
        <p:spPr>
          <a:xfrm>
            <a:off x="5657760" y="4248000"/>
            <a:ext cx="3486240" cy="2616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Анимашки Дети"/>
          <p:cNvPicPr/>
          <p:nvPr/>
        </p:nvPicPr>
        <p:blipFill>
          <a:blip r:embed="rId4"/>
          <a:stretch/>
        </p:blipFill>
        <p:spPr>
          <a:xfrm>
            <a:off x="0" y="4114800"/>
            <a:ext cx="188748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871640" y="30240"/>
            <a:ext cx="7418520" cy="2030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сознают свою важную роль в становлении личности ребенка, но и за ним признают право на саморазвитие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онимают, какие требования необходимо диктовать, какие обсуждать. В разумных пределах готовы пересматривать свои позици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ризнают и поощряют автономию своих детей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Открыты для общения и обсуждения с детьми установленных правил поведения; допускают изменения своих требований в разумных пределах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и превосходно адаптированы, уверены в себе, у них развит самоконтроль и социальные навык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Хорошо учатся в школе и обладают высокой самооценкой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1-29T18:45:3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