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gif" ContentType="image/gif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53C-0C25-4B86-BAEB-C12F7ECC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3E0A-47DE-47CB-8234-0CBB1850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071CF-ACAC-4D06-A15C-9FB5A60D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6F396-87CA-4D05-825C-298F3D32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8A889-E4F1-42F6-BBCE-ADBCB478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9B19F-CFE7-41A5-825E-51962655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05D32-B4CF-4B52-A749-136D409D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31DA7-14AA-4506-A091-900D6B7F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942DF-025A-4FDA-B0B8-385F55CD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0E0EB-53E5-479D-89CB-205CD778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164F3-83EA-4F81-93CB-7B2636F1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42A0-45C9-4B48-8530-97692D94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3C66-7A37-4DD7-8F33-39DF2EAE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4987-D02D-413E-812F-BF419A1F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BA6A-DA20-434F-8835-07DF3566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8FE0-4B74-4E00-8B26-1014B0B1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FCBC-82A1-4906-B12A-D03122D5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0607-23A5-498A-82CC-5055C255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8283-85EA-4524-BB99-E0D77584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2242-AF6A-4750-934D-A17F9245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44C1-9ED0-4B65-A8A2-F3E20DDA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1830-C3A6-44DE-8265-E7A61CDA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E5FA-D506-4A75-A141-3C8477A2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1BBA-B361-4FD9-B0FC-A68F59CE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F6AF-AF81-49EC-9D13-E93EB732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3642-E073-46A0-937F-D73B21C5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1ACCF-90C8-42E5-9202-81B4D4AE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A7204-172E-496D-BA87-B465D552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BFB14-3BDC-43E0-9511-C0EE15DE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E4F19-AE3C-4B1B-BFB1-93A63797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E06F0-942B-42EA-B61D-E8AB06A2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6EBE-31A8-4E5F-9097-268B9DB2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916D5-020F-4E7B-BCFF-D6615CAB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1044B-EABE-40E9-BEC0-BA1FC20B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7DDDD-1E7A-4DC2-910B-053F636F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5649E-27A5-4DC4-A349-9ECA6AF1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715FB-96F9-447F-A507-1169FEF6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B3938-47B7-4C56-9032-FC62C66F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BC018-7863-4E0B-834D-E7CCF1CA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EA23D-958B-441A-87CA-A43404F2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E180F-B81B-4335-87F4-9E17E928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85B77-CDE1-48D4-9591-01380071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3CB-685E-4A7E-A31F-7BDA1F47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0510B-825A-4A85-9769-175DD196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8A825-F695-4439-8AF5-21D8B1AC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89585-A8E2-401C-8FAF-3A3D3BD7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377E3-F9DC-4652-97D6-19112A0D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EB5B5-3720-455D-8D49-8FE3C3AE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9159D-49AB-4375-9DD6-858A1ECD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07BB2-6B5D-48BF-9B7A-E920FD08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0517B-D38B-4DEE-AEE4-92F74009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D0F64-A97F-4FA6-8ACA-5C123874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F37B4-D3CA-49FE-9F6F-E4F690AB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723B-B6F3-4B9D-A9C0-B3C07EFA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DFEF7-B9DF-4E6F-9545-B15EE6D5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FE27F-9D86-4B74-AE86-A9D48A10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CB8D4-4C8B-4BBA-B8E9-4FC39F3C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6F3CA-1370-470D-A369-1805C999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74DBF-5CBC-4130-9709-B11D8F41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B9386-4697-4076-886A-7F58D982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2587A-1D72-4898-9C1B-A96B6240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C73B0-FFFD-4B91-9E2A-4C68114B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250E9-96CF-4222-80C4-7BA5D426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88C1B-2AB6-4452-809E-CFD2C9F3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0E08-7BB3-4A33-969C-7CE0389A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7E8F0-1146-4CA1-9304-9526E708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F26FB-8EBE-40C8-B62B-AF956139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1C510-E06D-41B2-8579-99F16ADD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04658-D4CA-4E3B-B71B-AF4B1D57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C7077-6866-4C93-894F-F1270F1E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0AB50-B63E-4562-A7C5-A62A6BFC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1F590-ED29-421C-83F1-5544C44A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1A712-87DC-4D21-9C12-05C9970D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2FDE2-B8EA-40B5-AEED-0162D32B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691AA-E618-4BF5-9C9E-4C01D927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951-0D92-44F2-B89D-BCD09AA7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5CB1C-CA2F-4349-A676-A1D1E2B2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E3BED-17B8-497D-B06A-9CC9BEC8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EB995-C380-4AEB-BA86-04F0C3A5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F647F-EF58-4B8C-944A-7921F261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0B5CC-27D3-493C-9055-A50FF417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07EFE-B583-416B-8CE7-95573BA8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50D7B-E6EB-4C4C-B4D9-47B86B02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AAA5E-F2DA-4952-B0D9-F73BBD60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DEA03-2222-43DD-9589-B2CE70AC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4F865-D700-40A4-B5C4-217CE577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DF6-77ED-45B1-9EEB-560701C3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080F2-4EB5-4748-A866-5CFACAC3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D709F-6EB6-41E4-AE31-49E047FD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E1412-7896-42CB-BDFC-7E73F710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61C0E-2E3B-4649-AEA4-DA5E0DF4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DB131-3581-4D28-9974-42894A7F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D2A06-D3A2-423D-BC7B-7B743F9F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4A8E2-86F5-4D0A-8DDD-6E3E9F83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EB485-A630-4489-8EA8-E7F81C5B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EF916-0075-4F0B-9F50-269CDC78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7A0FC-C75B-4A74-AFC8-11858F8F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218D-7544-4EC2-9EBE-57F9F6D2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89133-70D6-47B6-BE8F-09830312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1B5F3-1B13-4935-9A9B-07F72A7C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4BFC3-3AC1-4DA8-A244-36BCB4E8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4A0C4-7663-4CD1-A2D9-927F3A1A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3645E-F742-4774-89F0-7E9FF8C6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38275-2CBF-42D9-8776-8CE662B3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D8CFC-AADA-4731-8201-F0649DB5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5BCF7-3EF4-44AE-8CA6-A2808038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4D8A9-CC27-46A6-BF7E-A812CE53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17653-E0D5-46F6-A907-02AE7D4E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4355-24C7-421B-95EF-242B96E0A6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34A2-3DC2-4573-AC9B-038D5C738A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9D1E-6716-4DA4-9A63-05C060C158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2D2B-D655-41C3-95A4-362C6CCD49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6E81-14ED-45C4-BAB5-088FF9A1A7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C4DE-6056-45F0-92D5-3B826F57B5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383B-2B01-4385-926C-3702476CE60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CC21-31B0-4AF3-99F7-7ADFD73351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E608-F577-4A1C-B220-8D2B389482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682560" y="225360"/>
            <a:ext cx="7785000" cy="526752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8a2e4e"/>
              </a:solidFill>
              <a:latin typeface="Segoe UI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213920" y="1294920"/>
            <a:ext cx="7472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Смотри вдаль — увидишь даль; смотри в небо — увидишь небо; посмотрев в маленькое зеркальце, увидишь только себя, а всмотрись в детские глаза попробуй понять детскую душу и ты откроешь для себя своего ребенка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 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373" name="Picture 13" descr="i?id=289516260-02-72"/>
          <p:cNvPicPr/>
          <p:nvPr/>
        </p:nvPicPr>
        <p:blipFill>
          <a:blip r:embed="rId2"/>
          <a:stretch/>
        </p:blipFill>
        <p:spPr>
          <a:xfrm>
            <a:off x="5264280" y="4267080"/>
            <a:ext cx="3873240" cy="2590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2279520" y="426960"/>
            <a:ext cx="6413760" cy="12258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1" descr="i?id=396780670-31-72"/>
          <p:cNvPicPr/>
          <p:nvPr/>
        </p:nvPicPr>
        <p:blipFill>
          <a:blip r:embed="rId2"/>
          <a:stretch/>
        </p:blipFill>
        <p:spPr>
          <a:xfrm>
            <a:off x="384120" y="3276720"/>
            <a:ext cx="3994200" cy="3200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Анимашки Дети"/>
          <p:cNvPicPr/>
          <p:nvPr/>
        </p:nvPicPr>
        <p:blipFill>
          <a:blip r:embed="rId3"/>
          <a:stretch/>
        </p:blipFill>
        <p:spPr>
          <a:xfrm>
            <a:off x="5791320" y="1981080"/>
            <a:ext cx="2952720" cy="3505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2279520" y="566640"/>
            <a:ext cx="6413760" cy="860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i?id=488905288-08-72"/>
          <p:cNvPicPr/>
          <p:nvPr/>
        </p:nvPicPr>
        <p:blipFill>
          <a:blip r:embed="rId2"/>
          <a:stretch/>
        </p:blipFill>
        <p:spPr>
          <a:xfrm>
            <a:off x="2359080" y="1901880"/>
            <a:ext cx="3456000" cy="23097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i?id=50162328-57-72"/>
          <p:cNvPicPr/>
          <p:nvPr/>
        </p:nvPicPr>
        <p:blipFill>
          <a:blip r:embed="rId3"/>
          <a:stretch/>
        </p:blipFill>
        <p:spPr>
          <a:xfrm>
            <a:off x="5657760" y="4248000"/>
            <a:ext cx="3486240" cy="26164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Анимашки Дети"/>
          <p:cNvPicPr/>
          <p:nvPr/>
        </p:nvPicPr>
        <p:blipFill>
          <a:blip r:embed="rId4"/>
          <a:stretch/>
        </p:blipFill>
        <p:spPr>
          <a:xfrm>
            <a:off x="0" y="4114800"/>
            <a:ext cx="1887480" cy="274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871640" y="30240"/>
            <a:ext cx="7418520" cy="2030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</a:t>
            </a: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- Родители сознают свою важную роль в становлении личности ребенка, но и за ним признают право на саморазвитие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Понимают, какие требования необходимо диктовать, какие обсуждать. В разумных пределах готовы пересматривать свои позиции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Признают и поощряют автономию своих детей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Открыты для общения и обсуждения с детьми установленных правил поведения; допускают изменения своих требований в разумных пределах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Дети превосходно адаптированы, уверены в себе, у них развит самоконтроль и социальные навыки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Хорошо учатся в школе и обладают высокой самооценкой 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5-01-29T18:45:39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