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383-5D3D-48B6-80A9-1B86E2C9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E3C-D995-4D56-8A46-E0EAACD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E708E-5DC0-47F3-ABBD-D34DF4A0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5107A-4370-4281-92EC-07A1A725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62204-B4A8-429B-910C-7D2381E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1DCD6-96D3-4656-BBE9-948BC21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A59F7-9A63-4D18-B110-56F5FED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D7EFB-617A-44F6-8C1B-E471046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0AFA-C4E8-4702-9E7A-1A3D9AE4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7D6FA-41E9-4E8D-82A3-3D5B661C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80B2C-0636-466F-B521-48EBCEF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EB3-C51A-4BBE-A89F-55491AB1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966-6964-4666-9EA8-5E062F90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FE5-089D-40C6-9BF6-2F20164E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A09-4684-4BB1-8DB1-4E53526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9595-2005-496E-80AC-B1DF405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828-EF48-466C-8D21-A22F47A8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EBA6-34AB-43BD-9473-377F8F3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3B22-658E-4BF4-B7CB-27CAE64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B93-E075-40EA-9AA8-6E6DF55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01D-E0AC-4134-8CC6-024F302E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76D-98D8-4424-B13A-F88F8D4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FA7-D93C-4D8F-A3F0-3A8E8F2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51B-6719-4298-9467-2B305E0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7C9-DAFC-42E4-8BBC-12660B4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394-F354-4F51-AFBE-AB4B0AE4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BD34-8F46-4E4E-B6AC-96AB7C88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E78E-6898-4363-AF30-D6BA04C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96E2-DBBE-4FC8-9BE1-7F586CA9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19E0-439E-4FCE-87DC-DC567758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ACE33-CE9F-4D82-A3CB-51994EA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1DD-A6BB-463B-B43D-68A9FD7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C882-893D-4DA1-A792-6D94D36A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ED28-087F-45D5-A6AA-1BF954C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34E3-FDB1-462D-9D53-B6F867A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6ED3-E2FC-4388-BACE-3803E1E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F674-978D-403D-88CF-D4326AE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9A00-1D74-4F82-A682-2FBE057C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5893-DDC9-4F1F-AFE8-FD4B9C90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3DE3-73E1-4DAF-B24E-9F57F5C6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3D61-5413-4ED7-8D1A-40D7389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E4D1-FDED-40FE-873E-1778013D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3A5-3395-40C5-89EE-0C8BDF5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6A46-34E8-47E7-858C-16BEBA9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EA35-77C9-4856-A4DD-F5E3726C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512B-89E9-4BB2-AE0A-67A5339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EF74-DCFA-466A-97F6-04B7643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DE71-BBAC-450D-B1C4-FC1FB5A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2216-6DDD-404C-BF90-86B0A6C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A274-6A7F-4B8E-8408-FD2BE31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B1B6-CF9E-4D30-A165-73778A5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2B0D-515D-42C7-8908-2289E360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3221-594D-457D-BE60-A2338431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0C1-95BA-456F-A5C6-526AE1B4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ACC2-9CA6-42F1-8BF1-71EF0BA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60C9-3D70-4029-948C-3D67F3E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DBCC-59FC-44A8-B53D-A2CF859C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F3CA-9358-41AF-9C13-00BEB644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060A-08E3-4B6E-859A-F188EC4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CF3A-595C-4616-B1CF-2606F09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F7AD-A452-4532-BBE2-AF3BC28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01FB-A6B4-4AA5-BF9A-164DCD9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B5F7-3A8A-4386-B9B8-C1CB607F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1B03-A6F4-4484-AC2B-6DFEDA88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BC8-9D51-4025-84A1-30CD9B8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DD39-9250-4886-8BF9-B41F783E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243B-AE8E-45A7-AD72-34727EA2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7D47-9901-452F-B71D-1B205BF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A092-DC7C-45A0-A030-281BE59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0A4D-ABD0-4454-97D5-EA1723D2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3FF3-3FE9-4877-B9FD-F9FEB35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48F5-DE3A-40AE-B655-B266BDC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BA2C-0E4F-4D74-BF8C-0611BF5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F8F8-013B-482A-943A-3FC2F0F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E541-FCC4-430D-A588-75D6254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593-D820-4076-9062-1E7B822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61A4-923F-4115-96CE-484301E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D0CC-4538-4909-804A-EBA736AC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B3C5-0F72-4B62-91A4-2350D7A3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39FD-C585-4D0C-8BCC-4801385E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47ACA-1DCE-43D7-B4CD-2CD6C17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F0494-AC02-43FE-84C5-A28E95FF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0CD8-9FCD-48A6-89CB-4DC1A32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D8C8-7578-47AD-83BE-4C7245A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4453-0B96-44CA-9DD3-F2BD3ED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CD59-4A75-49B2-A9EC-033C731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A6F-E231-43CD-915F-1D1FEC9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1672-CE53-4C73-BFB9-FB3A185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A8CD-BACA-4BD2-94AF-B3BFC07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2B468-DDC2-4454-A010-37E6309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420D-A386-4B67-AEE7-31F9B6E7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847C-5449-4BA3-BAED-CC647AFA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68BD-0637-4612-99BA-BA53990B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C745-EC71-4FEE-9B58-6B2F13C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24C95-C064-4320-AA58-7C63043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7697B-19F0-4C05-99F7-665CCEE7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AE21-86B6-48A8-ABD5-1D03539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AB4-9A2A-4A8B-878F-511E11C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2977-0D22-4A9E-9310-17B7351F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D84B-2975-4711-AB51-1245736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6D90E-A165-4648-B4B1-C057AFEC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A75C-A0D4-43AF-BACE-C683E93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EA668-DF31-4A01-A412-3FBD53C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3D7B-6E28-49F1-A9CB-BEDEEDDD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8B40-149F-4185-8DE2-240BBDC1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A111F-ED56-49B3-A537-4ED24D4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EC33-AE75-46B0-80E6-1923C829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0251-FC6B-488B-9CCE-CB8A5C3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F53-A9F6-4361-AA5E-BA4DAC02CB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5284-A444-4559-B885-AA73C34A63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A43-5560-4999-8236-29C718C9D2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BDC-0F87-4A87-BC99-31631F8F00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43AE-3E25-49EF-ACA1-CBD9E9BAEB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2995-C156-4330-9600-EFA1F49519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02A3-1135-4005-924E-039A4FBA34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9371-3FC7-43D0-83A1-0753073741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9C8-BE53-4345-BDAF-298BFE29B9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2073240" y="-30240"/>
            <a:ext cx="7047000" cy="1505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представляют, каким должен вырасти их ребенок, и прилагают к этому максимум усилий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В своих требованиях они категоричны и неуступчивы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В общении с ребенком они отдают приказы, устанавливают жесткие требования и правила, не допускают их обсуждения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Закрыты для постоянного общения с детьм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и, как правило, замкнуты, боязливы, угрюмы и зависимы, непритязательны и раздражимы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вочки обычно остаются пассивными и зависимыми на протяжении подросткового и юношеского возраста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Мальчики могут стать неуправляемыми и агрессивными.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2279520" y="0"/>
            <a:ext cx="6413760" cy="8478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 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Медлительный молчун, полненький, спокойный. Он любит несколько игрушек, мало фантазирует, играет спокойно, нешумно. Мало двигается, любит поспать, засыпает легко и встаёт поздно, кушает много, в еде неразборчив. Аккуратно складывает свою одежду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 во всём любит порядок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Если что-то не так, он добивается своего с холерической энергией. Разговаривает медленно, с паузами, терпеть не может игры, где нужно проявлять сноровку, быстроту, смекалку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Это послушный и пунктуальный ребёнок. Он затрудняется сам принимать решения и отдаёт право выбора другому. Обычно такие дети знают много стихов и песен, не любят новое, а с радостью вспоминают уже знакомое. Для других детей они скучны и ленивы, их не приглашают в активные игры, но любят с ними играть в традиционные ролевые игры (больница, дочки-матери)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Эти дети долго запоминают новую информацию и правила, но надолго. Они редко ошибаются. Обычно родителей беспокоит тусклость эмоционального мира ребёнка, некоторое безразличие и неспособность сопереживать. Поэтому рекомендуются упражнения на развитие творческой фантазии, занятия музыкой, вышиванием, лепкой, рисованием. не старайтесь рано отправить ребёнка спать, а утром будите настойчивее. Закаляйте, поторапливайте во время еды, не давайте много сладкого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учебе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не предоставляйте ребёнка самому себе, тормошите, заинтересовывайте его. Не стоит настойчиво внешне проявлять любовь к ребёнку-флегматику. А такое кажущееся равнодушие будет помогать ребёнку, преодолеть своё равнодушие и стремиться завоевать любовь и симпатию родителей и сверстников.</a:t>
            </a: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4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6" name="Picture 15" descr="i?id=89076226-49-72"/>
          <p:cNvPicPr/>
          <p:nvPr/>
        </p:nvPicPr>
        <p:blipFill>
          <a:blip r:embed="rId3"/>
          <a:stretch/>
        </p:blipFill>
        <p:spPr>
          <a:xfrm>
            <a:off x="0" y="5713560"/>
            <a:ext cx="1709640" cy="106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274760" y="-139680"/>
            <a:ext cx="8161200" cy="2432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552266908"/>
          <p:cNvPicPr/>
          <p:nvPr/>
        </p:nvPicPr>
        <p:blipFill>
          <a:blip r:embed="rId2"/>
          <a:stretch/>
        </p:blipFill>
        <p:spPr>
          <a:xfrm>
            <a:off x="1557360" y="838080"/>
            <a:ext cx="5392800" cy="5410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401" name="Picture 5" descr="i?id=464347093-03-72"/>
          <p:cNvPicPr/>
          <p:nvPr/>
        </p:nvPicPr>
        <p:blipFill>
          <a:blip r:embed="rId2"/>
          <a:stretch/>
        </p:blipFill>
        <p:spPr>
          <a:xfrm>
            <a:off x="6934320" y="44956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DC1508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9"/>
          <p:cNvSpPr/>
          <p:nvPr/>
        </p:nvSpPr>
        <p:spPr>
          <a:xfrm>
            <a:off x="457200" y="533520"/>
            <a:ext cx="8001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Нет ничего важнее для реб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чем родительская любов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004840" y="274680"/>
            <a:ext cx="7096320" cy="1504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слишком высоко ценят своего ребенка, считают простительными его слабост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Легко общаются с ним, доверяют ему во всем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Не склонны к запретам и ограничениям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Ребенок в такой семье слабо или совсем не регламентирует поведение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Родители открыты для общения с детьм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ям предоставлен избыток свободы или руководство родителей незначительно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реобладает безусловная родительская любовь.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5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Известный древнегреческий философ сказал: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«Познай себя – познаешь весь мир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75" name="Picture 13" descr="i?id=18314117-52-72"/>
          <p:cNvPicPr/>
          <p:nvPr/>
        </p:nvPicPr>
        <p:blipFill>
          <a:blip r:embed="rId4"/>
          <a:stretch/>
        </p:blipFill>
        <p:spPr>
          <a:xfrm>
            <a:off x="7920" y="452592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i?id=143282107-10-72"/>
          <p:cNvPicPr/>
          <p:nvPr/>
        </p:nvPicPr>
        <p:blipFill>
          <a:blip r:embed="rId5"/>
          <a:stretch/>
        </p:blipFill>
        <p:spPr>
          <a:xfrm>
            <a:off x="4114800" y="3429000"/>
            <a:ext cx="264312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Users\оксана\Desktop\5кл классное руководство\Фото 5 кл\весна 2012г\Защита проекта 17.05.2012\SDC15074.JPG"/>
          <p:cNvPicPr/>
          <p:nvPr/>
        </p:nvPicPr>
        <p:blipFill>
          <a:blip r:embed="rId2"/>
          <a:stretch/>
        </p:blipFill>
        <p:spPr>
          <a:xfrm>
            <a:off x="2817720" y="24400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279520" y="554040"/>
            <a:ext cx="6413760" cy="873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4280" y="1599840"/>
            <a:ext cx="777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Треугольник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– у него выраженная потребность в лидерстве;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Круг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потребность в общении;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Квадрат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потребность в позна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рямоугольник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– потребность в изменении.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Зигзаг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творческая личность, инакомыслие.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1" name="Picture 7" descr="i?id=41995920-46-72"/>
          <p:cNvPicPr/>
          <p:nvPr/>
        </p:nvPicPr>
        <p:blipFill>
          <a:blip r:embed="rId3"/>
          <a:stretch/>
        </p:blipFill>
        <p:spPr>
          <a:xfrm>
            <a:off x="0" y="5257800"/>
            <a:ext cx="25812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Желтый - потребность в обще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Красный – потребность в движении активност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Синий и белый – потребность в покое и уедине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Зеленый – потребность в самовыражении и самореализац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Черный и коричневый - потребность в свободе и самостоятельности (тревожность, негативизм, неуверенность)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4" name="Picture 9" descr="i?id=290671900-37-72"/>
          <p:cNvPicPr/>
          <p:nvPr/>
        </p:nvPicPr>
        <p:blipFill>
          <a:blip r:embed="rId3"/>
          <a:stretch/>
        </p:blipFill>
        <p:spPr>
          <a:xfrm>
            <a:off x="0" y="5181480"/>
            <a:ext cx="224460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Такой ребёнок очень шустрый и подвижный. У него могут быстро появиться слёзы, но также быстро он успокаивается. Мгновенно переключается с одного занятия на другое. Родителей обычно беспокоит несобранность, рассеянность, неаккуратность и несерьёзность, но ребёнок всё же приятен в общении, заводила , выдумщик и фантазёр. Засыпает и просыпается он легко и быстро, встаёт рано. В играх любит лазать, ползать, раскачиваться и бегать. Быть таким "непостоянным" - свойство его темперамент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 Такие дети обычно миролюбивы. Они не помнят зла, добры и нежны, нежадны. Ребёнок-сангвиник весел, жизнерадостен, ловок, общителен. Игры и повседневная жизнь ребёнка должны быть подвижными, требования к спокойствию и уравновешенности со стороны родителей необходимо согласовывать с особенностями его темперамент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Удерживать внимание такой ребёнок может научиться с помощью взрослого, отдающего ему много времени в совместных занятиях: просмотр диафильмов, чтение книг, сочинение историй, собирание конструктора и другое.</a:t>
            </a: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7" name="Picture 11" descr="i?id=136975644-26-72"/>
          <p:cNvPicPr/>
          <p:nvPr/>
        </p:nvPicPr>
        <p:blipFill>
          <a:blip r:embed="rId3"/>
          <a:stretch/>
        </p:blipFill>
        <p:spPr>
          <a:xfrm>
            <a:off x="0" y="5183280"/>
            <a:ext cx="1447920" cy="1666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72754"/>
                </a:solidFill>
                <a:latin typeface="Segoe UI"/>
              </a:rPr>
              <a:t> 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В поведении ребёнка много непонятного, но оно вытекает из богатого его внутреннего мира. Когда он играет, то чаще бывает задумчивым и грустным. Если расстроится, то плачет долго и горько. Ребёнок-меланхолик с трудом включается в игры других детей, но преодолев себя, способен чувствовать радость и удовольствие от общения. Дети обычно боятся чужих людей и сверстников, но с теми, кого любят, очень добры, мягки, открыты и доверчивы. Часто они бывают слишком рассудительны, ведут себя и рассуждают, как "маленькие взрослые". Ребёнок любит уединяться, он не играет в грубые игры. Также очень разборчив в еде, быстро устаёт, с трудом переключается на другой вид деятельности. Засыпает поздно, перед сном любит помечтать и пофантазировать лёжа в кровати. Утром встаёт плохо, бывает хмурым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Меланхолик любит тепло, боится спорта. такой ребёнок требует много заботы и любящего понимания. Родителям необходимо помнить, что для ребёнка неприемлемо грубое обращение, так как он долго это переживает, фиксируя это в своей памяти. У таких детей должен быть в семье человек, которому он может довериться полностью, получать от него тепло и внимание. Это может даже быть домашнее животное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совместных занятиях с ребёнком лучше использовать рисование. лепку, конструирование, мягкие, не соревновательные игры. </a:t>
            </a:r>
            <a:br>
              <a:rPr sz="1800"/>
            </a:br>
            <a:br>
              <a:rPr sz="1600"/>
            </a:br>
            <a:r>
              <a:rPr b="1" lang="ru-RU" sz="16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6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0" name="Picture 7" descr="i?id=394448845-05-72"/>
          <p:cNvPicPr/>
          <p:nvPr/>
        </p:nvPicPr>
        <p:blipFill>
          <a:blip r:embed="rId3"/>
          <a:stretch/>
        </p:blipFill>
        <p:spPr>
          <a:xfrm>
            <a:off x="7435800" y="0"/>
            <a:ext cx="17017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79520" y="225360"/>
            <a:ext cx="6413760" cy="1201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151920" y="114300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Ребёнок всегда знает, чего он хочет, настойчив, решителен, бесстрашен. Любит риск, отчаянные истории и приключения. Холерик с трудом идёт на компромисс, не прислушивается к мнению других. Излишне самостоятелен, чтобы добиться своего, он бывает, вспыльчив и агрессивен. В его поведении многое зависит от воли, он многого может добиться сам, не обращая внимания на синяки и шишки. Спит мало, просыпается рано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еде неразборчив, любит "хватать куски". В его поступках часто отсутствует элемент обдумывания, ребёнок импульсивен, подвержен вспышкам гнева, драчун и крикун. Но после такого поведения он может притихнуть и стать идеальным ребёнком. Дети-холерики предпочитают грубые, порывистые игры, часто конфликтует со сверстниками. В обращении с ребёнком - холериком необходимо много терпения и спокойствия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совместных занятиях рекомендуются подвижные, соревновательные игры, спортивные упражнения, полезно плавание, прыжки на батуте, ритмические танцы. Таким детям нужно большое жизненное пространство, полезны выезды на природу, походы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играх желательно предусмотреть возможность проигрыша ребёнка и показать, что часто прежде, чем что-то сделать, неплохо бы и подумать. Читать и рассказывать ребёнку-холерику лучше книги, где воля и спокойствие творят чудес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Ругать и наказывать ребёнка лучше после того, как он успокоится, может быть, даже через день, но не физически, а объясняя последствия его поступка. ни в коем случае не стыдить его при других! Ребёнок и сам бы хотел научиться держать себя в руках, так поймите его и помогайт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3" name="Picture 9" descr="i?id=567127428-54-72"/>
          <p:cNvPicPr/>
          <p:nvPr/>
        </p:nvPicPr>
        <p:blipFill>
          <a:blip r:embed="rId3"/>
          <a:stretch/>
        </p:blipFill>
        <p:spPr>
          <a:xfrm>
            <a:off x="6480" y="5715000"/>
            <a:ext cx="17017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9T18:35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