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B1C-1C17-483D-9A7C-6B2A63CA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11D-3167-4DAD-909E-785B3D5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C301-AC29-48C4-A7E2-25C20CDA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71F2A-A2A5-4414-BE36-153B6FE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F4635-D41F-431A-80AE-D29FB2A1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6D4F3-5A95-4616-9CDC-4D53BDF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2703-FA8C-4814-B175-7D97959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3DCA-0940-469C-8CF9-7D304C0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8402D-2479-4BB5-9D92-7711C3D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0B3C9-7068-41C5-B0D9-02518320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6BBB-5A6A-467C-8922-C1E452B6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C17-B5A0-4570-8F53-3F980D61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A5C-B6F5-4F2F-976C-8512FBD7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7092-5036-4D84-AF26-75AEB529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CAE-693D-456B-B52C-04CF36E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AC00-183A-4DBA-AB4E-A9789E5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CF4E-809F-497E-B054-C640F2A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5B6-C654-4034-8495-1FCEFCBF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4328-7E81-4290-BA84-CBC4B40B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681C-3930-425E-BF8F-2DBF070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EA7-438C-45AA-8657-655CBC72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0E1D-FE5C-48CE-A013-2646A60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CC81-7B7F-4DE1-822C-7933B63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1388-4E54-42BE-8856-A14D1C2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C3BB-931D-44A3-B0A8-49F73A1A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8CB-6AB3-4862-A465-0C424BE8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B88F-EA66-4F3A-8BA3-7B2D156F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025F-2EF2-4B71-933A-5698C0D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597A-82BE-4193-8242-D2D7497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C611-36EE-42FC-96D3-42A899A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96BE-0B73-4859-A59F-075F2D5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D71-015C-4827-A8F0-2BD1AA8C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3545-3C4A-4841-B2A2-1F21EA3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C28C-8FAB-4D1F-A2C1-D3BAE36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FAEC-B1C2-41C6-9060-3FA8D33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5EF3-2DDE-4013-9B32-ABB4D1C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1AAC-777F-4523-B660-24B364D6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D7EB-34FF-4F3E-BA2C-DFD8916D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C1CD-33D5-4C5A-AB82-E433ABEC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0DA3-85F3-4E4D-B277-7F9C4E5E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E835-FBC8-434F-B420-C686A0D9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73A1-5E34-4261-BB5B-114BBAE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78F-8C05-4CDB-AB58-1FC1973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F577-75A5-4E80-AAE2-7C50CF5D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EF31-3F92-4984-BC59-02B46EB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D3AA-20D1-43B0-9A33-22BC6F5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B6D9-C4A5-4C98-98CA-FC65B52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0BA7-74DD-4C7F-A117-82F5729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C1FC-A5FA-4C00-84CC-6B7AF90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3FA2-E7A0-4F58-A2FE-2B1F9D48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58E0-E8A7-4353-AF03-9C540462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F987-19D0-46A7-ACD0-84BF8C9E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F136-7EBC-447F-8A7A-C7C1C2BB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DEF-36A0-4C04-8DDD-B93D18B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5597-575F-4014-8E7E-74AA367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27F5-4904-477D-A41F-341E6EC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F4EC-BAB1-4DBA-BFCE-82A612E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73A1-CE0F-432C-BCC1-DF94377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F0AEB-4924-4BA6-93EE-DFDD052E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D472-DD65-47C2-A0A5-823F57A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AB3F-8C2C-44B2-8685-CA90C5A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F676-658E-4761-AEB6-8C45BA4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B49D-E2DA-4877-96F8-9A45064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2BF9B-0452-4972-8E8D-22468AF1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213-C202-4667-9592-03E364B0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5AA81-46BA-4692-B104-8D363FEB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33B1-A3F0-4945-99CB-047BA072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7708-BE3C-4628-A21E-733FD90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346E-23F3-4E84-971B-5BF1CB0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3762-E09B-4891-A7C2-BE7B4686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9604-34A2-410F-BBBA-EC80CC84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CF30-73E7-4132-9647-3CD17B06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AA7B-D5F8-4286-A1B8-D6DCEA1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249C-60A3-49DB-B978-8EBD4B0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400B-61BB-44A9-9D28-17589DD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007-77C3-46F0-A1E9-259B8A1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E0F9-158A-40F3-ABDF-FBA48BA4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CC83-A63A-4F95-B17A-B599872D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30DCC-322C-4398-942F-F2B92A57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8322-FCEB-43B2-BFCF-2198C348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CDBF-EB6D-424D-8D6A-32274B21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1EAE-6C4D-4C30-A76A-73F1E019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24FCF-585E-4B48-8414-43214CCD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19AF-5FDB-4898-8680-011260E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0D91-5068-4A03-BD64-C479E7A0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2B29-9E0C-4945-A93D-D08FAA0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516-A927-4EDD-A57E-0BC4CB6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F784F-FB6F-4BF1-8E45-3E86A90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ECF2-FE16-4262-852E-0605CB9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3445-93D3-4886-AFC9-415D265E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55F31-ABBF-4A51-AB0D-1238090C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A42C-86FC-4B2E-ACE6-A589A121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8496-A375-4F6A-ADEC-34DD2933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0BADD-24B8-41C0-B266-A4A98EE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0B6F-AD08-41F2-97A6-8F02BA2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86A95-4CF2-4605-AA6E-C4580A15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83A94-9EFB-466D-8EB5-2C32006A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5AC-AE19-4967-9C1F-49F1D89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F108B-A742-417B-98FF-BFF6885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71C78-FAF1-44B2-8CCA-705EA3D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AC96-A957-4569-B597-3763B56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549C-8EC2-4D4D-BF50-7CDCF0FC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9204-9F8A-41D7-B7CF-A1AE0F11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BAA4-7502-46EF-9264-053DF760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1F5A-6003-4A0A-B117-CE8FCE08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1DCB8-4269-49D6-AA27-34B4A6CA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C0E1B-2A39-4A56-9199-3AC39B5D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6B44-7944-4D3F-8170-4997922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010-AE5E-48C8-A927-BD3B26E6F4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EC0-3C09-4D8C-A13A-BFC0AFFCCF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04A-C22C-45E5-BA04-62A75D3C33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9E9-F244-4CAF-9750-C24224D755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3426-65BD-49DF-A7B4-87617BE564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7B9-35D9-4D2D-A8BA-CF7FDB3AE8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3C33-A142-4737-B301-BCBA574923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88C-12F3-4019-A2EC-CC410580E8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03F-2CFE-414B-A241-50CF8F27E8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2073240" y="-30240"/>
            <a:ext cx="7047000" cy="1505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представляют, каким должен вырасти их ребенок, и прилагают к этому максимум усилий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В своих требованиях они категоричны и неуступчивы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В общении с ребенком они отдают приказы, устанавливают жесткие требования и правила, не допускают их обсуждения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Закрыты для постоянного общения с детьм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и, как правило, замкнуты, боязливы, угрюмы и зависимы, непритязательны и раздражимы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вочки обычно остаются пассивными и зависимыми на протяжении подросткового и юношеского возраста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Мальчики могут стать неуправляемыми и агрессивными.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2279520" y="0"/>
            <a:ext cx="6413760" cy="8478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 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Медлительный молчун, полненький, спокойный. Он любит несколько игрушек, мало фантазирует, играет спокойно, нешумно. Мало двигается, любит поспать, засыпает легко и встаёт поздно, кушает много, в еде неразборчив. Аккуратно складывает свою одежду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 во всём любит порядок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Если что-то не так, он добивается своего с холерической энергией. Разговаривает медленно, с паузами, терпеть не может игры, где нужно проявлять сноровку, быстроту, смекалку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Это послушный и пунктуальный ребёнок. Он затрудняется сам принимать решения и отдаёт право выбора другому. Обычно такие дети знают много стихов и песен, не любят новое, а с радостью вспоминают уже знакомое. Для других детей они скучны и ленивы, их не приглашают в активные игры, но любят с ними играть в традиционные ролевые игры (больница, дочки-матери)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Эти дети долго запоминают новую информацию и правила, но надолго. Они редко ошибаются. Обычно родителей беспокоит тусклость эмоционального мира ребёнка, некоторое безразличие и неспособность сопереживать. Поэтому рекомендуются упражнения на развитие творческой фантазии, занятия музыкой, вышиванием, лепкой, рисованием. не старайтесь рано отправить ребёнка спать, а утром будите настойчивее. Закаляйте, поторапливайте во время еды, не давайте много сладкого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</a:t>
            </a:r>
            <a:r>
              <a:rPr b="1" lang="ru-RU" sz="1800" spc="-1" strike="noStrike">
                <a:solidFill>
                  <a:srgbClr val="772754"/>
                </a:solidFill>
                <a:latin typeface="Arial"/>
              </a:rPr>
              <a:t>учебе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не предоставляйте ребёнка самому себе, тормошите, заинтересовывайте его. Не стоит настойчиво внешне проявлять любовь к ребёнку-флегматику. А такое кажущееся равнодушие будет помогать ребёнку, преодолеть своё равнодушие и стремиться завоевать любовь и симпатию родителей и сверстников.</a:t>
            </a: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4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6" name="Picture 15" descr="i?id=89076226-49-72"/>
          <p:cNvPicPr/>
          <p:nvPr/>
        </p:nvPicPr>
        <p:blipFill>
          <a:blip r:embed="rId3"/>
          <a:stretch/>
        </p:blipFill>
        <p:spPr>
          <a:xfrm>
            <a:off x="0" y="5713560"/>
            <a:ext cx="1709640" cy="106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274760" y="-139680"/>
            <a:ext cx="8161200" cy="2432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552266908"/>
          <p:cNvPicPr/>
          <p:nvPr/>
        </p:nvPicPr>
        <p:blipFill>
          <a:blip r:embed="rId2"/>
          <a:stretch/>
        </p:blipFill>
        <p:spPr>
          <a:xfrm>
            <a:off x="1557360" y="838080"/>
            <a:ext cx="5392800" cy="5410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401" name="Picture 5" descr="i?id=464347093-03-72"/>
          <p:cNvPicPr/>
          <p:nvPr/>
        </p:nvPicPr>
        <p:blipFill>
          <a:blip r:embed="rId2"/>
          <a:stretch/>
        </p:blipFill>
        <p:spPr>
          <a:xfrm>
            <a:off x="6934320" y="44956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DC1508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9"/>
          <p:cNvSpPr/>
          <p:nvPr/>
        </p:nvSpPr>
        <p:spPr>
          <a:xfrm>
            <a:off x="457200" y="533520"/>
            <a:ext cx="8001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Нет ничего важнее для реб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d0f204"/>
                </a:solidFill>
                <a:latin typeface="Monotype Corsiva"/>
              </a:rPr>
              <a:t>чем родительская любов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004840" y="274680"/>
            <a:ext cx="7096320" cy="1504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</a:t>
            </a: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- Родители слишком высоко ценят своего ребенка, считают простительными его слабост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Легко общаются с ним, доверяют ему во всем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Не склонны к запретам и ограничениям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Ребенок в такой семье слабо или совсем не регламентирует поведение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Родители открыты для общения с детьми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Детям предоставлен избыток свободы или руководство родителей незначительно. </a:t>
            </a:r>
            <a:br>
              <a:rPr sz="2400"/>
            </a:br>
            <a:r>
              <a:rPr b="0" lang="ru-RU" sz="2400" spc="-1" strike="noStrike">
                <a:solidFill>
                  <a:srgbClr val="772754"/>
                </a:solidFill>
                <a:latin typeface="Segoe UI"/>
              </a:rPr>
              <a:t>  - Преобладает безусловная родительская любовь.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5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Известный древнегреческий философ сказал: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«Познай себя – познаешь весь мир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75" name="Picture 13" descr="i?id=18314117-52-72"/>
          <p:cNvPicPr/>
          <p:nvPr/>
        </p:nvPicPr>
        <p:blipFill>
          <a:blip r:embed="rId4"/>
          <a:stretch/>
        </p:blipFill>
        <p:spPr>
          <a:xfrm>
            <a:off x="7920" y="452592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i?id=143282107-10-72"/>
          <p:cNvPicPr/>
          <p:nvPr/>
        </p:nvPicPr>
        <p:blipFill>
          <a:blip r:embed="rId5"/>
          <a:stretch/>
        </p:blipFill>
        <p:spPr>
          <a:xfrm>
            <a:off x="4114800" y="3429000"/>
            <a:ext cx="264312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Users\оксана\Desktop\5кл классное руководство\Фото 5 кл\весна 2012г\Защита проекта 17.05.2012\SDC15074.JPG"/>
          <p:cNvPicPr/>
          <p:nvPr/>
        </p:nvPicPr>
        <p:blipFill>
          <a:blip r:embed="rId2"/>
          <a:stretch/>
        </p:blipFill>
        <p:spPr>
          <a:xfrm>
            <a:off x="2817720" y="24400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279520" y="554040"/>
            <a:ext cx="6413760" cy="873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4280" y="1599840"/>
            <a:ext cx="777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Треугольник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– у него выраженная потребность в лидерстве;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Круг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потребность в общении;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Квадрат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потребность в позна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</a:t>
            </a: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рямоугольник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– потребность в изменении. </a:t>
            </a:r>
            <a:br>
              <a:rPr sz="2800"/>
            </a:b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- Зигзаг </a:t>
            </a: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– творческая личность, инакомыслие.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1" name="Picture 7" descr="i?id=41995920-46-72"/>
          <p:cNvPicPr/>
          <p:nvPr/>
        </p:nvPicPr>
        <p:blipFill>
          <a:blip r:embed="rId3"/>
          <a:stretch/>
        </p:blipFill>
        <p:spPr>
          <a:xfrm>
            <a:off x="0" y="5257800"/>
            <a:ext cx="25812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279520" y="426960"/>
            <a:ext cx="6413760" cy="122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Желтый - потребность в обще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Красный – потребность в движении активност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Синий и белый – потребность в покое и уединен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Зеленый – потребность в самовыражении и самореализации; </a:t>
            </a: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- Черный и коричневый - потребность в свободе и самостоятельности (тревожность, негативизм, неуверенность)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4" name="Picture 9" descr="i?id=290671900-37-72"/>
          <p:cNvPicPr/>
          <p:nvPr/>
        </p:nvPicPr>
        <p:blipFill>
          <a:blip r:embed="rId3"/>
          <a:stretch/>
        </p:blipFill>
        <p:spPr>
          <a:xfrm>
            <a:off x="0" y="5181480"/>
            <a:ext cx="224460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Такой ребёнок очень шустрый и подвижный. У него могут быстро появиться слёзы, но также быстро он успокаивается. Мгновенно переключается с одного занятия на другое. Родителей обычно беспокоит несобранность, рассеянность, неаккуратность и несерьёзность, но ребёнок всё же приятен в общении, заводила , выдумщик и фантазёр. Засыпает и просыпается он легко и быстро, встаёт рано. В играх любит лазать, ползать, раскачиваться и бегать. Быть таким "непостоянным" - свойство его темперамент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 Такие дети обычно миролюбивы. Они не помнят зла, добры и нежны, нежадны. Ребёнок-сангвиник весел, жизнерадостен, ловок, общителен. Игры и повседневная жизнь ребёнка должны быть подвижными, требования к спокойствию и уравновешенности со стороны родителей необходимо согласовывать с особенностями его темперамент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Удерживать внимание такой ребёнок может научиться с помощью взрослого, отдающего ему много времени в совместных занятиях: просмотр диафильмов, чтение книг, сочинение историй, собирание конструктора и другое.</a:t>
            </a: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87" name="Picture 11" descr="i?id=136975644-26-72"/>
          <p:cNvPicPr/>
          <p:nvPr/>
        </p:nvPicPr>
        <p:blipFill>
          <a:blip r:embed="rId3"/>
          <a:stretch/>
        </p:blipFill>
        <p:spPr>
          <a:xfrm>
            <a:off x="0" y="5183280"/>
            <a:ext cx="1447920" cy="1666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79520" y="566640"/>
            <a:ext cx="6413760" cy="860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772754"/>
                </a:solidFill>
                <a:latin typeface="Segoe UI"/>
              </a:rPr>
              <a:t>    </a:t>
            </a: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В поведении ребёнка много непонятного, но оно вытекает из богатого его внутреннего мира. Когда он играет, то чаще бывает задумчивым и грустным. Если расстроится, то плачет долго и горько. Ребёнок-меланхолик с трудом включается в игры других детей, но преодолев себя, способен чувствовать радость и удовольствие от общения. Дети обычно боятся чужих людей и сверстников, но с теми, кого любят, очень добры, мягки, открыты и доверчивы. Часто они бывают слишком рассудительны, ведут себя и рассуждают, как "маленькие взрослые". Ребёнок любит уединяться, он не играет в грубые игры. Также очень разборчив в еде, быстро устаёт, с трудом переключается на другой вид деятельности. Засыпает поздно, перед сном любит помечтать и пофантазировать лёжа в кровати. Утром встаёт плохо, бывает хмурым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Меланхолик любит тепло, боится спорта. такой ребёнок требует много заботы и любящего понимания. Родителям необходимо помнить, что для ребёнка неприемлемо грубое обращение, так как он долго это переживает, фиксируя это в своей памяти. У таких детей должен быть в семье человек, которому он может довериться полностью, получать от него тепло и внимание. Это может даже быть домашнее животное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совместных занятиях с ребёнком лучше использовать рисование. лепку, конструирование, мягкие, не соревновательные игры. </a:t>
            </a:r>
            <a:br>
              <a:rPr sz="1800"/>
            </a:br>
            <a:br>
              <a:rPr sz="1600"/>
            </a:br>
            <a:r>
              <a:rPr b="1" lang="ru-RU" sz="16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6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0" name="Picture 7" descr="i?id=394448845-05-72"/>
          <p:cNvPicPr/>
          <p:nvPr/>
        </p:nvPicPr>
        <p:blipFill>
          <a:blip r:embed="rId3"/>
          <a:stretch/>
        </p:blipFill>
        <p:spPr>
          <a:xfrm>
            <a:off x="7435800" y="0"/>
            <a:ext cx="17017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79520" y="225360"/>
            <a:ext cx="6413760" cy="1201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151920" y="114300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Ребёнок всегда знает, чего он хочет, настойчив, решителен, бесстрашен. Любит риск, отчаянные истории и приключения. Холерик с трудом идёт на компромисс, не прислушивается к мнению других. Излишне самостоятелен, чтобы добиться своего, он бывает, вспыльчив и агрессивен. В его поведении многое зависит от воли, он многого может добиться сам, не обращая внимания на синяки и шишки. Спит мало, просыпается рано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еде неразборчив, любит "хватать куски". В его поступках часто отсутствует элемент обдумывания, ребёнок импульсивен, подвержен вспышкам гнева, драчун и крикун. Но после такого поведения он может притихнуть и стать идеальным ребёнком. Дети-холерики предпочитают грубые, порывистые игры, часто конфликтует со сверстниками. В обращении с ребёнком - холериком необходимо много терпения и спокойствия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совместных занятиях рекомендуются подвижные, соревновательные игры, спортивные упражнения, полезно плавание, прыжки на батуте, ритмические танцы. Таким детям нужно большое жизненное пространство, полезны выезды на природу, походы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В играх желательно предусмотреть возможность проигрыша ребёнка и показать, что часто прежде, чем что-то сделать, неплохо бы и подумать. Читать и рассказывать ребёнку-холерику лучше книги, где воля и спокойствие творят чудеса. </a:t>
            </a: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   Ругать и наказывать ребёнка лучше после того, как он успокоится, может быть, даже через день, но не физически, а объясняя последствия его поступка. ни в коем случае не стыдить его при других! Ребёнок и сам бы хотел научиться держать себя в руках, так поймите его и помогайт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72754"/>
                </a:solidFill>
                <a:latin typeface="Segoe UI"/>
              </a:rPr>
              <a:t> </a:t>
            </a:r>
            <a:endParaRPr b="0" lang="en-US" sz="1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393" name="Picture 9" descr="i?id=567127428-54-72"/>
          <p:cNvPicPr/>
          <p:nvPr/>
        </p:nvPicPr>
        <p:blipFill>
          <a:blip r:embed="rId3"/>
          <a:stretch/>
        </p:blipFill>
        <p:spPr>
          <a:xfrm>
            <a:off x="6480" y="5715000"/>
            <a:ext cx="170172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9T18:35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