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F51-65B2-4686-AFE8-16F88C35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3A4-C8B4-4F2F-A5B0-2D795BAC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F66-C81B-4E90-A68E-50204A93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7A2-4DE4-4EE0-92C8-EA0F2A76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CDE-3A3B-4210-88CF-A993A31C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79E-A1C0-4753-8312-1F6CD077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141-F6BF-43E8-8F86-6F0C7113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236-34B8-4372-9283-677E6433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0F2-6370-472F-9808-3DFB7A95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6E4-DB6E-4646-84A4-CDEAEB1B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41C-4C0A-4E96-B2AC-BC87258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7B5-EFF0-479B-B032-09DB321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41C-93B3-44BE-817F-1A115238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ОУ  СОШ №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емикопенко Анаста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еница 1 «б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095880" cy="437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207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оё дет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4343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не год, а я на публ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962520" cy="26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810240" cy="251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9720" y="541008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Хотите верьте, а хотите нет – выступаю я с 3-х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48112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4267440" cy="26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1271400">
            <a:off x="3581280" y="685800"/>
            <a:ext cx="494352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от так всё начиналось…</a:t>
            </a:r>
            <a:endParaRPr b="0" lang="en-US" sz="3200" spc="1" strike="noStrike">
              <a:ln w="19080">
                <a:solidFill>
                  <a:srgbClr val="ff33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403400">
            <a:off x="533160" y="4757400"/>
            <a:ext cx="460044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ДОУ детский сад № 5.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73720" y="2743200"/>
            <a:ext cx="263844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онкурсы, конкурсы, конкурсы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4864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чень люблю я петь и плясать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у, и, конечно, люблю побежд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53080" y="3200400"/>
            <a:ext cx="2408400" cy="3382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09880" y="1752480"/>
            <a:ext cx="269892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ои 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5105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Мой девиз всегда таков: «Никогда не останавливаться на достигнут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9314600">
            <a:off x="1889280" y="2134800"/>
            <a:ext cx="1807920" cy="2584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0751600">
            <a:off x="3200040" y="1295280"/>
            <a:ext cx="189864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1263000">
            <a:off x="4800600" y="1294920"/>
            <a:ext cx="1946160" cy="275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 rot="3964800">
            <a:off x="6017040" y="2212200"/>
            <a:ext cx="16812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Школьный конкурс «Золушка и маленький принц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739960" cy="3048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2480" y="4419720"/>
            <a:ext cx="58676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ржала я побе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ела я с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  на бал теперь  я е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тобы стать мне Золуш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1-29T18:52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