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87CC-0101-4077-B877-F9EC140A2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3E43-1B8D-4FA5-A1D8-CEAC94CD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1549-7C48-4E22-90F3-4E2DCAD50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15DE-AE06-4508-8F0C-F6A58D74A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3114-C86A-4A7F-B006-D729797F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6D4A-A35D-4882-88A0-19DD7200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A562-40C8-48F7-82AC-B27B9860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1285-DC78-41A5-BFD9-94185AA8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E133-0E2D-4B5D-BE52-23CC5E3F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9E14-2EEC-436C-8049-50B70FE3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3DA6-EE7C-4CAA-9F48-F450AE6F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2B79-DCA4-4312-9DCD-D567F56C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0CC5-9450-42B6-B14F-2616B27EC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510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МОУ  СОШ №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6095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Семикопенко Анастас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ученица 1 «б»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095880" cy="4373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2070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Моё дет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4343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Мне год, а я на публ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3962520" cy="2662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2666880"/>
            <a:ext cx="3810240" cy="2516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419720" y="5410080"/>
            <a:ext cx="4495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Хотите верьте, а хотите нет – выступаю я с 3-х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2481120" cy="3276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666880" y="1905120"/>
            <a:ext cx="4267440" cy="2609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 rot="1271400">
            <a:off x="3581280" y="685800"/>
            <a:ext cx="494352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33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от так всё начиналось…</a:t>
            </a:r>
            <a:endParaRPr b="0" lang="en-US" sz="3200" spc="1" strike="noStrike">
              <a:ln w="19080">
                <a:solidFill>
                  <a:srgbClr val="ff33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53" name=""/>
          <p:cNvSpPr txBox="1"/>
          <p:nvPr/>
        </p:nvSpPr>
        <p:spPr>
          <a:xfrm rot="1403400">
            <a:off x="533160" y="4757400"/>
            <a:ext cx="4600440" cy="21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МДОУ детский сад № 5.</a:t>
            </a:r>
            <a:endParaRPr b="0" lang="en-US" sz="3200" spc="1" strike="noStrike">
              <a:ln w="9360">
                <a:solidFill>
                  <a:srgbClr val="ff33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73720" y="2743200"/>
            <a:ext cx="2638440" cy="3876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Конкурсы, конкурсы, конкурсы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548640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Очень люблю я петь и плясать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Ну, и, конечно, люблю побежда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553080" y="3200400"/>
            <a:ext cx="2408400" cy="3382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09880" y="1752480"/>
            <a:ext cx="2698920" cy="359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Мои 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51055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Мой девиз всегда таков: «Никогда не останавливаться на достигнутом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 rot="19314600">
            <a:off x="1889280" y="2134800"/>
            <a:ext cx="1807920" cy="2584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 rot="20751600">
            <a:off x="3200040" y="1295280"/>
            <a:ext cx="1898640" cy="2819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 rot="1263000">
            <a:off x="4800600" y="1294920"/>
            <a:ext cx="1946160" cy="2752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 rot="3964800">
            <a:off x="6017040" y="2212200"/>
            <a:ext cx="168120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Школьный конкурс «Золушка и маленький принц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2739960" cy="3048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752480" y="4419720"/>
            <a:ext cx="586764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держала я побед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ела я с душ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И  на бал теперь  я ед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Чтобы стать мне Золушко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5-01-29T18:52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