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0.gif" ContentType="image/gi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A6D5-F647-443D-B671-003614AD8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CC7A-3658-4EB3-B1A9-6DB0F46E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061E-0522-4620-9439-BC78B477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2DA-2C52-441A-8E69-EC9056E3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41CC-546D-4F90-A4DB-07B44491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CB36-B45F-4275-AA88-0DF97AAF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647E-DB76-4312-A498-45C97640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6176-8F0A-4C9F-B3DB-F1595619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0DF1-2B9A-414F-B2C3-47B0A5B8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2564-42F3-44FE-9BED-AFD6B85B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5013-C75C-467A-B291-CC04D124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7028-237D-4871-AF24-BF7EFBCD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892F-44B1-41A7-8297-B72A32E7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0E6B-BCB8-4BB2-8DF3-47A60370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ECFA-F167-4C94-BE87-718CD641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69B3-B37B-4917-A509-A552EA22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EA73-E963-4D75-8711-F36E4C28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A0770-A5A2-4F19-A947-FDEF8E45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4218F-0862-42C0-9639-A7578823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0EA50-9BB5-460C-93EF-B75E3725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4C774-2547-45C6-A3D1-62652EF1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3A9FE-9E97-448A-B75C-A22F3534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EA39-5BF8-4631-9597-5D85A203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EF0AD-EF62-4C08-87B1-69C332E9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F29E4-BEDB-4D38-963D-A66BD03F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26E36-B9B3-4CA3-949A-6DE29047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7B3BD-28DC-4ABC-B008-9864FF18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FD32A-3E27-4BD6-9397-CCA276ED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A42C5-3292-447F-88AF-8281361C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E8A02-F924-4845-9BD5-70C27F2A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F698E-BC76-4CF9-A5F4-BEA10F19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18DA3-D90C-4E62-B650-48AAFF15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44C4A-FE65-497B-AFEB-CB39ED03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68A9-FF07-4F15-B2FF-AA3E285B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06B5F-F5D8-41DE-A4D5-1BB1E478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6F35E-8EDE-4754-8D4D-6B5C2240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8A31C-C547-4E85-9602-955CC202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47B98-68AD-4352-AB8C-E32AA46E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184A8-4AA4-4E4F-8537-BD4A0DA0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BD1DB-93D9-4D39-942C-35FC4608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6764C-DF92-4C68-9503-0C973BD1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16E52-9B8D-4A01-8C8A-75D45D9B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38778-6D08-4E07-8BA1-09EBFF31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28DFF-25C8-4BEE-ADB4-F7D48ECD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DAF0-B7D1-4F56-B26A-58108C5C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35017-6615-497C-A5C6-B6330779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80D2E-DB1C-4F2B-AF26-653F889E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6CFF1-3CAC-4255-8AE2-9D7A6C2A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F1395-E366-489C-B8E2-2EE73433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85A4A-FC28-4E3E-9440-2ACA5B2C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17EBA-5D3D-4254-9BC2-F7FE4AF1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FEBE9-C118-4A8A-A0E3-8DAFC701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F294F-59D6-41C6-9B67-CB1B3527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57D22-D83C-4F3C-91E2-BD9B8C49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E30CE-66C0-4469-B987-258F7EE6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C718-5D31-41DC-B37F-D1EAEDBE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E0EB0-A13F-45C6-83CD-BE1A9AF9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3425E-C1CD-4334-ACF1-0586DC19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05B8C-288E-4FAB-B757-58BCEF22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E1B50-7515-47DB-97EF-AA050AB8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3157D-09E2-44D7-B42E-61E74923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2A785-4AD0-4FC8-A496-A2AF7460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8B96B-1D6C-489D-94E1-7353C4D0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EE5A9-8481-4568-800F-9BCD9078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27CC4-08FA-4B19-90DE-CD7774AB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CD220-D7A1-4800-A627-EBDAA8A7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21AE-AC43-4E99-9ECE-1AF2D3AD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A2757-973E-45E0-B89E-6389FC6C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C3F17-F0A1-4C84-AD85-D38D6479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B172C-BC32-4511-9E5F-BA5C1E57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0DC98-16A8-4056-B522-15C8AFD9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48090-E3F3-4B0D-BCF2-D871FE40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03421-BC18-4681-A9DC-2E4AAE70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6B0C3-3DED-4BFA-A2B7-77D642FC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D59F1-0422-49DF-95CE-417FE2B1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E288B-CF0C-4087-9A6F-FD2DC1DF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F3038-8E78-4254-8A7B-E86C930C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902C-42D5-4C19-A9FF-6C62A0A2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241E2-AA70-4D61-B87E-5358D398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DA45A-89AC-4B01-BFBF-9D04C672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312BA-4A5A-46F8-93E9-9F47084F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1A3D1-D75A-40CE-9CA9-4F29FDAB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E50D7-AF36-4289-BEBE-AF9B4CD5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601886-BA95-4D55-BD82-14C82500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139BEC-D96F-48DD-9842-FA005A52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9A1684-4831-40F1-850B-1D8CD56A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743C8A-2A2B-4487-BE1E-7FC5FE02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F09091-B618-46CE-9655-469C50EF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2410-BACF-4634-8AB2-4BA2D442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753CBC-CA3B-4E07-AC87-3BE8FC48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B5AC7A-D6E3-4883-821B-B1DF399E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4D8463-F8E1-4F55-9AB1-2FE58646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179D81-95DA-4728-9482-49D79F3A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A83473-78DC-4EC6-94AA-99D9801D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CEB7F1-0266-4E5B-970B-C4FE5E8D0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49021E-473F-48B2-A583-EFC6EBC3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F1CD-C012-4636-9F3B-0D036CEBE8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8883-E153-490B-B601-D87883849C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B979-9E5A-4878-8407-AFF08039C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952F-4D5E-4837-9E7C-75127BDF7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73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75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E108-1929-40E1-A706-D61AA4D0A4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20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22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26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B189-F3B7-4F6E-8821-71613C79F8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BA50-A913-4218-8175-4AC13A4F95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359E-8807-42FF-A98A-717EE56AA7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Детей, которых любят искренне и безусловно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7850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легко увидеть в детском коллективе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1979640" y="4076640"/>
            <a:ext cx="360036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3.Навязанная роль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24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Дети готовы сделать все, чтобы понравиться своим родител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Они готовы погрузиться в мир сложных взрослых проблем, вместо того чтобы обсуждать свои интересы со сверстн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При этом их собственные проблемы остаются нерешен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4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4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4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4.Нет времени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Если есть ребенок, надо и время для него най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Иначе он будет искать среди чужих людей родственную душ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4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4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4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5. Слишком мало ласк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Дети любого возраста стремятся к лас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Она помогает ощущать себя нужными и придает уверенность в своих си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Желание приласкать в большинстве случаев должно исходить от самого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Но не навязывайте активно свою любовь – это может оттолкну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4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4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4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4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14c19"/>
                </a:solidFill>
                <a:latin typeface="Tahoma"/>
              </a:rPr>
              <a:t>Безусловная любовь – это маячок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ahoma"/>
              </a:rPr>
              <a:t>не дающий ребенку сбиться с пути в океане жизненных трудносте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ahoma"/>
              </a:rPr>
              <a:t>служащий ориентиром  в поиске решений при возникающих разногласия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6948360" y="4913280"/>
            <a:ext cx="18003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1" dur="20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14c19"/>
                </a:solidFill>
                <a:latin typeface="Tahoma"/>
              </a:rPr>
              <a:t>Безусловная любовь не зависит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ни от внешности ребе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ни от его достоинств и недостат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ни от способно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ни от сегодняшнего пове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651640" y="4005360"/>
            <a:ext cx="28080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6659640" y="4724280"/>
            <a:ext cx="2303280" cy="190368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Tahoma"/>
              </a:rPr>
              <a:t>Любовь родителей -  это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- возможность удовлетворять эмоциональные потребности ребен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Подрастая, дети задают один вопрос: </a:t>
            </a:r>
            <a:r>
              <a:rPr b="0" lang="en-US" sz="5400" spc="-1" strike="noStrike">
                <a:solidFill>
                  <a:srgbClr val="990000"/>
                </a:solidFill>
                <a:latin typeface="Tahoma"/>
              </a:rPr>
              <a:t>«Вы любите меня?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Если мы любим ребенка за что-то он чувствует это и 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ahoma"/>
              </a:rPr>
              <a:t>теряет уверенность в себ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ahoma"/>
              </a:rPr>
              <a:t>становится тревожным и напряженны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ahoma"/>
              </a:rPr>
              <a:t>начинает лгать и лицемери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0" dur="5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5" dur="500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Родительская любов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это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солнце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, которое необходимо каждому живому существу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-это бескрайний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океан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, где плавают и наслаждаются нежностью и теплотой дети…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-это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источник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 и гарантия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благополучия 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человека, поддержания телесного и душевного здоровь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6227640" y="4937040"/>
            <a:ext cx="244800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1332000" y="1413000"/>
            <a:ext cx="640872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Правила работ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Comic Sans MS"/>
                <a:ea typeface="Times New Roman"/>
              </a:rPr>
              <a:t>Принцип взаимопонимания и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Comic Sans MS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2f1311"/>
                </a:solidFill>
                <a:latin typeface="Comic Sans MS"/>
                <a:ea typeface="Times New Roman"/>
              </a:rPr>
              <a:t>уважения мнения другог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Comic Sans MS"/>
                <a:ea typeface="Times New Roman"/>
              </a:rPr>
              <a:t>Принцип этичност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Comic Sans MS"/>
                <a:ea typeface="Times New Roman"/>
              </a:rPr>
              <a:t>Принцип довер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Comic Sans MS"/>
                <a:ea typeface="Times New Roman"/>
              </a:rPr>
              <a:t>Принцип взаимодействия –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Comic Sans MS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2f1311"/>
                </a:solidFill>
                <a:latin typeface="Comic Sans MS"/>
                <a:ea typeface="Times New Roman"/>
              </a:rPr>
              <a:t>работаем сообща, учимся друг у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Comic Sans MS"/>
                <a:ea typeface="Times New Roman"/>
              </a:rPr>
              <a:t>                                   </a:t>
            </a:r>
            <a:r>
              <a:rPr b="1" lang="en-US" sz="3200" spc="-1" strike="noStrike">
                <a:solidFill>
                  <a:srgbClr val="2f1311"/>
                </a:solidFill>
                <a:latin typeface="Comic Sans MS"/>
                <a:ea typeface="Times New Roman"/>
              </a:rPr>
              <a:t>друг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юбовь умилени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24000" y="1341360"/>
            <a:ext cx="837396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Это инстинктивная, неразумная, иногда наивная любовь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 чему она приводит?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ебенок, воспитанный в атмосфере умиления его личностью, не знает понятий «нельзя», «надо»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ебенок не знает своего долга перед родителями, не умеет трудиться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н не видит других людей с их желаниями и потребностям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324000" y="105228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 таких детей твердо складывается убеждение, что он приносит счастье, радость родителям и людям уже тем, что он просто живет на све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6588000" y="3573360"/>
            <a:ext cx="22989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14c19"/>
                </a:solidFill>
                <a:latin typeface="Arial"/>
              </a:rPr>
              <a:t>Деспотическая любов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ребенка с малых лет извращается представление о добром начале в человеке, он перестает верить в человека и человеч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атмосфере мелких придирок, постоянных упреков ребенок ожесточает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происходит из – за неумения родителями пользоваться своей власт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Любовь откуп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8360" y="162864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Родители видят свой долг  только в обеспечении всех материальных потребностей ребен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В семье царит атмосфера духовной пустоты, убожеств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Чем больше дефицит ребенка в родительской любви, тем больше его стремление получать её материальные заменител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Ребенку будут совершенно не знакомы сострадание, милосерди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Став взрослыми и строя свои взаимоотношения с другими людьми, дети будут выбирать ложные ценности (деньги, материальные блага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Пять ошибок в воспитании: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1.Обещание больше не люб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Это одно из сильнейших средств в воспит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Но эта угроза родителями как правило не осуществля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А дети прекрасно чувствуют фаль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Единожды обманув, вы надолго потеряете доверие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4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4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2ff"/>
            </a:gs>
            <a:gs pos="100000">
              <a:srgbClr val="a3efb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2.Безразличие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Не показывайте ребенку, что вам все равно, чем он заним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«Кроха» немедленно начнет проверять, настоящее ли ваше безразличие, изначально совершая плохие поступ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Ребенок ждет, последует ли кри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оэтому с ним нужно наладить дружеские отношения, даже если его поведение вас не устраив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4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7T22:51:06Z</dcterms:created>
  <dc:creator>1</dc:creator>
  <dc:description/>
  <dc:language>en-US</dc:language>
  <cp:lastModifiedBy>123</cp:lastModifiedBy>
  <dcterms:modified xsi:type="dcterms:W3CDTF">2015-01-29T15:46:59Z</dcterms:modified>
  <cp:revision>17</cp:revision>
  <dc:subject/>
  <dc:title>Детей, которых любят искренне и безусловно</dc:title>
</cp:coreProperties>
</file>