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A3F-3B6A-4E4F-9AB8-723E1676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3E0-A703-4745-A5E0-6ACE43DC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B18-AF9F-4721-B599-4C3F857D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53D-5226-4C5F-B135-42038D2C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FEAE-87FC-482D-896F-B5AD9432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A560-B8CA-4AC3-A59F-90B1D4DE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485E-551C-49A7-BC46-5DFC12B7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1463-5315-4945-83AD-834FE245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AE7E-DD77-45DE-8160-C76390CF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1056-69BE-4033-98C8-0EBD9D89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01B-B581-4990-ADBA-76E8820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D77-9C9D-465C-9F2E-4D935CF8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2CBD-1358-4B72-8031-3C89FF4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F459-8EF4-4CF2-A07A-FC6899B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F942-BBF7-454C-B7F0-EA82761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2027-582C-43D4-8363-0E487508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3663-7632-455E-A09F-A186532E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F4C2-BC61-4CD6-BF73-A724DE7B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1060-587B-4B76-9954-6312A5C1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545E-42B9-4A0C-B74F-9FF2F017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8BE0-EB02-4D56-955F-4D73507E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9EBE-826C-43FC-98DD-1F413456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FD4-AA69-45A7-A5F0-EBFB89F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3A32-7215-4D18-A2FC-BEDB03EE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B1FB-63F5-45AB-B53E-70BF8A35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37BF-00A0-4C05-8587-5BFD8D35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817F-EA76-407A-9904-36233FF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FF08-FEB0-46AD-B6E0-D9B7957F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12E6-61F0-4E1B-89ED-1078E5B8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FCDA-04FD-4FAC-9720-544F1AAA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9EDF-8D25-40D3-B8D0-6A8A048A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537A-6AF4-4BE9-BAE5-36D51A96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2BE1-0F4D-4443-AAA1-A21E288D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BF4-420F-4AC8-870C-17308043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B0E8-B382-489B-AB90-3EDD4087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0566-2DB3-47A4-AD93-4505B6B1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4CD3-7288-4F6A-9B88-919FED9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9F76-15C4-4B3B-AF90-5DDFC497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605A-A81A-4759-8874-CD9CA2F4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C867-B346-4E6B-A8D0-243B119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F1F4-A59B-474F-92B7-B2C2665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5B8A-5C8C-4CA9-8480-35BA7BC5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4BE0B-AAA4-45E6-8956-D7F84A5F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8DC6-EA4C-44FC-A361-8E037F86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109-37A4-44FE-AB88-041DF6F6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0B3EE-9DEC-4DEE-B51B-27A5C797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D09F-CEDE-4922-8113-1CEFA71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DB82C-31CE-44F6-A525-DB389911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3C6A-5DB8-483B-9563-77DA2355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4E1B-2A0E-4DDA-BBE4-CB8A9D80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125A-0A74-44FA-81E4-7FF03B9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C5A5-7F71-45A9-8673-A980EF0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4EFD-8474-4397-BDB5-16DB000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900B-140D-42F9-90C9-A5B35CAE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34514-4E26-4FB1-818F-61D30204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12A-A0CE-46BF-B383-AABE51C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43A2-A27F-46F1-8C62-D587B4D9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34CA9-7DD0-471D-ACF3-D94A6B19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2A9B-F17D-4CA5-BE8D-BBBFAA01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DFAC-277F-4AF1-8155-4AC8C92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7200-12FB-44B0-85DB-A555E3E5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FD6A4-80EA-4502-88B0-5280F2A6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B06B0-CE99-446C-906D-18422A94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5DFE-CA6F-4653-9FFF-AC647624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DA28C-9E75-42BD-9EE8-177D54A9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EAA6-5250-46A0-BB76-7F2F0BF6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A33-577D-4472-BFDC-E1258EC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5BF9-609F-49A8-9934-31BD172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CDD9D-9B4F-43F8-A22B-47BC5361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4410-910A-4D43-84C0-6DBF5144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83468-04C9-4E50-8023-A1BB0E83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AE41-F8B7-4D50-80B2-61798461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EC29-435F-435D-B009-6AFE1E2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8168-31D3-4F9F-B7D9-108D7D6E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D2C60-3960-4DB6-BEA7-FEA08B69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43283-2F6C-4292-8E13-8ECBC9DB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9D1A-60EB-4D60-8B77-4FCFB68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507-F78A-4776-92E1-1A6BB6D7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B755-2CAA-4DA7-A722-AEF9C7A4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1ABE-B72A-4881-9832-569CDCA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6B1DB-65AF-4624-B4C8-9C68826D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9D597-0481-41E3-8162-DB148471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A603E-2535-4CA8-A756-DB1E1474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E1FCA4-7C36-4F5E-9109-5B72D66F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C0FFF-1E80-4B25-BA7B-03DBC74D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669B3-4C0A-4E25-B6DA-6117CEF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4D00C5-2E1F-4E4C-BE80-E09CF56C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EC864A-5C97-49E1-B757-952D7DA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544-CCAE-44BD-B8BD-82AB5DCE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EA7F0D-0170-4838-9DEE-4C6B82B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2E69BE-61A7-4337-AAE0-F943C403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8677E-542E-40C0-8843-B796248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F79D6-2F5B-4639-BB97-49E11FF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5676FD-B3F2-4A4B-9B25-0D256FB3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8A1DA-B389-4EDB-8056-E1E9A068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ABAF4-1F05-4981-9FA1-C4D7FF36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8E14-2291-43E3-BBE9-81B3F83274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4D79-37DB-4878-B044-2D1E9FB6C8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B0E-21A0-45EB-A410-45FB9F4F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E76-0A50-4F80-8ACA-E48614A6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7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7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6F58-10C0-4EC1-AFBA-EFDD9B4966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2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2DE-0EE5-4B2B-A5B4-D5A0F9DCBA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4B7C-EB9D-4C9D-AA22-E789CB1409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821-5A48-4DEE-9C43-BC27863E64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Детей, которых любят искренне и безусловно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7850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легко увидеть в детском коллектив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36003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3.Навязанная роль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24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Дети готовы сделать все, чтобы понравиться своим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ни готовы погрузиться в мир сложных взрослых проблем, вместо того чтобы обсуждать свои интересы со сверс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и этом их собственные проблемы остаются нереше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4.Нет времени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Если есть ребенок, надо и время для него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наче он будет искать среди чужих людей родственную ду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5. Слишком мало ласк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ети любого возраста стремятся к ла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на помогает ощущать себя нужными и придает уверенность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Желание приласкать в большинстве случаев должно исходить от самого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о не навязывайте активно свою любовь – это может оттолк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14c19"/>
                </a:solidFill>
                <a:latin typeface="Tahoma"/>
              </a:rPr>
              <a:t>Безусловная любовь – это маячок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не дающий ребенку сбиться с пути в океане жизненных труд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служащий ориентиром  в поиске решений при возникающих разногласи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948360" y="4913280"/>
            <a:ext cx="1800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14c19"/>
                </a:solidFill>
                <a:latin typeface="Tahoma"/>
              </a:rPr>
              <a:t>Безусловная любовь не зависи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внешности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его достоинств и недостат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сегодняшне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2808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2303280" cy="19036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ahoma"/>
              </a:rPr>
              <a:t>Любовь родителей -  эт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- возможность удовлетворять эмоциональные потребности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Подрастая, дети задают один вопрос: </a:t>
            </a:r>
            <a:r>
              <a:rPr b="0" lang="en-US" sz="5400" spc="-1" strike="noStrike">
                <a:solidFill>
                  <a:srgbClr val="990000"/>
                </a:solidFill>
                <a:latin typeface="Tahoma"/>
              </a:rPr>
              <a:t>«Вы любите меня?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Если мы любим ребенка за что-то он чувствует это и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теряет уверенность в себ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становится тревожным и напряженны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начинает лгать и лицемер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Родительская любов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это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солнце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, которое необходимо каждому живому существ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-это бескрайний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океан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, где плавают и наслаждаются нежностью и теплотой дети…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-это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источник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и гарантия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благополучия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человека, поддержания телесного и душевного здоровь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6227640" y="4937040"/>
            <a:ext cx="2448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332000" y="1413000"/>
            <a:ext cx="64087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Правила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взаимопонимания и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уважения мнения друг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этичн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довер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взаимодействия –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работаем сообща, учимся друг у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                                 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друг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юбовь умил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341360"/>
            <a:ext cx="837396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инстинктивная, неразумная, иногда наивная любов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чему она приводит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бенок, воспитанный в атмосфере умиления его личностью, не знает понятий «нельзя», «надо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бенок не знает своего долга перед родителями, не умеет трудитьс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не видит других людей с их желаниями и потребност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таких детей твердо складывается убеждение, что он приносит счастье, радость родителям и людям уже тем, что он просто живет на св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2298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4c19"/>
                </a:solidFill>
                <a:latin typeface="Arial"/>
              </a:rPr>
              <a:t>Деспотическая любов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ребенка с малых лет извращается представление о добром начале в человеке, он перестает верить в человека и человеч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тмосфере мелких придирок, постоянных упреков ребенок ожесточ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оисходит из – за неумения родителями пользоваться своей вла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Любовь откуп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одители видят свой долг  только в обеспечении всех материальных потребностей ребен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В семье царит атмосфера духовной пустоты, убожест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Чем больше дефицит ребенка в родительской любви, тем больше его стремление получать её материальные замените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ебенку будут совершенно не знакомы сострадание, милосерд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Став взрослыми и строя свои взаимоотношения с другими людьми, дети будут выбирать ложные ценности (деньги, материальные благ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ять ошибок в воспитании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.Обещание больше не люб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Это одно из сильнейших средств в воспит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о эта угроза родителями как правило не осущест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А дети прекрасно чувствуют фаль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Единожды обманув, вы надолго потеряете доверие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2.Безразличие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показывайте ребенку, что вам все равно, чем он заним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Кроха» немедленно начнет проверять, настоящее ли ваше безразличие, изначально совершая плохие поступ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ебенок ждет, последует ли кр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этому с ним нужно наладить дружеские отношения, даже если его поведение вас не устра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22:51:06Z</dcterms:created>
  <dc:creator>1</dc:creator>
  <dc:description/>
  <dc:language>en-US</dc:language>
  <cp:lastModifiedBy>123</cp:lastModifiedBy>
  <dcterms:modified xsi:type="dcterms:W3CDTF">2015-01-29T15:46:59Z</dcterms:modified>
  <cp:revision>17</cp:revision>
  <dc:subject/>
  <dc:title>Детей, которых любят искренне и безусловно</dc:title>
</cp:coreProperties>
</file>