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2734-99E0-4850-B488-622CD32B4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1514-0C8B-487F-BE77-4DB18EE8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113F-ACAC-4FF0-A31F-9CC60BAD6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39FE-5EEE-4EFB-AA9A-0C07FE579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6B43B-C115-4EE2-B270-F28FBA863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501626-2C5C-4D89-9A76-521E15D1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DEA26-32CB-47D7-B717-42442B3D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7BAF4-43C7-440A-A106-9B9E96CC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8300E-701B-4A99-BF43-1AFC7F01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F75154-875B-4232-A4BD-C8C572F5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95A64-9EC4-4D79-BB83-BAC6C8FA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3AD6-F7E6-4710-B54E-020726DE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3791A-8C01-48BA-B1FE-71F4EAF9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FD5BC-83C3-4C3B-8B1E-F49AFC79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00F3D-6C50-4951-8345-EE940763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CD81D-BBED-47D1-A83B-5C9CF3F1C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ED9DF-4841-4AE9-939C-A767F4758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A5D2-392C-439F-A29A-9F2A71CD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9512-C8AF-4AA3-8374-F04045D8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62DF-1E27-4B29-A7FC-6EA88220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17F6-A97B-487A-865E-B9B1DA28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0D44-9C22-4FFD-B309-61F22D3B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2634-8C7E-4F34-A3A9-34A6FA89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6E22-6693-4E29-AF2F-EA68D861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EF12-1F56-4BC7-85A8-CF10D9789A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A474-DD2D-4FA8-B334-3C1B3DCC554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236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ff"/>
                </a:solidFill>
                <a:latin typeface="Arial"/>
              </a:rPr>
              <a:t>Оснащение логопедического уголка в группах детского са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3280" y="5013000"/>
            <a:ext cx="640080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Учитель –логопед Кучма Ю.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619280" y="83664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МБДОУ ДЕТСКИЙ САД № 1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Наполняемость коррекционного уголка осуществляется по следующим разделам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Звукопроизнош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Дыха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Фонематические процесс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Лексика, граммати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Мелкая мотори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Связная реч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оррекция звукопроизнош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4572000" y="5013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2700360" y="4076640"/>
            <a:ext cx="38876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00cc"/>
                </a:solidFill>
                <a:latin typeface="Tahoma"/>
              </a:rPr>
              <a:t>Содержит комплексы упражнений для   артикуляционной гимнастики, картинки к артикуляционным упражнениям</a:t>
            </a:r>
            <a:r>
              <a:rPr b="0" i="1" lang="ru-RU" sz="1200" spc="-1" strike="noStrike">
                <a:solidFill>
                  <a:srgbClr val="6600cc"/>
                </a:solidFill>
                <a:latin typeface="Tahoma"/>
              </a:rPr>
              <a:t>; </a:t>
            </a:r>
            <a:r>
              <a:rPr b="0" i="1" lang="ru-RU" sz="1400" spc="-1" strike="noStrike">
                <a:solidFill>
                  <a:srgbClr val="6600cc"/>
                </a:solidFill>
                <a:latin typeface="Tahoma"/>
              </a:rPr>
              <a:t>альбомы по автоматизации звуков;   игры на автоматизацию звуков:  «Логопедические лото», «Логопедическое  домино»,  «Улитки»</a:t>
            </a:r>
            <a:r>
              <a:rPr b="0" i="1" lang="ru-RU" sz="1400" spc="-1" strike="noStrike">
                <a:solidFill>
                  <a:srgbClr val="00cc00"/>
                </a:solidFill>
                <a:latin typeface="Tahoma"/>
              </a:rPr>
              <a:t>»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10" descr="C:\Users\Юля\Desktop\108___04\IMG_1216.JPG"/>
          <p:cNvPicPr/>
          <p:nvPr/>
        </p:nvPicPr>
        <p:blipFill>
          <a:blip r:embed="rId1"/>
          <a:stretch/>
        </p:blipFill>
        <p:spPr>
          <a:xfrm>
            <a:off x="3132000" y="1341360"/>
            <a:ext cx="3359160" cy="251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92" name="Picture 11" descr="C:\Users\Юля\Desktop\108___04\IMG_1215.JPG"/>
          <p:cNvPicPr/>
          <p:nvPr/>
        </p:nvPicPr>
        <p:blipFill>
          <a:blip r:embed="rId2"/>
          <a:stretch/>
        </p:blipFill>
        <p:spPr>
          <a:xfrm>
            <a:off x="250920" y="4076640"/>
            <a:ext cx="2400120" cy="1800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93" name="Picture 12" descr="C:\Users\Юля\Desktop\108___04\IMG_1220.JPG"/>
          <p:cNvPicPr/>
          <p:nvPr/>
        </p:nvPicPr>
        <p:blipFill>
          <a:blip r:embed="rId3"/>
          <a:stretch/>
        </p:blipFill>
        <p:spPr>
          <a:xfrm>
            <a:off x="611280" y="1125360"/>
            <a:ext cx="1890720" cy="25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94" name="Picture 13" descr=""/>
          <p:cNvPicPr/>
          <p:nvPr/>
        </p:nvPicPr>
        <p:blipFill>
          <a:blip r:embed="rId4"/>
          <a:stretch/>
        </p:blipFill>
        <p:spPr>
          <a:xfrm>
            <a:off x="6588000" y="4149720"/>
            <a:ext cx="2400480" cy="1798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95" name="Picture 14" descr=""/>
          <p:cNvPicPr/>
          <p:nvPr/>
        </p:nvPicPr>
        <p:blipFill>
          <a:blip r:embed="rId5"/>
          <a:stretch/>
        </p:blipFill>
        <p:spPr>
          <a:xfrm>
            <a:off x="6948360" y="1268280"/>
            <a:ext cx="1871640" cy="2495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особия по развитию речевого дых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042920" y="5516640"/>
            <a:ext cx="7120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6600cc"/>
                </a:solidFill>
                <a:latin typeface="Tahoma"/>
              </a:rPr>
              <a:t>Вертушки, султанчики, дудочки, шары для надувания, мыльные пузыри, игры на  выработку воздушной струи («Загоним мяч в ворота», «Обжорки») и т.п.;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8" descr="C:\Users\Юля\Desktop\108___04\IMG_1231.JPG"/>
          <p:cNvPicPr/>
          <p:nvPr/>
        </p:nvPicPr>
        <p:blipFill>
          <a:blip r:embed="rId1"/>
          <a:stretch/>
        </p:blipFill>
        <p:spPr>
          <a:xfrm>
            <a:off x="684360" y="907920"/>
            <a:ext cx="1888920" cy="2521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99" name="Picture 9" descr="C:\Users\Юля\Desktop\108___04\IMG_1229.JPG"/>
          <p:cNvPicPr/>
          <p:nvPr/>
        </p:nvPicPr>
        <p:blipFill>
          <a:blip r:embed="rId2"/>
          <a:stretch/>
        </p:blipFill>
        <p:spPr>
          <a:xfrm>
            <a:off x="3276720" y="3573360"/>
            <a:ext cx="2590560" cy="1943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0" name="Picture 10" descr="C:\Users\Юля\Desktop\108___04\IMG_1224.JPG"/>
          <p:cNvPicPr/>
          <p:nvPr/>
        </p:nvPicPr>
        <p:blipFill>
          <a:blip r:embed="rId3"/>
          <a:stretch/>
        </p:blipFill>
        <p:spPr>
          <a:xfrm>
            <a:off x="6227640" y="3645000"/>
            <a:ext cx="2398680" cy="1800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1" name="Picture 11" descr="C:\Users\Юля\Desktop\108___04\IMG_1227.JPG"/>
          <p:cNvPicPr/>
          <p:nvPr/>
        </p:nvPicPr>
        <p:blipFill>
          <a:blip r:embed="rId4"/>
          <a:stretch/>
        </p:blipFill>
        <p:spPr>
          <a:xfrm>
            <a:off x="6659640" y="907920"/>
            <a:ext cx="1890720" cy="25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2" name="Picture 9" descr="Книги &quot; Страница 2301"/>
          <p:cNvPicPr/>
          <p:nvPr/>
        </p:nvPicPr>
        <p:blipFill>
          <a:blip r:embed="rId5"/>
          <a:stretch/>
        </p:blipFill>
        <p:spPr>
          <a:xfrm>
            <a:off x="3635280" y="907920"/>
            <a:ext cx="1792440" cy="2521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3" name="Picture 11" descr="Картотека дыхательной гимнастики в доу - Только новые учебники"/>
          <p:cNvPicPr/>
          <p:nvPr/>
        </p:nvPicPr>
        <p:blipFill>
          <a:blip r:embed="rId6"/>
          <a:stretch/>
        </p:blipFill>
        <p:spPr>
          <a:xfrm>
            <a:off x="324000" y="3645000"/>
            <a:ext cx="2687400" cy="1800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Игры и упражнения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о развитию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фонематических процесс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539640" y="1628640"/>
            <a:ext cx="88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682200" y="1649520"/>
            <a:ext cx="541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cc"/>
                </a:solidFill>
                <a:latin typeface="Times New Roman"/>
              </a:rPr>
              <a:t>Различные игры на дифференциацию звуков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6600cc"/>
                </a:solidFill>
                <a:latin typeface="Times New Roman"/>
              </a:rPr>
              <a:t>«Научитесь слышать»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cc"/>
                </a:solidFill>
                <a:latin typeface="Times New Roman"/>
              </a:rPr>
              <a:t>Фонетическое лото «Звонкий-глухой»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cc"/>
                </a:solidFill>
                <a:latin typeface="Times New Roman"/>
              </a:rPr>
              <a:t>«Дифференциация Ш-Ж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cc"/>
                </a:solidFill>
                <a:latin typeface="Times New Roman"/>
              </a:rPr>
              <a:t>Логопедическая ромашк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cc"/>
                </a:solidFill>
                <a:latin typeface="Times New Roman"/>
              </a:rPr>
              <a:t>«Прочитай по первым звукам» и д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7" descr="C:\Users\Юля\Desktop\108___04\IMG_1233.JPG"/>
          <p:cNvPicPr/>
          <p:nvPr/>
        </p:nvPicPr>
        <p:blipFill>
          <a:blip r:embed="rId1"/>
          <a:stretch/>
        </p:blipFill>
        <p:spPr>
          <a:xfrm>
            <a:off x="6012000" y="1557360"/>
            <a:ext cx="2400120" cy="1800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8" name="Picture 8" descr="C:\Users\Юля\Desktop\108___04\IMG_1234.JPG"/>
          <p:cNvPicPr/>
          <p:nvPr/>
        </p:nvPicPr>
        <p:blipFill>
          <a:blip r:embed="rId2"/>
          <a:stretch/>
        </p:blipFill>
        <p:spPr>
          <a:xfrm>
            <a:off x="1187280" y="3645000"/>
            <a:ext cx="1890720" cy="251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9" name="Picture 9" descr="C:\Users\Юля\Desktop\108___04\IMG_1236.JPG"/>
          <p:cNvPicPr/>
          <p:nvPr/>
        </p:nvPicPr>
        <p:blipFill>
          <a:blip r:embed="rId3"/>
          <a:stretch/>
        </p:blipFill>
        <p:spPr>
          <a:xfrm>
            <a:off x="4572000" y="3716280"/>
            <a:ext cx="3216240" cy="2413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Активизация словаря, обобщающих понятий, лексико-грамматических категори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879480" y="17668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250920" y="1916280"/>
            <a:ext cx="5913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cc"/>
                </a:solidFill>
                <a:latin typeface="Arial"/>
              </a:rPr>
              <a:t>«Подбери слово», «Определения», «Четвертый лишний»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cc"/>
                </a:solidFill>
                <a:latin typeface="Arial"/>
              </a:rPr>
              <a:t>«Лото», «Чей хвост, чья голова», «Противоположности»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cc"/>
                </a:solidFill>
                <a:latin typeface="Arial"/>
              </a:rPr>
              <a:t>«Кем быть?», «Назови ласково» и др., дидактический материа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cc"/>
                </a:solidFill>
                <a:latin typeface="Arial"/>
              </a:rPr>
              <a:t>(альбомы) по совершенствованию лексико-грамматических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cc"/>
                </a:solidFill>
                <a:latin typeface="Arial"/>
              </a:rPr>
              <a:t>категорий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8" descr="C:\Users\Юля\Desktop\108___04\IMG_1241.JPG"/>
          <p:cNvPicPr/>
          <p:nvPr/>
        </p:nvPicPr>
        <p:blipFill>
          <a:blip r:embed="rId1"/>
          <a:stretch/>
        </p:blipFill>
        <p:spPr>
          <a:xfrm>
            <a:off x="324000" y="5013360"/>
            <a:ext cx="2160360" cy="1620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14" name="Picture 9" descr="C:\Users\Юля\Desktop\108___04\IMG_1243.JPG"/>
          <p:cNvPicPr/>
          <p:nvPr/>
        </p:nvPicPr>
        <p:blipFill>
          <a:blip r:embed="rId2"/>
          <a:stretch/>
        </p:blipFill>
        <p:spPr>
          <a:xfrm>
            <a:off x="6516720" y="1773360"/>
            <a:ext cx="1944720" cy="2590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15" name="Picture 10" descr="C:\Users\Юля\Desktop\108___04\IMG_1248.JPG"/>
          <p:cNvPicPr/>
          <p:nvPr/>
        </p:nvPicPr>
        <p:blipFill>
          <a:blip r:embed="rId3"/>
          <a:stretch/>
        </p:blipFill>
        <p:spPr>
          <a:xfrm>
            <a:off x="3635280" y="4005360"/>
            <a:ext cx="1919520" cy="2555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16" name="Picture 11" descr="C:\Users\Юля\Desktop\108___04\IMG_1247.JPG"/>
          <p:cNvPicPr/>
          <p:nvPr/>
        </p:nvPicPr>
        <p:blipFill>
          <a:blip r:embed="rId4"/>
          <a:stretch/>
        </p:blipFill>
        <p:spPr>
          <a:xfrm>
            <a:off x="6227640" y="4724280"/>
            <a:ext cx="2398680" cy="1800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17" name="Picture 10" descr="Первые шаги 8 Чей хвост. Лунтик Россия - Интернет магазин детских игрушек Совенок, Екатеринбург"/>
          <p:cNvPicPr/>
          <p:nvPr/>
        </p:nvPicPr>
        <p:blipFill>
          <a:blip r:embed="rId5"/>
          <a:stretch/>
        </p:blipFill>
        <p:spPr>
          <a:xfrm>
            <a:off x="468360" y="3141720"/>
            <a:ext cx="25002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9" descr="Развиваем связную речь у детей 4-5 лет с ОНР. Альбом 3. Мир человека"/>
          <p:cNvPicPr/>
          <p:nvPr/>
        </p:nvPicPr>
        <p:blipFill>
          <a:blip r:embed="rId1"/>
          <a:stretch/>
        </p:blipFill>
        <p:spPr>
          <a:xfrm>
            <a:off x="7524720" y="260280"/>
            <a:ext cx="1433520" cy="1800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Развитие связной реч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3059280" y="1284120"/>
            <a:ext cx="26650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6600cc"/>
                </a:solidFill>
                <a:latin typeface="Tahoma"/>
              </a:rPr>
              <a:t>сюжетные картинк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66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6600cc"/>
                </a:solidFill>
                <a:latin typeface="Tahoma"/>
              </a:rPr>
              <a:t>схемы для составления     описательных рассказов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66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6600cc"/>
                </a:solidFill>
                <a:latin typeface="Tahoma"/>
              </a:rPr>
              <a:t>«Когда это бывает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66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6600cc"/>
                </a:solidFill>
                <a:latin typeface="Tahoma"/>
              </a:rPr>
              <a:t>«Играем в профессии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66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6600cc"/>
                </a:solidFill>
                <a:latin typeface="Tahoma"/>
              </a:rPr>
              <a:t>«Истории в картинках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66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6600cc"/>
                </a:solidFill>
                <a:latin typeface="Tahoma"/>
              </a:rPr>
              <a:t>Дидактическое пособие «Рассказы по картинкам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66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6600cc"/>
                </a:solidFill>
                <a:latin typeface="Tahoma"/>
              </a:rPr>
              <a:t>разные виды театра и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66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cc"/>
                </a:solidFill>
                <a:latin typeface="Tahoma"/>
              </a:rPr>
              <a:t>др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10" descr="C:\Users\Юля\Desktop\108___04\IMG_1250.JPG"/>
          <p:cNvPicPr/>
          <p:nvPr/>
        </p:nvPicPr>
        <p:blipFill>
          <a:blip r:embed="rId2"/>
          <a:stretch/>
        </p:blipFill>
        <p:spPr>
          <a:xfrm>
            <a:off x="6516720" y="3716280"/>
            <a:ext cx="2158920" cy="2881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22" name="Picture 11" descr="C:\Users\Юля\Desktop\108___04\IMG_1249.JPG"/>
          <p:cNvPicPr/>
          <p:nvPr/>
        </p:nvPicPr>
        <p:blipFill>
          <a:blip r:embed="rId3"/>
          <a:stretch/>
        </p:blipFill>
        <p:spPr>
          <a:xfrm>
            <a:off x="468360" y="3789360"/>
            <a:ext cx="2158920" cy="28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23" name="Picture 13" descr="Дидактические, настольные игры, наглядный материал. - Страница 31 - Videoforum - форум о видео и не только!"/>
          <p:cNvPicPr/>
          <p:nvPr/>
        </p:nvPicPr>
        <p:blipFill>
          <a:blip r:embed="rId4"/>
          <a:stretch/>
        </p:blipFill>
        <p:spPr>
          <a:xfrm>
            <a:off x="3635280" y="3645000"/>
            <a:ext cx="2041560" cy="28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24" name="Picture 15" descr="&quot;Колобок&quot; - Мамонтенок"/>
          <p:cNvPicPr/>
          <p:nvPr/>
        </p:nvPicPr>
        <p:blipFill>
          <a:blip r:embed="rId5"/>
          <a:stretch/>
        </p:blipFill>
        <p:spPr>
          <a:xfrm>
            <a:off x="250920" y="981000"/>
            <a:ext cx="2401920" cy="1800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25" name="Picture 17" descr="Книга &quot;Развиваем связную речь у детей 6-7 лет с ОНР. Альбом 2. Мир животных&quot; Н. Е. Арбекова - купить книгу ISBN 978-5-91928-427-"/>
          <p:cNvPicPr/>
          <p:nvPr/>
        </p:nvPicPr>
        <p:blipFill>
          <a:blip r:embed="rId6"/>
          <a:stretch/>
        </p:blipFill>
        <p:spPr>
          <a:xfrm>
            <a:off x="6659640" y="1125360"/>
            <a:ext cx="1422360" cy="179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26" name="Picture 21" descr="Арбекова Н.Е.,Развиваем связную речь у детей 4-5 лет с ОНР. Альбом 1. Мир растений"/>
          <p:cNvPicPr/>
          <p:nvPr/>
        </p:nvPicPr>
        <p:blipFill>
          <a:blip r:embed="rId7"/>
          <a:stretch/>
        </p:blipFill>
        <p:spPr>
          <a:xfrm>
            <a:off x="5651640" y="1557360"/>
            <a:ext cx="1438200" cy="1800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Игры и пособия по развитию 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тонкой моторики пальцев ру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7" descr="C:\Users\Юля\Desktop\108___04\IMG_1214.JPG"/>
          <p:cNvPicPr/>
          <p:nvPr/>
        </p:nvPicPr>
        <p:blipFill>
          <a:blip r:embed="rId1"/>
          <a:stretch/>
        </p:blipFill>
        <p:spPr>
          <a:xfrm>
            <a:off x="3276720" y="2708280"/>
            <a:ext cx="2687400" cy="2016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29" name="Picture 8" descr="C:\Users\Юля\Desktop\108___04\IMG_1213.JPG"/>
          <p:cNvPicPr/>
          <p:nvPr/>
        </p:nvPicPr>
        <p:blipFill>
          <a:blip r:embed="rId2"/>
          <a:stretch/>
        </p:blipFill>
        <p:spPr>
          <a:xfrm>
            <a:off x="6300720" y="1268280"/>
            <a:ext cx="2590920" cy="1944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30" name="Picture 9" descr="C:\Users\Юля\Desktop\108___04\IMG_1212.JPG"/>
          <p:cNvPicPr/>
          <p:nvPr/>
        </p:nvPicPr>
        <p:blipFill>
          <a:blip r:embed="rId3"/>
          <a:stretch/>
        </p:blipFill>
        <p:spPr>
          <a:xfrm>
            <a:off x="250920" y="4292640"/>
            <a:ext cx="2639880" cy="1981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31" name="Picture 10" descr="C:\Users\Юля\Desktop\108___04\IMG_1210.JPG"/>
          <p:cNvPicPr/>
          <p:nvPr/>
        </p:nvPicPr>
        <p:blipFill>
          <a:blip r:embed="rId4"/>
          <a:stretch/>
        </p:blipFill>
        <p:spPr>
          <a:xfrm>
            <a:off x="250920" y="1197000"/>
            <a:ext cx="2592360" cy="1942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32" name="Picture 11" descr="C:\Users\Юля\Desktop\108___04\IMG_1209.JPG"/>
          <p:cNvPicPr/>
          <p:nvPr/>
        </p:nvPicPr>
        <p:blipFill>
          <a:blip r:embed="rId5"/>
          <a:stretch/>
        </p:blipFill>
        <p:spPr>
          <a:xfrm>
            <a:off x="6372360" y="4292640"/>
            <a:ext cx="2592360" cy="1944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33" name="Picture 12" descr="C:\Users\Юля\Desktop\108___04\IMG_1208.JPG"/>
          <p:cNvPicPr/>
          <p:nvPr/>
        </p:nvPicPr>
        <p:blipFill>
          <a:blip r:embed="rId6"/>
          <a:stretch/>
        </p:blipFill>
        <p:spPr>
          <a:xfrm>
            <a:off x="3276720" y="4842000"/>
            <a:ext cx="2687400" cy="2016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34" name="Picture 9" descr="C:\Users\Юля\Desktop\108___04\IMG_1237.JPG"/>
          <p:cNvPicPr/>
          <p:nvPr/>
        </p:nvPicPr>
        <p:blipFill>
          <a:blip r:embed="rId7"/>
          <a:stretch/>
        </p:blipFill>
        <p:spPr>
          <a:xfrm>
            <a:off x="3851280" y="981000"/>
            <a:ext cx="1619280" cy="2160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5736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3T05:15:30Z</dcterms:created>
  <dc:creator>ПОЛЕХИНА С.М.</dc:creator>
  <dc:description/>
  <dc:language>en-US</dc:language>
  <cp:lastModifiedBy>Юля</cp:lastModifiedBy>
  <dcterms:modified xsi:type="dcterms:W3CDTF">2014-12-10T09:19:57Z</dcterms:modified>
  <cp:revision>40</cp:revision>
  <dc:subject/>
  <dc:title>Слайд 1</dc:title>
</cp:coreProperties>
</file>