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6C1-4FC8-4EF3-BD60-90CB1605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029-2C8E-4CB3-91D3-00C0FA8A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092-5169-40F5-AA87-46EC4E19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48E-F85B-4219-AAAD-EB30933C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B3129-7540-41F2-B766-A98BCFD6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EB714-27D6-487E-BF66-94515FCD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8E600-4F6A-4335-97C1-1E34E334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B3D2B-43C0-4EE5-88A9-01624CCF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95703-72F0-4E4C-AD83-526AE898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DD95-A125-4DFF-A8F6-75581D72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9D167-3D46-42B0-A6BB-6B40685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A46-0FC8-4C8C-81CC-114741BB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C9BE3-2218-4A7C-9F8C-46E192F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EAC63-B40E-4BB2-86B9-A25483C9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05DC1-CB8D-4001-862E-CEF8AE94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A8461-8283-4A41-AD69-06C2C7DE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3FB0C-C9C8-46E4-B3BB-2B61146D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5A0-15BE-4556-ADA9-DC19923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8A9-489E-4255-86EC-70E3EEA8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429-5844-40EC-B8D6-CF086B45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25F-5A39-47E6-8012-733C73E7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FA8-7FC4-4555-89FC-A1554DED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EEC-960C-4D7A-A98B-C906629A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C9C-251C-4BF0-8906-9EAEDC5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8138-76CE-42FA-9D86-DB7C08C62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CCB5-2E69-4D0D-B603-2B00D78543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236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ff"/>
                </a:solidFill>
                <a:latin typeface="Arial"/>
              </a:rPr>
              <a:t>Оснащение логопедического уголка в группах детского са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–логопед Кучма Ю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619280" y="83664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БДОУ ДЕТСКИЙ САД № 1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аполняемость коррекционного уголка осуществляется по следующим раздела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Звукопроизнош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Дых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Фонематические процес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Лексика, грамма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Мелкая мотор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вязная реч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ррекция звукопроизно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572000" y="501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700360" y="4076640"/>
            <a:ext cx="3887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cc"/>
                </a:solidFill>
                <a:latin typeface="Tahoma"/>
              </a:rPr>
              <a:t>Содержит комплексы упражнений для   артикуляционной гимнастики, картинки к артикуляционным упражнениям</a:t>
            </a:r>
            <a:r>
              <a:rPr b="0" i="1" lang="ru-RU" sz="1200" spc="-1" strike="noStrike">
                <a:solidFill>
                  <a:srgbClr val="6600cc"/>
                </a:solidFill>
                <a:latin typeface="Tahoma"/>
              </a:rPr>
              <a:t>; </a:t>
            </a:r>
            <a:r>
              <a:rPr b="0" i="1" lang="ru-RU" sz="1400" spc="-1" strike="noStrike">
                <a:solidFill>
                  <a:srgbClr val="6600cc"/>
                </a:solidFill>
                <a:latin typeface="Tahoma"/>
              </a:rPr>
              <a:t>альбомы по автоматизации звуков;   игры на автоматизацию звуков:  «Логопедические лото», «Логопедическое  домино»,  «Улитки»</a:t>
            </a:r>
            <a:r>
              <a:rPr b="0" i="1" lang="ru-RU" sz="1400" spc="-1" strike="noStrike">
                <a:solidFill>
                  <a:srgbClr val="00cc00"/>
                </a:solidFill>
                <a:latin typeface="Tahoma"/>
              </a:rPr>
              <a:t>»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C:\Users\Юля\Desktop\108___04\IMG_1216.JPG"/>
          <p:cNvPicPr/>
          <p:nvPr/>
        </p:nvPicPr>
        <p:blipFill>
          <a:blip r:embed="rId1"/>
          <a:stretch/>
        </p:blipFill>
        <p:spPr>
          <a:xfrm>
            <a:off x="3132000" y="1341360"/>
            <a:ext cx="335916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2" name="Picture 11" descr="C:\Users\Юля\Desktop\108___04\IMG_1215.JPG"/>
          <p:cNvPicPr/>
          <p:nvPr/>
        </p:nvPicPr>
        <p:blipFill>
          <a:blip r:embed="rId2"/>
          <a:stretch/>
        </p:blipFill>
        <p:spPr>
          <a:xfrm>
            <a:off x="250920" y="4076640"/>
            <a:ext cx="240012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3" name="Picture 12" descr="C:\Users\Юля\Desktop\108___04\IMG_1220.JPG"/>
          <p:cNvPicPr/>
          <p:nvPr/>
        </p:nvPicPr>
        <p:blipFill>
          <a:blip r:embed="rId3"/>
          <a:stretch/>
        </p:blipFill>
        <p:spPr>
          <a:xfrm>
            <a:off x="611280" y="1125360"/>
            <a:ext cx="1890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4" name="Picture 13" descr=""/>
          <p:cNvPicPr/>
          <p:nvPr/>
        </p:nvPicPr>
        <p:blipFill>
          <a:blip r:embed="rId4"/>
          <a:stretch/>
        </p:blipFill>
        <p:spPr>
          <a:xfrm>
            <a:off x="6588000" y="4149720"/>
            <a:ext cx="240048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5" name="Picture 14" descr=""/>
          <p:cNvPicPr/>
          <p:nvPr/>
        </p:nvPicPr>
        <p:blipFill>
          <a:blip r:embed="rId5"/>
          <a:stretch/>
        </p:blipFill>
        <p:spPr>
          <a:xfrm>
            <a:off x="6948360" y="1268280"/>
            <a:ext cx="187164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собия по развитию речевого дых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042920" y="5516640"/>
            <a:ext cx="7120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6600cc"/>
                </a:solidFill>
                <a:latin typeface="Tahoma"/>
              </a:rPr>
              <a:t>Вертушки, султанчики, дудочки, шары для надувания, мыльные пузыри, игры на  выработку воздушной струи («Загоним мяч в ворота», «Обжорки») и т.п.;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8" descr="C:\Users\Юля\Desktop\108___04\IMG_1231.JPG"/>
          <p:cNvPicPr/>
          <p:nvPr/>
        </p:nvPicPr>
        <p:blipFill>
          <a:blip r:embed="rId1"/>
          <a:stretch/>
        </p:blipFill>
        <p:spPr>
          <a:xfrm>
            <a:off x="684360" y="907920"/>
            <a:ext cx="18889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9" name="Picture 9" descr="C:\Users\Юля\Desktop\108___04\IMG_1229.JPG"/>
          <p:cNvPicPr/>
          <p:nvPr/>
        </p:nvPicPr>
        <p:blipFill>
          <a:blip r:embed="rId2"/>
          <a:stretch/>
        </p:blipFill>
        <p:spPr>
          <a:xfrm>
            <a:off x="3276720" y="3573360"/>
            <a:ext cx="2590560" cy="1943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0" name="Picture 10" descr="C:\Users\Юля\Desktop\108___04\IMG_1224.JPG"/>
          <p:cNvPicPr/>
          <p:nvPr/>
        </p:nvPicPr>
        <p:blipFill>
          <a:blip r:embed="rId3"/>
          <a:stretch/>
        </p:blipFill>
        <p:spPr>
          <a:xfrm>
            <a:off x="6227640" y="3645000"/>
            <a:ext cx="239868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1" name="Picture 11" descr="C:\Users\Юля\Desktop\108___04\IMG_1227.JPG"/>
          <p:cNvPicPr/>
          <p:nvPr/>
        </p:nvPicPr>
        <p:blipFill>
          <a:blip r:embed="rId4"/>
          <a:stretch/>
        </p:blipFill>
        <p:spPr>
          <a:xfrm>
            <a:off x="6659640" y="907920"/>
            <a:ext cx="1890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Picture 9" descr="Книги &quot; Страница 2301"/>
          <p:cNvPicPr/>
          <p:nvPr/>
        </p:nvPicPr>
        <p:blipFill>
          <a:blip r:embed="rId5"/>
          <a:stretch/>
        </p:blipFill>
        <p:spPr>
          <a:xfrm>
            <a:off x="3635280" y="907920"/>
            <a:ext cx="179244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Picture 11" descr="Картотека дыхательной гимнастики в доу - Только новые учебники"/>
          <p:cNvPicPr/>
          <p:nvPr/>
        </p:nvPicPr>
        <p:blipFill>
          <a:blip r:embed="rId6"/>
          <a:stretch/>
        </p:blipFill>
        <p:spPr>
          <a:xfrm>
            <a:off x="324000" y="3645000"/>
            <a:ext cx="26874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гры и упражнения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 развитию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онематических проце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39640" y="1628640"/>
            <a:ext cx="8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82200" y="1649520"/>
            <a:ext cx="541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Различные игры на дифференциацию звук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«Научитесь слышать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Фонетическое лото «Звонкий-глухой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«Дифференциация Ш-Ж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Логопедическая ромаш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«Прочитай по первым звукам»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C:\Users\Юля\Desktop\108___04\IMG_1233.JPG"/>
          <p:cNvPicPr/>
          <p:nvPr/>
        </p:nvPicPr>
        <p:blipFill>
          <a:blip r:embed="rId1"/>
          <a:stretch/>
        </p:blipFill>
        <p:spPr>
          <a:xfrm>
            <a:off x="6012000" y="1557360"/>
            <a:ext cx="240012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8" name="Picture 8" descr="C:\Users\Юля\Desktop\108___04\IMG_1234.JPG"/>
          <p:cNvPicPr/>
          <p:nvPr/>
        </p:nvPicPr>
        <p:blipFill>
          <a:blip r:embed="rId2"/>
          <a:stretch/>
        </p:blipFill>
        <p:spPr>
          <a:xfrm>
            <a:off x="1187280" y="3645000"/>
            <a:ext cx="189072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9" name="Picture 9" descr="C:\Users\Юля\Desktop\108___04\IMG_1236.JPG"/>
          <p:cNvPicPr/>
          <p:nvPr/>
        </p:nvPicPr>
        <p:blipFill>
          <a:blip r:embed="rId3"/>
          <a:stretch/>
        </p:blipFill>
        <p:spPr>
          <a:xfrm>
            <a:off x="4572000" y="3716280"/>
            <a:ext cx="3216240" cy="241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ктивизация словаря, обобщающих понятий, лексико-грамматических категор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879480" y="17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50920" y="1916280"/>
            <a:ext cx="591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«Подбери слово», «Определения», «Четвертый лишний»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«Лото», «Чей хвост, чья голова», «Противоположности»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«Кем быть?», «Назови ласково» и др., дидактический материа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(альбомы) по совершенствованию лексико-грамматически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категор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C:\Users\Юля\Desktop\108___04\IMG_1241.JPG"/>
          <p:cNvPicPr/>
          <p:nvPr/>
        </p:nvPicPr>
        <p:blipFill>
          <a:blip r:embed="rId1"/>
          <a:stretch/>
        </p:blipFill>
        <p:spPr>
          <a:xfrm>
            <a:off x="324000" y="5013360"/>
            <a:ext cx="2160360" cy="162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4" name="Picture 9" descr="C:\Users\Юля\Desktop\108___04\IMG_1243.JPG"/>
          <p:cNvPicPr/>
          <p:nvPr/>
        </p:nvPicPr>
        <p:blipFill>
          <a:blip r:embed="rId2"/>
          <a:stretch/>
        </p:blipFill>
        <p:spPr>
          <a:xfrm>
            <a:off x="6516720" y="1773360"/>
            <a:ext cx="1944720" cy="2590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5" name="Picture 10" descr="C:\Users\Юля\Desktop\108___04\IMG_1248.JPG"/>
          <p:cNvPicPr/>
          <p:nvPr/>
        </p:nvPicPr>
        <p:blipFill>
          <a:blip r:embed="rId3"/>
          <a:stretch/>
        </p:blipFill>
        <p:spPr>
          <a:xfrm>
            <a:off x="3635280" y="4005360"/>
            <a:ext cx="1919520" cy="255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6" name="Picture 11" descr="C:\Users\Юля\Desktop\108___04\IMG_1247.JPG"/>
          <p:cNvPicPr/>
          <p:nvPr/>
        </p:nvPicPr>
        <p:blipFill>
          <a:blip r:embed="rId4"/>
          <a:stretch/>
        </p:blipFill>
        <p:spPr>
          <a:xfrm>
            <a:off x="6227640" y="4724280"/>
            <a:ext cx="239868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7" name="Picture 10" descr="Первые шаги 8 Чей хвост. Лунтик Россия - Интернет магазин детских игрушек Совенок, Екатеринбург"/>
          <p:cNvPicPr/>
          <p:nvPr/>
        </p:nvPicPr>
        <p:blipFill>
          <a:blip r:embed="rId5"/>
          <a:stretch/>
        </p:blipFill>
        <p:spPr>
          <a:xfrm>
            <a:off x="468360" y="3141720"/>
            <a:ext cx="2500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9" descr="Развиваем связную речь у детей 4-5 лет с ОНР. Альбом 3. Мир человека"/>
          <p:cNvPicPr/>
          <p:nvPr/>
        </p:nvPicPr>
        <p:blipFill>
          <a:blip r:embed="rId1"/>
          <a:stretch/>
        </p:blipFill>
        <p:spPr>
          <a:xfrm>
            <a:off x="7524720" y="260280"/>
            <a:ext cx="143352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азвитие связной реч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059280" y="1284120"/>
            <a:ext cx="2665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сюжетные картин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схемы для составления     описательных рассказов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«Когда это бывает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«Играем в професси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«Истории в картинках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Дидактическое пособие «Рассказы по картинкам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разные виды театра и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др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10" descr="C:\Users\Юля\Desktop\108___04\IMG_1250.JPG"/>
          <p:cNvPicPr/>
          <p:nvPr/>
        </p:nvPicPr>
        <p:blipFill>
          <a:blip r:embed="rId2"/>
          <a:stretch/>
        </p:blipFill>
        <p:spPr>
          <a:xfrm>
            <a:off x="6516720" y="3716280"/>
            <a:ext cx="2158920" cy="28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2" name="Picture 11" descr="C:\Users\Юля\Desktop\108___04\IMG_1249.JPG"/>
          <p:cNvPicPr/>
          <p:nvPr/>
        </p:nvPicPr>
        <p:blipFill>
          <a:blip r:embed="rId3"/>
          <a:stretch/>
        </p:blipFill>
        <p:spPr>
          <a:xfrm>
            <a:off x="468360" y="3789360"/>
            <a:ext cx="215892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3" name="Picture 13" descr="Дидактические, настольные игры, наглядный материал. - Страница 31 - Videoforum - форум о видео и не только!"/>
          <p:cNvPicPr/>
          <p:nvPr/>
        </p:nvPicPr>
        <p:blipFill>
          <a:blip r:embed="rId4"/>
          <a:stretch/>
        </p:blipFill>
        <p:spPr>
          <a:xfrm>
            <a:off x="3635280" y="3645000"/>
            <a:ext cx="20415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4" name="Picture 15" descr="&quot;Колобок&quot; - Мамонтенок"/>
          <p:cNvPicPr/>
          <p:nvPr/>
        </p:nvPicPr>
        <p:blipFill>
          <a:blip r:embed="rId5"/>
          <a:stretch/>
        </p:blipFill>
        <p:spPr>
          <a:xfrm>
            <a:off x="250920" y="981000"/>
            <a:ext cx="240192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Picture 17" descr="Книга &quot;Развиваем связную речь у детей 6-7 лет с ОНР. Альбом 2. Мир животных&quot; Н. Е. Арбекова - купить книгу ISBN 978-5-91928-427-"/>
          <p:cNvPicPr/>
          <p:nvPr/>
        </p:nvPicPr>
        <p:blipFill>
          <a:blip r:embed="rId6"/>
          <a:stretch/>
        </p:blipFill>
        <p:spPr>
          <a:xfrm>
            <a:off x="6659640" y="1125360"/>
            <a:ext cx="14223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6" name="Picture 21" descr="Арбекова Н.Е.,Развиваем связную речь у детей 4-5 лет с ОНР. Альбом 1. Мир растений"/>
          <p:cNvPicPr/>
          <p:nvPr/>
        </p:nvPicPr>
        <p:blipFill>
          <a:blip r:embed="rId7"/>
          <a:stretch/>
        </p:blipFill>
        <p:spPr>
          <a:xfrm>
            <a:off x="5651640" y="1557360"/>
            <a:ext cx="143820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гры и пособия по развитию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онкой моторики пальцев ру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C:\Users\Юля\Desktop\108___04\IMG_1214.JPG"/>
          <p:cNvPicPr/>
          <p:nvPr/>
        </p:nvPicPr>
        <p:blipFill>
          <a:blip r:embed="rId1"/>
          <a:stretch/>
        </p:blipFill>
        <p:spPr>
          <a:xfrm>
            <a:off x="3276720" y="2708280"/>
            <a:ext cx="2687400" cy="2016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9" name="Picture 8" descr="C:\Users\Юля\Desktop\108___04\IMG_1213.JPG"/>
          <p:cNvPicPr/>
          <p:nvPr/>
        </p:nvPicPr>
        <p:blipFill>
          <a:blip r:embed="rId2"/>
          <a:stretch/>
        </p:blipFill>
        <p:spPr>
          <a:xfrm>
            <a:off x="6300720" y="1268280"/>
            <a:ext cx="2590920" cy="194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0" name="Picture 9" descr="C:\Users\Юля\Desktop\108___04\IMG_1212.JPG"/>
          <p:cNvPicPr/>
          <p:nvPr/>
        </p:nvPicPr>
        <p:blipFill>
          <a:blip r:embed="rId3"/>
          <a:stretch/>
        </p:blipFill>
        <p:spPr>
          <a:xfrm>
            <a:off x="250920" y="4292640"/>
            <a:ext cx="2639880" cy="19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1" name="Picture 10" descr="C:\Users\Юля\Desktop\108___04\IMG_1210.JPG"/>
          <p:cNvPicPr/>
          <p:nvPr/>
        </p:nvPicPr>
        <p:blipFill>
          <a:blip r:embed="rId4"/>
          <a:stretch/>
        </p:blipFill>
        <p:spPr>
          <a:xfrm>
            <a:off x="250920" y="1197000"/>
            <a:ext cx="2592360" cy="194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2" name="Picture 11" descr="C:\Users\Юля\Desktop\108___04\IMG_1209.JPG"/>
          <p:cNvPicPr/>
          <p:nvPr/>
        </p:nvPicPr>
        <p:blipFill>
          <a:blip r:embed="rId5"/>
          <a:stretch/>
        </p:blipFill>
        <p:spPr>
          <a:xfrm>
            <a:off x="6372360" y="4292640"/>
            <a:ext cx="2592360" cy="194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3" name="Picture 12" descr="C:\Users\Юля\Desktop\108___04\IMG_1208.JPG"/>
          <p:cNvPicPr/>
          <p:nvPr/>
        </p:nvPicPr>
        <p:blipFill>
          <a:blip r:embed="rId6"/>
          <a:stretch/>
        </p:blipFill>
        <p:spPr>
          <a:xfrm>
            <a:off x="3276720" y="4842000"/>
            <a:ext cx="2687400" cy="2016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4" name="Picture 9" descr="C:\Users\Юля\Desktop\108___04\IMG_1237.JPG"/>
          <p:cNvPicPr/>
          <p:nvPr/>
        </p:nvPicPr>
        <p:blipFill>
          <a:blip r:embed="rId7"/>
          <a:stretch/>
        </p:blipFill>
        <p:spPr>
          <a:xfrm>
            <a:off x="3851280" y="981000"/>
            <a:ext cx="16192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05:15:30Z</dcterms:created>
  <dc:creator>ПОЛЕХИНА С.М.</dc:creator>
  <dc:description/>
  <dc:language>en-US</dc:language>
  <cp:lastModifiedBy>Юля</cp:lastModifiedBy>
  <dcterms:modified xsi:type="dcterms:W3CDTF">2014-12-10T09:19:57Z</dcterms:modified>
  <cp:revision>40</cp:revision>
  <dc:subject/>
  <dc:title>Слайд 1</dc:title>
</cp:coreProperties>
</file>