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EE43-DD1E-452D-B1C7-51BF08D7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C117-F0A1-4D15-BB3F-DC29E765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E338-4C43-46DC-8D72-F47FFA0D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F6E7-1D59-40D1-A9DF-7D3E333F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1A55-B894-4FA3-A3CD-0C9181B3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596D-D94A-4DD6-930A-C85EB23A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4B2F-1E22-4925-8824-7304FA12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6889-232E-4A76-8ACB-BFC93992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C2CF-3E2A-4597-B1F4-FADBF055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F926-6E46-4717-934B-72A2734B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93BA-2024-4829-AB49-7E7BC6E5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73E-BBFC-45AF-941D-7B9A7529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C1E2-75B6-4971-859C-160938BE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5E9F-8DDC-43A2-9C91-94566BF2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AC83-FA71-4487-AF92-6F486E30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922C-C214-4508-8D8E-B80C54E2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ACDD-C5A8-4622-81BB-1A094C5F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6B0-1DCB-4C09-B294-64348663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524B-083B-47F6-A409-777A2C89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9C3-B986-46F9-828E-C91D3EE4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AD8-C25B-426E-8505-7C9D0569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D63A-D131-4FB8-923C-150E6187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33D6-041E-4194-9A5C-410794C8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0E6C-5C3F-4D11-B771-173F21D2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24FB-05FA-4336-9072-159B608A00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114C-9C6B-40DE-B2EE-CCC71BE051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969840" y="1255680"/>
            <a:ext cx="7290000" cy="2212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899640" y="4436640"/>
            <a:ext cx="47149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уринцева Т.Л, </a:t>
            </a:r>
            <a:endParaRPr b="0" lang="en-US" sz="16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читель  начальных классов </a:t>
            </a:r>
            <a:endParaRPr b="0" lang="en-US" sz="16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ОУ СОШ № 9  г. Надыма </a:t>
            </a:r>
            <a:endParaRPr b="0" lang="en-US" sz="1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16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2840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33"/>
                </a:solidFill>
                <a:uFillTx/>
                <a:latin typeface="Arial"/>
              </a:rPr>
              <a:t>http://ppt4web.ru/pedagogika/sovremennye-podkhody-k-ocenke-uchebnykh-dostizhenijj-mladshikh-shkolnikov-v-uslovijakh-bezotmetochnogo-obuchenija.html</a:t>
            </a:r>
            <a:r>
              <a:rPr b="0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33"/>
                </a:solidFill>
                <a:uFillTx/>
                <a:latin typeface="Arial"/>
              </a:rPr>
              <a:t>http://nsportal.ru/nachalnaya-shkola/raznoe/2013/03/27/sistema-otsenivaniya-uchebnykh-dostizheniy-mladshikh-shkolnikov</a:t>
            </a:r>
            <a:r>
              <a:rPr b="0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33"/>
                </a:solidFill>
                <a:uFillTx/>
                <a:latin typeface="Arial"/>
              </a:rPr>
              <a:t>http://www.myshared.ru/slide/588426/</a:t>
            </a:r>
            <a:r>
              <a:rPr b="0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33"/>
                </a:solidFill>
                <a:uFillTx/>
                <a:latin typeface="Arial"/>
              </a:rPr>
              <a:t>http://nsportal.ru/nachalnaya-shkola/raznoe/2014/01/17/materialy-dlya-otsenki-universalnykh-uchebnykh-deystviy-v-1</a:t>
            </a:r>
            <a:r>
              <a:rPr b="0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33"/>
                </a:solidFill>
                <a:uFillTx/>
                <a:latin typeface="Arial"/>
              </a:rPr>
              <a:t>http://life-school.ucoz.ru/index/fgos_v_pomosh_uchitelju/0-158</a:t>
            </a:r>
            <a:r>
              <a:rPr b="0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07" name="Рисунок 4" descr=""/>
          <p:cNvPicPr/>
          <p:nvPr/>
        </p:nvPicPr>
        <p:blipFill>
          <a:blip r:embed="rId2"/>
          <a:stretch/>
        </p:blipFill>
        <p:spPr>
          <a:xfrm>
            <a:off x="428760" y="2500200"/>
            <a:ext cx="1006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69800" y="244440"/>
            <a:ext cx="8229600" cy="1376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Волшебные линеечки», цветовая радуга; 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умение соотносить свою оценку с оценкой учителя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договариваться о выборе образца для сопоставления работ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обнаруживать совпадение и различие своих действий с   образцом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Лесенка»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Волшебная линеечка»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Светофор»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словесное оценивание «Умница!», «Молодец!», «Отлично!», «Хорошо» и т.д.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«Листы учебных достижений»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Овал 3"/>
          <p:cNvSpPr/>
          <p:nvPr/>
        </p:nvSpPr>
        <p:spPr>
          <a:xfrm>
            <a:off x="2268360" y="260280"/>
            <a:ext cx="4535640" cy="2160720"/>
          </a:xfrm>
          <a:prstGeom prst="ellipse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ы формирования само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971640" y="2852640"/>
            <a:ext cx="2736720" cy="151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ЬМ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5472000" y="2852640"/>
            <a:ext cx="2845080" cy="151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ЕРБ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3306600" y="4759200"/>
            <a:ext cx="2880000" cy="144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ПЛЕКС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8"/>
          <p:cNvCxnSpPr/>
          <p:nvPr/>
        </p:nvCxnSpPr>
        <p:spPr>
          <a:xfrm flipH="1">
            <a:off x="2123280" y="2060640"/>
            <a:ext cx="648360" cy="792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5" name="Прямая со стрелкой 10"/>
          <p:cNvCxnSpPr>
            <a:stCxn id="90" idx="4"/>
          </p:cNvCxnSpPr>
          <p:nvPr/>
        </p:nvCxnSpPr>
        <p:spPr>
          <a:xfrm>
            <a:off x="4535280" y="2420640"/>
            <a:ext cx="1080" cy="23389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6" name="Прямая со стрелкой 12"/>
          <p:cNvCxnSpPr>
            <a:stCxn id="90" idx="5"/>
          </p:cNvCxnSpPr>
          <p:nvPr/>
        </p:nvCxnSpPr>
        <p:spPr>
          <a:xfrm>
            <a:off x="6140160" y="2104560"/>
            <a:ext cx="664200" cy="748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29600" cy="1285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ообщение о том, какие важные дела предстоит выполнить на уроке;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и подведении итогов урока задаются следующие вопросы: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ак, по-вашему, проходил сегодняшний урок?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асколько он увлек вас?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акие задания вам понравились, а какие – нет? и т. д.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и оценке работы ребенка особое значение придается: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порству, старанию, труду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стигнутому успеху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личной позиции ученика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отиву, побуждению, стремлению; 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озможностям ребенка достичь большего результата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240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ощрять в ребенке: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мелость ума, умение сомневаться, способность идти на разумный риск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готовность защищать свою точку зрения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ворческий подход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ытливость, любознательность; 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амоконтроль, способность оценить свою работу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тремление находить и исправлять свои ошибки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стартовые (входной контроль) и итоговые проверочные работы;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текущие проверочные работы;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тестовые диагностические работы;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устный опрос;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проверка сформированности навыков чтения;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портфолио” ученика.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анкетирование родителей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проведение игрового занятия с использованием заданий;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проведение урока с использованием групповых форм работы, наблюдение и анализ коммуникативных УУД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6:58:57Z</dcterms:created>
  <dc:creator>Comp</dc:creator>
  <dc:description/>
  <dc:language>en-US</dc:language>
  <cp:lastModifiedBy>ТАНЯ</cp:lastModifiedBy>
  <dcterms:modified xsi:type="dcterms:W3CDTF">2014-11-06T19:05:46Z</dcterms:modified>
  <cp:revision>17</cp:revision>
  <dc:subject/>
  <dc:title>Слайд 1</dc:title>
</cp:coreProperties>
</file>