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0D8-C5F5-40E0-BF59-A2101310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B1D-84F9-47CA-91F0-483AC7B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AE9-4913-4363-BB3D-5B71FAB9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A62-D9E6-4701-BA8F-12B71A21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DC39-4121-4956-B1AB-41E3454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2AA-5706-47CC-87B2-2A411F6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73A-5BF0-4C65-8F45-264E2D5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4DD6-686B-4F18-B1B2-B3BCD7E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664-D178-4959-A6EF-7706AAC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242-7C9A-4852-9AC9-3761F73B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1F82-F7BE-4E9B-A42C-4D0DC1F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7F4-2280-4547-9285-9DC98FF5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C52-A22D-4737-99C2-A26AA86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73DB-3D74-4CD9-84E5-3C931E5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F1A3-4F1E-4E2A-8CB4-64F8C01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3131-4EAA-4E47-9F33-D81C43B5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D39-20DA-430B-82E6-F9AFA6F4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79D-B6AD-4A18-B71C-827C49A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B73-06E7-4B5B-ABD1-F5F94DF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89A-70DF-4A8B-9515-6E181882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6BC-2918-4083-9D95-FDD71A8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B63-78D7-49EE-A475-60CD458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DCA-AF2C-4E0F-AF37-4C7441C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C69-F93A-42F3-8385-DCA4F34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057-6CAD-427E-B39C-8D3340E5F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7C3-998E-4FC1-995A-096E4A356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969840" y="1255680"/>
            <a:ext cx="729000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99640" y="4436640"/>
            <a:ext cx="4714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нцева Т.Л,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читель  начальных классов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ОУ СОШ № 9  г. Надыма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ppt4web.ru/pedagogika/sovremennye-podkhody-k-ocenke-uchebnykh-dostizhenijj-mladshikh-shkolnikov-v-uslovijakh-bezotmetochnogo-obuchenija.html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nsportal.ru/nachalnaya-shkola/raznoe/2013/03/27/sistema-otsenivaniya-uchebnykh-dostizheniy-mladshikh-shkolnikov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www.myshared.ru/slide/588426/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nsportal.ru/nachalnaya-shkola/raznoe/2014/01/17/materialy-dlya-otsenki-universalnykh-uchebnykh-deystviy-v-1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life-school.ucoz.ru/index/fgos_v_pomosh_uchitelju/0-158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69800" y="244440"/>
            <a:ext cx="8229600" cy="13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ые линеечки», цветовая радуга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умение соотносить свою оценку с оценкой учителя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оговариваться о выборе образца для сопоставления работ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бнаруживать совпадение и различие своих действий с   образцом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Лесенка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линеечка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Светофор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ловесное оценивание «Умница!», «Молодец!», «Отлично!», «Хорошо» и т.д.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Листы учебных достижений»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Овал 3"/>
          <p:cNvSpPr/>
          <p:nvPr/>
        </p:nvSpPr>
        <p:spPr>
          <a:xfrm>
            <a:off x="2268360" y="260280"/>
            <a:ext cx="4535640" cy="2160720"/>
          </a:xfrm>
          <a:prstGeom prst="ellipse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формирова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971640" y="2852640"/>
            <a:ext cx="273672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5472000" y="2852640"/>
            <a:ext cx="284508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306600" y="4759200"/>
            <a:ext cx="2880000" cy="14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ЛЕК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8"/>
          <p:cNvCxnSpPr/>
          <p:nvPr/>
        </p:nvCxnSpPr>
        <p:spPr>
          <a:xfrm flipH="1">
            <a:off x="2123280" y="2060640"/>
            <a:ext cx="648360" cy="792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Прямая со стрелкой 10"/>
          <p:cNvCxnSpPr>
            <a:stCxn id="90" idx="4"/>
          </p:cNvCxnSpPr>
          <p:nvPr/>
        </p:nvCxnSpPr>
        <p:spPr>
          <a:xfrm>
            <a:off x="4535280" y="2420640"/>
            <a:ext cx="1080" cy="2338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6" name="Прямая со стрелкой 12"/>
          <p:cNvCxnSpPr>
            <a:stCxn id="90" idx="5"/>
          </p:cNvCxnSpPr>
          <p:nvPr/>
        </p:nvCxnSpPr>
        <p:spPr>
          <a:xfrm>
            <a:off x="6140160" y="2104560"/>
            <a:ext cx="664200" cy="748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285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общение о том, какие важные дела предстоит выполнить на уроке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 подведении итогов урока задаются следующие вопросы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ак, по-вашему, проходил сегодняшний урок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сколько он увлек вас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акие задания вам понравились, а какие – нет? и т. д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 оценке работы ребенка особое значение придается: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порству, старанию, труд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стигнутому успех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ичной позиции ученика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отиву, побуждению, стремлению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зможностям ребенка достичь большего результата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ощрять в ребенке: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мелость ума, умение сомневаться, способность идти на разумный риск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отовность защищать свою точку зрения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ворческий подход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ытливость, любознательность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амоконтроль, способность оценить свою работ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емление находить и исправлять свои ошибки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тартовые (входной контроль) и итоговые проверочны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екущие проверочны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естовые диагностически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стный опрос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роверка сформированности навыков чтения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ртфолио” ученика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анкетирование родителей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оведение игрового занятия с использованием заданий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оведение урока с использованием групповых форм работы, наблюдение и анализ коммуникативных УУД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ТАНЯ</cp:lastModifiedBy>
  <dcterms:modified xsi:type="dcterms:W3CDTF">2014-11-06T19:05:46Z</dcterms:modified>
  <cp:revision>17</cp:revision>
  <dc:subject/>
  <dc:title>Слайд 1</dc:title>
</cp:coreProperties>
</file>