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F9E-7556-4BB0-9CD7-C96C99E4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9240-3DA8-4878-AC66-A9C0C54D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C0D5-826C-40E0-B14E-39B7AAB5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EB6-C348-41B8-930D-7C266A28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D851-4D0A-495A-9D86-14BC2993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13F-BA6D-48EA-AF01-00F41556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FE2A-80DC-4906-83EC-6278EE95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DF9-3B53-4384-94B1-35A14AD0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D0D-A3B4-4C2C-BDAF-542A4EB4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ECA-6FD6-40AB-B04A-BE77C202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579-E0C2-40B5-B1CD-DDA473DA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834-66B3-4026-9041-CC665115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E556-2199-421A-A5FB-0FFB18DB22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907560"/>
            <a:ext cx="7101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ро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7160" y="1915920"/>
            <a:ext cx="75312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Calibri"/>
              </a:rPr>
              <a:t>Математики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Равнобедренный треугольник 1"/>
          <p:cNvSpPr/>
          <p:nvPr/>
        </p:nvSpPr>
        <p:spPr>
          <a:xfrm>
            <a:off x="2222640" y="342432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6973920" y="3263760"/>
            <a:ext cx="914400" cy="91440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Овал 3"/>
          <p:cNvSpPr/>
          <p:nvPr/>
        </p:nvSpPr>
        <p:spPr>
          <a:xfrm>
            <a:off x="3924360" y="4076640"/>
            <a:ext cx="914400" cy="914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Шестиугольник 4"/>
          <p:cNvSpPr/>
          <p:nvPr/>
        </p:nvSpPr>
        <p:spPr>
          <a:xfrm>
            <a:off x="1187280" y="4856040"/>
            <a:ext cx="1060560" cy="9144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Блок-схема: данные 7"/>
          <p:cNvSpPr/>
          <p:nvPr/>
        </p:nvSpPr>
        <p:spPr>
          <a:xfrm>
            <a:off x="5867280" y="4830840"/>
            <a:ext cx="914400" cy="612720"/>
          </a:xfrm>
          <a:prstGeom prst="flowChartInputOutpu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ы к задани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 №5 – 3 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 № 6 – от 91 рубля до 104 руб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пример – 3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ой пример –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тий пример - 163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флекс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всё понял, мне было интересно, я справился с задан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всё понял, но не все задания могу выполнить с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не ещё было тру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5280" y="1052280"/>
            <a:ext cx="7931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читься можно только весел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ереваривать эти знани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поглощать эти знания с аппетитом»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атоль Франц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РЕЧЬ СВОЁ ЗДОРОВЬ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виз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084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 ЗДОРОВОМ ТЕЛЕ –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ДОРОВЫЙ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…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1\Desktop\УЧИТЕЛЬ ЗДОРОВЬЯ\DSCN1737.JPG"/>
          <p:cNvPicPr/>
          <p:nvPr/>
        </p:nvPicPr>
        <p:blipFill>
          <a:blip r:embed="rId1"/>
          <a:stretch/>
        </p:blipFill>
        <p:spPr>
          <a:xfrm>
            <a:off x="2050920" y="2708280"/>
            <a:ext cx="496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блюдай реж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3456000" cy="4032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684000" y="1600200"/>
            <a:ext cx="4103640" cy="3844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  <a:ea typeface="Calibri"/>
              </a:rPr>
              <a:t>Режим дня основан на правильном чередовании различных видов деятельности и отдыха в течение суто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ышать свежим воздух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192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рение опас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img_18012357_15_0"/>
          <p:cNvPicPr/>
          <p:nvPr/>
        </p:nvPicPr>
        <p:blipFill>
          <a:blip r:embed="rId1"/>
          <a:stretch/>
        </p:blipFill>
        <p:spPr>
          <a:xfrm>
            <a:off x="826920" y="1341360"/>
            <a:ext cx="7705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ом занима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840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мят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вить точку и обозначить е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сти луч от этой т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помощью циркуля измерить длину данного отрез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нести эту длину с помощью циркуля на луч, отмет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вить точку и обозначить е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1</cp:lastModifiedBy>
  <dcterms:modified xsi:type="dcterms:W3CDTF">2014-05-06T07:55:30Z</dcterms:modified>
  <cp:revision>42</cp:revision>
  <dc:subject/>
  <dc:title>Презентация PowerPoint</dc:title>
</cp:coreProperties>
</file>