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7D2F-74A1-4245-AB59-3C5BD08DEC4E}" type="slidenum">
              <a:rPr b="0" lang="ru-RU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7124-88B6-4259-B178-217FC4E03CBC}" type="slidenum">
              <a:rPr b="0" lang="ru-RU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59BE-A3E6-4C63-B262-E0C9849D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C304-245A-4FC5-8A3F-5EF2BF4C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571C-C478-45D8-8FB8-4EDC452C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35C9-CA2F-4AF5-A49C-FC45A32C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CDD2-1990-4DD7-A220-3EF351DC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E16C-E9DC-44B5-8FBE-202F3DCF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1FA7-F00B-4D41-B798-0FDD8EFE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1385-7CEB-41F2-97BD-B4D7C6AE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1F20-A742-4AD7-BEFF-C47D3B36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1864-7240-4A08-8A95-FB126A13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4E0B-8754-4CE0-A8C0-C8303478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A8A6-81BB-4BA3-B020-DBEAE13D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1B76-2511-4CB4-97AA-0284E5C5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366F-5DF8-42F0-BDF3-9AFCFFE6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A01D-7634-441F-BA4D-364E831B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6DE7-6F5F-467B-B547-6727C330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6392-A5DF-4155-944C-DF56545F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B86-5393-44C7-992C-26425118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11E4-F2BB-4C03-A035-A6E98083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0F7A-2D26-40D5-9A9A-CC6369BE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3719-DBCE-4754-B88F-DCEA6C99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EE8A-E4E3-456E-89DA-633A429F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D74D-8FA9-4DA2-97C7-C3A7110A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2AC7-B131-42D5-B7BB-22436496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EAF2-9585-41E9-8BF9-D3C38B8D44FE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3A38-9211-46C5-811A-D668848D2C2C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«Жизнь без детей или движение Чайлдфри»</a:t>
            </a:r>
            <a:br>
              <a:rPr sz="7200"/>
            </a:b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644640"/>
            <a:ext cx="6400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entury Gothic"/>
              </a:rPr>
              <a:t> 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а: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лгушева Эльмира, ученица 10 класса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роекта: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явская Ю.В.,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обществознания и истории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25992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6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соц. опроса было опрошено 39 человек.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% молодежи любят детей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 всего лишь 21%  респондентов отнеслись к этому вопросу нейтрально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этого всего можно сделать вывод, что большинство современной молодежи в России любят детей, а это 100% гарантия рождения детей в будущем в созданных ими семьях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59151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7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соц. опроса было опрошено 39 человек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3" marL="1551960" indent="-221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% респондентов считают, что многодетная семья – это хорошо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3" marL="1551960" indent="-221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% молодежи считают, что многодетная семья – это плохо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3" marL="1551960" indent="-221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% молодежи отнеслись к этому вопросу нейтрально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респондентов приветствуют многодетность, но это не говорит о том, что их семьи будут такими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59533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8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соц. опроса было опрошено 39  человек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51% современной молодежи считают, что смогли бы взять ребенка из детского дома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23% считают, что не смогли бы взять ребенка из детского дома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313000" y="1268280"/>
            <a:ext cx="5689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528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9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соц. опроса было опрошено 39 человек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50% современной молодеж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носятся к людям, которые не хотят иметь детей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28% молодежи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траль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носятся к таким людям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19% респондентов считают отсутствие детей нормой  в современном обществе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59040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92040" y="18900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0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соц. опроса было опрошено 39 человек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 % респондентов не знают о таком движении, как чайлдфри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% респондентов знают о таком движении, как чайлфри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оказывает, что данное движение , зародившееся в США в России еще не получило такого распространение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619280" y="1025640"/>
            <a:ext cx="5643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Заключение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я исследование, я поняла, что для России еще не все потеряно. Что религиозные ценности не позволяют институту семьи исчезнуть окончательно. Почти все мои одноклассники мечтают о семье и детях, которых они будут любить, и помогать им расти. Большинство ребят видят в семье свое будущее  и процветание, залог счастливой жизни и благополучия. В представлении ребят семья - это в первую очередь дети!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чайлдфри — скоропреходящая мода или долговременная тенденция, которая будет развиваться (и до какого предела?) необходимо, конечно, больше исследований более серьезных организаций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Библиографический список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в, В.В. Быт и нравы Древней Руси [Текст]. – М.: Яуза, Эксмо, 2007. – 512 с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йлдфри//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ru.wikipedia.org/wiki/%D7%E0%E9%EB%E4%F4%F0%E8#cite_note-autogenerated1-3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ви, О. «Чайлдфри» — кто это? //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gaverdovskaya.ru/public/interview/story1310.htm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Childlessness: Weber’s Typology of Action and Motives of the Voluntarily Childless* — Park — 2005 — Sociological Inquiry — Wiley Online Library 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onlinelibrary.wiley.com/doi/10.1111/j.1475-682X.2005.00127.x/abstract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for Childfree Thesis // 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cfsurvey.freeservers.com/thesisfiles.htm/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михина М.О. Формирование осознанного родительства на основе субъективно-психологических факторов: автореф. … канд. психол. наук. – Казань, 2004. – 22 с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сева С.Н. Система  ценностных ориентаций современных  российских женщин. // Гуманитарные научные  исследования. – № 6 Июнь 2013. URL: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human.snauka.ru/2013/06/3412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olit.ru/article/2010/10/15/childfree/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Исупова. Добровольно бездетные или "свободные от детей"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Введение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сем недавно, блуждая в дебрях интернета, я наткнулась на совершенно мне незнакомое слово – «чайлдфри». Современный русский язык пестрит иностранными словами, и это было как раз одно из таких.  Я узнала значение этого слова и ту информацию, которую оно несет. Оказалась, это движение пропагандирует жизнь без детей. Где же здравый смысл, где же логика? Не придем ли  мы к жизни на земле без людей?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тало одной из причин выбора мной темы для исследования. Моя тема: «ЖИЗНЬ БЕЗ ДЕТЕЙ ИЛИ ДВИЖЕНИЕ ЧАЙЛДФРИ». Второй причиной выбора этой темы стала моя семья!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 я живу в большой и дружной семье, где соблюдаются традиции, помогают друг другу, уважают, переживают за членов семьи. У меня много братьев и сестер которых я люблю, и наша большая семья рада рождению каждого ребенка у наших близких и родных! Это большое счастье – знать, что ты не одинок, что тебя любят и поддерживают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Цель и задачи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шего исследования было выяснить отношения старшеклассников к жизни без детей.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я из этого, мы определили следующие задачи исследования: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пирическим путем выяснить как влияет данное мировоззрение на развитие личности молодежи. 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онятия о семье формируются или сложились у подростков 15-17лет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ить возможные причины появления данной социальной группы в современной России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результаты опроса и выводы разместить в диаграммах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ировать материал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выводы по теме исследования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компьютерную презентацию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5897"/>
                </a:solidFill>
                <a:latin typeface="Palatino Linotype"/>
              </a:rPr>
              <a:t>Гипотеза 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Чайлдфри- хорошо это или плохо? Положительно ли скажется это движение на развитие общества в целом или приведет к полному исчезновению человечества?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емы работы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тение и анализ научной литературы, анкетирование, анализ анкет. Результаты исследования будут изложены в форме доклада для участия в конференции «Мир, Земля, Вселенная» в г. Санкт-Петербург, школа №438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ащиеся 9-11 классов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103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Результаты исследования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5280" y="1125000"/>
            <a:ext cx="830088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соц. опроса было опрошено 39 человек.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оказал, что основной возраст респондентов 43% это 16 лет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2525760" y="1700280"/>
            <a:ext cx="5832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6836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соц. опроса было опрошено 39 человек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оказывает, что современная семья – это семья не многодетная.     Количество детей 1-2 ребенка соответственно 56% и 19%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57736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24000" y="189000"/>
            <a:ext cx="80611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3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соц. опроса было опрошено 39 человек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диаграммы можно  сделать следующие выводы: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Большинство молодых людей желают иметь детей, но не больше , чем было в их семье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46% респондентов считают идеальной семьей- семью с двумя детьми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олько 8% говорят о семье большой и многодетной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временной молодежи семья- это маленький мир, где мало детей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2916360" y="1003320"/>
            <a:ext cx="56689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6836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4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соц. опроса было опрошено 39 человек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37% респондентов хотят создать семью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23% респондентов считают, что семья основана на уважении и любви родных людей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21% молодежи считают, что семья- смысл жизни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14% молодежи не хотят создавать семью вообще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дает возможность предположить, что будущая Россия не останется без детей, так как основная масса молодых людей считают семью- основой жизни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2411280" y="1020600"/>
            <a:ext cx="55692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23640" y="188640"/>
            <a:ext cx="83739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5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соц. опроса было опрошено 39 человек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438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438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438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438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438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29% респондентов считают, что самое главное в семейной жизни – это любовь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438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16% респондентов считают, что самое главное в семейной жизни – это доверие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438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14% респондентов считают, что самое главное в семейной жизни – это взаимопонимание.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ой России, судя по опросу еще очень сильны христианские ценности, которые сказываются и на мировоззрении респондентов. Семья- это любовь и взаимопонимание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916360" y="981000"/>
            <a:ext cx="5499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8T16:49:28Z</dcterms:created>
  <dc:creator>Эльмира</dc:creator>
  <dc:description/>
  <dc:language>en-US</dc:language>
  <cp:lastModifiedBy>Admin</cp:lastModifiedBy>
  <dcterms:modified xsi:type="dcterms:W3CDTF">2015-01-29T14:00:39Z</dcterms:modified>
  <cp:revision>15</cp:revision>
  <dc:subject/>
  <dc:title>«Жизнь без детей или движение Чайлдфри» </dc:title>
</cp:coreProperties>
</file>