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AA4-2A17-485E-B458-20C03225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0FA-A6FD-498F-88E0-49A66F1B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40A-CB90-46C7-89FD-19AE7FA9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D34-AB90-42AE-A0DF-7128F340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87E8-67D6-4713-8779-18578C6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3664-102F-46BB-BC66-9155493F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E43D-B388-49D9-84C7-7534A02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4949-42BC-4371-AFCA-4C99560E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9BC6-3ACC-4A18-AB05-26690F40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5A4B-69E3-47EF-B12D-0C470499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1229-8359-40EB-9592-BA9CCB5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F65-44DF-486F-87A4-E95820A5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5A81-2397-4D6B-9391-A248F2CC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5488-7C1D-4BB0-9749-3E4C8CBC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E186-8900-4F66-89CD-C40DCF82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57C2-9363-402D-AAE8-D6AEAA97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3F06-1583-45AF-B5E4-2BFB53F8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932-70E8-4711-905C-7661FDB4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ACC-F4A5-4FF4-A639-9ACFC23B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273-292D-48E9-8896-29392271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088-7B5E-4109-8071-C88E347F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1E8-8D03-45BC-A4C6-0B2F8AD7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2E0-C2A2-4495-83AE-CC61DF02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5D9-EC14-496B-894D-CBD2A33A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BD9-807C-4A5A-9A81-D6F408B8BBE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4EFE-1F02-41F6-840B-9FF6A6AD9C5D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E:\блокада ФОТО\010.jpg"/>
          <p:cNvPicPr/>
          <p:nvPr/>
        </p:nvPicPr>
        <p:blipFill>
          <a:blip r:embed="rId1"/>
          <a:stretch/>
        </p:blipFill>
        <p:spPr>
          <a:xfrm>
            <a:off x="237960" y="2182680"/>
            <a:ext cx="8656920" cy="4656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back900_"/>
          <p:cNvPicPr/>
          <p:nvPr/>
        </p:nvPicPr>
        <p:blipFill>
          <a:blip r:embed="rId2">
            <a:grayscl/>
          </a:blip>
          <a:stretch/>
        </p:blipFill>
        <p:spPr>
          <a:xfrm>
            <a:off x="5181480" y="4114800"/>
            <a:ext cx="3962520" cy="21956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4"/>
          <p:cNvSpPr txBox="1"/>
          <p:nvPr/>
        </p:nvSpPr>
        <p:spPr>
          <a:xfrm>
            <a:off x="304920" y="304920"/>
            <a:ext cx="6553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75000"/>
                  </a:blip>
                  <a:srcRect/>
                  <a:tile tx="0" ty="0" sx="100000" sy="100000" algn="ctr"/>
                </a:blipFill>
                <a:latin typeface="Arial"/>
              </a:rPr>
              <a:t>70-летию 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75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>
                    <a:alphaModFix amt="75000"/>
                  </a:blip>
                  <a:srcRect/>
                  <a:tile tx="0" ty="0" sx="100000" sy="100000" algn="ctr"/>
                </a:blipFill>
                <a:latin typeface="Arial"/>
              </a:rPr>
              <a:t>ВЕЛИКОЙ ПОБЕДЫ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>
                  <a:alphaModFix amt="75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>
                    <a:alphaModFix amt="75000"/>
                  </a:blip>
                  <a:srcRect/>
                  <a:tile tx="0" ty="0" sx="100000" sy="100000" algn="ctr"/>
                </a:blipFill>
                <a:latin typeface="Arial"/>
              </a:rPr>
              <a:t>ПОСВЯЩАЕТС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>
                  <a:alphaModFix amt="75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009-leningrad-sm"/>
          <p:cNvPicPr/>
          <p:nvPr/>
        </p:nvPicPr>
        <p:blipFill>
          <a:blip r:embed="rId1"/>
          <a:stretch/>
        </p:blipFill>
        <p:spPr>
          <a:xfrm>
            <a:off x="1371600" y="228600"/>
            <a:ext cx="7391520" cy="52308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1066680" y="563868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71201"/>
                </a:solidFill>
                <a:latin typeface="Arial Black"/>
              </a:rPr>
              <a:t>22 июня   1941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1178549004_blokada777"/>
          <p:cNvPicPr/>
          <p:nvPr/>
        </p:nvPicPr>
        <p:blipFill>
          <a:blip r:embed="rId1"/>
          <a:srcRect l="2396" t="0" r="0" b="7277"/>
          <a:stretch/>
        </p:blipFill>
        <p:spPr>
          <a:xfrm>
            <a:off x="5638680" y="152280"/>
            <a:ext cx="3110040" cy="3886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1178548968_07"/>
          <p:cNvPicPr/>
          <p:nvPr/>
        </p:nvPicPr>
        <p:blipFill>
          <a:blip r:embed="rId2"/>
          <a:srcRect l="0" t="0" r="0" b="7062"/>
          <a:stretch/>
        </p:blipFill>
        <p:spPr>
          <a:xfrm>
            <a:off x="152280" y="152280"/>
            <a:ext cx="4626000" cy="60199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4"/>
          <p:cNvSpPr/>
          <p:nvPr/>
        </p:nvSpPr>
        <p:spPr>
          <a:xfrm>
            <a:off x="7490160" y="41148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1201"/>
                </a:solidFill>
                <a:latin typeface="Arial Black"/>
              </a:rPr>
              <a:t>1941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987560" y="5334120"/>
            <a:ext cx="657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0e01"/>
                </a:solidFill>
                <a:latin typeface="Arial Black"/>
              </a:rPr>
              <a:t>Самая  низкая  норма  за все время осады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0e01"/>
                </a:solidFill>
                <a:latin typeface="Arial Black"/>
              </a:rPr>
              <a:t>по рабочей карточке  -  250 грамм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0e01"/>
                </a:solidFill>
                <a:latin typeface="Arial Black"/>
              </a:rPr>
              <a:t>всем остальным  -  125 грамм   хлеб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358560" y="228600"/>
            <a:ext cx="2026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50e01"/>
                </a:solidFill>
                <a:uFillTx/>
                <a:latin typeface="Arial Black"/>
              </a:rPr>
              <a:t>20 ноября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img11.nnm.me/b/7/e/3/c/9789ffbc0605c34bbcdc8da65c3.jpg"/>
          <p:cNvPicPr/>
          <p:nvPr/>
        </p:nvPicPr>
        <p:blipFill>
          <a:blip r:embed="rId1"/>
          <a:stretch/>
        </p:blipFill>
        <p:spPr>
          <a:xfrm>
            <a:off x="5867280" y="457200"/>
            <a:ext cx="3095640" cy="5878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http://i012.radikal.ru/1012/4f/3a1e95300d71t.jpg"/>
          <p:cNvPicPr/>
          <p:nvPr/>
        </p:nvPicPr>
        <p:blipFill>
          <a:blip r:embed="rId2"/>
          <a:stretch/>
        </p:blipFill>
        <p:spPr>
          <a:xfrm>
            <a:off x="152280" y="4343400"/>
            <a:ext cx="3310200" cy="2378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http://old.novayagazeta.ru/ai/article.1517055/pics.1.jpg"/>
          <p:cNvPicPr/>
          <p:nvPr/>
        </p:nvPicPr>
        <p:blipFill>
          <a:blip r:embed="rId3"/>
          <a:stretch/>
        </p:blipFill>
        <p:spPr>
          <a:xfrm>
            <a:off x="3048120" y="1447920"/>
            <a:ext cx="2666880" cy="3644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copypast.ru/foto5/7800/blokada/blokada_007.jpg"/>
          <p:cNvPicPr/>
          <p:nvPr/>
        </p:nvPicPr>
        <p:blipFill>
          <a:blip r:embed="rId4"/>
          <a:stretch/>
        </p:blipFill>
        <p:spPr>
          <a:xfrm>
            <a:off x="152280" y="152280"/>
            <a:ext cx="324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blokadainfo.ru/uploads/images/dioram12.JPG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304920" y="380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1201"/>
                </a:solidFill>
                <a:latin typeface="Arial Black"/>
              </a:rPr>
              <a:t>27 января  1944  года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1201"/>
                </a:solidFill>
                <a:latin typeface="Arial Black"/>
              </a:rPr>
              <a:t>СОЕДИНИЛИСЬ ВОЙСКА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1201"/>
                </a:solidFill>
                <a:latin typeface="Arial Black"/>
              </a:rPr>
              <a:t>ВОЛХОВСКОГО И ЛЕНИНГРАДСКОГО ФРОНТ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370600" y="5410080"/>
            <a:ext cx="40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ЛНОЕ  СНЯТИЕ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БЛОКАДЫ   ЛЕНИНГРАДА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Прямоугольник 7"/>
          <p:cNvSpPr/>
          <p:nvPr/>
        </p:nvSpPr>
        <p:spPr>
          <a:xfrm>
            <a:off x="1523880" y="61722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алют  24-мя залпами из 324-х оруди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fonOvi4</dc:creator>
  <dc:description/>
  <dc:language>en-US</dc:language>
  <cp:lastModifiedBy>Наталья Юшина</cp:lastModifiedBy>
  <dcterms:modified xsi:type="dcterms:W3CDTF">2015-01-30T06:43:2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