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DC5F-419C-44F1-BF76-2C289959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5950-3FD4-4586-84EA-CA6984F2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B98B-65DF-49BC-9E47-54EA2182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A751-4295-45B7-82E9-92E0E4D4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2435-FC98-4EDE-90FE-E67F8D7D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CE72-704C-4108-A5B9-5DA14504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7A59-B56A-4658-A6F8-150C9F11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8E00-4CA6-458A-B7A6-378E0346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F2D1-9D13-4368-8CE5-B3094E31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EC04-9B93-448C-818C-79461373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6F14-AB0B-44C4-973C-9A344D76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DC58-4BF0-407E-9DC8-DEA248D2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8F38-C36C-481B-B62C-97761C9B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2521-FA46-41EA-AD50-9E2BCD22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678D-DF44-413C-AB8D-7DB648A5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D657-5ADA-410B-B37B-826E1E1D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8542-0F22-4948-B376-DCA1F7AB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656D-1234-470F-AACD-9661F3FE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3F28-FFED-458D-805E-F51E26C4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15E-7DD7-42BC-BE3E-6A2B8BDC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EF45-D4EC-4F29-8EB8-3E6DAF0F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A31-B604-44A2-A598-9417E63B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577-C5F9-4C50-BBAE-C1097DB2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C61C-2443-4BD0-A9C9-09C8197E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A7CD-1D40-485C-9150-21BDA4696041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9676-558F-49DE-892F-008A8B11BA88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E:\блокада ФОТО\010.jpg"/>
          <p:cNvPicPr/>
          <p:nvPr/>
        </p:nvPicPr>
        <p:blipFill>
          <a:blip r:embed="rId1"/>
          <a:stretch/>
        </p:blipFill>
        <p:spPr>
          <a:xfrm>
            <a:off x="237960" y="2182680"/>
            <a:ext cx="8656920" cy="46562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back900_"/>
          <p:cNvPicPr/>
          <p:nvPr/>
        </p:nvPicPr>
        <p:blipFill>
          <a:blip r:embed="rId2">
            <a:grayscl/>
          </a:blip>
          <a:stretch/>
        </p:blipFill>
        <p:spPr>
          <a:xfrm>
            <a:off x="5181480" y="4114800"/>
            <a:ext cx="3962520" cy="2195640"/>
          </a:xfrm>
          <a:prstGeom prst="rect">
            <a:avLst/>
          </a:prstGeom>
          <a:ln w="0">
            <a:noFill/>
          </a:ln>
        </p:spPr>
      </p:pic>
      <p:sp>
        <p:nvSpPr>
          <p:cNvPr id="352" name="WordArt 4"/>
          <p:cNvSpPr txBox="1"/>
          <p:nvPr/>
        </p:nvSpPr>
        <p:spPr>
          <a:xfrm>
            <a:off x="304920" y="304920"/>
            <a:ext cx="6553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>
                    <a:alphaModFix amt="75000"/>
                  </a:blip>
                  <a:srcRect/>
                  <a:tile tx="0" ty="0" sx="100000" sy="100000" algn="ctr"/>
                </a:blipFill>
                <a:latin typeface="Arial"/>
              </a:rPr>
              <a:t>70-летию  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>
                  <a:alphaModFix amt="75000"/>
                </a:blip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>
                    <a:alphaModFix amt="75000"/>
                  </a:blip>
                  <a:srcRect/>
                  <a:tile tx="0" ty="0" sx="100000" sy="100000" algn="ctr"/>
                </a:blipFill>
                <a:latin typeface="Arial"/>
              </a:rPr>
              <a:t>ВЕЛИКОЙ ПОБЕДЫ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>
                  <a:alphaModFix amt="75000"/>
                </a:blip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>
                    <a:alphaModFix amt="75000"/>
                  </a:blip>
                  <a:srcRect/>
                  <a:tile tx="0" ty="0" sx="100000" sy="100000" algn="ctr"/>
                </a:blipFill>
                <a:latin typeface="Arial"/>
              </a:rPr>
              <a:t>ПОСВЯЩАЕТСЯ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>
                  <a:alphaModFix amt="75000"/>
                </a:blip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009-leningrad-sm"/>
          <p:cNvPicPr/>
          <p:nvPr/>
        </p:nvPicPr>
        <p:blipFill>
          <a:blip r:embed="rId1"/>
          <a:stretch/>
        </p:blipFill>
        <p:spPr>
          <a:xfrm>
            <a:off x="1371600" y="228600"/>
            <a:ext cx="7391520" cy="523080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1066680" y="5638680"/>
            <a:ext cx="701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71201"/>
                </a:solidFill>
                <a:latin typeface="Arial Black"/>
              </a:rPr>
              <a:t>22 июня   1941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5" descr="1178549004_blokada777"/>
          <p:cNvPicPr/>
          <p:nvPr/>
        </p:nvPicPr>
        <p:blipFill>
          <a:blip r:embed="rId1"/>
          <a:srcRect l="2396" t="0" r="0" b="7277"/>
          <a:stretch/>
        </p:blipFill>
        <p:spPr>
          <a:xfrm>
            <a:off x="5638680" y="152280"/>
            <a:ext cx="3110040" cy="3886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1178548968_07"/>
          <p:cNvPicPr/>
          <p:nvPr/>
        </p:nvPicPr>
        <p:blipFill>
          <a:blip r:embed="rId2"/>
          <a:srcRect l="0" t="0" r="0" b="7062"/>
          <a:stretch/>
        </p:blipFill>
        <p:spPr>
          <a:xfrm>
            <a:off x="152280" y="152280"/>
            <a:ext cx="4626000" cy="601992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4"/>
          <p:cNvSpPr/>
          <p:nvPr/>
        </p:nvSpPr>
        <p:spPr>
          <a:xfrm>
            <a:off x="7490160" y="411480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1201"/>
                </a:solidFill>
                <a:latin typeface="Arial Black"/>
              </a:rPr>
              <a:t>1941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1987560" y="5334120"/>
            <a:ext cx="657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50e01"/>
                </a:solidFill>
                <a:latin typeface="Arial Black"/>
              </a:rPr>
              <a:t>Самая  низкая  норма  за все время осады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50e01"/>
                </a:solidFill>
                <a:latin typeface="Arial Black"/>
              </a:rPr>
              <a:t>по рабочей карточке  -  250 грамм,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50e01"/>
                </a:solidFill>
                <a:latin typeface="Arial Black"/>
              </a:rPr>
              <a:t>всем остальным  -  125 грамм   хлеб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358560" y="228600"/>
            <a:ext cx="2026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50e01"/>
                </a:solidFill>
                <a:uFillTx/>
                <a:latin typeface="Arial Black"/>
              </a:rPr>
              <a:t>20 ноября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ttp://img11.nnm.me/b/7/e/3/c/9789ffbc0605c34bbcdc8da65c3.jpg"/>
          <p:cNvPicPr/>
          <p:nvPr/>
        </p:nvPicPr>
        <p:blipFill>
          <a:blip r:embed="rId1"/>
          <a:stretch/>
        </p:blipFill>
        <p:spPr>
          <a:xfrm>
            <a:off x="5867280" y="457200"/>
            <a:ext cx="3095640" cy="58784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http://i012.radikal.ru/1012/4f/3a1e95300d71t.jpg"/>
          <p:cNvPicPr/>
          <p:nvPr/>
        </p:nvPicPr>
        <p:blipFill>
          <a:blip r:embed="rId2"/>
          <a:stretch/>
        </p:blipFill>
        <p:spPr>
          <a:xfrm>
            <a:off x="152280" y="4343400"/>
            <a:ext cx="3310200" cy="23781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http://old.novayagazeta.ru/ai/article.1517055/pics.1.jpg"/>
          <p:cNvPicPr/>
          <p:nvPr/>
        </p:nvPicPr>
        <p:blipFill>
          <a:blip r:embed="rId3"/>
          <a:stretch/>
        </p:blipFill>
        <p:spPr>
          <a:xfrm>
            <a:off x="3048120" y="1447920"/>
            <a:ext cx="2666880" cy="36446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http://copypast.ru/foto5/7800/blokada/blokada_007.jpg"/>
          <p:cNvPicPr/>
          <p:nvPr/>
        </p:nvPicPr>
        <p:blipFill>
          <a:blip r:embed="rId4"/>
          <a:stretch/>
        </p:blipFill>
        <p:spPr>
          <a:xfrm>
            <a:off x="152280" y="152280"/>
            <a:ext cx="324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http://blokadainfo.ru/uploads/images/dioram12.JPG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62940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4"/>
          <p:cNvSpPr/>
          <p:nvPr/>
        </p:nvSpPr>
        <p:spPr>
          <a:xfrm>
            <a:off x="304920" y="3808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71201"/>
                </a:solidFill>
                <a:latin typeface="Arial Black"/>
              </a:rPr>
              <a:t>27 января  1944  года 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71201"/>
                </a:solidFill>
                <a:latin typeface="Arial Black"/>
              </a:rPr>
              <a:t>СОЕДИНИЛИСЬ ВОЙСКА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71201"/>
                </a:solidFill>
                <a:latin typeface="Arial Black"/>
              </a:rPr>
              <a:t>ВОЛХОВСКОГО И ЛЕНИНГРАДСКОГО ФРОНТОВ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2370600" y="5410080"/>
            <a:ext cx="40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ОЛНОЕ  СНЯТИЕ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БЛОКАДЫ   ЛЕНИНГРАДА!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Прямоугольник 7"/>
          <p:cNvSpPr/>
          <p:nvPr/>
        </p:nvSpPr>
        <p:spPr>
          <a:xfrm>
            <a:off x="1523880" y="617220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алют  24-мя залпами из 324-х орудий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fonOvi4</dc:creator>
  <dc:description/>
  <dc:language>en-US</dc:language>
  <cp:lastModifiedBy>Наталья Юшина</cp:lastModifiedBy>
  <dcterms:modified xsi:type="dcterms:W3CDTF">2015-01-30T06:43:28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