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932-455A-4362-9C8E-B6B0EE04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21B-8A9F-400B-A38B-04A5931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3C9-3C6D-478F-AA22-32E019E7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60C-674B-4D53-92F5-F6C272C5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3DD-EEB0-4929-9EBC-3A741D38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4CC-358C-4DFD-B47F-538DFBAD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2AD-CE30-49CC-A3D5-CAAF82F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1E8-589E-4373-9B0B-A42720D1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31D-B49F-43BA-B251-F8E782AF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F31-2C1D-4907-B8B9-B5D1D7C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C12-7CB3-4DA3-9E3D-3AF7D113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5E8-1390-460D-91EE-6EF4DB1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1A9-DE99-4A1F-9283-378B01ACC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4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*СЕРТИФИКАТ  УЧАСТНИКА 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ВСЕРОССИЙСКОГО  КОНКУРСА МЕТОДИЧЕСКИХ  РАЗРАБОТОК  «РАБОТАЕМ ПО ФГОС»,2014 Г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*ПОЧЕТНАЯ ГРАМОТА </a:t>
            </a:r>
            <a:br>
              <a:rPr sz="2800"/>
            </a:b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ЗА ПОДГОТОВКУ ПРИЗЕРОВ </a:t>
            </a:r>
            <a:br>
              <a:rPr sz="2800"/>
            </a:b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ШКОЛЬНОЙ ОЛИМПИАДЫ, 2010 Г.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189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Личные достижения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работаем по фгос.png"/>
          <p:cNvPicPr/>
          <p:nvPr/>
        </p:nvPicPr>
        <p:blipFill>
          <a:blip r:embed="rId2"/>
          <a:stretch/>
        </p:blipFill>
        <p:spPr>
          <a:xfrm>
            <a:off x="523800" y="2687760"/>
            <a:ext cx="2408400" cy="24876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DSCN8388.JPG"/>
          <p:cNvPicPr/>
          <p:nvPr/>
        </p:nvPicPr>
        <p:blipFill>
          <a:blip r:embed="rId3"/>
          <a:stretch/>
        </p:blipFill>
        <p:spPr>
          <a:xfrm>
            <a:off x="3833640" y="4059360"/>
            <a:ext cx="198144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*ДИСТАНЦИОННО-ОБРАЗОВАТЕЛЬНЫЙ ПОРТАЛ «ТАТАРТЕЛЕ.ИНФО»,2014 Г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*ДИСТАНЦИОННЫЙ ОБРАЗОВАТЕЛЬНЫЙ ПОРТАЛ «ОЛИМПИАДА ОНЛАЙН» ПО РУССКОМУ ЯЗЫКУ, 2014 Г.</a:t>
            </a:r>
            <a:br>
              <a:rPr sz="2800"/>
            </a:br>
            <a:r>
              <a:rPr b="1" i="1" lang="ru-RU" sz="2800" spc="-1" strike="noStrike">
                <a:solidFill>
                  <a:srgbClr val="984807"/>
                </a:solidFill>
                <a:latin typeface="Calibri"/>
              </a:rPr>
              <a:t>* ДИСТАНЦИОННЫЙ ОБРАЗОВАТЕЛЬНЫЙ ПОРТАЛ «ОЛИМПИАДА ОНЛАЙН» ПО МАТЕМАТИКЕ, 2014 Г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Благодарственные письм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5" descr="татар.png"/>
          <p:cNvPicPr/>
          <p:nvPr/>
        </p:nvPicPr>
        <p:blipFill>
          <a:blip r:embed="rId2"/>
          <a:stretch/>
        </p:blipFill>
        <p:spPr>
          <a:xfrm>
            <a:off x="3548160" y="3840120"/>
            <a:ext cx="2011320" cy="2421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матем.png"/>
          <p:cNvPicPr/>
          <p:nvPr/>
        </p:nvPicPr>
        <p:blipFill>
          <a:blip r:embed="rId3"/>
          <a:stretch/>
        </p:blipFill>
        <p:spPr>
          <a:xfrm>
            <a:off x="6284880" y="3840120"/>
            <a:ext cx="2621160" cy="2712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ус яз.png"/>
          <p:cNvPicPr/>
          <p:nvPr/>
        </p:nvPicPr>
        <p:blipFill>
          <a:blip r:embed="rId4"/>
          <a:stretch/>
        </p:blipFill>
        <p:spPr>
          <a:xfrm>
            <a:off x="353880" y="3846600"/>
            <a:ext cx="24559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 Black"/>
              </a:rPr>
              <a:t>Достижения моих ученик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1264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*диплом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III </a:t>
            </a: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 степени в открытой  российской математической  интернет-олимпиаде,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 Black"/>
              </a:rPr>
              <a:t>*</a:t>
            </a:r>
            <a:r>
              <a:rPr b="1" i="1" lang="ru-RU" sz="2000" spc="-1" strike="noStrike">
                <a:solidFill>
                  <a:srgbClr val="92d050"/>
                </a:solidFill>
                <a:latin typeface="Arial Black"/>
              </a:rPr>
              <a:t>диплом победителя Всероссийской олимпиады по русскому языку, 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d050"/>
                </a:solidFill>
                <a:latin typeface="Arial Black"/>
              </a:rPr>
              <a:t>*</a:t>
            </a:r>
            <a:r>
              <a:rPr b="1" i="1" lang="ru-RU" sz="2000" spc="-1" strike="noStrike">
                <a:solidFill>
                  <a:srgbClr val="fcd5b5"/>
                </a:solidFill>
                <a:latin typeface="Arial Black"/>
              </a:rPr>
              <a:t>диплом победителя Всероссийской олимпиады по математике, 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d050"/>
                </a:solidFill>
                <a:latin typeface="Arial Black"/>
              </a:rPr>
              <a:t>*</a:t>
            </a: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диплом победителя международной олимпиады по татарскому языку, 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мета школа НАСТЯ.png"/>
          <p:cNvPicPr/>
          <p:nvPr/>
        </p:nvPicPr>
        <p:blipFill>
          <a:blip r:embed="rId2"/>
          <a:stretch/>
        </p:blipFill>
        <p:spPr>
          <a:xfrm>
            <a:off x="42840" y="4346640"/>
            <a:ext cx="1974960" cy="2530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виолетта.png"/>
          <p:cNvPicPr/>
          <p:nvPr/>
        </p:nvPicPr>
        <p:blipFill>
          <a:blip r:embed="rId3"/>
          <a:stretch/>
        </p:blipFill>
        <p:spPr>
          <a:xfrm>
            <a:off x="1957320" y="4218120"/>
            <a:ext cx="2206800" cy="265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настя.png"/>
          <p:cNvPicPr/>
          <p:nvPr/>
        </p:nvPicPr>
        <p:blipFill>
          <a:blip r:embed="rId4"/>
          <a:stretch/>
        </p:blipFill>
        <p:spPr>
          <a:xfrm>
            <a:off x="4121280" y="4157640"/>
            <a:ext cx="2382840" cy="2719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райнур.png"/>
          <p:cNvPicPr/>
          <p:nvPr/>
        </p:nvPicPr>
        <p:blipFill>
          <a:blip r:embed="rId5"/>
          <a:stretch/>
        </p:blipFill>
        <p:spPr>
          <a:xfrm>
            <a:off x="6553080" y="4071960"/>
            <a:ext cx="2365560" cy="28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</a:rPr>
              <a:t>Мастер - кла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* Занятия «Математического кружка» с помощью программного обеспечения </a:t>
            </a:r>
            <a:r>
              <a:rPr b="1" i="1" lang="en-US" sz="2000" spc="-1" strike="noStrike">
                <a:solidFill>
                  <a:srgbClr val="660033"/>
                </a:solidFill>
                <a:latin typeface="Calibri"/>
              </a:rPr>
              <a:t>SMART Notebook</a:t>
            </a: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 (районный),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* Формирование учебных навыков по русскому языку и математике с помощью программного обеспечения </a:t>
            </a:r>
            <a:r>
              <a:rPr b="1" i="1" lang="en-US" sz="2000" spc="-1" strike="noStrike">
                <a:solidFill>
                  <a:srgbClr val="002060"/>
                </a:solidFill>
                <a:latin typeface="Calibri"/>
              </a:rPr>
              <a:t>SMART Notebook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(районный),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DSCN0596.JPG"/>
          <p:cNvPicPr/>
          <p:nvPr/>
        </p:nvPicPr>
        <p:blipFill>
          <a:blip r:embed="rId2"/>
          <a:stretch/>
        </p:blipFill>
        <p:spPr>
          <a:xfrm>
            <a:off x="1504800" y="3316320"/>
            <a:ext cx="382932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 Black"/>
              </a:rPr>
              <a:t>Методические публ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гласная буква П, п. (урок обучения грамоте, открытый класс/openclass.r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*Презентация на тему «Музыка Латинской Америки» (урок по искусству,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pedsovet.or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педсовет.png"/>
          <p:cNvPicPr/>
          <p:nvPr/>
        </p:nvPicPr>
        <p:blipFill>
          <a:blip r:embed="rId2"/>
          <a:stretch/>
        </p:blipFill>
        <p:spPr>
          <a:xfrm>
            <a:off x="165240" y="3486240"/>
            <a:ext cx="3973320" cy="32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3:03:45Z</dcterms:created>
  <dc:creator>Василя</dc:creator>
  <dc:description/>
  <dc:language>en-US</dc:language>
  <cp:lastModifiedBy>Василя</cp:lastModifiedBy>
  <dcterms:modified xsi:type="dcterms:W3CDTF">2015-01-30T13:09:28Z</dcterms:modified>
  <cp:revision>2</cp:revision>
  <dc:subject/>
  <dc:title>*сертификат  участника   всероссийского  конкурса методических  разработок  «работаем по фгос»,2014 г.  *почетная грамота  за подготовку призеров  школьной олимпиады, 2010 г.         </dc:title>
</cp:coreProperties>
</file>