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2.gif" ContentType="image/gif"/>
  <Override PartName="/ppt/media/image5.png" ContentType="image/png"/>
  <Override PartName="/ppt/media/image29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media/image30.jpeg" ContentType="image/jpeg"/>
  <Override PartName="/ppt/media/image15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28.wmf" ContentType="image/x-wmf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C58-841D-464B-9771-4F8A27D8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309-6FC6-4A20-8723-D1F7FE09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C7A-8516-4DD5-96BD-85D3E68B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F32-6D77-440C-B234-E4A1D600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08B-F69F-477D-95F3-F7201336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4F4-EB1C-4298-844E-9AD9BC2C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22E-F27E-4416-A27F-AA9CD3F9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7CE-4617-41D4-BD3C-05E7945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6C3-959B-47A0-8590-62AC43DA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ADD-B4D2-4ABF-9384-32D141A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A9F-7F17-4A0A-A567-37B8E28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B31-AD66-4418-9555-11EA8BDF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6591-3187-4116-ABEE-BF521122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11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66cc"/>
                </a:solidFill>
                <a:latin typeface="Arial"/>
              </a:rPr>
              <a:t>I have got a pet. It is a cat. His name is Ryzhick. He is smart. He is</a:t>
            </a:r>
            <a:r>
              <a:rPr b="0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66cc"/>
                </a:solidFill>
                <a:latin typeface="Arial"/>
              </a:rPr>
              <a:t>n</a:t>
            </a:r>
            <a:r>
              <a:rPr b="0" i="1" lang="ru-RU" sz="4000" spc="-1" strike="noStrike">
                <a:solidFill>
                  <a:srgbClr val="ff66cc"/>
                </a:solidFill>
                <a:latin typeface="Arial"/>
              </a:rPr>
              <a:t>о</a:t>
            </a:r>
            <a:r>
              <a:rPr b="0" i="1" lang="en-US" sz="4000" spc="-1" strike="noStrike">
                <a:solidFill>
                  <a:srgbClr val="ff66cc"/>
                </a:solidFill>
                <a:latin typeface="Arial"/>
              </a:rPr>
              <a:t>t fat. I like it very muc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cean/S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2492280"/>
          <a:ext cx="3076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3076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6920" y="4437000"/>
            <a:ext cx="468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8520" y="4437000"/>
            <a:ext cx="161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43280" y="1341360"/>
          <a:ext cx="352764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341360"/>
                    <a:ext cx="35276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i="1" lang="ru-RU" sz="5400" spc="-1" strike="noStrike">
                <a:solidFill>
                  <a:srgbClr val="ff00ff"/>
                </a:solidFill>
                <a:latin typeface="Arial"/>
              </a:rPr>
              <a:t>Ве</a:t>
            </a:r>
            <a:r>
              <a:rPr b="1" i="1" lang="ru-RU" sz="5400" spc="-1" strike="noStrike">
                <a:solidFill>
                  <a:srgbClr val="009999"/>
                </a:solidFill>
                <a:latin typeface="Arial"/>
              </a:rPr>
              <a:t>сел</a:t>
            </a:r>
            <a:r>
              <a:rPr b="1" i="1" lang="ru-RU" sz="5400" spc="-1" strike="noStrike">
                <a:solidFill>
                  <a:srgbClr val="ff5050"/>
                </a:solidFill>
                <a:latin typeface="Arial"/>
              </a:rPr>
              <a:t>ая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6666ff"/>
                </a:solidFill>
                <a:latin typeface="Arial"/>
              </a:rPr>
              <a:t>физ</a:t>
            </a:r>
            <a:r>
              <a:rPr b="1" i="1" lang="ru-RU" sz="5400" spc="-1" strike="noStrike">
                <a:solidFill>
                  <a:srgbClr val="ff9900"/>
                </a:solidFill>
                <a:latin typeface="Arial"/>
              </a:rPr>
              <a:t>культ</a:t>
            </a: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ми</a:t>
            </a: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нут</a:t>
            </a:r>
            <a:r>
              <a:rPr b="1" i="1" lang="ru-RU" sz="5400" spc="-1" strike="noStrike">
                <a:solidFill>
                  <a:srgbClr val="33cc33"/>
                </a:solidFill>
                <a:latin typeface="Arial"/>
              </a:rPr>
              <a:t>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рядка для глаз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еселая зарядка.</a:t>
            </a:r>
            <a:br>
              <a:rPr sz="3200"/>
            </a:br>
            <a:br>
              <a:rPr sz="32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 and 2 and 3 and 4,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I am sitting on the flo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I am sitting on the floor,</a:t>
            </a:r>
            <a:br>
              <a:rPr sz="4000"/>
            </a:b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1 and 2 and 3 and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857640"/>
            <a:ext cx="822960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i="1" lang="en-US" sz="8000" spc="-1" strike="noStrike">
                <a:solidFill>
                  <a:srgbClr val="ff0066"/>
                </a:solidFill>
                <a:latin typeface="Arial"/>
              </a:rPr>
              <a:t>Exercise 32, </a:t>
            </a:r>
            <a:br>
              <a:rPr sz="8000"/>
            </a:br>
            <a:r>
              <a:rPr b="1" i="1" lang="en-US" sz="8000" spc="-1" strike="noStrike">
                <a:solidFill>
                  <a:srgbClr val="ff0066"/>
                </a:solidFill>
                <a:latin typeface="Arial"/>
              </a:rPr>
              <a:t>on page 44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-10008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7200" spc="-1" strike="noStrike">
                <a:solidFill>
                  <a:srgbClr val="ff0066"/>
                </a:solidFill>
                <a:latin typeface="Times New Roman"/>
              </a:rPr>
              <a:t>LOOK AND SAY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d6009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on a fa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on a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zo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z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fo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for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s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68360" y="3357720"/>
          <a:ext cx="316692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31669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067280" y="5805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[‘maunti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23240" y="2481120"/>
            <a:ext cx="30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ean [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21000"/>
            <a:ext cx="42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berg [ais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g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73408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rt [`dezə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19640" y="260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324000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5148360" y="3357720"/>
          <a:ext cx="3097080" cy="23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357720"/>
                    <a:ext cx="309708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4508640"/>
          <a:ext cx="309708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508640"/>
                    <a:ext cx="30970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8360" y="1773360"/>
            <a:ext cx="3240000" cy="21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5364000" y="4365720"/>
          <a:ext cx="3097440" cy="23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365720"/>
                    <a:ext cx="309744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66760" y="261288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33336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gle [i:gl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628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le [weil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852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el [`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æmə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960" y="4221000"/>
            <a:ext cx="50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guins [`pengwinz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3440" y="550548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f [wulf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067280" y="-22320"/>
          <a:ext cx="17287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-22320"/>
                    <a:ext cx="17287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724360" y="760320"/>
            <a:ext cx="2087640" cy="160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6443640" y="2349360"/>
          <a:ext cx="187344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2349360"/>
                    <a:ext cx="187344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156360" y="3917880"/>
          <a:ext cx="1800360" cy="12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3917880"/>
                    <a:ext cx="180036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804000" y="5157720"/>
          <a:ext cx="1830240" cy="170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04000" y="5157720"/>
                    <a:ext cx="18302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on iceber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on iceber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oc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oce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dese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dese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mounta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 in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 It is 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541440" y="6857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95008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4005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65280" y="220500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2560" y="551664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32560" y="371628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3640" y="595008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5240" y="213372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8200" y="378936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435640" y="1449360"/>
            <a:ext cx="1657440" cy="830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1295280" cy="1208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419640" y="2852640"/>
            <a:ext cx="1657080" cy="1028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516720" y="2820960"/>
            <a:ext cx="1942920" cy="1036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68360" y="472932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3635280" y="4508640"/>
            <a:ext cx="952560" cy="158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588000" y="4508640"/>
            <a:ext cx="120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Have you got a pe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s, I hav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, I have n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9600" spc="-1" strike="noStrike">
                <a:solidFill>
                  <a:srgbClr val="cc00cc"/>
                </a:solidFill>
                <a:latin typeface="Arial"/>
              </a:rPr>
              <a:t>T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9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 It is 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595008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4005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65280" y="220500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2560" y="551664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32560" y="371628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3640" y="595008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240" y="213372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8200" y="378936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435640" y="1449360"/>
            <a:ext cx="1657440" cy="830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1295280" cy="1208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3419640" y="2852640"/>
            <a:ext cx="1657080" cy="1028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8360" y="472932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635280" y="4508640"/>
            <a:ext cx="952560" cy="158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6588000" y="4508640"/>
            <a:ext cx="120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What animal is it?</a:t>
            </a:r>
            <a:br>
              <a:rPr sz="4000"/>
            </a:b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Guess!</a:t>
            </a:r>
            <a:br>
              <a:rPr sz="4000"/>
            </a:b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Read and comple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from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got big 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big and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          an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ea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water t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to the             and se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43280" y="4149720"/>
            <a:ext cx="1079280" cy="64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66384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916360" y="5229360"/>
            <a:ext cx="1295280" cy="93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411280" y="3500280"/>
            <a:ext cx="936720" cy="64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4356000" y="4365720"/>
            <a:ext cx="133200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98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98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98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98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98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98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What animal is it?</a:t>
            </a:r>
            <a:br>
              <a:rPr sz="4000"/>
            </a:b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Gues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lep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39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cc33"/>
                </a:solidFill>
                <a:latin typeface="Arial"/>
              </a:rPr>
              <a:t>Sing a so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Clap, clap, clap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Clap your hand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tep, step, step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tep your feet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ing, sing, sing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ing a song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Dance, dance, dance a d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Dance a danc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Lets sing a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fre happy and know it and you really want to sho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55640" y="549360"/>
            <a:ext cx="7921800" cy="518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world around 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18900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981"/>
                <a:gd name="adj2" fmla="val 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"/>
              </a:rPr>
              <a:t>ANIM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595008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933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67080" y="220500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iger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3280" y="5516640"/>
            <a:ext cx="16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sh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34000" y="37162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w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5080" y="5950080"/>
            <a:ext cx="22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ake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6680" y="2133720"/>
            <a:ext cx="21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horse</a:t>
            </a: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10360" y="378936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ird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35640" y="1449360"/>
            <a:ext cx="1657440" cy="83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1295280" cy="120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19640" y="2852640"/>
            <a:ext cx="165708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516720" y="2820960"/>
            <a:ext cx="194292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68360" y="472932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3635280" y="4508640"/>
            <a:ext cx="95256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6588000" y="4508640"/>
            <a:ext cx="120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o remember as many animals as you 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3500280"/>
          <a:ext cx="151128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151128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067280" y="4797360"/>
          <a:ext cx="99540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797360"/>
                    <a:ext cx="9954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059280" y="3500280"/>
          <a:ext cx="1800000" cy="11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3500280"/>
                    <a:ext cx="18000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16360" y="1773360"/>
          <a:ext cx="2232000" cy="11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1773360"/>
                    <a:ext cx="2232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11280" y="5229360"/>
          <a:ext cx="2233440" cy="114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229360"/>
                    <a:ext cx="2233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258920" y="1535040"/>
          <a:ext cx="2305080" cy="175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1535040"/>
                    <a:ext cx="2305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300720" y="4941720"/>
          <a:ext cx="1206720" cy="14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0720" y="4941720"/>
                    <a:ext cx="1206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227640" y="3213000"/>
          <a:ext cx="2195640" cy="11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27640" y="3213000"/>
                    <a:ext cx="21956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35600" y="907920"/>
            <a:ext cx="24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" y="3429000"/>
            <a:ext cx="37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ESTIC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m/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2" idx="2"/>
            <a:endCxn id="83" idx="0"/>
          </p:cNvCxnSpPr>
          <p:nvPr/>
        </p:nvCxnSpPr>
        <p:spPr>
          <a:xfrm flipH="1">
            <a:off x="1890000" y="1609560"/>
            <a:ext cx="2491560" cy="1820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85" name=""/>
          <p:cNvSpPr/>
          <p:nvPr/>
        </p:nvSpPr>
        <p:spPr>
          <a:xfrm>
            <a:off x="5580000" y="350028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oo/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2" idx="2"/>
            <a:endCxn id="85" idx="0"/>
          </p:cNvCxnSpPr>
          <p:nvPr/>
        </p:nvCxnSpPr>
        <p:spPr>
          <a:xfrm>
            <a:off x="4381560" y="1609560"/>
            <a:ext cx="2675520" cy="1891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87" name=""/>
          <p:cNvSpPr/>
          <p:nvPr/>
        </p:nvSpPr>
        <p:spPr>
          <a:xfrm>
            <a:off x="3710520" y="5445000"/>
            <a:ext cx="18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/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2" idx="2"/>
            <a:endCxn id="87" idx="0"/>
          </p:cNvCxnSpPr>
          <p:nvPr/>
        </p:nvCxnSpPr>
        <p:spPr>
          <a:xfrm>
            <a:off x="4381200" y="1609560"/>
            <a:ext cx="230760" cy="383616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lg" type="stealth" w="lg"/>
          </a:ln>
        </p:spPr>
      </p:cxnSp>
      <p:sp>
        <p:nvSpPr>
          <p:cNvPr id="89" name=""/>
          <p:cNvSpPr/>
          <p:nvPr/>
        </p:nvSpPr>
        <p:spPr>
          <a:xfrm>
            <a:off x="39528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ny kinds of animals in our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mestic 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20000" y="3645000"/>
            <a:ext cx="1914480" cy="1457280"/>
          </a:xfrm>
          <a:prstGeom prst="rect">
            <a:avLst/>
          </a:prstGeom>
          <a:ln w="9360">
            <a:solidFill>
              <a:srgbClr val="def6f1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0360" y="5300640"/>
            <a:ext cx="1944720" cy="103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05800" y="184464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9240" y="184464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endCxn id="94" idx="0"/>
          </p:cNvCxnSpPr>
          <p:nvPr/>
        </p:nvCxnSpPr>
        <p:spPr>
          <a:xfrm flipH="1">
            <a:off x="2031120" y="1403280"/>
            <a:ext cx="255204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endCxn id="95" idx="0"/>
          </p:cNvCxnSpPr>
          <p:nvPr/>
        </p:nvCxnSpPr>
        <p:spPr>
          <a:xfrm>
            <a:off x="4583160" y="1403280"/>
            <a:ext cx="228816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</p:cNvCxnSpPr>
          <p:nvPr/>
        </p:nvCxnSpPr>
        <p:spPr>
          <a:xfrm>
            <a:off x="2031840" y="2545920"/>
            <a:ext cx="81216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92" idx="0"/>
          </p:cNvCxnSpPr>
          <p:nvPr/>
        </p:nvCxnSpPr>
        <p:spPr>
          <a:xfrm>
            <a:off x="6870600" y="2546280"/>
            <a:ext cx="1107360" cy="10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6876720" y="2565000"/>
            <a:ext cx="43560" cy="275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56000" y="4653000"/>
            <a:ext cx="720720" cy="1368360"/>
          </a:xfrm>
          <a:prstGeom prst="rect">
            <a:avLst/>
          </a:prstGeom>
          <a:ln w="0">
            <a:noFill/>
          </a:ln>
        </p:spPr>
      </p:pic>
      <p:cxnSp>
        <p:nvCxnSpPr>
          <p:cNvPr id="102" name=""/>
          <p:cNvCxnSpPr>
            <a:stCxn id="95" idx="2"/>
          </p:cNvCxnSpPr>
          <p:nvPr/>
        </p:nvCxnSpPr>
        <p:spPr>
          <a:xfrm flipH="1">
            <a:off x="5579280" y="2546280"/>
            <a:ext cx="12913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2"/>
          </p:cNvCxnSpPr>
          <p:nvPr/>
        </p:nvCxnSpPr>
        <p:spPr>
          <a:xfrm flipH="1">
            <a:off x="1044360" y="2545920"/>
            <a:ext cx="98784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211640" y="3573360"/>
            <a:ext cx="155268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4581360"/>
            <a:ext cx="17287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mestic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11640" y="3573360"/>
          <a:ext cx="155268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3573360"/>
                    <a:ext cx="15526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020000" y="3645000"/>
            <a:ext cx="1914480" cy="1457280"/>
          </a:xfrm>
          <a:prstGeom prst="rect">
            <a:avLst/>
          </a:prstGeom>
          <a:ln w="9360">
            <a:solidFill>
              <a:srgbClr val="def6f1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0360" y="5300640"/>
            <a:ext cx="1944720" cy="1038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5800" y="184464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59240" y="184464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11" idx="0"/>
          </p:cNvCxnSpPr>
          <p:nvPr/>
        </p:nvCxnSpPr>
        <p:spPr>
          <a:xfrm flipH="1">
            <a:off x="2031120" y="1403280"/>
            <a:ext cx="255204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6" idx="2"/>
            <a:endCxn id="112" idx="0"/>
          </p:cNvCxnSpPr>
          <p:nvPr/>
        </p:nvCxnSpPr>
        <p:spPr>
          <a:xfrm>
            <a:off x="4583160" y="1403280"/>
            <a:ext cx="228816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1" idx="2"/>
          </p:cNvCxnSpPr>
          <p:nvPr/>
        </p:nvCxnSpPr>
        <p:spPr>
          <a:xfrm>
            <a:off x="2031840" y="2545920"/>
            <a:ext cx="81216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2" idx="2"/>
            <a:endCxn id="109" idx="0"/>
          </p:cNvCxnSpPr>
          <p:nvPr/>
        </p:nvCxnSpPr>
        <p:spPr>
          <a:xfrm>
            <a:off x="6870600" y="2546280"/>
            <a:ext cx="1107360" cy="10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>
            <a:off x="6876720" y="2565000"/>
            <a:ext cx="43560" cy="275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13800" y="609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2720" y="6093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30520" y="4869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4160" y="5013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623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56000" y="4653000"/>
            <a:ext cx="720720" cy="1368360"/>
          </a:xfrm>
          <a:prstGeom prst="rect">
            <a:avLst/>
          </a:prstGeom>
          <a:ln w="0">
            <a:noFill/>
          </a:ln>
        </p:spPr>
      </p:pic>
      <p:cxnSp>
        <p:nvCxnSpPr>
          <p:cNvPr id="124" name=""/>
          <p:cNvCxnSpPr>
            <a:stCxn id="112" idx="2"/>
          </p:cNvCxnSpPr>
          <p:nvPr/>
        </p:nvCxnSpPr>
        <p:spPr>
          <a:xfrm flipH="1">
            <a:off x="5579280" y="2546280"/>
            <a:ext cx="12913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5" name=""/>
          <p:cNvGraphicFramePr/>
          <p:nvPr/>
        </p:nvGraphicFramePr>
        <p:xfrm>
          <a:off x="179280" y="4581360"/>
          <a:ext cx="1728720" cy="155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4581360"/>
                    <a:ext cx="1728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7" name=""/>
          <p:cNvCxnSpPr>
            <a:stCxn id="111" idx="2"/>
          </p:cNvCxnSpPr>
          <p:nvPr/>
        </p:nvCxnSpPr>
        <p:spPr>
          <a:xfrm flipH="1">
            <a:off x="1044360" y="2545920"/>
            <a:ext cx="98784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ild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580000" y="1557360"/>
          <a:ext cx="211464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557360"/>
                    <a:ext cx="21146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4365720"/>
          <a:ext cx="2114280" cy="16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65720"/>
                    <a:ext cx="2114280" cy="1670040"/>
                  </a:xfrm>
                  <a:prstGeom prst="rect">
                    <a:avLst/>
                  </a:prstGeom>
                  <a:ln w="9360">
                    <a:solidFill>
                      <a:srgbClr val="def6f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550520" y="328464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2160" y="40766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3800" y="6093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6840" y="1268280"/>
          <a:ext cx="1916280" cy="206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1268280"/>
                    <a:ext cx="1916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8:11:46Z</dcterms:created>
  <dc:creator>СЕРЕГИНЫ</dc:creator>
  <dc:description/>
  <dc:language>en-US</dc:language>
  <cp:lastModifiedBy>Гузель</cp:lastModifiedBy>
  <dcterms:modified xsi:type="dcterms:W3CDTF">2009-08-19T17:54:18Z</dcterms:modified>
  <cp:revision>28</cp:revision>
  <dc:subject/>
  <dc:title>Слайд 1</dc:title>
</cp:coreProperties>
</file>