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2.gif" ContentType="image/gif"/>
  <Override PartName="/ppt/media/image5.png" ContentType="image/png"/>
  <Override PartName="/ppt/media/image29.jpeg" ContentType="image/jpeg"/>
  <Override PartName="/ppt/media/image6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gif" ContentType="image/gif"/>
  <Override PartName="/ppt/media/image30.jpeg" ContentType="image/jpeg"/>
  <Override PartName="/ppt/media/image15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28.wmf" ContentType="image/x-wmf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14.png" ContentType="image/png"/>
  <Override PartName="/ppt/media/image21.gif" ContentType="image/gif"/>
  <Override PartName="/ppt/media/image24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0A29-5F0C-48AD-A78B-562B3A556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602-28F5-4E57-95C8-08106DDE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512-230A-4503-AEBC-A60045FA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3E4-E88E-4231-B4FA-A0998C55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EA9-8607-4E30-BF4D-C74D9D8A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96C-D147-4F59-AF16-634B348A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3664-DEF2-4538-9C37-2782EDD4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3908-0F3B-41D4-AB56-47EB3BF6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DB8-4F0F-425D-B958-2E674A51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AF3-09E6-4C2D-85E8-FE2CE56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2174-2D49-40C7-8DFE-520EB23D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D560-5380-487E-B175-90252F07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85CD-2658-4ABB-ADA3-739330980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gi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3.png"/><Relationship Id="rId4" Type="http://schemas.openxmlformats.org/officeDocument/2006/relationships/image" Target="../media/image7.png"/><Relationship Id="rId5" Type="http://schemas.openxmlformats.org/officeDocument/2006/relationships/image" Target="../media/image11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ff66cc"/>
                </a:solidFill>
                <a:latin typeface="Arial"/>
              </a:rPr>
              <a:t>I have got a pet. It is a cat. His name is Ryzhick. He is smart. He is</a:t>
            </a:r>
            <a:r>
              <a:rPr b="0" i="1" lang="ru-RU" sz="40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66cc"/>
                </a:solidFill>
                <a:latin typeface="Arial"/>
              </a:rPr>
              <a:t>n</a:t>
            </a:r>
            <a:r>
              <a:rPr b="0" i="1" lang="ru-RU" sz="4000" spc="-1" strike="noStrike">
                <a:solidFill>
                  <a:srgbClr val="ff66cc"/>
                </a:solidFill>
                <a:latin typeface="Arial"/>
              </a:rPr>
              <a:t>о</a:t>
            </a:r>
            <a:r>
              <a:rPr b="0" i="1" lang="en-US" sz="4000" spc="-1" strike="noStrike">
                <a:solidFill>
                  <a:srgbClr val="ff66cc"/>
                </a:solidFill>
                <a:latin typeface="Arial"/>
              </a:rPr>
              <a:t>t fat. I like it very much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689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Ocean/Se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2492280"/>
          <a:ext cx="3076560" cy="16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492280"/>
                    <a:ext cx="30765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826920" y="4437000"/>
            <a:ext cx="46818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lph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438520" y="4437000"/>
            <a:ext cx="161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43280" y="1341360"/>
          <a:ext cx="3527640" cy="2705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341360"/>
                    <a:ext cx="35276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i="1" lang="ru-RU" sz="5400" spc="-1" strike="noStrike">
                <a:solidFill>
                  <a:srgbClr val="ff00ff"/>
                </a:solidFill>
                <a:latin typeface="Arial"/>
              </a:rPr>
              <a:t>Ве</a:t>
            </a:r>
            <a:r>
              <a:rPr b="1" i="1" lang="ru-RU" sz="5400" spc="-1" strike="noStrike">
                <a:solidFill>
                  <a:srgbClr val="009999"/>
                </a:solidFill>
                <a:latin typeface="Arial"/>
              </a:rPr>
              <a:t>сел</a:t>
            </a:r>
            <a:r>
              <a:rPr b="1" i="1" lang="ru-RU" sz="5400" spc="-1" strike="noStrike">
                <a:solidFill>
                  <a:srgbClr val="ff5050"/>
                </a:solidFill>
                <a:latin typeface="Arial"/>
              </a:rPr>
              <a:t>ая</a:t>
            </a: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5400" spc="-1" strike="noStrike">
                <a:solidFill>
                  <a:srgbClr val="6666ff"/>
                </a:solidFill>
                <a:latin typeface="Arial"/>
              </a:rPr>
              <a:t>физ</a:t>
            </a:r>
            <a:r>
              <a:rPr b="1" i="1" lang="ru-RU" sz="5400" spc="-1" strike="noStrike">
                <a:solidFill>
                  <a:srgbClr val="ff9900"/>
                </a:solidFill>
                <a:latin typeface="Arial"/>
              </a:rPr>
              <a:t>культ</a:t>
            </a: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ми</a:t>
            </a:r>
            <a:r>
              <a:rPr b="1" i="1" lang="ru-RU" sz="5400" spc="-1" strike="noStrike">
                <a:solidFill>
                  <a:srgbClr val="ffff00"/>
                </a:solidFill>
                <a:latin typeface="Arial"/>
              </a:rPr>
              <a:t>нут</a:t>
            </a:r>
            <a:r>
              <a:rPr b="1" i="1" lang="ru-RU" sz="5400" spc="-1" strike="noStrike">
                <a:solidFill>
                  <a:srgbClr val="33cc33"/>
                </a:solidFill>
                <a:latin typeface="Arial"/>
              </a:rPr>
              <a:t>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арядка для глаз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еселая зарядка.</a:t>
            </a:r>
            <a:br>
              <a:rPr sz="3200"/>
            </a:br>
            <a:br>
              <a:rPr sz="3200"/>
            </a:b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1 and 2 and 3 and 4,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I am sitting on the flo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000"/>
            </a:br>
            <a:r>
              <a:rPr b="0" lang="en-US" sz="4000" spc="-1" strike="noStrike">
                <a:solidFill>
                  <a:srgbClr val="ff5050"/>
                </a:solidFill>
                <a:latin typeface="Arial"/>
              </a:rPr>
              <a:t>I am sitting on the floor,</a:t>
            </a:r>
            <a:br>
              <a:rPr sz="4000"/>
            </a:br>
            <a:r>
              <a:rPr b="0" lang="en-US" sz="4000" spc="-1" strike="noStrike">
                <a:solidFill>
                  <a:srgbClr val="6666ff"/>
                </a:solidFill>
                <a:latin typeface="Arial"/>
              </a:rPr>
              <a:t>1 and 2 and 3 and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6857640"/>
            <a:ext cx="8229600" cy="2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1" i="1" lang="en-US" sz="8000" spc="-1" strike="noStrike">
                <a:solidFill>
                  <a:srgbClr val="ff0066"/>
                </a:solidFill>
                <a:latin typeface="Arial"/>
              </a:rPr>
              <a:t>Exercise 32, </a:t>
            </a:r>
            <a:br>
              <a:rPr sz="8000"/>
            </a:br>
            <a:r>
              <a:rPr b="1" i="1" lang="en-US" sz="8000" spc="-1" strike="noStrike">
                <a:solidFill>
                  <a:srgbClr val="ff0066"/>
                </a:solidFill>
                <a:latin typeface="Arial"/>
              </a:rPr>
              <a:t>on page 44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-10008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7200" spc="-1" strike="noStrike">
                <a:solidFill>
                  <a:srgbClr val="ff0066"/>
                </a:solidFill>
                <a:latin typeface="Times New Roman"/>
              </a:rPr>
              <a:t>LOOK AND SAY!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257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d6009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on a far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on a fa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zo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the z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for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the for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s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the s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468360" y="3357720"/>
          <a:ext cx="316692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57720"/>
                    <a:ext cx="316692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4067280" y="58053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untain [‘mauntin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23240" y="2481120"/>
            <a:ext cx="30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cean [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ə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421000"/>
            <a:ext cx="42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ceberg [aisb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g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5734080"/>
            <a:ext cx="38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ert [`dezə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219640" y="260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3240000" cy="216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5148360" y="3357720"/>
          <a:ext cx="3097080" cy="23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3357720"/>
                    <a:ext cx="309708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4508640"/>
          <a:ext cx="3097080" cy="21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508640"/>
                    <a:ext cx="309708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364000" y="170028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68360" y="1773360"/>
            <a:ext cx="3240000" cy="21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5364000" y="4365720"/>
          <a:ext cx="3097440" cy="23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4365720"/>
                    <a:ext cx="3097440" cy="23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66760" y="261288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33336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gle [i:gl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6286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le [weil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852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el [`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æmə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960" y="4221000"/>
            <a:ext cx="503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guins [`pengwinz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3440" y="5505480"/>
            <a:ext cx="25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f [wulf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067280" y="-22320"/>
          <a:ext cx="1728720" cy="15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-22320"/>
                    <a:ext cx="172872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724360" y="760320"/>
            <a:ext cx="2087640" cy="160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6443640" y="2349360"/>
          <a:ext cx="1873440" cy="154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2349360"/>
                    <a:ext cx="187344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6156360" y="3917880"/>
          <a:ext cx="1800360" cy="12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3917880"/>
                    <a:ext cx="180036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6804000" y="5157720"/>
          <a:ext cx="1830240" cy="170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04000" y="5157720"/>
                    <a:ext cx="1830240" cy="17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214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on iceber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on iceber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oce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the ocea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deser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ves in deser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Who lives in the mountai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ves in the mountain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 It is 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-541440" y="6857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595008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4005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65280" y="220500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2560" y="551664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32560" y="371628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73640" y="595008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5240" y="213372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08200" y="378936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16000" y="1214280"/>
            <a:ext cx="1440000" cy="1095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435640" y="1449360"/>
            <a:ext cx="1657440" cy="830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1295280" cy="1208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3419640" y="2852640"/>
            <a:ext cx="1657080" cy="10288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6516720" y="2820960"/>
            <a:ext cx="1942920" cy="1036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468360" y="4729320"/>
            <a:ext cx="1727280" cy="884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7"/>
          <a:stretch/>
        </p:blipFill>
        <p:spPr>
          <a:xfrm>
            <a:off x="3635280" y="4508640"/>
            <a:ext cx="952560" cy="1584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8"/>
          <a:stretch/>
        </p:blipFill>
        <p:spPr>
          <a:xfrm>
            <a:off x="6588000" y="4508640"/>
            <a:ext cx="120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7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Have you got a pe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Yes, I hav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o, I have no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98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98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98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9600" spc="-1" strike="noStrike">
                <a:solidFill>
                  <a:srgbClr val="cc00cc"/>
                </a:solidFill>
                <a:latin typeface="Arial"/>
              </a:rPr>
              <a:t>TE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98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it? It is a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6858000"/>
            <a:ext cx="8229600" cy="1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595008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4005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65280" y="220500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2560" y="551664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32560" y="371628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3640" y="5950080"/>
            <a:ext cx="15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240" y="2133720"/>
            <a:ext cx="129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8200" y="3789360"/>
            <a:ext cx="14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116000" y="1214280"/>
            <a:ext cx="1440000" cy="10954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435640" y="1449360"/>
            <a:ext cx="1657440" cy="830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1295280" cy="1208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3419640" y="2852640"/>
            <a:ext cx="1657080" cy="1028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468360" y="4729320"/>
            <a:ext cx="1727280" cy="8841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3635280" y="4508640"/>
            <a:ext cx="952560" cy="15843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>
            <a:off x="6588000" y="4508640"/>
            <a:ext cx="120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000"/>
                            </p:stCondLst>
                            <p:childTnLst>
                              <p:par>
                                <p:cTn id="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7000"/>
                            </p:stCondLst>
                            <p:childTnLst>
                              <p:par>
                                <p:cTn id="5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What animal is it?</a:t>
            </a:r>
            <a:br>
              <a:rPr sz="4000"/>
            </a:b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Guess!</a:t>
            </a:r>
            <a:br>
              <a:rPr sz="4000"/>
            </a:b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Read and comple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675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from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got big 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a big and st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ike           and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eat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can water t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 to the             and see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…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843280" y="4149720"/>
            <a:ext cx="1079280" cy="647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356000" y="3500280"/>
            <a:ext cx="663840" cy="5763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2916360" y="5229360"/>
            <a:ext cx="1295280" cy="9349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2411280" y="3500280"/>
            <a:ext cx="936720" cy="648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4356000" y="4365720"/>
            <a:ext cx="133200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9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98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898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98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898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898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898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98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What animal is it?</a:t>
            </a:r>
            <a:br>
              <a:rPr sz="4000"/>
            </a:br>
            <a:r>
              <a:rPr b="1" i="1" lang="en-US" sz="4000" spc="-1" strike="noStrike">
                <a:solidFill>
                  <a:srgbClr val="cc0099"/>
                </a:solidFill>
                <a:latin typeface="Arial"/>
              </a:rPr>
              <a:t>Guess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lephan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79640" y="2924280"/>
            <a:ext cx="53989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cc33"/>
                </a:solidFill>
                <a:latin typeface="Arial"/>
              </a:rPr>
              <a:t>Sing a song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Clap, clap, clap your han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Clap your hands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Step, step, step your fee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Step your feet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Sing, sing, sing a so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Sing a song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Dance, dance, dance a dan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99"/>
                </a:solidFill>
                <a:latin typeface="Arial"/>
              </a:rPr>
              <a:t>Dance a dance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Lets sing a so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89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are happy and know it , clap your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are happy and know it , clap your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are happy and know it , clap your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fre happy and know it and you really want to show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If you are happy and know it , clap your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55640" y="549360"/>
            <a:ext cx="7921800" cy="518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The world around 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7056360" cy="489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55640" y="18900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981"/>
                <a:gd name="adj2" fmla="val 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69696"/>
                </a:solidFill>
                <a:latin typeface="Arial"/>
              </a:rPr>
              <a:t>ANIM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69696"/>
              </a:solidFill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5950080"/>
            <a:ext cx="17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393372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m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67080" y="220500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tiger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13280" y="5516640"/>
            <a:ext cx="16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sh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34000" y="37162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w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5080" y="5950080"/>
            <a:ext cx="22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nake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06680" y="2133720"/>
            <a:ext cx="213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horse</a:t>
            </a:r>
            <a:r>
              <a:rPr b="0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10360" y="3789360"/>
            <a:ext cx="17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bird</a:t>
            </a:r>
            <a:r>
              <a:rPr b="1" i="1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16000" y="1214280"/>
            <a:ext cx="1440000" cy="1095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435640" y="1449360"/>
            <a:ext cx="1657440" cy="830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55640" y="2852640"/>
            <a:ext cx="1295280" cy="120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19640" y="2852640"/>
            <a:ext cx="165708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516720" y="2820960"/>
            <a:ext cx="1942920" cy="1036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68360" y="4729320"/>
            <a:ext cx="1727280" cy="884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3635280" y="4508640"/>
            <a:ext cx="952560" cy="1584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6588000" y="4508640"/>
            <a:ext cx="120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o remember as many animals as you c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50920" y="3500280"/>
          <a:ext cx="1511280" cy="14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500280"/>
                    <a:ext cx="151128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067280" y="4797360"/>
          <a:ext cx="995400" cy="16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4797360"/>
                    <a:ext cx="9954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059280" y="3500280"/>
          <a:ext cx="1800000" cy="1117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3500280"/>
                    <a:ext cx="180000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716360" y="1773360"/>
          <a:ext cx="2232000" cy="11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1773360"/>
                    <a:ext cx="2232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11280" y="5229360"/>
          <a:ext cx="2233440" cy="1144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229360"/>
                    <a:ext cx="2233440" cy="11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258920" y="1535040"/>
          <a:ext cx="2305080" cy="1754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58920" y="1535040"/>
                    <a:ext cx="2305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300720" y="4941720"/>
          <a:ext cx="1206720" cy="1440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0720" y="4941720"/>
                    <a:ext cx="120672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227640" y="3213000"/>
          <a:ext cx="2195640" cy="11718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227640" y="3213000"/>
                    <a:ext cx="2195640" cy="11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35600" y="907920"/>
            <a:ext cx="24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NIM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80" y="3429000"/>
            <a:ext cx="37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MESTIC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rm/p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2" idx="2"/>
            <a:endCxn id="83" idx="0"/>
          </p:cNvCxnSpPr>
          <p:nvPr/>
        </p:nvCxnSpPr>
        <p:spPr>
          <a:xfrm flipH="1">
            <a:off x="1890000" y="1609560"/>
            <a:ext cx="2491560" cy="182016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85" name=""/>
          <p:cNvSpPr/>
          <p:nvPr/>
        </p:nvSpPr>
        <p:spPr>
          <a:xfrm>
            <a:off x="5580000" y="350028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oo/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2" idx="2"/>
            <a:endCxn id="85" idx="0"/>
          </p:cNvCxnSpPr>
          <p:nvPr/>
        </p:nvCxnSpPr>
        <p:spPr>
          <a:xfrm>
            <a:off x="4381560" y="1609560"/>
            <a:ext cx="2675520" cy="189144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lg" type="stealth" w="lg"/>
          </a:ln>
        </p:spPr>
      </p:cxnSp>
      <p:sp>
        <p:nvSpPr>
          <p:cNvPr id="87" name=""/>
          <p:cNvSpPr/>
          <p:nvPr/>
        </p:nvSpPr>
        <p:spPr>
          <a:xfrm>
            <a:off x="3710520" y="5445000"/>
            <a:ext cx="180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/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2" idx="2"/>
            <a:endCxn id="87" idx="0"/>
          </p:cNvCxnSpPr>
          <p:nvPr/>
        </p:nvCxnSpPr>
        <p:spPr>
          <a:xfrm>
            <a:off x="4381200" y="1609560"/>
            <a:ext cx="230760" cy="3836160"/>
          </a:xfrm>
          <a:prstGeom prst="straightConnector1">
            <a:avLst/>
          </a:prstGeom>
          <a:ln w="25560">
            <a:solidFill>
              <a:srgbClr val="000099"/>
            </a:solidFill>
            <a:miter/>
            <a:tailEnd len="lg" type="stealth" w="lg"/>
          </a:ln>
        </p:spPr>
      </p:cxnSp>
      <p:sp>
        <p:nvSpPr>
          <p:cNvPr id="89" name=""/>
          <p:cNvSpPr/>
          <p:nvPr/>
        </p:nvSpPr>
        <p:spPr>
          <a:xfrm>
            <a:off x="395280" y="189000"/>
            <a:ext cx="8229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any kinds of animals in our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omestic anim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4000" y="6858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20000" y="3645000"/>
            <a:ext cx="1914480" cy="1457280"/>
          </a:xfrm>
          <a:prstGeom prst="rect">
            <a:avLst/>
          </a:prstGeom>
          <a:ln w="9360">
            <a:solidFill>
              <a:srgbClr val="def6f1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0360" y="5300640"/>
            <a:ext cx="1944720" cy="1038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05800" y="184464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59240" y="184464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endCxn id="94" idx="0"/>
          </p:cNvCxnSpPr>
          <p:nvPr/>
        </p:nvCxnSpPr>
        <p:spPr>
          <a:xfrm flipH="1">
            <a:off x="2031120" y="1403280"/>
            <a:ext cx="255204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endCxn id="95" idx="0"/>
          </p:cNvCxnSpPr>
          <p:nvPr/>
        </p:nvCxnSpPr>
        <p:spPr>
          <a:xfrm>
            <a:off x="4583160" y="1403280"/>
            <a:ext cx="228816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</p:cNvCxnSpPr>
          <p:nvPr/>
        </p:nvCxnSpPr>
        <p:spPr>
          <a:xfrm>
            <a:off x="2031840" y="2545920"/>
            <a:ext cx="81216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92" idx="0"/>
          </p:cNvCxnSpPr>
          <p:nvPr/>
        </p:nvCxnSpPr>
        <p:spPr>
          <a:xfrm>
            <a:off x="6870600" y="2546280"/>
            <a:ext cx="1107360" cy="10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6876720" y="2565000"/>
            <a:ext cx="43560" cy="275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56000" y="4653000"/>
            <a:ext cx="720720" cy="1368360"/>
          </a:xfrm>
          <a:prstGeom prst="rect">
            <a:avLst/>
          </a:prstGeom>
          <a:ln w="0">
            <a:noFill/>
          </a:ln>
        </p:spPr>
      </p:pic>
      <p:cxnSp>
        <p:nvCxnSpPr>
          <p:cNvPr id="102" name=""/>
          <p:cNvCxnSpPr>
            <a:stCxn id="95" idx="2"/>
          </p:cNvCxnSpPr>
          <p:nvPr/>
        </p:nvCxnSpPr>
        <p:spPr>
          <a:xfrm flipH="1">
            <a:off x="5579280" y="2546280"/>
            <a:ext cx="12913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4" idx="2"/>
          </p:cNvCxnSpPr>
          <p:nvPr/>
        </p:nvCxnSpPr>
        <p:spPr>
          <a:xfrm flipH="1">
            <a:off x="1044360" y="2545920"/>
            <a:ext cx="98784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211640" y="3573360"/>
            <a:ext cx="1552680" cy="12765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179280" y="4581360"/>
            <a:ext cx="17287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Domestic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11640" y="3573360"/>
          <a:ext cx="1552680" cy="12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3573360"/>
                    <a:ext cx="155268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020000" y="3645000"/>
            <a:ext cx="1914480" cy="1457280"/>
          </a:xfrm>
          <a:prstGeom prst="rect">
            <a:avLst/>
          </a:prstGeom>
          <a:ln w="9360">
            <a:solidFill>
              <a:srgbClr val="def6f1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940360" y="5300640"/>
            <a:ext cx="1944720" cy="1038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5800" y="1844640"/>
            <a:ext cx="125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59240" y="184464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106" idx="2"/>
            <a:endCxn id="111" idx="0"/>
          </p:cNvCxnSpPr>
          <p:nvPr/>
        </p:nvCxnSpPr>
        <p:spPr>
          <a:xfrm flipH="1">
            <a:off x="2031120" y="1403280"/>
            <a:ext cx="255204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6" idx="2"/>
            <a:endCxn id="112" idx="0"/>
          </p:cNvCxnSpPr>
          <p:nvPr/>
        </p:nvCxnSpPr>
        <p:spPr>
          <a:xfrm>
            <a:off x="4583160" y="1403280"/>
            <a:ext cx="2288160" cy="44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1" idx="2"/>
          </p:cNvCxnSpPr>
          <p:nvPr/>
        </p:nvCxnSpPr>
        <p:spPr>
          <a:xfrm>
            <a:off x="2031840" y="2545920"/>
            <a:ext cx="81216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2" idx="2"/>
            <a:endCxn id="109" idx="0"/>
          </p:cNvCxnSpPr>
          <p:nvPr/>
        </p:nvCxnSpPr>
        <p:spPr>
          <a:xfrm>
            <a:off x="6870600" y="2546280"/>
            <a:ext cx="1107360" cy="109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>
            <a:off x="6876720" y="2565000"/>
            <a:ext cx="43560" cy="2755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13800" y="60930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12720" y="60930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30520" y="4869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4160" y="50133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6237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556000" y="4653000"/>
            <a:ext cx="720720" cy="1368360"/>
          </a:xfrm>
          <a:prstGeom prst="rect">
            <a:avLst/>
          </a:prstGeom>
          <a:ln w="0">
            <a:noFill/>
          </a:ln>
        </p:spPr>
      </p:pic>
      <p:cxnSp>
        <p:nvCxnSpPr>
          <p:cNvPr id="124" name=""/>
          <p:cNvCxnSpPr>
            <a:stCxn id="112" idx="2"/>
          </p:cNvCxnSpPr>
          <p:nvPr/>
        </p:nvCxnSpPr>
        <p:spPr>
          <a:xfrm flipH="1">
            <a:off x="5579280" y="2546280"/>
            <a:ext cx="1291320" cy="95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aphicFrame>
        <p:nvGraphicFramePr>
          <p:cNvPr id="125" name=""/>
          <p:cNvGraphicFramePr/>
          <p:nvPr/>
        </p:nvGraphicFramePr>
        <p:xfrm>
          <a:off x="179280" y="4581360"/>
          <a:ext cx="1728720" cy="1552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4581360"/>
                    <a:ext cx="17287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27" name=""/>
          <p:cNvCxnSpPr>
            <a:stCxn id="111" idx="2"/>
          </p:cNvCxnSpPr>
          <p:nvPr/>
        </p:nvCxnSpPr>
        <p:spPr>
          <a:xfrm flipH="1">
            <a:off x="1044360" y="2545920"/>
            <a:ext cx="987840" cy="203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Wild animal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580000" y="1557360"/>
          <a:ext cx="2114640" cy="23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557360"/>
                    <a:ext cx="2114640" cy="23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3276720" y="4365720"/>
          <a:ext cx="2114280" cy="16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65720"/>
                    <a:ext cx="2114280" cy="1670040"/>
                  </a:xfrm>
                  <a:prstGeom prst="rect">
                    <a:avLst/>
                  </a:prstGeom>
                  <a:ln w="9360">
                    <a:solidFill>
                      <a:srgbClr val="def6f1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550520" y="328464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02160" y="407664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13800" y="609300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996840" y="1268280"/>
          <a:ext cx="1916280" cy="2065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6840" y="1268280"/>
                    <a:ext cx="1916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18:11:46Z</dcterms:created>
  <dc:creator>СЕРЕГИНЫ</dc:creator>
  <dc:description/>
  <dc:language>en-US</dc:language>
  <cp:lastModifiedBy>Гузель</cp:lastModifiedBy>
  <dcterms:modified xsi:type="dcterms:W3CDTF">2009-08-19T17:54:18Z</dcterms:modified>
  <cp:revision>28</cp:revision>
  <dc:subject/>
  <dc:title>Слайд 1</dc:title>
</cp:coreProperties>
</file>