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2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30.jpeg" ContentType="image/jpeg"/>
  <Override PartName="/ppt/media/image32.jpeg" ContentType="image/jpeg"/>
  <Override PartName="/ppt/media/image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22.gif" ContentType="image/gif"/>
  <Override PartName="/ppt/media/image18.jpeg" ContentType="image/jpeg"/>
  <Override PartName="/ppt/media/image13.png" ContentType="image/png"/>
  <Override PartName="/ppt/media/image20.gif" ContentType="image/gif"/>
  <Override PartName="/ppt/media/image23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2461-50ED-4F19-B3A9-EFA97A0E9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D0AE-6C0F-4CD8-9F03-3C4DAE9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0CD4-37FA-484E-A018-B0107B5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85FC-9C54-41AC-B406-B75D1B96B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CBEA-661B-4BDC-AF75-97FA7CD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7CC9-F6B9-4108-BBB9-2BFD2CE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1CDC-D70A-4D6C-ADD5-C96D264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7C33-66D9-4D86-A5BA-87628149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6362-773E-47BC-A4D9-8EBFFF15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C4F4-2447-4EE3-840C-1BF846F1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F3D8-9BB3-408E-B9BD-7FC5184C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A437-A3D1-4E88-8482-29EEA842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F32C5-3CBE-40C3-AA44-393762DDBF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5880" y="755640"/>
            <a:ext cx="7772400" cy="2530440"/>
          </a:xfrm>
          <a:prstGeom prst="rect">
            <a:avLst/>
          </a:prstGeom>
          <a:solidFill>
            <a:srgbClr val="ebb391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Закрепление изученного материала по теме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Безударные глас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4786200"/>
            <a:ext cx="68436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Презентация к уроку русского языка для 2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ГБОУ СОШ № 28 Василеостров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Терехова Т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2960" y="3786120"/>
            <a:ext cx="17143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0" y="4286160"/>
            <a:ext cx="64292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84240" y="615960"/>
            <a:ext cx="5205600" cy="394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71880" y="471492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т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643120" y="4429080"/>
            <a:ext cx="56437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73240" y="762120"/>
            <a:ext cx="4529160" cy="344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28920" y="4643280"/>
            <a:ext cx="60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ур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ц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0200" y="4643280"/>
            <a:ext cx="442908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57360" y="401760"/>
            <a:ext cx="3986280" cy="408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86080" y="464328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гус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00080" y="1116000"/>
            <a:ext cx="7429680" cy="1554120"/>
          </a:xfrm>
          <a:prstGeom prst="rect">
            <a:avLst/>
          </a:prstGeom>
          <a:gradFill rotWithShape="0">
            <a:gsLst>
              <a:gs pos="0">
                <a:srgbClr val="fff8e2"/>
              </a:gs>
              <a:gs pos="100000">
                <a:srgbClr val="ffe69c"/>
              </a:gs>
            </a:gsLst>
            <a:lin ang="16200000"/>
          </a:gradFill>
          <a:ln w="76320">
            <a:solidFill>
              <a:srgbClr val="d6af57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3264120" cy="31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3770280" cy="284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57880" y="3429000"/>
            <a:ext cx="3286080" cy="307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00760" y="357120"/>
            <a:ext cx="378612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00040" y="3429000"/>
            <a:ext cx="422280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28800" y="2357280"/>
            <a:ext cx="7786440" cy="173988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крылатые выра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14680" y="3786120"/>
            <a:ext cx="3149280" cy="2327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95480" y="5000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29200" y="100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76920" y="4071960"/>
            <a:ext cx="17287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71680" y="285840"/>
            <a:ext cx="62863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Курам насме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1714680"/>
            <a:ext cx="82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мокрая кур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куриная памя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раскудахтался как кур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бродят как ку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5b22"/>
                </a:solidFill>
                <a:latin typeface="Arial"/>
              </a:rPr>
              <a:t>«нацарапал как курица лап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7680" y="1143000"/>
            <a:ext cx="236196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43800" y="5000760"/>
            <a:ext cx="18144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57840" y="5000760"/>
            <a:ext cx="18144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071880" y="5000760"/>
            <a:ext cx="18144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5840" y="500040"/>
            <a:ext cx="62863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Как с гуся в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2786040"/>
            <a:ext cx="56437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Белая вор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760" y="5214960"/>
            <a:ext cx="564336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Гол как сок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29240" y="357120"/>
            <a:ext cx="2038320" cy="2336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2404800" cy="271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48400" y="4286160"/>
            <a:ext cx="298764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8760" y="857160"/>
            <a:ext cx="714348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Стреляный во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3714840"/>
            <a:ext cx="757224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Вор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7b3d17"/>
                </a:solidFill>
                <a:latin typeface="Calibri"/>
              </a:rPr>
              <a:t>в павлиньих перья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15120" y="1071720"/>
            <a:ext cx="1720800" cy="16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7120" y="2571840"/>
            <a:ext cx="26193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220680"/>
            <a:ext cx="642924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правьте ошибки  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2960" y="1143000"/>
            <a:ext cx="8001000" cy="106884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ся красиво, как курица лапой, написал    загла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2960" y="2357280"/>
            <a:ext cx="8001000" cy="106884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с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ох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как курица лапой, написал    загла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4000680"/>
            <a:ext cx="8001000" cy="106884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енок был очень некрасивым, глаз не от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4240" y="5429160"/>
            <a:ext cx="7929720" cy="106884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енок был очень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ивы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глаз не от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1760" y="285840"/>
            <a:ext cx="5472000" cy="1143000"/>
          </a:xfrm>
          <a:prstGeom prst="rect">
            <a:avLst/>
          </a:prstGeom>
          <a:solidFill>
            <a:srgbClr val="ebb391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120" y="1785960"/>
            <a:ext cx="8572680" cy="3751560"/>
          </a:xfrm>
          <a:prstGeom prst="rect">
            <a:avLst/>
          </a:prstGeom>
          <a:solidFill>
            <a:srgbClr val="f1ccb5"/>
          </a:solidFill>
          <a:ln cap="sq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c302a"/>
              </a:buClr>
              <a:buFont typeface="Times New Roman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c302a"/>
                </a:solidFill>
                <a:latin typeface="Times New Roman"/>
                <a:ea typeface="Times New Roman"/>
              </a:rPr>
              <a:t>Повторить правописание  словарных слов, определение главных членов предложения, познакомить с фразеологическими обор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c302a"/>
              </a:buClr>
              <a:buFont typeface="Times New Roman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c302a"/>
                </a:solidFill>
                <a:latin typeface="Times New Roman"/>
                <a:ea typeface="Times New Roman"/>
              </a:rPr>
              <a:t>Развивать речь, мышление, умение общаться, работать  группами, обучать элементам поисков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c302a"/>
              </a:buClr>
              <a:buFont typeface="Times New Roman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c302a"/>
                </a:solidFill>
                <a:latin typeface="Times New Roman"/>
                <a:ea typeface="Times New Roman"/>
              </a:rPr>
              <a:t>Воспитывать чувство ответственности,  заинтересованности к совместной деятельнос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2960" y="428760"/>
            <a:ext cx="7858080" cy="1068840"/>
          </a:xfrm>
          <a:prstGeom prst="rect">
            <a:avLst/>
          </a:prstGeom>
          <a:solidFill>
            <a:srgbClr val="e8d19d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зале было много места, что даже яблоку негде было упа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1714680"/>
            <a:ext cx="7858080" cy="1068840"/>
          </a:xfrm>
          <a:prstGeom prst="rect">
            <a:avLst/>
          </a:prstGeom>
          <a:solidFill>
            <a:srgbClr val="e8d19d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зале был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л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места, что даже яблоку негде было уп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3143160"/>
            <a:ext cx="7858080" cy="58140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комнате было светло, хоть глаз вык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2960" y="3929040"/>
            <a:ext cx="7858080" cy="581400"/>
          </a:xfrm>
          <a:prstGeom prst="rect">
            <a:avLst/>
          </a:prstGeom>
          <a:solidFill>
            <a:srgbClr val="ffffcc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комнате было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мн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хоть глаз вык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680" y="4929120"/>
            <a:ext cx="7929360" cy="58140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шка сломя голову остановил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" y="5715000"/>
            <a:ext cx="7929360" cy="581400"/>
          </a:xfrm>
          <a:prstGeom prst="rect">
            <a:avLst/>
          </a:prstGeom>
          <a:solidFill>
            <a:srgbClr val="cadcd8"/>
          </a:solidFill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шка сломя голову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ж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1ccb5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0080" y="3643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00080" y="5214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00080" y="207180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14760" y="2286000"/>
            <a:ext cx="421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се хорош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43120" y="3929040"/>
            <a:ext cx="607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щё надо разобра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3120" y="53578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а помощ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4120" y="676440"/>
            <a:ext cx="8604360" cy="2501640"/>
            <a:chOff x="384120" y="676440"/>
            <a:chExt cx="8604360" cy="25016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384120" y="676440"/>
              <a:ext cx="860436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84120" y="676440"/>
              <a:ext cx="860436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86120" y="407196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57960" y="4284720"/>
            <a:ext cx="1811160" cy="179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4371840"/>
            <a:ext cx="201744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7000" y="476280"/>
            <a:ext cx="4973760" cy="401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0200" y="4429080"/>
            <a:ext cx="54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еб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д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43120" y="476280"/>
            <a:ext cx="5413320" cy="3930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600200"/>
            <a:ext cx="511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3080" y="464328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71840" y="5000760"/>
            <a:ext cx="5357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30440" y="689040"/>
            <a:ext cx="4114800" cy="394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14720" y="4643280"/>
            <a:ext cx="55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аст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ч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0200" y="4572000"/>
            <a:ext cx="46436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09800" y="262080"/>
            <a:ext cx="3286080" cy="43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00240" y="4643280"/>
            <a:ext cx="45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сок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00240" y="4500720"/>
            <a:ext cx="43578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09800" y="542880"/>
            <a:ext cx="3378240" cy="420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57680" y="4786200"/>
            <a:ext cx="50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ту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00160" y="4071960"/>
            <a:ext cx="78580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84240" y="615960"/>
            <a:ext cx="5205600" cy="394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57280" y="464328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ро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41:48Z</dcterms:created>
  <dc:creator>Виталий</dc:creator>
  <dc:description/>
  <dc:language>en-US</dc:language>
  <cp:lastModifiedBy>КарМаН</cp:lastModifiedBy>
  <dcterms:modified xsi:type="dcterms:W3CDTF">2011-03-28T23:14:53Z</dcterms:modified>
  <cp:revision>41</cp:revision>
  <dc:subject/>
  <dc:title>Слайд 1</dc:title>
</cp:coreProperties>
</file>