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BED-D9F5-4FD8-82FE-72044674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5B6-AA6F-488A-B939-2001A352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C84-2ECF-454A-9E98-38966FF4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019-698F-4688-A230-0F24832E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7F25-2F0E-44F3-AC44-48C33654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85AD-86AC-4640-B062-9B68E8FD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583F-F59C-4B34-B3C9-C6321AA9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EA86-6A1B-49E3-80E2-9B9D1954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1507-A18D-486C-BFD8-54F2E332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713C-F935-4CA2-A8F2-0E06E0CE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890C-75D7-496D-877E-378170DC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801-EE51-4021-BF93-7FF32B86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8767-6F79-42FB-A7AA-43573DDA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A7FD-2F6C-4F22-A621-0D67029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5E3F-D60F-4DCD-9AC8-402D3AB0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521F-03F3-4BFB-8F74-D62301AE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88C8-A9E5-45F3-B211-B900A327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1703-7951-4885-9D1A-B0721821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6D5F-3E13-4A8A-B442-A70AE406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DA3C9-13A6-46E4-AA8D-A040A871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E030-C4A4-45FB-BDE4-BA7CD64D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E1C1-074E-4B74-A988-B033E7B1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589-A8E1-4EDC-8C4D-F75731EB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5504-A8D1-4290-9B63-CDD5673D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F983-DB6F-4102-9397-824596A8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E4A88-5E97-45F8-A7B3-BA7AA2F4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97A93-AA65-4348-BEE2-5F396BC3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2048-4A6B-4F45-9CEA-281F4B21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DF8F-2B5D-456E-8158-5D1B4E0D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C5C3-735F-49C7-A741-C9E9E1B0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77DD4-C79B-4FB1-A98C-7004811B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DBBB-B8DF-4A04-AA7B-33DBC903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5464-5A72-40AA-9C7D-3286591F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F0F-35CF-4672-9676-53029E88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DB402-08A4-4AC1-8E2D-56A9E387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6F5A-7920-4701-8DC1-ED155011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FD24-730B-4F1D-BD93-769A0764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6445F-B103-4371-B36D-1DDE71EE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D612-BB3D-45FF-ABF2-34D27B90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E7710-3B51-4EDC-9729-94B32CD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3545-7D5F-4B1B-8A0B-673E3BFF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CF2E-E02D-4ECB-A768-0AB4DB19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AD729-C492-415E-ACC3-318FC638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7B2BA-747F-4160-94B4-814F4F21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589-C2A8-4DEF-B35C-949059E6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CD519-90AE-445A-866D-B82DB6F0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F3E41-A628-4CDD-81DF-99E498B9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62604-B9EC-4266-8922-662F0016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8CE5B-E2F0-4354-B842-EF866A50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9583B-D279-4D94-928C-86BF8B8E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7C271-6E03-4C6A-A8B8-8C339F20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20163-B509-4483-80F8-2BC5EDF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A3A1C-9546-41B3-8289-80EFEF53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3AA98-446C-4B90-B83F-1DB29D28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AAC71-64B2-428D-9FDC-1F430477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722-5E77-4AA3-9428-811A203F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C714-5A4C-48D4-9720-99F8C6FD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C5F70-8150-49C1-96FF-C54C72FD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DE480-007D-4995-9E42-3880795B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AAD3D-1BC9-4519-9C4C-A123423B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37352-793F-4D49-9CEA-7B17FF67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6D57-DEB6-4D31-8D9F-EC5E03CC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07E4A-60D8-4C65-96C2-5F71BD12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BD034-40C3-497B-AC39-5CD520EF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CE7EC-5CE0-49CE-8BE1-D282106B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D0312-1DA6-49CB-AA1B-B9DDBD15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08B-56AC-47AA-BB2B-50EEB579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D1117-6BB6-472A-8C0C-6EF674C3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76751-C9E2-4A1E-88A3-D66A4F1B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A876F-D229-4F24-97EA-4D87DB2B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F37CA-DC4F-4DAF-B04E-28FB0938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C09E6-0CC2-4942-BA00-B15C3DE2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1C0E-98AA-4069-99BC-26EFE551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77511-8CEB-4549-B01E-D43BF300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DADD3-0114-4CB4-9B41-C28A0235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91FE-803B-45D9-99FE-B46A96F4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D42BB-DFE2-4CA4-BD8A-39B71ED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CC6-2320-4859-9FA6-74690F0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816E0-CDFE-4886-ACBA-2A2AADDD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9E3D2-B3CE-44F8-BC9F-B2FBD12B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E65E9-F0E1-4C1C-8D52-4C8F0E94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AB87-5DF0-4535-8555-5EBC520C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9A52D-3B85-4619-93D6-E76BCEEA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8ED42-6899-4892-AA51-741FF7A3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CBCDB-4CAB-4FB3-BF62-2ACC07DF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4B4D4-50A7-46DF-9F89-B5B9F9E3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4A9B2-EE50-46B6-982E-CC29113A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67DAA-6A1C-4918-815F-13E2F811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DEC-7EC2-4435-AC0D-36729C40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224C6-951F-4BE3-A469-AFA144F2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D8339-C52C-4FAA-9F53-5C335865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A9ACA-BBD9-4F71-A069-CF6F2F31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680A5-0826-4154-922F-999D57E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93BC7-AC28-4453-8265-B7C5F36A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FA260-4C0C-44D6-BA3D-C41998C8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26B5B-83B0-481C-AF62-0DF70E70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C59E-A33A-4711-89C0-7A7F5BDF06B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A291-572E-4FED-A215-2FA41B77F60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4EEB-D7FD-494F-B568-DA91614BA78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50C0-3D89-4B06-B441-22663B4CC70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DCC8-6910-41DC-946A-CDA3E3F69F2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CE4C-FAB7-4B2C-97F7-8D1BDA6A61E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9016-F315-4138-86BB-E3D9AB7DBE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2E17-75D7-482B-A159-8688FA70D2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00000" y="19890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ahoma"/>
              </a:rPr>
              <a:t>Модальные глаголы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254200"/>
            <a:ext cx="6858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Bookman Old Style"/>
              </a:rPr>
              <a:t>Can, may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Bookman Old Style"/>
              </a:rPr>
              <a:t>Can (</a:t>
            </a: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мочь)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62828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ыражает умение, способность совершать действ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He </a:t>
            </a:r>
            <a:r>
              <a:rPr b="0" lang="en-US" sz="4800" spc="-1" strike="noStrike">
                <a:solidFill>
                  <a:srgbClr val="0000ff"/>
                </a:solidFill>
                <a:latin typeface="Gill Sans MT"/>
              </a:rPr>
              <a:t>can</a:t>
            </a: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 swi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3" name="Содержимое 3" descr="i.jpg"/>
          <p:cNvPicPr/>
          <p:nvPr/>
        </p:nvPicPr>
        <p:blipFill>
          <a:blip r:embed="rId2"/>
          <a:stretch/>
        </p:blipFill>
        <p:spPr>
          <a:xfrm>
            <a:off x="1547640" y="3933720"/>
            <a:ext cx="2521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476280"/>
            <a:ext cx="822960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Present Simple –</a:t>
            </a: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 c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She </a:t>
            </a:r>
            <a:r>
              <a:rPr b="1" lang="en-US" sz="3200" spc="-1" strike="noStrike">
                <a:solidFill>
                  <a:srgbClr val="009900"/>
                </a:solidFill>
                <a:latin typeface="Gill Sans MT"/>
              </a:rPr>
              <a:t>can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sing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Past Simple –</a:t>
            </a: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 cou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She </a:t>
            </a:r>
            <a:r>
              <a:rPr b="1" lang="en-US" sz="3200" spc="-1" strike="noStrike">
                <a:solidFill>
                  <a:srgbClr val="009900"/>
                </a:solidFill>
                <a:latin typeface="Gill Sans MT"/>
              </a:rPr>
              <a:t>could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sing very well in her childh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Future Simple – </a:t>
            </a: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will be able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She </a:t>
            </a:r>
            <a:r>
              <a:rPr b="1" lang="en-US" sz="3200" spc="-1" strike="noStrike">
                <a:solidFill>
                  <a:srgbClr val="009900"/>
                </a:solidFill>
                <a:latin typeface="Gill Sans MT"/>
              </a:rPr>
              <a:t>will</a:t>
            </a: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Gill Sans MT"/>
              </a:rPr>
              <a:t>not be able to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work tomorr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Содержимое 5" descr="iCAKR1KPX.jpg"/>
          <p:cNvPicPr/>
          <p:nvPr/>
        </p:nvPicPr>
        <p:blipFill>
          <a:blip r:embed="rId2"/>
          <a:stretch/>
        </p:blipFill>
        <p:spPr>
          <a:xfrm>
            <a:off x="5508720" y="404640"/>
            <a:ext cx="2058840" cy="1633680"/>
          </a:xfrm>
          <a:prstGeom prst="rect">
            <a:avLst/>
          </a:prstGeom>
          <a:ln w="0">
            <a:noFill/>
          </a:ln>
        </p:spPr>
      </p:pic>
      <p:pic>
        <p:nvPicPr>
          <p:cNvPr id="366" name="Содержимое 3" descr="iCAF2ROBU.jpg"/>
          <p:cNvPicPr/>
          <p:nvPr/>
        </p:nvPicPr>
        <p:blipFill>
          <a:blip r:embed="rId3"/>
          <a:stretch/>
        </p:blipFill>
        <p:spPr>
          <a:xfrm>
            <a:off x="6732720" y="3284640"/>
            <a:ext cx="22762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Bookman Old Style"/>
              </a:rPr>
              <a:t>Can\Could</a:t>
            </a:r>
            <a:r>
              <a:rPr b="1" lang="en-US" sz="8000" spc="-1" strike="noStrike">
                <a:solidFill>
                  <a:srgbClr val="e5ffff"/>
                </a:solidFill>
                <a:latin typeface="Bookman Old Style"/>
              </a:rPr>
              <a:t> 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5280" y="170028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She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</a:rPr>
              <a:t>can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\</a:t>
            </a:r>
            <a:r>
              <a:rPr b="1" lang="en-US" sz="3600" spc="-1" strike="noStrike">
                <a:solidFill>
                  <a:srgbClr val="ff0066"/>
                </a:solidFill>
                <a:latin typeface="Gill Sans MT"/>
              </a:rPr>
              <a:t>could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read the boo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She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</a:rPr>
              <a:t>can’t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\</a:t>
            </a:r>
            <a:r>
              <a:rPr b="1" lang="en-US" sz="3600" spc="-1" strike="noStrike">
                <a:solidFill>
                  <a:srgbClr val="ff0066"/>
                </a:solidFill>
                <a:latin typeface="Gill Sans MT"/>
              </a:rPr>
              <a:t>couldn’t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read the boo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ill Sans MT"/>
              </a:rPr>
              <a:t>Can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\</a:t>
            </a:r>
            <a:r>
              <a:rPr b="1" lang="en-US" sz="3600" spc="-1" strike="noStrike">
                <a:solidFill>
                  <a:srgbClr val="ff0066"/>
                </a:solidFill>
                <a:latin typeface="Gill Sans MT"/>
              </a:rPr>
              <a:t>Could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she read the boo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What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</a:rPr>
              <a:t>can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\</a:t>
            </a:r>
            <a:r>
              <a:rPr b="1" lang="en-US" sz="3600" spc="-1" strike="noStrike">
                <a:solidFill>
                  <a:srgbClr val="ff0066"/>
                </a:solidFill>
                <a:latin typeface="Gill Sans MT"/>
              </a:rPr>
              <a:t>could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she rea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Содержимое 3" descr="iCA312O3M.jpg"/>
          <p:cNvPicPr/>
          <p:nvPr/>
        </p:nvPicPr>
        <p:blipFill>
          <a:blip r:embed="rId2"/>
          <a:stretch/>
        </p:blipFill>
        <p:spPr>
          <a:xfrm>
            <a:off x="6659640" y="4941720"/>
            <a:ext cx="23810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</a:rPr>
              <a:t>May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(может быть, возможно)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1773360"/>
            <a:ext cx="79912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ыражает предположение в настоящем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,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будущем време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тв: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It </a:t>
            </a:r>
            <a:r>
              <a:rPr b="1" lang="en-US" sz="3600" spc="-1" strike="noStrike">
                <a:solidFill>
                  <a:srgbClr val="cc0099"/>
                </a:solidFill>
                <a:latin typeface="Gill Sans MT"/>
              </a:rPr>
              <a:t>may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ra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тр: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It </a:t>
            </a:r>
            <a:r>
              <a:rPr b="1" lang="en-US" sz="3600" spc="-1" strike="noStrike">
                <a:solidFill>
                  <a:srgbClr val="cc0099"/>
                </a:solidFill>
                <a:latin typeface="Gill Sans MT"/>
              </a:rPr>
              <a:t>may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</a:rPr>
              <a:t>not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ra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опр: не употребляется в этом значен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Содержимое 3" descr="iCAG0B7A6.jpg"/>
          <p:cNvPicPr/>
          <p:nvPr/>
        </p:nvPicPr>
        <p:blipFill>
          <a:blip r:embed="rId2"/>
          <a:stretch/>
        </p:blipFill>
        <p:spPr>
          <a:xfrm>
            <a:off x="6588000" y="3213000"/>
            <a:ext cx="223704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20:00:29Z</dcterms:created>
  <dc:creator>Svetlana</dc:creator>
  <dc:description/>
  <dc:language>en-US</dc:language>
  <cp:lastModifiedBy>user</cp:lastModifiedBy>
  <dcterms:modified xsi:type="dcterms:W3CDTF">2011-10-10T19:44:09Z</dcterms:modified>
  <cp:revision>10</cp:revision>
  <dc:subject/>
  <dc:title>Модальные глаголы</dc:title>
</cp:coreProperties>
</file>