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3A1-A1A9-4313-8A5A-CABB55E2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3BE-D25C-4A8E-84FF-FEF55109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CCC-5352-4B57-AD3E-B5B174B9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2F2-FAC8-4A2F-8057-1DBA28FF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EC3B-CC69-4209-B01C-FBCC84F8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7B1F-72A5-4BCC-8044-0C001EAA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761B-F64A-4840-ADE1-388E5309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F6A5-E247-45FF-A137-81D3485A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2455-8F1F-4838-8306-D5DDE67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10FB-11E3-4356-8236-8639E25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6877-7B45-4490-8267-80311751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03E-592B-476A-8BB0-A6A64F2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7EB4-ADFB-4B05-A5C3-49CF12D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32E6-0D28-4CE9-8022-40C1400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0A6E-6F7D-4CCF-BB59-15EAFA5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B998-F190-4671-8478-06AE1408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D33B-DDC3-4B20-891B-C10FA8B3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4595-7CC9-4D74-BB67-E5C63CBD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BC78-3E6D-4EBB-8F8D-9AA54732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B404-1619-4A3F-9229-E66FB36D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40B5-7376-401D-A1A8-C0C74737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A463-1882-4736-838F-27D190A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AD5-91E4-41B5-A695-4F88556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D942-2769-4028-9CA3-BFB5F83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4F80-EF40-49DC-A6E5-2F76C45A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F94E-E0FB-4AD8-9CE9-C5A4C0ED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7892-1764-4569-BD2C-57D36DF2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C904-8135-48E2-9283-89201B11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6516-1B6C-4498-A87C-DE0B4355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DD82-6EE4-483E-B7B6-E6404346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A64D-CAB1-4DB3-9342-C7D6EED4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892E-EF6E-44D9-8764-FEE92FF5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8B72-8329-4935-80FD-1358AF97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761-4503-44B6-8941-5DA1FC7B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4ADB-041B-46CB-BBF3-22C4016A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A7EF-CCCD-4134-826E-2F1DEB2C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19A2-3B46-4797-A617-10F17ED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B74B-3FFB-4385-8553-C96C7745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9CC9-8F40-4707-9FF8-7889404C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7151-8ADB-4995-B381-99E07AA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1139-B7E7-4CF3-A636-B58A7E89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E95E-7891-45F7-A9E3-5D3EB158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DC22-7AFE-48AC-A1E0-9516DD30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E9E9-D8AA-4AD9-B662-FA8F936D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6EB-B4E1-4DC4-B14F-CDB4EB2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87AC-4BD3-4FBA-9175-D34AB755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B782D-204C-46C7-B870-18C96AD1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6D6E-459A-41EC-BE55-2CDAE6C9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670C6-F801-48AB-8FB7-25EAC14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1026-8177-414A-B068-AB76700C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24DD-1C98-4D75-BD06-4B92699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D957-4488-445B-AD91-795949E8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257D-08C3-4AE8-B03E-03010005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57D78-171A-4591-AB3C-604E7F4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8EE4-15D3-4BB6-8E6E-ED0C0B10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600-B332-4241-B2B7-A8E9E2A6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2EE7-A76C-4C2C-A4E1-73AE1CE8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99A9B-1FA3-4D09-9AE3-562A2047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656D-B1CF-4EBA-9BBF-AA99AF7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98058-35B9-4139-BC89-4095FF4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9C386-B256-4EC5-B564-2DE339C5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E211-DDC0-452C-8D14-8FBF3EF6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37D4F-EAF1-40EA-B323-1B84CE0C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5E284-4A2A-449C-9154-BEFE8E1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FE504-C223-4323-9350-5828EAAE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9007-872A-4B55-9A1D-08013A5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109-3B9F-43DB-9466-8C9B45D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9E6CF-478A-4E63-96AE-1C368727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016C1-8443-4395-8DD7-DFA94428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C884-F4D0-431F-BC3B-D94CB1CA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2101E-3E1D-488D-9DD6-C7D69BE4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4399-AE0B-43A0-AEA7-530F23DE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10902-2DA3-44DA-BDD4-F59F9F98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4A935-8849-49A4-813B-999DCC1D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A0414-221A-4FC3-8344-4DCB0837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BDB6B-3722-4172-9A55-1329C715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7B0E-21B6-4C61-9FC4-61C9FEE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DC8-48E5-4DE1-A04F-0704909C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7D07B-7A8A-4C1D-86E5-0454BCE5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E32F-DD98-458F-A759-5F1E90E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323F-2FED-44A3-803D-F538CC21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88A02-98F6-4CD6-BEEA-E126CE51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990C-CF9B-4E7C-8C7D-FAC77767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92E5-AB69-4AF4-AECA-A17055BA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56CF9-62D5-4322-B6FC-D2952ED4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A3D0-5EB9-42F4-8426-F480DB1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857C-310F-474C-8C41-AE519D0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CB5FC-4620-4B26-8ADC-B0FA187B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9A5-862A-45BA-84D0-CFBFB90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241D-807E-47F3-862F-9D3D68BB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05930-6A5E-4723-B3C9-993C0627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DB36B-F8F9-42B2-8B11-86CD060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3961A-FBA3-464C-BFBB-8333ED9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2E3C1-0FDE-4E34-B9DB-EF28FCAA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44FF8-B2BB-4E2F-88D3-E36B64C5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33E9-C170-4ED7-A220-CAEBDDF2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F2D5-4022-464E-928C-A503FBDDA1D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A2D1-487A-41B3-9931-F93A60DE14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26EC-2278-4B2B-B82F-113CC950DA2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0CA1-CC2B-47D4-B685-15E2D42283D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7091-54C2-4D4C-B112-1301AE7D849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9a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90E-51DA-4B5D-94FF-42B7967A8B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26C4-7367-4CCF-91EE-4CE6C1D5D6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371E-C42D-43C2-AD57-3DAFADEF88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ahoma"/>
              </a:rPr>
              <a:t>Модальные глагол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254200"/>
            <a:ext cx="6858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Bookman Old Style"/>
              </a:rPr>
              <a:t>Can, may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ookman Old Style"/>
              </a:rPr>
              <a:t>Can (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мочь)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62828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ыражает умение, способность совершать действ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He </a:t>
            </a:r>
            <a:r>
              <a:rPr b="0" lang="en-US" sz="48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 swi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Содержимое 3" descr="i.jpg"/>
          <p:cNvPicPr/>
          <p:nvPr/>
        </p:nvPicPr>
        <p:blipFill>
          <a:blip r:embed="rId2"/>
          <a:stretch/>
        </p:blipFill>
        <p:spPr>
          <a:xfrm>
            <a:off x="1547640" y="3933720"/>
            <a:ext cx="2521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476280"/>
            <a:ext cx="822960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resent Simple –</a:t>
            </a: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 c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can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sing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Past Simple –</a:t>
            </a: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 cou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could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sing very well in her childh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Future Simple – </a:t>
            </a:r>
            <a:r>
              <a:rPr b="1" lang="en-US" sz="3200" spc="-1" strike="noStrike">
                <a:solidFill>
                  <a:srgbClr val="0000ff"/>
                </a:solidFill>
                <a:latin typeface="Gill Sans MT"/>
              </a:rPr>
              <a:t>will be able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will</a:t>
            </a: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Gill Sans MT"/>
              </a:rPr>
              <a:t>not be able to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work tomorr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Содержимое 5" descr="iCAKR1KPX.jpg"/>
          <p:cNvPicPr/>
          <p:nvPr/>
        </p:nvPicPr>
        <p:blipFill>
          <a:blip r:embed="rId2"/>
          <a:stretch/>
        </p:blipFill>
        <p:spPr>
          <a:xfrm>
            <a:off x="5508720" y="404640"/>
            <a:ext cx="2058840" cy="163368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3" descr="iCAF2ROBU.jpg"/>
          <p:cNvPicPr/>
          <p:nvPr/>
        </p:nvPicPr>
        <p:blipFill>
          <a:blip r:embed="rId3"/>
          <a:stretch/>
        </p:blipFill>
        <p:spPr>
          <a:xfrm>
            <a:off x="6732720" y="3284640"/>
            <a:ext cx="22762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ookman Old Style"/>
              </a:rPr>
              <a:t>Can\Could</a:t>
            </a:r>
            <a:r>
              <a:rPr b="1" lang="en-US" sz="8000" spc="-1" strike="noStrike">
                <a:solidFill>
                  <a:srgbClr val="e5ffff"/>
                </a:solidFill>
                <a:latin typeface="Bookman Old Style"/>
              </a:rPr>
              <a:t> 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5280" y="17002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ead the boo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he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’t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n’t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ead the boo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she read the boo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What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can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\</a:t>
            </a:r>
            <a:r>
              <a:rPr b="1" lang="en-US" sz="3600" spc="-1" strike="noStrike">
                <a:solidFill>
                  <a:srgbClr val="ff0066"/>
                </a:solidFill>
                <a:latin typeface="Gill Sans MT"/>
              </a:rPr>
              <a:t>could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she rea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Содержимое 3" descr="iCA312O3M.jpg"/>
          <p:cNvPicPr/>
          <p:nvPr/>
        </p:nvPicPr>
        <p:blipFill>
          <a:blip r:embed="rId2"/>
          <a:stretch/>
        </p:blipFill>
        <p:spPr>
          <a:xfrm>
            <a:off x="6659640" y="4941720"/>
            <a:ext cx="2381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</a:rPr>
              <a:t>May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(может быть, возможно)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773360"/>
            <a:ext cx="79912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ыражает предположение в настоящем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,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будущем време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тв: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It </a:t>
            </a:r>
            <a:r>
              <a:rPr b="1" lang="en-US" sz="3600" spc="-1" strike="noStrike">
                <a:solidFill>
                  <a:srgbClr val="cc0099"/>
                </a:solidFill>
                <a:latin typeface="Gill Sans MT"/>
              </a:rPr>
              <a:t>may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р: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It </a:t>
            </a:r>
            <a:r>
              <a:rPr b="1" lang="en-US" sz="3600" spc="-1" strike="noStrike">
                <a:solidFill>
                  <a:srgbClr val="cc0099"/>
                </a:solidFill>
                <a:latin typeface="Gill Sans MT"/>
              </a:rPr>
              <a:t>may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</a:rPr>
              <a:t>not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 r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опр: не употребляется в этом знач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Содержимое 3" descr="iCAG0B7A6.jpg"/>
          <p:cNvPicPr/>
          <p:nvPr/>
        </p:nvPicPr>
        <p:blipFill>
          <a:blip r:embed="rId2"/>
          <a:stretch/>
        </p:blipFill>
        <p:spPr>
          <a:xfrm>
            <a:off x="6588000" y="3213000"/>
            <a:ext cx="22370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20:00:29Z</dcterms:created>
  <dc:creator>Svetlana</dc:creator>
  <dc:description/>
  <dc:language>en-US</dc:language>
  <cp:lastModifiedBy>user</cp:lastModifiedBy>
  <dcterms:modified xsi:type="dcterms:W3CDTF">2011-10-10T19:44:09Z</dcterms:modified>
  <cp:revision>10</cp:revision>
  <dc:subject/>
  <dc:title>Модальные глаголы</dc:title>
</cp:coreProperties>
</file>