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223-DA19-4AEE-B44A-DE0D756D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1640" y="39636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2FB-820A-4DB5-8E11-B843EF61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196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D52-C041-4F64-B196-0E8A9FAA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176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164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176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224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77F-A2D4-4E5D-92D1-285D6B44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55E1-3FE7-4DBF-ADC8-3068E800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1640" y="1600200"/>
            <a:ext cx="7630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B092-8E1C-4C6D-9072-1E201445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630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B5D8-231C-4CCF-980E-A24122FE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7135-072D-43B6-9EED-A254539B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131A-79EF-4CDA-9652-10F68F7D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63640" y="-206640"/>
            <a:ext cx="712800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CEB9-82E0-491B-A081-F8FAF046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7EAD-D613-4679-A724-FF8B62DD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1640" y="1600200"/>
            <a:ext cx="7630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B73-1E3E-48B1-B122-6EA55B0C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4196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4EC3-66DE-4294-8CE2-79F920F3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76A6-C958-4688-91D9-AD92F3E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31640" y="39636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1D87-E8B5-472F-B267-C369D9DF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4196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CF35-4D3B-4795-892B-5F018FA2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176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3164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176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224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27C1-14E1-4D0D-8F9F-EC3ED364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630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12A-7035-4DDD-BDC9-4CD47F5D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93B-F027-4D74-B3D9-9218F90F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955-E89F-4E80-B3BA-B4F6A30A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640" y="-206640"/>
            <a:ext cx="712800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2AD-7510-4114-91C8-4F37A890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A8C-BE6D-40A6-A869-45345F7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196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BE8-E07D-4322-AC6D-B1506891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EB7-C0FD-4AA2-86F7-37E98507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5434" t="0" r="40158" b="0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547280" y="6237360"/>
            <a:ext cx="2419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140360" y="6237360"/>
            <a:ext cx="28936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80000" y="6245280"/>
            <a:ext cx="130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6BF9BB-0675-4F41-B119-DEE47FD0813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-230040"/>
            <a:ext cx="1008000" cy="7316640"/>
          </a:xfrm>
          <a:custGeom>
            <a:avLst/>
            <a:gdLst/>
            <a:ahLst/>
            <a:rect l="l" t="t" r="r" b="b"/>
            <a:pathLst>
              <a:path w="635" h="4672">
                <a:moveTo>
                  <a:pt x="317" y="159"/>
                </a:moveTo>
                <a:cubicBezTo>
                  <a:pt x="211" y="318"/>
                  <a:pt x="0" y="1928"/>
                  <a:pt x="0" y="2654"/>
                </a:cubicBezTo>
                <a:cubicBezTo>
                  <a:pt x="0" y="3380"/>
                  <a:pt x="211" y="4672"/>
                  <a:pt x="317" y="4513"/>
                </a:cubicBezTo>
                <a:cubicBezTo>
                  <a:pt x="423" y="4354"/>
                  <a:pt x="635" y="2427"/>
                  <a:pt x="635" y="1701"/>
                </a:cubicBezTo>
                <a:cubicBezTo>
                  <a:pt x="635" y="975"/>
                  <a:pt x="423" y="0"/>
                  <a:pt x="317" y="159"/>
                </a:cubicBezTo>
                <a:close/>
              </a:path>
            </a:pathLst>
          </a:cu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331640" y="1600200"/>
            <a:ext cx="7630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6BA92A-6055-461C-A833-6FABA5B83A7D}" type="slidenum">
              <a: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11280" y="1989000"/>
            <a:ext cx="4235760" cy="3600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Число имен существительных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58972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Терехова Т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№ 28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3640" y="250560"/>
            <a:ext cx="7129440" cy="119052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уществительные, приведенные в 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им. п. , поставьте в род. п.</a:t>
            </a: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лограммы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ельсины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зины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шн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товальн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а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84720" y="2997360"/>
            <a:ext cx="4859280" cy="309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Домашняя работ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1280" y="155736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ьте 4 предложения со словами, которые имеют только форму множественного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4464360" cy="284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14560" y="-36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Разминк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ем вы любите пирожки – с картошкой или картофеле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казать:  тюль висел на окне или висел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мпунь освежила или освежи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льса погнулась или рельс погнул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ьте со словами «растрепа» и «плутишка» предложения, чтобы было понятно о личности какого пола идет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из двух формулировок правильна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существительные изменяются по 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существительные относятся к одному из трех р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Образуйте множественное число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ига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фр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т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енок -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11640" y="3213000"/>
            <a:ext cx="4932360" cy="3141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Проверьте себя и сделайте вывод. Как образуется множественное число.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ига – кни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фра – циф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т – брат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енок – теля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жественное число образуется с помощью окончаний –И(Ы), А; суффиксов –Й, -ЕС,  -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Говори правильно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карь – токари, слесарь – слесари, инженер – инженеры, торт – торты,  щупальце – щупальца, договор – договоры, творог -? нефть -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990033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alibri"/>
              </a:rPr>
              <a:t>Запишите, поставьте уда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Исправьте орфографические ошибки. Запишите четверостишие правильно.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иду честного лю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сит с горки ехать Лю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у Сани, а у С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горки сами мчатся С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Я. Козловски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4221000"/>
            <a:ext cx="3413160" cy="2175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68040"/>
            <a:ext cx="7129440" cy="155556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Что обозначают существительные, имеющие только форму множественного числа?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128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илки, тиски, белила, деньги, часы, джинсы, носи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4859640" cy="309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Словарная работ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1280" y="17002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0033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ВОР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990033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ЧЕРН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рота – от  др.-рус. варь – ограда, заб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е чернила изготавливали в Египте из сажи и масла. В Риме были красные чернила ( из пурпура и киновари. Русские чернила делились на копченые ( с сажей) и вареные (остальн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Ответьте на вопрос- шутку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65680" y="3645000"/>
            <a:ext cx="4378320" cy="278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63640" y="1413000"/>
            <a:ext cx="518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Как правильно с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ыбов нет зуб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ыбей нет зуб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ыб нет зу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0:10:54Z</dcterms:created>
  <dc:creator>Таня</dc:creator>
  <dc:description/>
  <dc:language>en-US</dc:language>
  <cp:lastModifiedBy>Таня</cp:lastModifiedBy>
  <dcterms:modified xsi:type="dcterms:W3CDTF">2010-09-25T23:28:16Z</dcterms:modified>
  <cp:revision>3</cp:revision>
  <dc:subject/>
  <dc:title>Слайд 1</dc:title>
</cp:coreProperties>
</file>