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888-287F-4EFC-BB43-9EF57FD2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AC7-997B-4468-9BE2-C699466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471-A26A-44D4-B0F6-EB124B91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176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176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22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E09-6790-48B8-9C9B-4DEB1BE1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B39-A0FB-4F45-861C-9B6126C0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F6F-7327-4DF6-A094-202C185C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99D-C113-4726-B161-71DA6B6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6B8A-3511-489B-B825-DDEFC57E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252-D118-488D-AD48-2F9A5219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-206640"/>
            <a:ext cx="7128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8DF-C537-4700-AADF-763A97D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163-F248-41CE-B0D7-C8B040B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34C-ED46-4FCD-9FAF-F46E467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BF6-05DD-4136-BB26-1953B90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51C6-77B4-4712-8D26-ECED761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916-B3A4-4E07-BAFE-F4F0A78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6D61-B4E0-4902-90C3-1F84662E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176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16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176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2240" y="3963600"/>
            <a:ext cx="245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BF9-AE2B-4737-AE34-02264776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60E-2472-4DB7-9E6A-469743E0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5B8-D957-4F53-AEF3-B0A8D40D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BF1-EBBB-48B0-9C33-C428679E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-206640"/>
            <a:ext cx="71280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6C9-0AF1-42D9-88AE-B5478D41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749-58D3-4B5C-A509-C2D24E1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1960" y="39636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748-DFC8-486F-B6A3-963CC25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1960" y="1600200"/>
            <a:ext cx="3723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3963600"/>
            <a:ext cx="7630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B95-16FE-4F31-A33F-3713155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360"/>
            <a:ext cx="2419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360" y="6237360"/>
            <a:ext cx="28936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5280"/>
            <a:ext cx="130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7F3AE-6075-4187-A361-7B3CA16FFD7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-206640"/>
            <a:ext cx="712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1640" y="1600200"/>
            <a:ext cx="7630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03B8E1-B96D-439C-B337-EEAC41420D8C}" type="slidenum">
              <a:rPr b="0" lang="ru-RU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Число имен существительных</a:t>
            </a:r>
            <a:endParaRPr b="1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589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Терехова Т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 28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250560"/>
            <a:ext cx="7129440" cy="119052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уществительные, приведенные в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им. п. , поставьте в род. п.</a:t>
            </a: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лограмм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ельсин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зины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шн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товальн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5928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Домашняя работ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128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4 предложения со словами, которые имеют только форму множественного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4464360" cy="284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14560" y="-36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Разминк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ем вы любите пирожки – с картошкой или картофел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казать:  тюль висел на окне или висе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мпунь освежила или освеж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льса погнулась или рельс погнул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со словами «растрепа» и «плутишка» предложения, чтобы было понятно о личности какого пола идет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из двух формулировок правильна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уществительные изменяются по 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уществительные относятся к одному из трех р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Образуйте множественное число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енок -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11640" y="3213000"/>
            <a:ext cx="4932360" cy="3141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Проверьте себя и сделайте вывод. Как образуется множественное число.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а –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– циф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 – брат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енок – тел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жественное число образуется с помощью окончаний –И(Ы), А; суффиксов –Й, -ЕС,  -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Говори правильно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арь – токари, слесарь – слесари, инженер – инженеры, торт – торты,  щупальце – щупальца, договор – договоры, творог -? нефть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alibri"/>
              </a:rPr>
              <a:t>Запишите, поставьте уда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Исправьте орфографические ошибки. Запишите четверостишие правильно.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иду честного лю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сит с горки ехать Лю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у Сани, а у С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горки сами мчатся С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Я. Козловск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4221000"/>
            <a:ext cx="3413160" cy="2175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68040"/>
            <a:ext cx="7129440" cy="155556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Calibri"/>
              </a:rPr>
              <a:t>Что обозначают существительные, имеющие только форму множественного числа?</a:t>
            </a:r>
            <a:endParaRPr b="1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128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илки, тиски, белила, деньги, часы, джинсы, носи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485964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Словарная работ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1280" y="1700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ВО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990033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alibri"/>
              </a:rPr>
              <a:t>ЧЕРН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та – от  др.-рус. варь – ограда, за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е чернила изготавливали в Египте из сажи и масла. В Риме были красные чернила ( из пурпура и киновари. Русские чернила делились на копченые ( с сажей) и вареные (остальн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cap="sq"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Ответьте на вопрос- шутку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65680" y="3645000"/>
            <a:ext cx="4378320" cy="278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63640" y="1413000"/>
            <a:ext cx="518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Как правильно с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ов нет зуб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ей нет зу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ыб нет зу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10:54Z</dcterms:created>
  <dc:creator>Таня</dc:creator>
  <dc:description/>
  <dc:language>en-US</dc:language>
  <cp:lastModifiedBy>Таня</cp:lastModifiedBy>
  <dcterms:modified xsi:type="dcterms:W3CDTF">2010-09-25T23:28:16Z</dcterms:modified>
  <cp:revision>3</cp:revision>
  <dc:subject/>
  <dc:title>Слайд 1</dc:title>
</cp:coreProperties>
</file>