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29A-694B-4009-BB66-378B4D94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84E-2CB7-4015-9A78-4515F6F4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1BD-A91F-4192-8B72-7D4A925D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C50-2260-46E9-AE3F-3B732B69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E68B-6BB5-49D1-8910-C9EA5064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7690-584C-44BA-8680-7E333B81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1E90-38D7-4CF3-876F-DDBBDF11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165B-5BBB-4058-8657-684DE22E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3D69-56E7-4E05-80DC-4C55E09F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E098-9139-44FB-A33D-B0D16FB1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F34A-4747-4975-AA2C-2AAECA2D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5BB-1AE9-448E-9ACC-75CD122A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900E-D439-4070-91DC-46B982F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9E0D-95C6-41B2-A6B4-301C162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D5A5-E091-4C91-8E17-41CB792B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5039-1499-4C8B-82C7-10BB084A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166A-D9BF-4C92-8346-07FF5CAE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F28-D0B1-42B5-96FF-5E9B4BBC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A3F-9D8F-4267-9B1C-E166E992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260-2912-4BD6-B717-E3280AA2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F46-B463-4193-A4CD-9F594F69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845-5C75-4C90-B0D1-0072507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BE5-3A3D-4AA2-A974-C606A75E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02E-B1B1-471C-BDD0-11F02ED8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4F1A-793F-453C-B326-6C65D788D1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79AA-95B3-404F-A47F-147224C2C1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373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лементы здоровьесберегающих технологий на уроках английского языка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5:27:35Z</dcterms:created>
  <dc:creator>1</dc:creator>
  <dc:description/>
  <dc:language>en-US</dc:language>
  <cp:lastModifiedBy>1</cp:lastModifiedBy>
  <dcterms:modified xsi:type="dcterms:W3CDTF">2009-10-22T15:46:39Z</dcterms:modified>
  <cp:revision>2</cp:revision>
  <dc:subject/>
  <dc:title>Элементы здоровьесберегающих технологий на уроках английского языка. </dc:title>
</cp:coreProperties>
</file>