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9083-D212-4D93-ABB3-934C9733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B4C3-ACEE-492F-B8CC-A616A3F1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F13-0F7A-4F5A-BF7F-846F6356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3FA-5486-41FA-9FE9-E42EC8B6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EE13-85DC-4380-AE1E-620D1F37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9C4B-0633-4FFA-B25C-99508C26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F14E-ACC4-4F29-8DE8-6EC49591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1027-D14D-4EC1-A4F8-2C109DE5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9F6D-58EE-4E66-AC2C-FE0C7BE9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9C2F-908D-49A8-BF53-FF7C5A73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2E00-6AF4-4D35-9092-C106C1C7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646-68ED-4743-950A-9E4DEE77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E369-EF21-46B2-B27A-04B51308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67F5-5F4D-4F52-8303-540A8041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4234-7E3F-43DC-AD06-0F086D47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9CC0-4A85-45BE-B452-7FAA0D33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2434-811E-47DE-999E-4BBCE60B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A96-15AA-4B2A-A003-32A7BA59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70C-1D82-49A1-A96C-7677CDC0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D96-3597-43D8-BE44-9076661A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401E-A017-4214-B3DA-DA77328A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419-0D0B-4340-8CCA-AB1CA166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D2C-B862-41A6-9213-1DEB6B72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A1B-49EA-449E-A380-6E9D888E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43EA-D284-4DDB-A2C0-8EFB4E8799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3877-B0ED-4067-8D7D-106DF29F9C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373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Элементы здоровьесберегающих технологий на уроках английского языка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5:27:35Z</dcterms:created>
  <dc:creator>1</dc:creator>
  <dc:description/>
  <dc:language>en-US</dc:language>
  <cp:lastModifiedBy>1</cp:lastModifiedBy>
  <dcterms:modified xsi:type="dcterms:W3CDTF">2009-10-22T15:46:39Z</dcterms:modified>
  <cp:revision>2</cp:revision>
  <dc:subject/>
  <dc:title>Элементы здоровьесберегающих технологий на уроках английского языка. </dc:title>
</cp:coreProperties>
</file>