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7.gif" ContentType="image/gif"/>
  <Override PartName="/ppt/media/image8.gif" ContentType="image/gif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67A8-16EC-4905-9E46-7180E16F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200-8AEE-458D-B9BB-AE4D76E5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D37-B345-45DA-A80B-3DB9662F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49A-9688-4AC1-8D5D-1EFFD6B8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E52-E26F-4ECE-BCDB-5C9D9E09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81D3-08D7-411C-BAB9-A0EE04A4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9CB4-93B1-429B-9DAF-E02B027F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D1F-2BF1-4AF8-9A32-558F36E8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7CA-A4AF-4E7F-8E8F-D5DB2926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4A7-B1FF-4A77-B851-38B84BA8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B2C7-9BD2-4763-B4EF-DF9BC197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9F6-DF47-4406-A823-8DE78712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3D13-C384-45D3-BEB2-04601824AA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28880" y="64296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Физический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00320" y="2928600"/>
            <a:ext cx="35715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alibri"/>
              </a:rPr>
              <a:t>9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1" descr="book_w"/>
          <p:cNvPicPr/>
          <p:nvPr/>
        </p:nvPicPr>
        <p:blipFill>
          <a:blip r:embed="rId2"/>
          <a:stretch/>
        </p:blipFill>
        <p:spPr>
          <a:xfrm>
            <a:off x="7351560" y="5353200"/>
            <a:ext cx="1536840" cy="122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Повторим темы: «Взаимодействие тел» и «Колеба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Двойная волна 3" descr=""/>
          <p:cNvPicPr/>
          <p:nvPr/>
        </p:nvPicPr>
        <p:blipFill>
          <a:blip r:embed="rId2"/>
          <a:stretch/>
        </p:blipFill>
        <p:spPr>
          <a:xfrm>
            <a:off x="1962000" y="914400"/>
            <a:ext cx="4633920" cy="540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асть  А      </a:t>
            </a:r>
            <a:r>
              <a:rPr b="1" lang="ru-RU" sz="3600" spc="-1" strike="noStrike" u="sng">
                <a:solidFill>
                  <a:srgbClr val="008000"/>
                </a:solidFill>
                <a:uFillTx/>
                <a:latin typeface="Calibri"/>
              </a:rPr>
              <a:t>Запишите обозначение величины  и её единицы измерени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скорение свободного па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кор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мплитуда колеб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Период колеб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астота колеб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Мас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и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4" descr="Анимашки Книги"/>
          <p:cNvPicPr/>
          <p:nvPr/>
        </p:nvPicPr>
        <p:blipFill>
          <a:blip r:embed="rId2"/>
          <a:stretch/>
        </p:blipFill>
        <p:spPr>
          <a:xfrm>
            <a:off x="4286160" y="4143240"/>
            <a:ext cx="2643120" cy="234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4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4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" nodeType="afterEffect" fill="hold" presetClass="entr" presetID="14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6000"/>
                            </p:stCondLst>
                            <p:childTnLst>
                              <p:par>
                                <p:cTn id="61" nodeType="afterEffect" fill="hold" presetClass="entr" presetID="14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" nodeType="afterEffect" fill="hold" presetClass="entr" presetID="14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асть 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Calibri"/>
              </a:rPr>
              <a:t> 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  </a:t>
            </a:r>
            <a:br>
              <a:rPr sz="3600"/>
            </a:b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Calibri"/>
              </a:rPr>
              <a:t>   </a:t>
            </a:r>
            <a:r>
              <a:rPr b="1" i="1" lang="ru-RU" sz="4400" spc="-1" strike="noStrike" u="sng">
                <a:solidFill>
                  <a:srgbClr val="008000"/>
                </a:solidFill>
                <a:uFillTx/>
                <a:latin typeface="Calibri"/>
              </a:rPr>
              <a:t>Запишите  формулы 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285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периода колеб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закона всемирного тягот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второго закона Ньюто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мпульса т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центростремительного ускор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0" descr="Анимашки Транспорт"/>
          <p:cNvPicPr/>
          <p:nvPr/>
        </p:nvPicPr>
        <p:blipFill>
          <a:blip r:embed="rId2"/>
          <a:stretch/>
        </p:blipFill>
        <p:spPr>
          <a:xfrm rot="2862000">
            <a:off x="7225920" y="2721240"/>
            <a:ext cx="712800" cy="2382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90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асть 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Calibri"/>
              </a:rPr>
              <a:t> 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  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Calibri"/>
              </a:rPr>
              <a:t>  Вычислите</a:t>
            </a:r>
            <a:r>
              <a:rPr b="1" i="1" lang="ru-RU" sz="4400" spc="-1" strike="noStrike" u="sng">
                <a:solidFill>
                  <a:srgbClr val="008000"/>
                </a:solidFill>
                <a:uFillTx/>
                <a:latin typeface="Calibri"/>
              </a:rPr>
              <a:t>…  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7138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пульс  тела  массой 2 кг , движущегося со скоростью  4  м/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206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тростремительное ускорение при движении тела по закруглению радиусом 50 м при скорости движения 10 м/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лу, если тело массой 0,5 кг движется с ускорением 2 м/с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206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ериод колебаний , если тело за 10 с совершает 20 колеб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астоту колебаний, если период колебаний равен 2 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5" descr="h13"/>
          <p:cNvPicPr/>
          <p:nvPr/>
        </p:nvPicPr>
        <p:blipFill>
          <a:blip r:embed="rId2"/>
          <a:stretch/>
        </p:blipFill>
        <p:spPr>
          <a:xfrm>
            <a:off x="7507440" y="5500800"/>
            <a:ext cx="1460520" cy="1119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5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3500"/>
                            </p:stCondLst>
                            <p:childTnLst>
                              <p:par>
                                <p:cTn id="119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3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928800"/>
          <a:ext cx="8229600" cy="5256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ь  А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ь  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сть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С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4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, [  м/с</a:t>
                      </a:r>
                      <a:r>
                        <a:rPr b="0" lang="ru-RU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Ư,[  м/с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[м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,[ с 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ν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,[ Гц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[ кг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[ Н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 =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ᵼ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/ 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 =G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 = m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= m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43040" indent="-743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кг*м/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3040" indent="-743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/с</a:t>
                      </a:r>
                      <a:r>
                        <a:rPr b="0" lang="ru-RU" sz="3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3040" indent="-743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3040" indent="-743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3040" indent="-7430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 Г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3040" indent="-743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76320" cy="1904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76320" cy="19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4786200" y="2214720"/>
                <a:ext cx="1071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М</m:t>
                        </m:r>
                        <m:r>
                          <m:t xml:space="preserve">∗</m:t>
                        </m:r>
                        <m:r>
                          <m:t xml:space="preserve">т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4286160" y="3643200"/>
                <a:ext cx="7146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4" name="Picture 5" descr="пять"/>
          <p:cNvPicPr/>
          <p:nvPr/>
        </p:nvPicPr>
        <p:blipFill>
          <a:blip r:embed="rId4"/>
          <a:stretch/>
        </p:blipFill>
        <p:spPr>
          <a:xfrm>
            <a:off x="3214800" y="4929120"/>
            <a:ext cx="203652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Критерии оцен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«5» –  без ошибок или 1 ошиб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 «4» -  2 – 3 ошиб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 «3» – 4 -7  ошиб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«2» -  более 7 ошиб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hiniki</dc:creator>
  <dc:description/>
  <dc:language>en-US</dc:language>
  <cp:lastModifiedBy>школа</cp:lastModifiedBy>
  <dcterms:modified xsi:type="dcterms:W3CDTF">2013-12-20T08:56:37Z</dcterms:modified>
  <cp:revision>64</cp:revision>
  <dc:subject/>
  <dc:title>Слайд 1</dc:title>
</cp:coreProperties>
</file>