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gif" ContentType="image/gif"/>
  <Override PartName="/ppt/media/image7.gif" ContentType="image/gif"/>
  <Override PartName="/ppt/media/image8.gif" ContentType="image/gif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4004-B79D-4358-845D-C3B6855E3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D90F-1D6B-41FB-894F-F0EAFDF3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6630-C222-4870-B4E9-5BD644503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8E00-6AB9-4704-A7C1-A83E550D8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98EE-CB77-4D2E-B14C-1AF6364F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BB33-029A-432A-9429-3F287C1C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EB6C-7E95-4581-98F3-05FE9F1F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C2EC-6032-4ED6-A334-F6692C7B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6A5B-00D5-4115-9391-D7CC9760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5221-91FA-480D-9454-D6CE0709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3B4E-B2ED-4BB2-BA5A-0C904656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DBB2-B224-471B-A5DF-07E0AE78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ECF0-A079-4ACA-B9B0-E99D0BD55A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28880" y="642960"/>
            <a:ext cx="5572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Физический диктан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00320" y="2928600"/>
            <a:ext cx="357156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Calibri"/>
              </a:rPr>
              <a:t>9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1" descr="book_w"/>
          <p:cNvPicPr/>
          <p:nvPr/>
        </p:nvPicPr>
        <p:blipFill>
          <a:blip r:embed="rId2"/>
          <a:stretch/>
        </p:blipFill>
        <p:spPr>
          <a:xfrm>
            <a:off x="7351560" y="5353200"/>
            <a:ext cx="1536840" cy="1223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Повторим темы: «Взаимодействие тел» и «Колебан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Двойная волна 3" descr=""/>
          <p:cNvPicPr/>
          <p:nvPr/>
        </p:nvPicPr>
        <p:blipFill>
          <a:blip r:embed="rId2"/>
          <a:stretch/>
        </p:blipFill>
        <p:spPr>
          <a:xfrm>
            <a:off x="1962000" y="914400"/>
            <a:ext cx="4633920" cy="5407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Часть  А      </a:t>
            </a:r>
            <a:r>
              <a:rPr b="1" lang="ru-RU" sz="3600" spc="-1" strike="noStrike" u="sng">
                <a:solidFill>
                  <a:srgbClr val="008000"/>
                </a:solidFill>
                <a:uFillTx/>
                <a:latin typeface="Calibri"/>
              </a:rPr>
              <a:t>Запишите обозначение величины  и её единицы измерения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Ускорение свободного пад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Скоро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Амплитуда колеб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Период колеб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Частота колеб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Масс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ил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4" descr="Анимашки Книги"/>
          <p:cNvPicPr/>
          <p:nvPr/>
        </p:nvPicPr>
        <p:blipFill>
          <a:blip r:embed="rId2"/>
          <a:stretch/>
        </p:blipFill>
        <p:spPr>
          <a:xfrm>
            <a:off x="4286160" y="4143240"/>
            <a:ext cx="2643120" cy="2341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4" presetSubtype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14" presetSubtype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" nodeType="afterEffect" fill="hold" presetClass="entr" presetID="14" presetSubtype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" nodeType="afterEffect" fill="hold" presetClass="entr" presetID="14" presetSubtype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1000"/>
                            </p:stCondLst>
                            <p:childTnLst>
                              <p:par>
                                <p:cTn id="57" nodeType="afterEffect" fill="hold" presetClass="entr" presetID="14" presetSubtype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6000"/>
                            </p:stCondLst>
                            <p:childTnLst>
                              <p:par>
                                <p:cTn id="61" nodeType="afterEffect" fill="hold" presetClass="entr" presetID="14" presetSubtype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1000"/>
                            </p:stCondLst>
                            <p:childTnLst>
                              <p:par>
                                <p:cTn id="65" nodeType="afterEffect" fill="hold" presetClass="entr" presetID="14" presetSubtype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Часть 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В </a:t>
            </a:r>
            <a:r>
              <a:rPr b="1" i="1" lang="ru-RU" sz="3600" spc="-1" strike="noStrike" u="sng">
                <a:solidFill>
                  <a:srgbClr val="008000"/>
                </a:solidFill>
                <a:uFillTx/>
                <a:latin typeface="Calibri"/>
              </a:rPr>
              <a:t>  </a:t>
            </a: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  </a:t>
            </a:r>
            <a:br>
              <a:rPr sz="3600"/>
            </a:b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i="1" lang="ru-RU" sz="3600" spc="-1" strike="noStrike" u="sng">
                <a:solidFill>
                  <a:srgbClr val="008000"/>
                </a:solidFill>
                <a:uFillTx/>
                <a:latin typeface="Calibri"/>
              </a:rPr>
              <a:t>   </a:t>
            </a:r>
            <a:r>
              <a:rPr b="1" i="1" lang="ru-RU" sz="4400" spc="-1" strike="noStrike" u="sng">
                <a:solidFill>
                  <a:srgbClr val="008000"/>
                </a:solidFill>
                <a:uFillTx/>
                <a:latin typeface="Calibri"/>
              </a:rPr>
              <a:t>Запишите  формулы 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92852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901"/>
              </a:spcBef>
              <a:buClr>
                <a:srgbClr val="00206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периода колебан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закона всемирного тягот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901"/>
              </a:spcBef>
              <a:buClr>
                <a:srgbClr val="00206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второго закона Ньюто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импульса те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901"/>
              </a:spcBef>
              <a:buClr>
                <a:srgbClr val="00206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центростремительного ускор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0" descr="Анимашки Транспорт"/>
          <p:cNvPicPr/>
          <p:nvPr/>
        </p:nvPicPr>
        <p:blipFill>
          <a:blip r:embed="rId2"/>
          <a:stretch/>
        </p:blipFill>
        <p:spPr>
          <a:xfrm rot="2862000">
            <a:off x="7225920" y="2721240"/>
            <a:ext cx="712800" cy="2382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4" presetSubtype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7000"/>
                            </p:stCondLst>
                            <p:childTnLst>
                              <p:par>
                                <p:cTn id="82" nodeType="afterEffect" fill="hold" presetClass="entr" presetID="14" presetSubtype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86" nodeType="afterEffect" fill="hold" presetClass="entr" presetID="14" presetSubtype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9000"/>
                            </p:stCondLst>
                            <p:childTnLst>
                              <p:par>
                                <p:cTn id="90" nodeType="afterEffect" fill="hold" presetClass="entr" presetID="14" presetSubtype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0"/>
                            </p:stCondLst>
                            <p:childTnLst>
                              <p:par>
                                <p:cTn id="94" nodeType="afterEffect" fill="hold" presetClass="entr" presetID="14" presetSubtype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Часть 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С </a:t>
            </a:r>
            <a:r>
              <a:rPr b="1" i="1" lang="ru-RU" sz="3600" spc="-1" strike="noStrike" u="sng">
                <a:solidFill>
                  <a:srgbClr val="008000"/>
                </a:solidFill>
                <a:uFillTx/>
                <a:latin typeface="Calibri"/>
              </a:rPr>
              <a:t>  </a:t>
            </a: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   </a:t>
            </a:r>
            <a:r>
              <a:rPr b="1" i="1" lang="ru-RU" sz="3600" spc="-1" strike="noStrike" u="sng">
                <a:solidFill>
                  <a:srgbClr val="008000"/>
                </a:solidFill>
                <a:uFillTx/>
                <a:latin typeface="Calibri"/>
              </a:rPr>
              <a:t>  Вычислите</a:t>
            </a:r>
            <a:r>
              <a:rPr b="1" i="1" lang="ru-RU" sz="4400" spc="-1" strike="noStrike" u="sng">
                <a:solidFill>
                  <a:srgbClr val="008000"/>
                </a:solidFill>
                <a:uFillTx/>
                <a:latin typeface="Calibri"/>
              </a:rPr>
              <a:t>…  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71388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мпульс  тела  массой 2 кг , движущегося со скоростью  4  м/с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206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центростремительное ускорение при движении тела по закруглению радиусом 50 м при скорости движения 10 м/с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лу, если тело массой 0,5 кг движется с ускорением 2 м/с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206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ериод колебаний , если тело за 10 с совершает 20 колебани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астоту колебаний, если период колебаний равен 2 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5" descr="h13"/>
          <p:cNvPicPr/>
          <p:nvPr/>
        </p:nvPicPr>
        <p:blipFill>
          <a:blip r:embed="rId2"/>
          <a:stretch/>
        </p:blipFill>
        <p:spPr>
          <a:xfrm>
            <a:off x="7507440" y="5500800"/>
            <a:ext cx="1460520" cy="1119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14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500"/>
                            </p:stCondLst>
                            <p:childTnLst>
                              <p:par>
                                <p:cTn id="111" nodeType="afterEffect" fill="hold" presetClass="entr" presetID="14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5" nodeType="afterEffect" fill="hold" presetClass="entr" presetID="14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3500"/>
                            </p:stCondLst>
                            <p:childTnLst>
                              <p:par>
                                <p:cTn id="119" nodeType="afterEffect" fill="hold" presetClass="entr" presetID="14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1000"/>
                            </p:stCondLst>
                            <p:childTnLst>
                              <p:par>
                                <p:cTn id="123" nodeType="afterEffect" fill="hold" presetClass="entr" presetID="14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ourier New"/>
                <a:ea typeface="Courier New"/>
              </a:rPr>
              <a:t>Проверь себ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928800"/>
          <a:ext cx="8229600" cy="5256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асть  А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асть  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сть 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С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4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, [  м/с</a:t>
                      </a:r>
                      <a:r>
                        <a:rPr b="0" lang="ru-RU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Ư,[  м/с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[м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,[ с 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l-GR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ν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,[ Гц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[ кг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[ Н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 =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ᵼ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/ 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5144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 =G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5144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 = m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5144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 = mv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5144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=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5144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743040" indent="-7430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кг*м/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43040" indent="-7430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м/с</a:t>
                      </a:r>
                      <a:r>
                        <a:rPr b="0" lang="ru-RU" sz="3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43040" indent="-7430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43040" indent="-7430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 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43040" indent="-7430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 Г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43040" indent="-743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76320" cy="1904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76320" cy="190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" name="Object 5"/>
              <p:cNvSpPr txBox="1"/>
              <p:nvPr/>
            </p:nvSpPr>
            <p:spPr>
              <a:xfrm>
                <a:off x="4786200" y="2214720"/>
                <a:ext cx="1071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М</m:t>
                        </m:r>
                        <m:r>
                          <m:t xml:space="preserve">∗</m:t>
                        </m:r>
                        <m:r>
                          <m:t xml:space="preserve">т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6"/>
              <p:cNvSpPr txBox="1"/>
              <p:nvPr/>
            </p:nvSpPr>
            <p:spPr>
              <a:xfrm>
                <a:off x="4286160" y="3643200"/>
                <a:ext cx="71460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4" name="Picture 5" descr="пять"/>
          <p:cNvPicPr/>
          <p:nvPr/>
        </p:nvPicPr>
        <p:blipFill>
          <a:blip r:embed="rId4"/>
          <a:stretch/>
        </p:blipFill>
        <p:spPr>
          <a:xfrm>
            <a:off x="3214800" y="4929120"/>
            <a:ext cx="2036520" cy="175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4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Критерии оцен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На «5» –  без ошибок или 1 ошиб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На  «4» -  2 – 3 ошиб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На  «3» – 4 -7  ошиб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На «2» -  более 7 ошиб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uchiniki</dc:creator>
  <dc:description/>
  <dc:language>en-US</dc:language>
  <cp:lastModifiedBy>школа</cp:lastModifiedBy>
  <dcterms:modified xsi:type="dcterms:W3CDTF">2013-12-20T08:56:37Z</dcterms:modified>
  <cp:revision>64</cp:revision>
  <dc:subject/>
  <dc:title>Слайд 1</dc:title>
</cp:coreProperties>
</file>