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26.jpeg" ContentType="image/jpeg"/>
  <Override PartName="/ppt/media/image19.png" ContentType="image/png"/>
  <Override PartName="/ppt/media/image25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2211-5EF6-4745-9960-8C0837B1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7457-CD08-4175-86FC-F00F1756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DBCF-C6E4-46DC-A032-07938852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45AE-6D04-4BA0-A8AE-E16C83EF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A120-3B1E-4CF8-8DB5-DA0C3903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8F99-4C98-40D2-AFA5-DDC85A7C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9805-4B22-4BDC-87F7-5258E83F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9BC2-3FBD-4708-A4FA-0E928D15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E014-B25B-4C01-B922-1BB97383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E7B8-A850-47D0-880D-CAD0C10D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01BD-188C-4DA5-A7CB-07D78FB4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5DDD-70F1-4F9A-B61B-95DB4D6C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E0F0-3330-4720-91FD-3EEB4987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B78E-8A1F-4169-821D-E6597EC3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BD83-62D9-495A-9DE4-AAC805D8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4B60-4A70-4F0D-B4F8-1149490D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247D-ED8F-42FA-B5C8-4FEB434D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E3D9-F9E7-4A74-8A2B-B953477D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F7B-7E58-4342-B059-D36B5A19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E589-6D33-46E0-ACA2-3F9EF7E6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2896-5EDE-40E7-8DD8-5EB23534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28C5-96EA-4901-8E2F-A25A87E7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6897-6AB9-4603-B763-B98906CC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F812-077C-4E26-BE06-EA37EDE8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FC75-37E8-437A-B44C-CF52F659F0D7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CE12-D1EF-4AFF-8C34-A686A1DFBDF3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852280"/>
            <a:ext cx="7881840" cy="149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Государственные символы Российской Федерации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84360" y="62064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0064"/>
                </a:solidFill>
                <a:latin typeface="Arial"/>
              </a:rPr>
              <a:t>ГБОУ СПО «Волоколамский колледж права экономики и безопас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012000" y="5157720"/>
            <a:ext cx="2307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0064"/>
                </a:solidFill>
                <a:latin typeface="Arial"/>
              </a:rPr>
              <a:t>Выполни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0064"/>
                </a:solidFill>
                <a:latin typeface="Arial"/>
              </a:rPr>
              <a:t>Студент группы Т-</a:t>
            </a:r>
            <a:r>
              <a:rPr b="0" lang="en-US" sz="1800" spc="-1" strike="noStrike">
                <a:solidFill>
                  <a:srgbClr val="070064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0064"/>
                </a:solidFill>
                <a:latin typeface="Arial"/>
              </a:rPr>
              <a:t>Мурашов Бор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:\Геральдика РФ\img\Russian_coa_1699_korb.gif"/>
          <p:cNvPicPr/>
          <p:nvPr/>
        </p:nvPicPr>
        <p:blipFill>
          <a:blip r:embed="rId1"/>
          <a:stretch/>
        </p:blipFill>
        <p:spPr>
          <a:xfrm>
            <a:off x="2124000" y="157320"/>
            <a:ext cx="4824360" cy="57704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3"/>
          <p:cNvSpPr/>
          <p:nvPr/>
        </p:nvSpPr>
        <p:spPr>
          <a:xfrm>
            <a:off x="2987640" y="607068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Герб России, 1699 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:\Геральдика РФ\img\Russian_coa_1730.gif"/>
          <p:cNvPicPr/>
          <p:nvPr/>
        </p:nvPicPr>
        <p:blipFill>
          <a:blip r:embed="rId1"/>
          <a:stretch/>
        </p:blipFill>
        <p:spPr>
          <a:xfrm>
            <a:off x="1908000" y="125280"/>
            <a:ext cx="5400720" cy="58597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3"/>
          <p:cNvSpPr/>
          <p:nvPr/>
        </p:nvSpPr>
        <p:spPr>
          <a:xfrm>
            <a:off x="2847240" y="609768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Герб России, 1730 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H:\Геральдика РФ\img\Russian_COA_1796.jpg"/>
          <p:cNvPicPr/>
          <p:nvPr/>
        </p:nvPicPr>
        <p:blipFill>
          <a:blip r:embed="rId1"/>
          <a:stretch/>
        </p:blipFill>
        <p:spPr>
          <a:xfrm>
            <a:off x="2124000" y="115920"/>
            <a:ext cx="4824360" cy="57006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3"/>
          <p:cNvSpPr/>
          <p:nvPr/>
        </p:nvSpPr>
        <p:spPr>
          <a:xfrm>
            <a:off x="1187280" y="6021360"/>
            <a:ext cx="69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Герб России с Мальтийским крестом, 1800 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:\Геральдика РФ\img\Russian_coa_1830.gif"/>
          <p:cNvPicPr/>
          <p:nvPr/>
        </p:nvPicPr>
        <p:blipFill>
          <a:blip r:embed="rId1"/>
          <a:stretch/>
        </p:blipFill>
        <p:spPr>
          <a:xfrm>
            <a:off x="2050920" y="115920"/>
            <a:ext cx="5257800" cy="58356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3"/>
          <p:cNvSpPr/>
          <p:nvPr/>
        </p:nvSpPr>
        <p:spPr>
          <a:xfrm>
            <a:off x="2920320" y="59529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Герб России, 1830 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:\Геральдика РФ\img\Greater_Coat_of_Arms_of_the_Russian_Empire_1700x1767_pix_Igor_Barbe_2006.jpg"/>
          <p:cNvPicPr/>
          <p:nvPr/>
        </p:nvPicPr>
        <p:blipFill>
          <a:blip r:embed="rId1"/>
          <a:stretch/>
        </p:blipFill>
        <p:spPr>
          <a:xfrm>
            <a:off x="1835280" y="115920"/>
            <a:ext cx="5761080" cy="598788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1079640" y="617220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Большой государственный герб России, 1882 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:\Геральдика РФ\img\Russian_coa_1917_vrem.png"/>
          <p:cNvPicPr/>
          <p:nvPr/>
        </p:nvPicPr>
        <p:blipFill>
          <a:blip r:embed="rId1"/>
          <a:stretch/>
        </p:blipFill>
        <p:spPr>
          <a:xfrm>
            <a:off x="1763640" y="189000"/>
            <a:ext cx="5545080" cy="59054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3"/>
          <p:cNvSpPr/>
          <p:nvPr/>
        </p:nvSpPr>
        <p:spPr>
          <a:xfrm>
            <a:off x="701640" y="609444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Герб России при Временном правительстве, 1917 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:\Геральдика РФ\img\qwe.png"/>
          <p:cNvPicPr/>
          <p:nvPr/>
        </p:nvPicPr>
        <p:blipFill>
          <a:blip r:embed="rId1"/>
          <a:stretch/>
        </p:blipFill>
        <p:spPr>
          <a:xfrm>
            <a:off x="1835280" y="108000"/>
            <a:ext cx="5616360" cy="58150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3"/>
          <p:cNvSpPr/>
          <p:nvPr/>
        </p:nvSpPr>
        <p:spPr>
          <a:xfrm>
            <a:off x="2210040" y="6093000"/>
            <a:ext cx="48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Герб РСФСР, с 1920 по 1978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H:\Геральдика РФ\img\russia_coa_n79.jpg"/>
          <p:cNvPicPr/>
          <p:nvPr/>
        </p:nvPicPr>
        <p:blipFill>
          <a:blip r:embed="rId1"/>
          <a:stretch/>
        </p:blipFill>
        <p:spPr>
          <a:xfrm>
            <a:off x="2195640" y="192240"/>
            <a:ext cx="4954320" cy="59418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4"/>
          <p:cNvSpPr/>
          <p:nvPr/>
        </p:nvSpPr>
        <p:spPr>
          <a:xfrm>
            <a:off x="1332000" y="607068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Современный государственный герб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Флаг Российской Федерац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24" name="Picture 2" descr="H:\Геральдика РФ\img\russia_fl_n455.jpg"/>
          <p:cNvPicPr/>
          <p:nvPr/>
        </p:nvPicPr>
        <p:blipFill>
          <a:blip r:embed="rId1"/>
          <a:stretch/>
        </p:blipFill>
        <p:spPr>
          <a:xfrm>
            <a:off x="-216000" y="1677960"/>
            <a:ext cx="936000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стория флага Российской Федерац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f5897"/>
                </a:solidFill>
                <a:latin typeface="Palatino Linotype"/>
              </a:rPr>
              <a:t>ГЕРБ РОССИЙСКОЙ ФЕДЕРАЦИИ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3" name="Picture 2" descr="H:\Геральдика РФ\img\russia_coa_n79.jpg"/>
          <p:cNvPicPr/>
          <p:nvPr/>
        </p:nvPicPr>
        <p:blipFill>
          <a:blip r:embed="rId1"/>
          <a:stretch/>
        </p:blipFill>
        <p:spPr>
          <a:xfrm>
            <a:off x="2340000" y="1566720"/>
            <a:ext cx="439272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:\Геральдика РФ\img\14545.png"/>
          <p:cNvPicPr/>
          <p:nvPr/>
        </p:nvPicPr>
        <p:blipFill>
          <a:blip r:embed="rId1"/>
          <a:stretch/>
        </p:blipFill>
        <p:spPr>
          <a:xfrm>
            <a:off x="108000" y="907920"/>
            <a:ext cx="4176720" cy="3562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H:\Геральдика РФ\img\fhja.png"/>
          <p:cNvPicPr/>
          <p:nvPr/>
        </p:nvPicPr>
        <p:blipFill>
          <a:blip r:embed="rId2"/>
          <a:stretch/>
        </p:blipFill>
        <p:spPr>
          <a:xfrm>
            <a:off x="4500720" y="907920"/>
            <a:ext cx="4541760" cy="356256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3"/>
          <p:cNvSpPr/>
          <p:nvPr/>
        </p:nvSpPr>
        <p:spPr>
          <a:xfrm>
            <a:off x="1258920" y="5445000"/>
            <a:ext cx="67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полагаемый вид флагов корабля «Орё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5"/>
          <p:cNvSpPr/>
          <p:nvPr/>
        </p:nvSpPr>
        <p:spPr>
          <a:xfrm>
            <a:off x="4348080" y="620640"/>
            <a:ext cx="71640" cy="4103640"/>
          </a:xfrm>
          <a:prstGeom prst="line">
            <a:avLst/>
          </a:prstGeom>
          <a:ln w="9360">
            <a:solidFill>
              <a:srgbClr val="5c7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:\Геральдика РФ\img\800px-Naval_Ensign_of_Russia.svg.png"/>
          <p:cNvPicPr/>
          <p:nvPr/>
        </p:nvPicPr>
        <p:blipFill>
          <a:blip r:embed="rId1"/>
          <a:stretch/>
        </p:blipFill>
        <p:spPr>
          <a:xfrm>
            <a:off x="-181080" y="-100080"/>
            <a:ext cx="9433080" cy="62848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3"/>
          <p:cNvSpPr/>
          <p:nvPr/>
        </p:nvSpPr>
        <p:spPr>
          <a:xfrm>
            <a:off x="3059280" y="627228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Андреевский фл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:\Геральдика РФ\img\desktopwallpapers.org.ua-10185.jpg"/>
          <p:cNvPicPr/>
          <p:nvPr/>
        </p:nvPicPr>
        <p:blipFill>
          <a:blip r:embed="rId1"/>
          <a:stretch/>
        </p:blipFill>
        <p:spPr>
          <a:xfrm>
            <a:off x="-108000" y="-100080"/>
            <a:ext cx="9433080" cy="59054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1619280" y="609300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Государственный флаг России, 1865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H:\Геральдика РФ\img\jkhg.png"/>
          <p:cNvPicPr/>
          <p:nvPr/>
        </p:nvPicPr>
        <p:blipFill>
          <a:blip r:embed="rId1"/>
          <a:stretch/>
        </p:blipFill>
        <p:spPr>
          <a:xfrm>
            <a:off x="-108000" y="-100080"/>
            <a:ext cx="10872720" cy="5715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1258920" y="603576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Флаг СССР (18 апреля 1924 — 25 декабря 199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:\Геральдика РФ\img\russia_fl_n455.jpg"/>
          <p:cNvPicPr/>
          <p:nvPr/>
        </p:nvPicPr>
        <p:blipFill>
          <a:blip r:embed="rId1"/>
          <a:stretch/>
        </p:blipFill>
        <p:spPr>
          <a:xfrm>
            <a:off x="-108000" y="0"/>
            <a:ext cx="9360000" cy="54450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4"/>
          <p:cNvSpPr/>
          <p:nvPr/>
        </p:nvSpPr>
        <p:spPr>
          <a:xfrm>
            <a:off x="1332000" y="587700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Современный государственный флаг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f5897"/>
                </a:solidFill>
                <a:latin typeface="Palatino Linotype"/>
              </a:rPr>
              <a:t>ГИМН РОССИЙСКОЙ ФЕДЕРАЦИИ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6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стория гимна Российской Федерац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3"/>
          <p:cNvSpPr/>
          <p:nvPr/>
        </p:nvSpPr>
        <p:spPr>
          <a:xfrm>
            <a:off x="1442880" y="62064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Palatino Linotype"/>
                <a:ea typeface="Arial"/>
              </a:rPr>
              <a:t>«Боже, Царя храни!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H:\Геральдика РФ\img\WAXbxOdqoEw.jpg"/>
          <p:cNvPicPr/>
          <p:nvPr/>
        </p:nvPicPr>
        <p:blipFill>
          <a:blip r:embed="rId1"/>
          <a:stretch/>
        </p:blipFill>
        <p:spPr>
          <a:xfrm>
            <a:off x="1752480" y="1700280"/>
            <a:ext cx="5616720" cy="4707000"/>
          </a:xfrm>
          <a:prstGeom prst="rect">
            <a:avLst/>
          </a:prstGeom>
          <a:ln w="0">
            <a:noFill/>
          </a:ln>
        </p:spPr>
      </p:pic>
      <p:pic>
        <p:nvPicPr>
          <p:cNvPr id="142" name="boje carya hrani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043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3"/>
          <p:cNvSpPr/>
          <p:nvPr/>
        </p:nvSpPr>
        <p:spPr>
          <a:xfrm>
            <a:off x="1476360" y="1628640"/>
            <a:ext cx="727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Союз нерушимый республик свободных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Сплотила навеки Великая Русь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Да здравствует созданный волей народов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Единый, могучий Советский Союз!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Славься, Отечество наше свободное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Дружбы народов надёжный оплот!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Партия Ленина — сила народная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Нас к торжеству коммунизма ведёт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3059280" y="78264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Гимн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SSSR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148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H:\Геральдика РФ\img\russia_fl_n455.jpg"/>
          <p:cNvPicPr/>
          <p:nvPr/>
        </p:nvPicPr>
        <p:blipFill>
          <a:blip r:embed="rId1"/>
          <a:stretch/>
        </p:blipFill>
        <p:spPr>
          <a:xfrm>
            <a:off x="-108000" y="0"/>
            <a:ext cx="9360000" cy="57326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1332000" y="602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Современный гимн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gimn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5452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стория герба Российской федерац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f5897"/>
                </a:solidFill>
                <a:latin typeface="Palatino Linotype"/>
              </a:rPr>
              <a:t>ГОСУДАРСТВЕННЫЙ ЯЗЫК РОССИЙСКОЙ ФЕДЕРАЦИИ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00000" y="2997360"/>
          <a:ext cx="7417080" cy="2447640"/>
        </p:xfrm>
        <a:graphic>
          <a:graphicData uri="http://schemas.openxmlformats.org/drawingml/2006/table">
            <a:tbl>
              <a:tblPr/>
              <a:tblGrid>
                <a:gridCol w="674640"/>
                <a:gridCol w="673200"/>
                <a:gridCol w="674640"/>
                <a:gridCol w="674640"/>
                <a:gridCol w="675000"/>
                <a:gridCol w="672840"/>
                <a:gridCol w="674640"/>
                <a:gridCol w="675000"/>
                <a:gridCol w="674640"/>
                <a:gridCol w="672840"/>
                <a:gridCol w="675000"/>
              </a:tblGrid>
              <a:tr h="815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Ё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1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15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Ъ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стория государственного языка Российской Федерац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:\Геральдика РФ\img\cer2.gif"/>
          <p:cNvPicPr/>
          <p:nvPr/>
        </p:nvPicPr>
        <p:blipFill>
          <a:blip r:embed="rId1"/>
          <a:stretch/>
        </p:blipFill>
        <p:spPr>
          <a:xfrm>
            <a:off x="395280" y="907920"/>
            <a:ext cx="8329680" cy="43610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1258920" y="580536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Славянский язык Руси(Кирилл и Мефод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900000" y="1989000"/>
          <a:ext cx="7417080" cy="2448000"/>
        </p:xfrm>
        <a:graphic>
          <a:graphicData uri="http://schemas.openxmlformats.org/drawingml/2006/table">
            <a:tbl>
              <a:tblPr/>
              <a:tblGrid>
                <a:gridCol w="674640"/>
                <a:gridCol w="673200"/>
                <a:gridCol w="674640"/>
                <a:gridCol w="674640"/>
                <a:gridCol w="675000"/>
                <a:gridCol w="672840"/>
                <a:gridCol w="674640"/>
                <a:gridCol w="675000"/>
                <a:gridCol w="674640"/>
                <a:gridCol w="672840"/>
                <a:gridCol w="675000"/>
              </a:tblGrid>
              <a:tr h="81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Ё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1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15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Ъ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5" name="TextBox 4"/>
          <p:cNvSpPr/>
          <p:nvPr/>
        </p:nvSpPr>
        <p:spPr>
          <a:xfrm>
            <a:off x="2771640" y="558972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Современны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Arial"/>
              </a:rPr>
              <a:t>Спасибо за внимание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:\Геральдика РФ\img\Seal_of_Vasiliy_and_Ivan_3.png"/>
          <p:cNvPicPr/>
          <p:nvPr/>
        </p:nvPicPr>
        <p:blipFill>
          <a:blip r:embed="rId1"/>
          <a:stretch/>
        </p:blipFill>
        <p:spPr>
          <a:xfrm>
            <a:off x="1187280" y="404640"/>
            <a:ext cx="6667560" cy="52390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3"/>
          <p:cNvSpPr/>
          <p:nvPr/>
        </p:nvSpPr>
        <p:spPr>
          <a:xfrm>
            <a:off x="2036880" y="6021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Печать Ивана III. Середина XV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:\Геральдика РФ\img\Seal_of_Ivan_3.png"/>
          <p:cNvPicPr/>
          <p:nvPr/>
        </p:nvPicPr>
        <p:blipFill>
          <a:blip r:embed="rId1"/>
          <a:stretch/>
        </p:blipFill>
        <p:spPr>
          <a:xfrm>
            <a:off x="684360" y="1341360"/>
            <a:ext cx="7619760" cy="377208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3"/>
          <p:cNvSpPr/>
          <p:nvPr/>
        </p:nvSpPr>
        <p:spPr>
          <a:xfrm>
            <a:off x="2405880" y="6021360"/>
            <a:ext cx="42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Печать Ивана III, 1497 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:\Геральдика РФ\img\Seal_of_Ivan_4_1539.png"/>
          <p:cNvPicPr/>
          <p:nvPr/>
        </p:nvPicPr>
        <p:blipFill>
          <a:blip r:embed="rId1"/>
          <a:stretch/>
        </p:blipFill>
        <p:spPr>
          <a:xfrm>
            <a:off x="666720" y="1268280"/>
            <a:ext cx="7729560" cy="376884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2415240" y="6021360"/>
            <a:ext cx="42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Печать Ивана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IV, 1539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:\Геральдика РФ\img\Russian_coa_1589_grozny.gif"/>
          <p:cNvPicPr/>
          <p:nvPr/>
        </p:nvPicPr>
        <p:blipFill>
          <a:blip r:embed="rId1"/>
          <a:stretch/>
        </p:blipFill>
        <p:spPr>
          <a:xfrm>
            <a:off x="1941480" y="573120"/>
            <a:ext cx="5111640" cy="53420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1505520" y="5951520"/>
            <a:ext cx="66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Печать царя Федора Ивановича, 1589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:\Геральдика РФ\img\Russian_coa_1605_lzhe.gif"/>
          <p:cNvPicPr/>
          <p:nvPr/>
        </p:nvPicPr>
        <p:blipFill>
          <a:blip r:embed="rId1"/>
          <a:stretch/>
        </p:blipFill>
        <p:spPr>
          <a:xfrm>
            <a:off x="2082960" y="549360"/>
            <a:ext cx="4824360" cy="49194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3"/>
          <p:cNvSpPr/>
          <p:nvPr/>
        </p:nvSpPr>
        <p:spPr>
          <a:xfrm>
            <a:off x="2075760" y="6021360"/>
            <a:ext cx="50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Печать Лжедмитрия I, 1604 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:\Геральдика РФ\img\asd.png"/>
          <p:cNvPicPr/>
          <p:nvPr/>
        </p:nvPicPr>
        <p:blipFill>
          <a:blip r:embed="rId1"/>
          <a:stretch/>
        </p:blipFill>
        <p:spPr>
          <a:xfrm>
            <a:off x="2195640" y="104760"/>
            <a:ext cx="4752720" cy="589428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4"/>
          <p:cNvSpPr/>
          <p:nvPr/>
        </p:nvSpPr>
        <p:spPr>
          <a:xfrm>
            <a:off x="1258920" y="611820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Arial"/>
              </a:rPr>
              <a:t>Печать царя Алексея Михайловича 1645 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2:13:03Z</dcterms:created>
  <dc:creator>_FuriousRage_</dc:creator>
  <dc:description/>
  <dc:language>en-US</dc:language>
  <cp:lastModifiedBy>Алексей Пастухов</cp:lastModifiedBy>
  <dcterms:modified xsi:type="dcterms:W3CDTF">2015-01-30T12:51:27Z</dcterms:modified>
  <cp:revision>31</cp:revision>
  <dc:subject/>
  <dc:title>Геральдика Российской Федерации</dc:title>
</cp:coreProperties>
</file>