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26.jpeg" ContentType="image/jpeg"/>
  <Override PartName="/ppt/media/image19.png" ContentType="image/png"/>
  <Override PartName="/ppt/media/image25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277D-8137-4E4A-AB3D-2EE5851F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FDCD-C249-40A2-B5F1-5FBC87DB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4A6F-E89E-4A22-B742-D65C099D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5BBD-CEE5-4FF1-BA28-965C4683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F303-C729-4BD5-AC3F-97C8F097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A9DA-B2A8-444A-B252-F3319B9D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50A0-39A1-45CA-8CB2-1BFA13EC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D88C-3429-4986-89CC-1E60E4D4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90AD-752A-4E31-82CD-C3634C25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2A97-A60E-43F0-B1BC-763C98F4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CF6F-BF57-499C-BF6B-07692F59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0524-CABC-4418-AD83-C3ED3399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7737-F4F6-4085-BB21-445F8704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EF3D-BA88-4F7D-A4B0-ED15EF37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D947-EBBD-4356-966C-B2512B77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2283-A688-420E-855F-E8A98860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124B-060A-4AB0-8DCD-345DCA61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4C0B-0937-4D46-B282-71BEAE81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5049-FF35-4A91-8B0C-CC825AA7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B60-AA9B-48EA-8A45-CB4F021F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F34F-A600-4E7D-B27D-08966B62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2ED6-65D0-4D54-9328-A0025E22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0984-8D37-4A07-842B-F39B8987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B969-ACDB-429E-AF2F-88B07863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B58A-B0EF-4313-8109-09D5CE6531C0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E8C7-BADE-4AB8-8FFF-5BD28386F931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7881840" cy="149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Государственные символы Российской Федерации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84360" y="62064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0064"/>
                </a:solidFill>
                <a:latin typeface="Arial"/>
              </a:rPr>
              <a:t>ГБОУ СПО «Волоколамский колледж права экономики и безопас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012000" y="5157720"/>
            <a:ext cx="2307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0064"/>
                </a:solidFill>
                <a:latin typeface="Arial"/>
              </a:rPr>
              <a:t>Выполни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0064"/>
                </a:solidFill>
                <a:latin typeface="Arial"/>
              </a:rPr>
              <a:t>Студент группы Т-</a:t>
            </a:r>
            <a:r>
              <a:rPr b="0" lang="en-US" sz="1800" spc="-1" strike="noStrike">
                <a:solidFill>
                  <a:srgbClr val="070064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0064"/>
                </a:solidFill>
                <a:latin typeface="Arial"/>
              </a:rPr>
              <a:t>Мурашов Бор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:\Геральдика РФ\img\Russian_coa_1699_korb.gif"/>
          <p:cNvPicPr/>
          <p:nvPr/>
        </p:nvPicPr>
        <p:blipFill>
          <a:blip r:embed="rId1"/>
          <a:stretch/>
        </p:blipFill>
        <p:spPr>
          <a:xfrm>
            <a:off x="2124000" y="157320"/>
            <a:ext cx="4824360" cy="57704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3"/>
          <p:cNvSpPr/>
          <p:nvPr/>
        </p:nvSpPr>
        <p:spPr>
          <a:xfrm>
            <a:off x="2987640" y="607068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Герб России, 1699 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:\Геральдика РФ\img\Russian_coa_1730.gif"/>
          <p:cNvPicPr/>
          <p:nvPr/>
        </p:nvPicPr>
        <p:blipFill>
          <a:blip r:embed="rId1"/>
          <a:stretch/>
        </p:blipFill>
        <p:spPr>
          <a:xfrm>
            <a:off x="1908000" y="125280"/>
            <a:ext cx="5400720" cy="58597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3"/>
          <p:cNvSpPr/>
          <p:nvPr/>
        </p:nvSpPr>
        <p:spPr>
          <a:xfrm>
            <a:off x="2847240" y="609768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Герб России, 1730 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:\Геральдика РФ\img\Russian_COA_1796.jpg"/>
          <p:cNvPicPr/>
          <p:nvPr/>
        </p:nvPicPr>
        <p:blipFill>
          <a:blip r:embed="rId1"/>
          <a:stretch/>
        </p:blipFill>
        <p:spPr>
          <a:xfrm>
            <a:off x="2124000" y="115920"/>
            <a:ext cx="4824360" cy="57006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3"/>
          <p:cNvSpPr/>
          <p:nvPr/>
        </p:nvSpPr>
        <p:spPr>
          <a:xfrm>
            <a:off x="1187280" y="602136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Герб России с Мальтийским крестом, 1800 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:\Геральдика РФ\img\Russian_coa_1830.gif"/>
          <p:cNvPicPr/>
          <p:nvPr/>
        </p:nvPicPr>
        <p:blipFill>
          <a:blip r:embed="rId1"/>
          <a:stretch/>
        </p:blipFill>
        <p:spPr>
          <a:xfrm>
            <a:off x="2050920" y="115920"/>
            <a:ext cx="5257800" cy="58356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2920320" y="59529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Герб России, 1830 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:\Геральдика РФ\img\Greater_Coat_of_Arms_of_the_Russian_Empire_1700x1767_pix_Igor_Barbe_2006.jpg"/>
          <p:cNvPicPr/>
          <p:nvPr/>
        </p:nvPicPr>
        <p:blipFill>
          <a:blip r:embed="rId1"/>
          <a:stretch/>
        </p:blipFill>
        <p:spPr>
          <a:xfrm>
            <a:off x="1835280" y="115920"/>
            <a:ext cx="5761080" cy="598788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1079640" y="617220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Большой государственный герб России, 1882 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:\Геральдика РФ\img\Russian_coa_1917_vrem.png"/>
          <p:cNvPicPr/>
          <p:nvPr/>
        </p:nvPicPr>
        <p:blipFill>
          <a:blip r:embed="rId1"/>
          <a:stretch/>
        </p:blipFill>
        <p:spPr>
          <a:xfrm>
            <a:off x="1763640" y="189000"/>
            <a:ext cx="5545080" cy="59054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3"/>
          <p:cNvSpPr/>
          <p:nvPr/>
        </p:nvSpPr>
        <p:spPr>
          <a:xfrm>
            <a:off x="701640" y="609444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Герб России при Временном правительстве, 1917 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:\Геральдика РФ\img\qwe.png"/>
          <p:cNvPicPr/>
          <p:nvPr/>
        </p:nvPicPr>
        <p:blipFill>
          <a:blip r:embed="rId1"/>
          <a:stretch/>
        </p:blipFill>
        <p:spPr>
          <a:xfrm>
            <a:off x="1835280" y="108000"/>
            <a:ext cx="5616360" cy="58150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"/>
          <p:cNvSpPr/>
          <p:nvPr/>
        </p:nvSpPr>
        <p:spPr>
          <a:xfrm>
            <a:off x="2210040" y="6093000"/>
            <a:ext cx="48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Герб РСФСР, с 1920 по 1978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H:\Геральдика РФ\img\russia_coa_n79.jpg"/>
          <p:cNvPicPr/>
          <p:nvPr/>
        </p:nvPicPr>
        <p:blipFill>
          <a:blip r:embed="rId1"/>
          <a:stretch/>
        </p:blipFill>
        <p:spPr>
          <a:xfrm>
            <a:off x="2195640" y="192240"/>
            <a:ext cx="4954320" cy="59418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4"/>
          <p:cNvSpPr/>
          <p:nvPr/>
        </p:nvSpPr>
        <p:spPr>
          <a:xfrm>
            <a:off x="1332000" y="607068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Современный государственный герб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Флаг Российской Федерац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4" name="Picture 2" descr="H:\Геральдика РФ\img\russia_fl_n455.jpg"/>
          <p:cNvPicPr/>
          <p:nvPr/>
        </p:nvPicPr>
        <p:blipFill>
          <a:blip r:embed="rId1"/>
          <a:stretch/>
        </p:blipFill>
        <p:spPr>
          <a:xfrm>
            <a:off x="-216000" y="1677960"/>
            <a:ext cx="936000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стория флага Российской Федерац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f5897"/>
                </a:solidFill>
                <a:latin typeface="Palatino Linotype"/>
              </a:rPr>
              <a:t>ГЕРБ РОССИЙСКОЙ ФЕДЕРАЦИИ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3" name="Picture 2" descr="H:\Геральдика РФ\img\russia_coa_n79.jpg"/>
          <p:cNvPicPr/>
          <p:nvPr/>
        </p:nvPicPr>
        <p:blipFill>
          <a:blip r:embed="rId1"/>
          <a:stretch/>
        </p:blipFill>
        <p:spPr>
          <a:xfrm>
            <a:off x="2340000" y="1566720"/>
            <a:ext cx="439272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:\Геральдика РФ\img\14545.png"/>
          <p:cNvPicPr/>
          <p:nvPr/>
        </p:nvPicPr>
        <p:blipFill>
          <a:blip r:embed="rId1"/>
          <a:stretch/>
        </p:blipFill>
        <p:spPr>
          <a:xfrm>
            <a:off x="108000" y="907920"/>
            <a:ext cx="4176720" cy="356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H:\Геральдика РФ\img\fhja.png"/>
          <p:cNvPicPr/>
          <p:nvPr/>
        </p:nvPicPr>
        <p:blipFill>
          <a:blip r:embed="rId2"/>
          <a:stretch/>
        </p:blipFill>
        <p:spPr>
          <a:xfrm>
            <a:off x="4500720" y="907920"/>
            <a:ext cx="4541760" cy="356256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3"/>
          <p:cNvSpPr/>
          <p:nvPr/>
        </p:nvSpPr>
        <p:spPr>
          <a:xfrm>
            <a:off x="1258920" y="5445000"/>
            <a:ext cx="67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полагаемый вид флагов корабля «Орё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5"/>
          <p:cNvSpPr/>
          <p:nvPr/>
        </p:nvSpPr>
        <p:spPr>
          <a:xfrm>
            <a:off x="4348080" y="620640"/>
            <a:ext cx="71640" cy="4103640"/>
          </a:xfrm>
          <a:prstGeom prst="line">
            <a:avLst/>
          </a:prstGeom>
          <a:ln w="9360">
            <a:solidFill>
              <a:srgbClr val="5c7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:\Геральдика РФ\img\800px-Naval_Ensign_of_Russia.svg.png"/>
          <p:cNvPicPr/>
          <p:nvPr/>
        </p:nvPicPr>
        <p:blipFill>
          <a:blip r:embed="rId1"/>
          <a:stretch/>
        </p:blipFill>
        <p:spPr>
          <a:xfrm>
            <a:off x="-181080" y="-100080"/>
            <a:ext cx="9433080" cy="62848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3"/>
          <p:cNvSpPr/>
          <p:nvPr/>
        </p:nvSpPr>
        <p:spPr>
          <a:xfrm>
            <a:off x="3059280" y="627228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Андреевский фл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:\Геральдика РФ\img\desktopwallpapers.org.ua-10185.jpg"/>
          <p:cNvPicPr/>
          <p:nvPr/>
        </p:nvPicPr>
        <p:blipFill>
          <a:blip r:embed="rId1"/>
          <a:stretch/>
        </p:blipFill>
        <p:spPr>
          <a:xfrm>
            <a:off x="-108000" y="-100080"/>
            <a:ext cx="9433080" cy="59054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1619280" y="609300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Государственный флаг России, 1865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:\Геральдика РФ\img\jkhg.png"/>
          <p:cNvPicPr/>
          <p:nvPr/>
        </p:nvPicPr>
        <p:blipFill>
          <a:blip r:embed="rId1"/>
          <a:stretch/>
        </p:blipFill>
        <p:spPr>
          <a:xfrm>
            <a:off x="-108000" y="-100080"/>
            <a:ext cx="10872720" cy="5715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1258920" y="603576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Флаг СССР (18 апреля 1924 — 25 декабря 199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:\Геральдика РФ\img\russia_fl_n455.jpg"/>
          <p:cNvPicPr/>
          <p:nvPr/>
        </p:nvPicPr>
        <p:blipFill>
          <a:blip r:embed="rId1"/>
          <a:stretch/>
        </p:blipFill>
        <p:spPr>
          <a:xfrm>
            <a:off x="-108000" y="0"/>
            <a:ext cx="9360000" cy="54450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1332000" y="587700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Современный государственный флаг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f5897"/>
                </a:solidFill>
                <a:latin typeface="Palatino Linotype"/>
              </a:rPr>
              <a:t>ГИМН РОССИЙСКОЙ ФЕДЕРАЦИИ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6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стория гимна Российской Федерац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3"/>
          <p:cNvSpPr/>
          <p:nvPr/>
        </p:nvSpPr>
        <p:spPr>
          <a:xfrm>
            <a:off x="1442880" y="62064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Palatino Linotype"/>
                <a:ea typeface="Arial"/>
              </a:rPr>
              <a:t>«Боже, Царя храни!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H:\Геральдика РФ\img\WAXbxOdqoEw.jpg"/>
          <p:cNvPicPr/>
          <p:nvPr/>
        </p:nvPicPr>
        <p:blipFill>
          <a:blip r:embed="rId1"/>
          <a:stretch/>
        </p:blipFill>
        <p:spPr>
          <a:xfrm>
            <a:off x="1752480" y="1700280"/>
            <a:ext cx="5616720" cy="4707000"/>
          </a:xfrm>
          <a:prstGeom prst="rect">
            <a:avLst/>
          </a:prstGeom>
          <a:ln w="0">
            <a:noFill/>
          </a:ln>
        </p:spPr>
      </p:pic>
      <p:pic>
        <p:nvPicPr>
          <p:cNvPr id="142" name="boje carya hrani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043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3"/>
          <p:cNvSpPr/>
          <p:nvPr/>
        </p:nvSpPr>
        <p:spPr>
          <a:xfrm>
            <a:off x="1476360" y="1628640"/>
            <a:ext cx="727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Союз нерушимый республик свободных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Сплотила навеки Великая Русь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Да здравствует созданный волей народов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Единый, могучий Советский Союз!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Славься, Отечество наше свободное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Дружбы народов надёжный оплот!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Партия Ленина — сила народная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Нас к торжеству коммунизма ведёт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3059280" y="78264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Гимн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SSSR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148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H:\Геральдика РФ\img\russia_fl_n455.jpg"/>
          <p:cNvPicPr/>
          <p:nvPr/>
        </p:nvPicPr>
        <p:blipFill>
          <a:blip r:embed="rId1"/>
          <a:stretch/>
        </p:blipFill>
        <p:spPr>
          <a:xfrm>
            <a:off x="-108000" y="0"/>
            <a:ext cx="9360000" cy="57326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1332000" y="602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Современный гимн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gimn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5452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стория герба Российской федерац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f5897"/>
                </a:solidFill>
                <a:latin typeface="Palatino Linotype"/>
              </a:rPr>
              <a:t>ГОСУДАРСТВЕННЫЙ ЯЗЫК РОССИЙСКОЙ ФЕДЕРАЦИИ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00000" y="2997360"/>
          <a:ext cx="7417080" cy="2447640"/>
        </p:xfrm>
        <a:graphic>
          <a:graphicData uri="http://schemas.openxmlformats.org/drawingml/2006/table">
            <a:tbl>
              <a:tblPr/>
              <a:tblGrid>
                <a:gridCol w="674640"/>
                <a:gridCol w="673200"/>
                <a:gridCol w="674640"/>
                <a:gridCol w="674640"/>
                <a:gridCol w="675000"/>
                <a:gridCol w="672840"/>
                <a:gridCol w="674640"/>
                <a:gridCol w="675000"/>
                <a:gridCol w="674640"/>
                <a:gridCol w="672840"/>
                <a:gridCol w="675000"/>
              </a:tblGrid>
              <a:tr h="815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1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15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Ъ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стория государственного языка Российской Федерац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:\Геральдика РФ\img\cer2.gif"/>
          <p:cNvPicPr/>
          <p:nvPr/>
        </p:nvPicPr>
        <p:blipFill>
          <a:blip r:embed="rId1"/>
          <a:stretch/>
        </p:blipFill>
        <p:spPr>
          <a:xfrm>
            <a:off x="395280" y="907920"/>
            <a:ext cx="8329680" cy="43610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1258920" y="580536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Славянский язык Руси(Кирилл и Мефод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900000" y="1989000"/>
          <a:ext cx="7417080" cy="2448000"/>
        </p:xfrm>
        <a:graphic>
          <a:graphicData uri="http://schemas.openxmlformats.org/drawingml/2006/table">
            <a:tbl>
              <a:tblPr/>
              <a:tblGrid>
                <a:gridCol w="674640"/>
                <a:gridCol w="673200"/>
                <a:gridCol w="674640"/>
                <a:gridCol w="674640"/>
                <a:gridCol w="675000"/>
                <a:gridCol w="672840"/>
                <a:gridCol w="674640"/>
                <a:gridCol w="675000"/>
                <a:gridCol w="674640"/>
                <a:gridCol w="672840"/>
                <a:gridCol w="675000"/>
              </a:tblGrid>
              <a:tr h="81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1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15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Ъ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5" name="TextBox 4"/>
          <p:cNvSpPr/>
          <p:nvPr/>
        </p:nvSpPr>
        <p:spPr>
          <a:xfrm>
            <a:off x="2771640" y="558972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Современны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Arial"/>
              </a:rPr>
              <a:t>Спасибо за внимание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:\Геральдика РФ\img\Seal_of_Vasiliy_and_Ivan_3.png"/>
          <p:cNvPicPr/>
          <p:nvPr/>
        </p:nvPicPr>
        <p:blipFill>
          <a:blip r:embed="rId1"/>
          <a:stretch/>
        </p:blipFill>
        <p:spPr>
          <a:xfrm>
            <a:off x="1187280" y="404640"/>
            <a:ext cx="6667560" cy="52390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3"/>
          <p:cNvSpPr/>
          <p:nvPr/>
        </p:nvSpPr>
        <p:spPr>
          <a:xfrm>
            <a:off x="2036880" y="6021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Печать Ивана III. Середина XV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:\Геральдика РФ\img\Seal_of_Ivan_3.png"/>
          <p:cNvPicPr/>
          <p:nvPr/>
        </p:nvPicPr>
        <p:blipFill>
          <a:blip r:embed="rId1"/>
          <a:stretch/>
        </p:blipFill>
        <p:spPr>
          <a:xfrm>
            <a:off x="684360" y="1341360"/>
            <a:ext cx="7619760" cy="37720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3"/>
          <p:cNvSpPr/>
          <p:nvPr/>
        </p:nvSpPr>
        <p:spPr>
          <a:xfrm>
            <a:off x="2405880" y="6021360"/>
            <a:ext cx="42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Печать Ивана III, 1497 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:\Геральдика РФ\img\Seal_of_Ivan_4_1539.png"/>
          <p:cNvPicPr/>
          <p:nvPr/>
        </p:nvPicPr>
        <p:blipFill>
          <a:blip r:embed="rId1"/>
          <a:stretch/>
        </p:blipFill>
        <p:spPr>
          <a:xfrm>
            <a:off x="666720" y="1268280"/>
            <a:ext cx="7729560" cy="37688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2415240" y="6021360"/>
            <a:ext cx="42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Печать Ивана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IV, 1539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:\Геральдика РФ\img\Russian_coa_1589_grozny.gif"/>
          <p:cNvPicPr/>
          <p:nvPr/>
        </p:nvPicPr>
        <p:blipFill>
          <a:blip r:embed="rId1"/>
          <a:stretch/>
        </p:blipFill>
        <p:spPr>
          <a:xfrm>
            <a:off x="1941480" y="573120"/>
            <a:ext cx="5111640" cy="53420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1505520" y="5951520"/>
            <a:ext cx="66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Печать царя Федора Ивановича, 1589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:\Геральдика РФ\img\Russian_coa_1605_lzhe.gif"/>
          <p:cNvPicPr/>
          <p:nvPr/>
        </p:nvPicPr>
        <p:blipFill>
          <a:blip r:embed="rId1"/>
          <a:stretch/>
        </p:blipFill>
        <p:spPr>
          <a:xfrm>
            <a:off x="2082960" y="549360"/>
            <a:ext cx="4824360" cy="49194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3"/>
          <p:cNvSpPr/>
          <p:nvPr/>
        </p:nvSpPr>
        <p:spPr>
          <a:xfrm>
            <a:off x="2075760" y="6021360"/>
            <a:ext cx="50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Печать Лжедмитрия I, 1604 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:\Геральдика РФ\img\asd.png"/>
          <p:cNvPicPr/>
          <p:nvPr/>
        </p:nvPicPr>
        <p:blipFill>
          <a:blip r:embed="rId1"/>
          <a:stretch/>
        </p:blipFill>
        <p:spPr>
          <a:xfrm>
            <a:off x="2195640" y="104760"/>
            <a:ext cx="4752720" cy="58942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4"/>
          <p:cNvSpPr/>
          <p:nvPr/>
        </p:nvSpPr>
        <p:spPr>
          <a:xfrm>
            <a:off x="1258920" y="611820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Печать царя Алексея Михайловича 1645 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2:13:03Z</dcterms:created>
  <dc:creator>_FuriousRage_</dc:creator>
  <dc:description/>
  <dc:language>en-US</dc:language>
  <cp:lastModifiedBy>Алексей Пастухов</cp:lastModifiedBy>
  <dcterms:modified xsi:type="dcterms:W3CDTF">2015-01-30T12:51:27Z</dcterms:modified>
  <cp:revision>31</cp:revision>
  <dc:subject/>
  <dc:title>Геральдика Российской Федерации</dc:title>
</cp:coreProperties>
</file>