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58F903-109E-413C-9B8A-3215BB8E6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2DD760-F0D1-4DB4-880E-C251B07E07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15837B-B074-4AE4-9151-8CA0BC497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D59CC1-FB7F-42B6-B96C-5581C33D38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2765AE-3517-4488-915F-611481978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559C46-B418-4BF1-B50D-5011F28C16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C163FD-44A2-4524-A643-EB49EA9361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737FA6-BEBC-4C08-AA42-95E511F402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A7DC08-9D97-4C61-985F-5CC0CABA87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649868-D493-4093-A76F-C65611C3DD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5D9-5671-4877-81AD-C4885125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403-6668-4206-B94A-1E810CBF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183-BBD9-4D74-969E-E2BE85D2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3CF-CE83-49C0-AE6F-0295C0B9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D88-DAE3-41FC-B1D7-BF4AFA16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6B3-933B-4ED6-9C50-1E80B7BB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1BA-DE3F-4B7E-B5E4-8D2DEAB9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7F5-8968-45A7-B73F-3B7C4D84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76E-7AE8-49BC-9B86-EB797B21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B85-33A8-4E95-96D2-531C1306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838-35CB-49E9-A149-AACFBE06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3CD-335E-4148-AA2A-6646CD56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D8CA4F-D48C-4F8C-8247-D78F0DDFA66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Имя существительное</a:t>
            </a: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6600cc"/>
                </a:solidFill>
                <a:latin typeface="Arial"/>
              </a:rPr>
              <a:t>Те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600cc"/>
                </a:solidFill>
                <a:latin typeface="Arial"/>
              </a:rPr>
              <a:t>Учитель нач.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600cc"/>
                </a:solidFill>
                <a:latin typeface="Arial"/>
              </a:rPr>
              <a:t>Терехова Т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689120" cy="18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Arial"/>
              </a:rPr>
              <a:t>На какие вопросы отвечает имя существительн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  Какой? Кака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  Что делать? Что сдел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  Кто? Ч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000066"/>
                </a:solidFill>
                <a:uFillTx/>
                <a:latin typeface="Arial"/>
              </a:rPr>
              <a:t>Что обозначает имя существительн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действие пред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количество предм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предм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признак пред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Какое слово является именем существительны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у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гул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прогулоч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990000"/>
                </a:solidFill>
                <a:uFillTx/>
                <a:latin typeface="Arial"/>
              </a:rPr>
              <a:t>Изменяется ли имя существительное по род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н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Arial"/>
              </a:rPr>
              <a:t>Изменяется ли имя существительное по числ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н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990000"/>
                </a:solidFill>
                <a:uFillTx/>
                <a:latin typeface="Arial"/>
              </a:rPr>
              <a:t>В каком случае допущена ошиб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море – ср.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хлеб – м.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чашки – ж.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Начальная форма имени существительног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Кто? Что? в ед.ч. с предл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Кто? Что? в ед.ч. без пред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000099"/>
                </a:solidFill>
                <a:uFillTx/>
                <a:latin typeface="Arial"/>
              </a:rPr>
              <a:t>Формы одного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когда различны оконч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когда различны основы или какие-то их ч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44:19Z</dcterms:created>
  <dc:creator>ALEX</dc:creator>
  <dc:description/>
  <dc:language>en-US</dc:language>
  <cp:lastModifiedBy>Демонстрационная версия</cp:lastModifiedBy>
  <dcterms:modified xsi:type="dcterms:W3CDTF">2015-01-30T18:55:02Z</dcterms:modified>
  <cp:revision>3</cp:revision>
  <dc:subject/>
  <dc:title>Имя существительное и  имя прилагательное</dc:title>
</cp:coreProperties>
</file>