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8313FF-967F-4CBD-B234-74BD54E6B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190D72-1A6D-4941-B289-DC65FC9BD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071982-0388-44B6-A423-8F66D8FBE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97D4C7-AE45-41D0-A06E-CEFE2774A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879435-4E03-4197-9277-7876045EB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4ABE05-A96D-4908-A99C-583243734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71FC1D-D375-4F8C-A26F-01D2E5F73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4F32BB-71FC-428D-AC0C-14EFEABC3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923C4B-BBFE-4AE8-B92A-E6820C7B3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459CB9-958D-4CEE-9671-B49571A3C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446-540E-4238-9D3E-A8AEAD58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7A0-4D8E-4401-A970-E6E3C20A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F06-F8F0-4F85-AE1A-9087CB96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0FB-6A24-4773-B257-A6D8973C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265-83B1-478C-B452-A1424DA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AF3-26B6-435D-A92A-3F99A865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633-B37F-4612-82E8-8F0241DA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44C-4CA7-457F-8E3B-55D4163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705-53E9-40AF-B902-0698FB22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443-2F63-40F9-99C2-4ED16BD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3A0-6D63-4519-A5DF-7210945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00E-941A-4A1F-A689-EFF41B0E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BB73B5-A86C-4E34-BDEB-4E8DFF3E55A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Имя существительное</a:t>
            </a: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6600cc"/>
                </a:solidFill>
                <a:latin typeface="Arial"/>
              </a:rPr>
              <a:t>Те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Учитель нач.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Терех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689120" cy="18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На какие вопросы отвечает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  Какой? Как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  Что делать? Что с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  Кто? 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Что обозначает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действие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количество предм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предм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признак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Какое слово является именем существительны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гул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прогуло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Изменяется ли имя существительное по род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Изменяется ли имя существительное по числ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В каком случае допущена ошиб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море – ср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хлеб – м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чашки – ж.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Начальная форма имени существительног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Кто? Что? в ед.ч. с предл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Кто? Что? в ед.ч. без пред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Формы одного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когда различны оконч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когда различны основы или какие-то их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44:19Z</dcterms:created>
  <dc:creator>ALEX</dc:creator>
  <dc:description/>
  <dc:language>en-US</dc:language>
  <cp:lastModifiedBy>Демонстрационная версия</cp:lastModifiedBy>
  <dcterms:modified xsi:type="dcterms:W3CDTF">2015-01-30T18:55:02Z</dcterms:modified>
  <cp:revision>3</cp:revision>
  <dc:subject/>
  <dc:title>Имя существительное и  имя прилагательное</dc:title>
</cp:coreProperties>
</file>