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6.png" ContentType="image/png"/>
  <Override PartName="/ppt/media/image53.gif" ContentType="image/gif"/>
  <Override PartName="/ppt/media/image45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52.gif" ContentType="image/gif"/>
  <Override PartName="/ppt/media/image38.png" ContentType="image/png"/>
  <Override PartName="/ppt/media/image8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54.gif" ContentType="image/gif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9DA-B6A1-416B-A25F-0C1F0E97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4F6-DB50-4CAA-BE5A-F652B897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22D-D100-441F-A9F2-F84202BD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445-3EF5-4904-B7DA-FBD118F9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7FD7-F6AB-44D1-A593-69FE5F52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CD79-F65B-4E25-B5A5-277B8AC0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CC14-F75A-4F31-ADF8-FB9CDC3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019E-E57F-48E1-A924-F2A9BA6B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2A89-CC48-4A94-AFE8-5F066FC3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E61D-AEB6-4E01-9312-4BFBFE3E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4CE6-CB2F-4126-AFA1-17CDA4C3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B92-0438-4DEB-831D-5A2423C6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2D1D-DF48-4DF1-9A38-5F44B036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D078-459F-47B5-8928-37042B8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C2B6-D12E-43F7-A8C7-48662769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2418-919C-44C2-B812-465212E8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8E77-C21A-42D0-A80D-2BB40425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F55-D626-4943-830D-600F0C1F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272-AEEE-41E4-810B-7A2A3951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B9D-F795-499A-AF3B-52A5EE4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076-CFAF-45F2-B98A-C9944035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97D-92AA-4A79-9757-204E88F3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18C-9C5E-4E15-9843-DACBC44A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A8E-86EE-4C2F-AF6D-F7D5E700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4AC7-52CE-4AEB-A4EC-48C6F0FBE3F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590C-D1E1-48EA-86F9-41B5B41E460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19.png"/><Relationship Id="rId37" Type="http://schemas.openxmlformats.org/officeDocument/2006/relationships/image" Target="../media/image19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6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image" Target="../media/image20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21.png"/><Relationship Id="rId5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6.png"/><Relationship Id="rId23" Type="http://schemas.openxmlformats.org/officeDocument/2006/relationships/image" Target="../media/image36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6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6.png"/><Relationship Id="rId35" Type="http://schemas.openxmlformats.org/officeDocument/2006/relationships/image" Target="../media/image36.png"/><Relationship Id="rId36" Type="http://schemas.openxmlformats.org/officeDocument/2006/relationships/image" Target="../media/image36.png"/><Relationship Id="rId37" Type="http://schemas.openxmlformats.org/officeDocument/2006/relationships/image" Target="../media/image36.png"/><Relationship Id="rId38" Type="http://schemas.openxmlformats.org/officeDocument/2006/relationships/image" Target="../media/image38.png"/><Relationship Id="rId39" Type="http://schemas.openxmlformats.org/officeDocument/2006/relationships/image" Target="../media/image38.png"/><Relationship Id="rId40" Type="http://schemas.openxmlformats.org/officeDocument/2006/relationships/image" Target="../media/image36.png"/><Relationship Id="rId41" Type="http://schemas.openxmlformats.org/officeDocument/2006/relationships/image" Target="../media/image36.png"/><Relationship Id="rId42" Type="http://schemas.openxmlformats.org/officeDocument/2006/relationships/image" Target="../media/image36.png"/><Relationship Id="rId4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3.gif"/><Relationship Id="rId8" Type="http://schemas.openxmlformats.org/officeDocument/2006/relationships/image" Target="../media/image53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3.gif"/><Relationship Id="rId14" Type="http://schemas.openxmlformats.org/officeDocument/2006/relationships/image" Target="../media/image53.gif"/><Relationship Id="rId15" Type="http://schemas.openxmlformats.org/officeDocument/2006/relationships/image" Target="../media/image53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>
            <a:off x="216000" y="243000"/>
            <a:ext cx="8712000" cy="6372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7200" y="658800"/>
            <a:ext cx="2651040" cy="2949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43160" y="677880"/>
            <a:ext cx="2857680" cy="2773440"/>
          </a:xfrm>
          <a:prstGeom prst="rect">
            <a:avLst/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a8456"/>
                </a:solidFill>
                <a:latin typeface="Arial"/>
                <a:ea typeface="Arial"/>
              </a:rPr>
              <a:t>Из чего состоит вс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6" name="AutoShape 4"/>
          <p:cNvGrpSpPr/>
          <p:nvPr/>
        </p:nvGrpSpPr>
        <p:grpSpPr>
          <a:xfrm>
            <a:off x="1763640" y="5661000"/>
            <a:ext cx="5846760" cy="645840"/>
            <a:chOff x="1763640" y="5661000"/>
            <a:chExt cx="5846760" cy="645840"/>
          </a:xfrm>
        </p:grpSpPr>
        <p:pic>
          <p:nvPicPr>
            <p:cNvPr id="117" name="AutoShape 4" descr=""/>
            <p:cNvPicPr/>
            <p:nvPr/>
          </p:nvPicPr>
          <p:blipFill>
            <a:blip r:embed="rId2"/>
            <a:stretch/>
          </p:blipFill>
          <p:spPr>
            <a:xfrm>
              <a:off x="1763640" y="5661000"/>
              <a:ext cx="584676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855800" y="5752800"/>
              <a:ext cx="5622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7375e"/>
                  </a:solidFill>
                  <a:latin typeface="Arial"/>
                </a:rPr>
                <a:t>Казань 201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19" name="AutoShape 4"/>
          <p:cNvGrpSpPr/>
          <p:nvPr/>
        </p:nvGrpSpPr>
        <p:grpSpPr>
          <a:xfrm>
            <a:off x="611280" y="3860640"/>
            <a:ext cx="8015040" cy="1133640"/>
            <a:chOff x="611280" y="3860640"/>
            <a:chExt cx="8015040" cy="1133640"/>
          </a:xfrm>
        </p:grpSpPr>
        <p:pic>
          <p:nvPicPr>
            <p:cNvPr id="120" name="AutoShape 4" descr=""/>
            <p:cNvPicPr/>
            <p:nvPr/>
          </p:nvPicPr>
          <p:blipFill>
            <a:blip r:embed="rId3"/>
            <a:stretch/>
          </p:blipFill>
          <p:spPr>
            <a:xfrm>
              <a:off x="611280" y="3860640"/>
              <a:ext cx="80150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8840" y="3997440"/>
              <a:ext cx="79563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Подготовил ученик 3 б класс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МБОУ СОШ № 12 г. Казани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Асылгараев Марат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2" name="Группа 125"/>
          <p:cNvGrpSpPr/>
          <p:nvPr/>
        </p:nvGrpSpPr>
        <p:grpSpPr>
          <a:xfrm>
            <a:off x="571680" y="714240"/>
            <a:ext cx="2468520" cy="2757600"/>
            <a:chOff x="571680" y="714240"/>
            <a:chExt cx="2468520" cy="2757600"/>
          </a:xfrm>
        </p:grpSpPr>
        <p:pic>
          <p:nvPicPr>
            <p:cNvPr id="123" name="Picture 2" descr="C:\Documents and Settings\Admin\Рабочий стол\16 апреля\Мусор\временная папка\13304550841620884031Detailed Brown Bear Art.svg.med.png"/>
            <p:cNvPicPr/>
            <p:nvPr/>
          </p:nvPicPr>
          <p:blipFill>
            <a:blip r:embed="rId4"/>
            <a:stretch/>
          </p:blipFill>
          <p:spPr>
            <a:xfrm>
              <a:off x="1857600" y="2571840"/>
              <a:ext cx="11037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C:\Documents and Settings\Admin\Рабочий стол\16 апреля\Мусор\временная папка\11949898042019629779gatto_cat_architetto_fra_04.svg.med.png"/>
            <p:cNvPicPr/>
            <p:nvPr/>
          </p:nvPicPr>
          <p:blipFill>
            <a:blip r:embed="rId5"/>
            <a:stretch/>
          </p:blipFill>
          <p:spPr>
            <a:xfrm>
              <a:off x="571680" y="2571840"/>
              <a:ext cx="4168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" descr="C:\Documents and Settings\Admin\Рабочий стол\16 апреля\Мусор\11954432211045781933technoargia_peugeot206blue.svg.med.png"/>
            <p:cNvPicPr/>
            <p:nvPr/>
          </p:nvPicPr>
          <p:blipFill>
            <a:blip r:embed="rId6"/>
            <a:stretch/>
          </p:blipFill>
          <p:spPr>
            <a:xfrm>
              <a:off x="857160" y="2000160"/>
              <a:ext cx="113760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C:\Documents and Settings\Admin\Рабочий стол\16 апреля\Мусор\1240169659847133699rg1024_simple_tree.svg.med.png"/>
            <p:cNvPicPr/>
            <p:nvPr/>
          </p:nvPicPr>
          <p:blipFill>
            <a:blip r:embed="rId7"/>
            <a:stretch/>
          </p:blipFill>
          <p:spPr>
            <a:xfrm>
              <a:off x="1500120" y="1214280"/>
              <a:ext cx="7203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C:\Documents and Settings\Admin\Рабочий стол\16 апреля\Мусор\1321393689511437786Sheep Side View.svg.hi.png"/>
            <p:cNvPicPr/>
            <p:nvPr/>
          </p:nvPicPr>
          <p:blipFill>
            <a:blip r:embed="rId8"/>
            <a:stretch/>
          </p:blipFill>
          <p:spPr>
            <a:xfrm>
              <a:off x="642960" y="928440"/>
              <a:ext cx="901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" descr="C:\Documents and Settings\Admin\Рабочий стол\16 апреля\Мусор\11949844971468298061lamp_sergio_luiz_araujo__01.svg.med.png"/>
            <p:cNvPicPr/>
            <p:nvPr/>
          </p:nvPicPr>
          <p:blipFill>
            <a:blip r:embed="rId9"/>
            <a:stretch/>
          </p:blipFill>
          <p:spPr>
            <a:xfrm>
              <a:off x="2500560" y="714240"/>
              <a:ext cx="5104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8" descr="C:\Documents and Settings\Admin\Рабочий стол\16 апреля\Мусор\11949850601793037291magnifing_glass_gino_riv_01.svg.med.png"/>
            <p:cNvPicPr/>
            <p:nvPr/>
          </p:nvPicPr>
          <p:blipFill>
            <a:blip r:embed="rId10"/>
            <a:stretch/>
          </p:blipFill>
          <p:spPr>
            <a:xfrm>
              <a:off x="2143440" y="1785960"/>
              <a:ext cx="89676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Группа 126"/>
          <p:cNvGrpSpPr/>
          <p:nvPr/>
        </p:nvGrpSpPr>
        <p:grpSpPr>
          <a:xfrm>
            <a:off x="6026040" y="677880"/>
            <a:ext cx="2664000" cy="2916360"/>
            <a:chOff x="6026040" y="677880"/>
            <a:chExt cx="2664000" cy="2916360"/>
          </a:xfrm>
        </p:grpSpPr>
        <p:pic>
          <p:nvPicPr>
            <p:cNvPr id="131" name="Заголовок 1" descr=""/>
            <p:cNvPicPr/>
            <p:nvPr/>
          </p:nvPicPr>
          <p:blipFill>
            <a:blip r:embed="rId11"/>
            <a:stretch/>
          </p:blipFill>
          <p:spPr>
            <a:xfrm>
              <a:off x="6026040" y="677880"/>
              <a:ext cx="2664000" cy="29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Группа 20"/>
            <p:cNvGrpSpPr/>
            <p:nvPr/>
          </p:nvGrpSpPr>
          <p:grpSpPr>
            <a:xfrm>
              <a:off x="6069240" y="2851200"/>
              <a:ext cx="1311840" cy="498240"/>
              <a:chOff x="6069240" y="2851200"/>
              <a:chExt cx="1311840" cy="498240"/>
            </a:xfrm>
          </p:grpSpPr>
          <p:grpSp>
            <p:nvGrpSpPr>
              <p:cNvPr id="133" name="Блок-схема: узел 16"/>
              <p:cNvGrpSpPr/>
              <p:nvPr/>
            </p:nvGrpSpPr>
            <p:grpSpPr>
              <a:xfrm>
                <a:off x="6069240" y="2851200"/>
                <a:ext cx="1311840" cy="498240"/>
                <a:chOff x="6069240" y="2851200"/>
                <a:chExt cx="1311840" cy="498240"/>
              </a:xfrm>
            </p:grpSpPr>
            <p:pic>
              <p:nvPicPr>
                <p:cNvPr id="134" name="Блок-схема: узел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69240" y="2851200"/>
                  <a:ext cx="131184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>
                  <a:off x="6246000" y="2920680"/>
                  <a:ext cx="80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Блок-схема: узел 18"/>
              <p:cNvSpPr/>
              <p:nvPr/>
            </p:nvSpPr>
            <p:spPr>
              <a:xfrm>
                <a:off x="6463800" y="2919960"/>
                <a:ext cx="412200" cy="240120"/>
              </a:xfrm>
              <a:custGeom>
                <a:avLst/>
                <a:gdLst>
                  <a:gd name="textAreaLeft" fmla="*/ 56520 w 412200"/>
                  <a:gd name="textAreaRight" fmla="*/ 326160 w 412200"/>
                  <a:gd name="textAreaTop" fmla="*/ 36000 h 240120"/>
                  <a:gd name="textAreaBottom" fmla="*/ 192960 h 24012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solidFill>
                <a:srgbClr val="663300"/>
              </a:solidFill>
              <a:ln w="0">
                <a:noFill/>
              </a:ln>
              <a:effectLst>
                <a:outerShdw dist="88914" dir="2404373" blurRad="0" rotWithShape="0">
                  <a:srgbClr val="9966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7" name="Блок-схема: узел 19"/>
              <p:cNvGrpSpPr/>
              <p:nvPr/>
            </p:nvGrpSpPr>
            <p:grpSpPr>
              <a:xfrm>
                <a:off x="6664320" y="2978280"/>
                <a:ext cx="456480" cy="365760"/>
                <a:chOff x="6664320" y="2978280"/>
                <a:chExt cx="456480" cy="365760"/>
              </a:xfrm>
            </p:grpSpPr>
            <p:pic>
              <p:nvPicPr>
                <p:cNvPr id="138" name="Блок-схема: узел 1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664320" y="2978280"/>
                  <a:ext cx="456480" cy="36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19626000">
                  <a:off x="6713640" y="3042000"/>
                  <a:ext cx="291600" cy="1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Блок-схема: узел 17"/>
              <p:cNvGrpSpPr/>
              <p:nvPr/>
            </p:nvGrpSpPr>
            <p:grpSpPr>
              <a:xfrm>
                <a:off x="6161400" y="2951640"/>
                <a:ext cx="485280" cy="344520"/>
                <a:chOff x="6161400" y="2951640"/>
                <a:chExt cx="485280" cy="344520"/>
              </a:xfrm>
            </p:grpSpPr>
            <p:pic>
              <p:nvPicPr>
                <p:cNvPr id="141" name="Блок-схема: узел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61400" y="2951640"/>
                  <a:ext cx="485280" cy="34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227640" y="2998800"/>
                  <a:ext cx="2916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Блок-схема: данные 19"/>
            <p:cNvGrpSpPr/>
            <p:nvPr/>
          </p:nvGrpSpPr>
          <p:grpSpPr>
            <a:xfrm>
              <a:off x="6926400" y="1925280"/>
              <a:ext cx="1739160" cy="704880"/>
              <a:chOff x="6926400" y="1925280"/>
              <a:chExt cx="1739160" cy="704880"/>
            </a:xfrm>
          </p:grpSpPr>
          <p:pic>
            <p:nvPicPr>
              <p:cNvPr id="144" name="Блок-схема: данные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26400" y="1925280"/>
                <a:ext cx="173916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7263720" y="1932840"/>
                <a:ext cx="9986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46" name="Группа 21"/>
            <p:cNvGrpSpPr/>
            <p:nvPr/>
          </p:nvGrpSpPr>
          <p:grpSpPr>
            <a:xfrm>
              <a:off x="7791840" y="2709720"/>
              <a:ext cx="723240" cy="711720"/>
              <a:chOff x="7791840" y="2709720"/>
              <a:chExt cx="723240" cy="711720"/>
            </a:xfrm>
          </p:grpSpPr>
          <p:sp>
            <p:nvSpPr>
              <p:cNvPr id="147" name="Прямоугольник 22"/>
              <p:cNvSpPr/>
              <p:nvPr/>
            </p:nvSpPr>
            <p:spPr>
              <a:xfrm>
                <a:off x="7791840" y="2709720"/>
                <a:ext cx="723240" cy="711720"/>
              </a:xfrm>
              <a:prstGeom prst="rect">
                <a:avLst/>
              </a:prstGeom>
              <a:noFill/>
              <a:ln w="936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48" name="Группа 132"/>
              <p:cNvGrpSpPr/>
              <p:nvPr/>
            </p:nvGrpSpPr>
            <p:grpSpPr>
              <a:xfrm>
                <a:off x="7823160" y="2739960"/>
                <a:ext cx="661320" cy="650880"/>
                <a:chOff x="7823160" y="2739960"/>
                <a:chExt cx="661320" cy="650880"/>
              </a:xfrm>
            </p:grpSpPr>
            <p:grpSp>
              <p:nvGrpSpPr>
                <p:cNvPr id="149" name="Группа 94"/>
                <p:cNvGrpSpPr/>
                <p:nvPr/>
              </p:nvGrpSpPr>
              <p:grpSpPr>
                <a:xfrm>
                  <a:off x="7823160" y="2958840"/>
                  <a:ext cx="661320" cy="103320"/>
                  <a:chOff x="7823160" y="2958840"/>
                  <a:chExt cx="661320" cy="103320"/>
                </a:xfrm>
              </p:grpSpPr>
              <p:grpSp>
                <p:nvGrpSpPr>
                  <p:cNvPr id="150" name="Блок-схема: узел 60"/>
                  <p:cNvGrpSpPr/>
                  <p:nvPr/>
                </p:nvGrpSpPr>
                <p:grpSpPr>
                  <a:xfrm>
                    <a:off x="7823160" y="2958840"/>
                    <a:ext cx="129960" cy="103320"/>
                    <a:chOff x="7823160" y="2958840"/>
                    <a:chExt cx="129960" cy="103320"/>
                  </a:xfrm>
                </p:grpSpPr>
                <p:pic>
                  <p:nvPicPr>
                    <p:cNvPr id="151" name="Блок-схема: узел 6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23160" y="295884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78523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Блок-схема: узел 61"/>
                  <p:cNvGrpSpPr/>
                  <p:nvPr/>
                </p:nvGrpSpPr>
                <p:grpSpPr>
                  <a:xfrm>
                    <a:off x="7935120" y="2958840"/>
                    <a:ext cx="123840" cy="103320"/>
                    <a:chOff x="7935120" y="2958840"/>
                    <a:chExt cx="123840" cy="103320"/>
                  </a:xfrm>
                </p:grpSpPr>
                <p:pic>
                  <p:nvPicPr>
                    <p:cNvPr id="154" name="Блок-схема: узел 6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3512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95924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Блок-схема: узел 62"/>
                  <p:cNvGrpSpPr/>
                  <p:nvPr/>
                </p:nvGrpSpPr>
                <p:grpSpPr>
                  <a:xfrm>
                    <a:off x="8041680" y="2958840"/>
                    <a:ext cx="123840" cy="103320"/>
                    <a:chOff x="8041680" y="2958840"/>
                    <a:chExt cx="123840" cy="103320"/>
                  </a:xfrm>
                </p:grpSpPr>
                <p:pic>
                  <p:nvPicPr>
                    <p:cNvPr id="157" name="Блок-схема: узел 6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0416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80665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Блок-схема: узел 63"/>
                  <p:cNvGrpSpPr/>
                  <p:nvPr/>
                </p:nvGrpSpPr>
                <p:grpSpPr>
                  <a:xfrm>
                    <a:off x="8147880" y="2958840"/>
                    <a:ext cx="123840" cy="103320"/>
                    <a:chOff x="8147880" y="2958840"/>
                    <a:chExt cx="123840" cy="103320"/>
                  </a:xfrm>
                </p:grpSpPr>
                <p:pic>
                  <p:nvPicPr>
                    <p:cNvPr id="160" name="Блок-схема: узел 63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1478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817380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Блок-схема: узел 64"/>
                  <p:cNvGrpSpPr/>
                  <p:nvPr/>
                </p:nvGrpSpPr>
                <p:grpSpPr>
                  <a:xfrm>
                    <a:off x="8254080" y="2958840"/>
                    <a:ext cx="123840" cy="103320"/>
                    <a:chOff x="8254080" y="2958840"/>
                    <a:chExt cx="123840" cy="103320"/>
                  </a:xfrm>
                </p:grpSpPr>
                <p:pic>
                  <p:nvPicPr>
                    <p:cNvPr id="163" name="Блок-схема: узел 6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2540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82807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Блок-схема: узел 65"/>
                  <p:cNvGrpSpPr/>
                  <p:nvPr/>
                </p:nvGrpSpPr>
                <p:grpSpPr>
                  <a:xfrm>
                    <a:off x="8360640" y="2958840"/>
                    <a:ext cx="123840" cy="103320"/>
                    <a:chOff x="8360640" y="2958840"/>
                    <a:chExt cx="123840" cy="103320"/>
                  </a:xfrm>
                </p:grpSpPr>
                <p:pic>
                  <p:nvPicPr>
                    <p:cNvPr id="166" name="Блок-схема: узел 65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836064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38836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8" name="Группа 95"/>
                <p:cNvGrpSpPr/>
                <p:nvPr/>
              </p:nvGrpSpPr>
              <p:grpSpPr>
                <a:xfrm>
                  <a:off x="7823160" y="3287520"/>
                  <a:ext cx="661320" cy="103320"/>
                  <a:chOff x="7823160" y="3287520"/>
                  <a:chExt cx="661320" cy="103320"/>
                </a:xfrm>
              </p:grpSpPr>
              <p:grpSp>
                <p:nvGrpSpPr>
                  <p:cNvPr id="169" name="Блок-схема: узел 54"/>
                  <p:cNvGrpSpPr/>
                  <p:nvPr/>
                </p:nvGrpSpPr>
                <p:grpSpPr>
                  <a:xfrm>
                    <a:off x="7823160" y="3287520"/>
                    <a:ext cx="129960" cy="103320"/>
                    <a:chOff x="7823160" y="3287520"/>
                    <a:chExt cx="129960" cy="103320"/>
                  </a:xfrm>
                </p:grpSpPr>
                <p:pic>
                  <p:nvPicPr>
                    <p:cNvPr id="170" name="Блок-схема: узел 5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823160" y="328752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8523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Блок-схема: узел 55"/>
                  <p:cNvGrpSpPr/>
                  <p:nvPr/>
                </p:nvGrpSpPr>
                <p:grpSpPr>
                  <a:xfrm>
                    <a:off x="7935120" y="3287520"/>
                    <a:ext cx="123840" cy="103320"/>
                    <a:chOff x="7935120" y="3287520"/>
                    <a:chExt cx="123840" cy="103320"/>
                  </a:xfrm>
                </p:grpSpPr>
                <p:pic>
                  <p:nvPicPr>
                    <p:cNvPr id="173" name="Блок-схема: узел 55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793512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95924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Блок-схема: узел 56"/>
                  <p:cNvGrpSpPr/>
                  <p:nvPr/>
                </p:nvGrpSpPr>
                <p:grpSpPr>
                  <a:xfrm>
                    <a:off x="8041680" y="3287520"/>
                    <a:ext cx="123840" cy="103320"/>
                    <a:chOff x="8041680" y="3287520"/>
                    <a:chExt cx="123840" cy="103320"/>
                  </a:xfrm>
                </p:grpSpPr>
                <p:pic>
                  <p:nvPicPr>
                    <p:cNvPr id="176" name="Блок-схема: узел 5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0416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80665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Блок-схема: узел 57"/>
                  <p:cNvGrpSpPr/>
                  <p:nvPr/>
                </p:nvGrpSpPr>
                <p:grpSpPr>
                  <a:xfrm>
                    <a:off x="8147880" y="3287520"/>
                    <a:ext cx="123840" cy="103320"/>
                    <a:chOff x="8147880" y="3287520"/>
                    <a:chExt cx="123840" cy="103320"/>
                  </a:xfrm>
                </p:grpSpPr>
                <p:pic>
                  <p:nvPicPr>
                    <p:cNvPr id="179" name="Блок-схема: узел 5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81478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817380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Блок-схема: узел 58"/>
                  <p:cNvGrpSpPr/>
                  <p:nvPr/>
                </p:nvGrpSpPr>
                <p:grpSpPr>
                  <a:xfrm>
                    <a:off x="8254080" y="3287520"/>
                    <a:ext cx="123840" cy="103320"/>
                    <a:chOff x="8254080" y="3287520"/>
                    <a:chExt cx="123840" cy="103320"/>
                  </a:xfrm>
                </p:grpSpPr>
                <p:pic>
                  <p:nvPicPr>
                    <p:cNvPr id="182" name="Блок-схема: узел 5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2540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2807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Блок-схема: узел 59"/>
                  <p:cNvGrpSpPr/>
                  <p:nvPr/>
                </p:nvGrpSpPr>
                <p:grpSpPr>
                  <a:xfrm>
                    <a:off x="8360640" y="3287520"/>
                    <a:ext cx="123840" cy="103320"/>
                    <a:chOff x="8360640" y="3287520"/>
                    <a:chExt cx="123840" cy="103320"/>
                  </a:xfrm>
                </p:grpSpPr>
                <p:pic>
                  <p:nvPicPr>
                    <p:cNvPr id="185" name="Блок-схема: узел 59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836064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38836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7" name="Группа 102"/>
                <p:cNvGrpSpPr/>
                <p:nvPr/>
              </p:nvGrpSpPr>
              <p:grpSpPr>
                <a:xfrm>
                  <a:off x="7823160" y="3178080"/>
                  <a:ext cx="661320" cy="103320"/>
                  <a:chOff x="7823160" y="3178080"/>
                  <a:chExt cx="661320" cy="103320"/>
                </a:xfrm>
              </p:grpSpPr>
              <p:grpSp>
                <p:nvGrpSpPr>
                  <p:cNvPr id="188" name="Блок-схема: узел 48"/>
                  <p:cNvGrpSpPr/>
                  <p:nvPr/>
                </p:nvGrpSpPr>
                <p:grpSpPr>
                  <a:xfrm>
                    <a:off x="7823160" y="3178080"/>
                    <a:ext cx="129960" cy="103320"/>
                    <a:chOff x="7823160" y="3178080"/>
                    <a:chExt cx="129960" cy="103320"/>
                  </a:xfrm>
                </p:grpSpPr>
                <p:pic>
                  <p:nvPicPr>
                    <p:cNvPr id="189" name="Блок-схема: узел 4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823160" y="317808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8523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" name="Блок-схема: узел 49"/>
                  <p:cNvGrpSpPr/>
                  <p:nvPr/>
                </p:nvGrpSpPr>
                <p:grpSpPr>
                  <a:xfrm>
                    <a:off x="7935120" y="3178080"/>
                    <a:ext cx="123840" cy="103320"/>
                    <a:chOff x="7935120" y="3178080"/>
                    <a:chExt cx="123840" cy="103320"/>
                  </a:xfrm>
                </p:grpSpPr>
                <p:pic>
                  <p:nvPicPr>
                    <p:cNvPr id="192" name="Блок-схема: узел 49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93512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95924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" name="Блок-схема: узел 50"/>
                  <p:cNvGrpSpPr/>
                  <p:nvPr/>
                </p:nvGrpSpPr>
                <p:grpSpPr>
                  <a:xfrm>
                    <a:off x="8041680" y="3178080"/>
                    <a:ext cx="123840" cy="103320"/>
                    <a:chOff x="8041680" y="3178080"/>
                    <a:chExt cx="123840" cy="103320"/>
                  </a:xfrm>
                </p:grpSpPr>
                <p:pic>
                  <p:nvPicPr>
                    <p:cNvPr id="195" name="Блок-схема: узел 5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0416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0665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" name="Блок-схема: узел 51"/>
                  <p:cNvGrpSpPr/>
                  <p:nvPr/>
                </p:nvGrpSpPr>
                <p:grpSpPr>
                  <a:xfrm>
                    <a:off x="8147880" y="3178080"/>
                    <a:ext cx="123840" cy="103320"/>
                    <a:chOff x="8147880" y="3178080"/>
                    <a:chExt cx="123840" cy="103320"/>
                  </a:xfrm>
                </p:grpSpPr>
                <p:pic>
                  <p:nvPicPr>
                    <p:cNvPr id="198" name="Блок-схема: узел 51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81478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817380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Блок-схема: узел 52"/>
                  <p:cNvGrpSpPr/>
                  <p:nvPr/>
                </p:nvGrpSpPr>
                <p:grpSpPr>
                  <a:xfrm>
                    <a:off x="8254080" y="3178080"/>
                    <a:ext cx="123840" cy="103320"/>
                    <a:chOff x="8254080" y="3178080"/>
                    <a:chExt cx="123840" cy="103320"/>
                  </a:xfrm>
                </p:grpSpPr>
                <p:pic>
                  <p:nvPicPr>
                    <p:cNvPr id="201" name="Блок-схема: узел 52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82540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82807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" name="Блок-схема: узел 53"/>
                  <p:cNvGrpSpPr/>
                  <p:nvPr/>
                </p:nvGrpSpPr>
                <p:grpSpPr>
                  <a:xfrm>
                    <a:off x="8360640" y="3178080"/>
                    <a:ext cx="123840" cy="103320"/>
                    <a:chOff x="8360640" y="3178080"/>
                    <a:chExt cx="123840" cy="103320"/>
                  </a:xfrm>
                </p:grpSpPr>
                <p:pic>
                  <p:nvPicPr>
                    <p:cNvPr id="204" name="Блок-схема: узел 53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36064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38836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" name="Группа 109"/>
                <p:cNvGrpSpPr/>
                <p:nvPr/>
              </p:nvGrpSpPr>
              <p:grpSpPr>
                <a:xfrm>
                  <a:off x="7823160" y="2849400"/>
                  <a:ext cx="661320" cy="103320"/>
                  <a:chOff x="7823160" y="2849400"/>
                  <a:chExt cx="661320" cy="103320"/>
                </a:xfrm>
              </p:grpSpPr>
              <p:grpSp>
                <p:nvGrpSpPr>
                  <p:cNvPr id="207" name="Блок-схема: узел 42"/>
                  <p:cNvGrpSpPr/>
                  <p:nvPr/>
                </p:nvGrpSpPr>
                <p:grpSpPr>
                  <a:xfrm>
                    <a:off x="7823160" y="2849400"/>
                    <a:ext cx="129960" cy="103320"/>
                    <a:chOff x="7823160" y="2849400"/>
                    <a:chExt cx="129960" cy="103320"/>
                  </a:xfrm>
                </p:grpSpPr>
                <p:pic>
                  <p:nvPicPr>
                    <p:cNvPr id="208" name="Блок-схема: узел 42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823160" y="284940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78523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Блок-схема: узел 43"/>
                  <p:cNvGrpSpPr/>
                  <p:nvPr/>
                </p:nvGrpSpPr>
                <p:grpSpPr>
                  <a:xfrm>
                    <a:off x="7935120" y="2849400"/>
                    <a:ext cx="123840" cy="103320"/>
                    <a:chOff x="7935120" y="2849400"/>
                    <a:chExt cx="123840" cy="103320"/>
                  </a:xfrm>
                </p:grpSpPr>
                <p:pic>
                  <p:nvPicPr>
                    <p:cNvPr id="211" name="Блок-схема: узел 43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93512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95924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Блок-схема: узел 44"/>
                  <p:cNvGrpSpPr/>
                  <p:nvPr/>
                </p:nvGrpSpPr>
                <p:grpSpPr>
                  <a:xfrm>
                    <a:off x="8041680" y="2849400"/>
                    <a:ext cx="123840" cy="103320"/>
                    <a:chOff x="8041680" y="2849400"/>
                    <a:chExt cx="123840" cy="103320"/>
                  </a:xfrm>
                </p:grpSpPr>
                <p:pic>
                  <p:nvPicPr>
                    <p:cNvPr id="214" name="Блок-схема: узел 44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80416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80665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Блок-схема: узел 45"/>
                  <p:cNvGrpSpPr/>
                  <p:nvPr/>
                </p:nvGrpSpPr>
                <p:grpSpPr>
                  <a:xfrm>
                    <a:off x="8147880" y="2849400"/>
                    <a:ext cx="123840" cy="103320"/>
                    <a:chOff x="8147880" y="2849400"/>
                    <a:chExt cx="123840" cy="103320"/>
                  </a:xfrm>
                </p:grpSpPr>
                <p:pic>
                  <p:nvPicPr>
                    <p:cNvPr id="217" name="Блок-схема: узел 45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81478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817380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Блок-схема: узел 46"/>
                  <p:cNvGrpSpPr/>
                  <p:nvPr/>
                </p:nvGrpSpPr>
                <p:grpSpPr>
                  <a:xfrm>
                    <a:off x="8254080" y="2849400"/>
                    <a:ext cx="123840" cy="103320"/>
                    <a:chOff x="8254080" y="2849400"/>
                    <a:chExt cx="123840" cy="103320"/>
                  </a:xfrm>
                </p:grpSpPr>
                <p:pic>
                  <p:nvPicPr>
                    <p:cNvPr id="220" name="Блок-схема: узел 46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82540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2807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Блок-схема: узел 47"/>
                  <p:cNvGrpSpPr/>
                  <p:nvPr/>
                </p:nvGrpSpPr>
                <p:grpSpPr>
                  <a:xfrm>
                    <a:off x="8360640" y="2849400"/>
                    <a:ext cx="123840" cy="103320"/>
                    <a:chOff x="8360640" y="2849400"/>
                    <a:chExt cx="123840" cy="103320"/>
                  </a:xfrm>
                </p:grpSpPr>
                <p:pic>
                  <p:nvPicPr>
                    <p:cNvPr id="223" name="Блок-схема: узел 47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836064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38836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5" name="Группа 116"/>
                <p:cNvGrpSpPr/>
                <p:nvPr/>
              </p:nvGrpSpPr>
              <p:grpSpPr>
                <a:xfrm>
                  <a:off x="7823160" y="3068280"/>
                  <a:ext cx="661320" cy="103320"/>
                  <a:chOff x="7823160" y="3068280"/>
                  <a:chExt cx="661320" cy="103320"/>
                </a:xfrm>
              </p:grpSpPr>
              <p:grpSp>
                <p:nvGrpSpPr>
                  <p:cNvPr id="226" name="Блок-схема: узел 36"/>
                  <p:cNvGrpSpPr/>
                  <p:nvPr/>
                </p:nvGrpSpPr>
                <p:grpSpPr>
                  <a:xfrm>
                    <a:off x="7823160" y="3068280"/>
                    <a:ext cx="129960" cy="103320"/>
                    <a:chOff x="7823160" y="3068280"/>
                    <a:chExt cx="129960" cy="103320"/>
                  </a:xfrm>
                </p:grpSpPr>
                <p:pic>
                  <p:nvPicPr>
                    <p:cNvPr id="227" name="Блок-схема: узел 36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7823160" y="306828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78523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Блок-схема: узел 37"/>
                  <p:cNvGrpSpPr/>
                  <p:nvPr/>
                </p:nvGrpSpPr>
                <p:grpSpPr>
                  <a:xfrm>
                    <a:off x="7935120" y="3068280"/>
                    <a:ext cx="123840" cy="103320"/>
                    <a:chOff x="7935120" y="3068280"/>
                    <a:chExt cx="123840" cy="103320"/>
                  </a:xfrm>
                </p:grpSpPr>
                <p:pic>
                  <p:nvPicPr>
                    <p:cNvPr id="230" name="Блок-схема: узел 37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793512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95924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Блок-схема: узел 38"/>
                  <p:cNvGrpSpPr/>
                  <p:nvPr/>
                </p:nvGrpSpPr>
                <p:grpSpPr>
                  <a:xfrm>
                    <a:off x="8041680" y="3068280"/>
                    <a:ext cx="123840" cy="103320"/>
                    <a:chOff x="8041680" y="3068280"/>
                    <a:chExt cx="123840" cy="103320"/>
                  </a:xfrm>
                </p:grpSpPr>
                <p:pic>
                  <p:nvPicPr>
                    <p:cNvPr id="233" name="Блок-схема: узел 38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0416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80665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" name="Блок-схема: узел 39"/>
                  <p:cNvGrpSpPr/>
                  <p:nvPr/>
                </p:nvGrpSpPr>
                <p:grpSpPr>
                  <a:xfrm>
                    <a:off x="8147880" y="3068280"/>
                    <a:ext cx="123840" cy="103320"/>
                    <a:chOff x="8147880" y="3068280"/>
                    <a:chExt cx="123840" cy="103320"/>
                  </a:xfrm>
                </p:grpSpPr>
                <p:pic>
                  <p:nvPicPr>
                    <p:cNvPr id="236" name="Блок-схема: узел 39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81478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817380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Блок-схема: узел 40"/>
                  <p:cNvGrpSpPr/>
                  <p:nvPr/>
                </p:nvGrpSpPr>
                <p:grpSpPr>
                  <a:xfrm>
                    <a:off x="8254080" y="3068280"/>
                    <a:ext cx="123840" cy="103320"/>
                    <a:chOff x="8254080" y="3068280"/>
                    <a:chExt cx="123840" cy="103320"/>
                  </a:xfrm>
                </p:grpSpPr>
                <p:pic>
                  <p:nvPicPr>
                    <p:cNvPr id="239" name="Блок-схема: узел 40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82540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82807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Блок-схема: узел 41"/>
                  <p:cNvGrpSpPr/>
                  <p:nvPr/>
                </p:nvGrpSpPr>
                <p:grpSpPr>
                  <a:xfrm>
                    <a:off x="8360640" y="3068280"/>
                    <a:ext cx="123840" cy="103320"/>
                    <a:chOff x="8360640" y="3068280"/>
                    <a:chExt cx="123840" cy="103320"/>
                  </a:xfrm>
                </p:grpSpPr>
                <p:pic>
                  <p:nvPicPr>
                    <p:cNvPr id="242" name="Блок-схема: узел 41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6064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38836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Группа 123"/>
                <p:cNvGrpSpPr/>
                <p:nvPr/>
              </p:nvGrpSpPr>
              <p:grpSpPr>
                <a:xfrm>
                  <a:off x="7823160" y="2739960"/>
                  <a:ext cx="661320" cy="103320"/>
                  <a:chOff x="7823160" y="2739960"/>
                  <a:chExt cx="661320" cy="103320"/>
                </a:xfrm>
              </p:grpSpPr>
              <p:grpSp>
                <p:nvGrpSpPr>
                  <p:cNvPr id="245" name="Блок-схема: узел 30"/>
                  <p:cNvGrpSpPr/>
                  <p:nvPr/>
                </p:nvGrpSpPr>
                <p:grpSpPr>
                  <a:xfrm>
                    <a:off x="7823160" y="2739960"/>
                    <a:ext cx="129960" cy="103320"/>
                    <a:chOff x="7823160" y="2739960"/>
                    <a:chExt cx="129960" cy="103320"/>
                  </a:xfrm>
                </p:grpSpPr>
                <p:pic>
                  <p:nvPicPr>
                    <p:cNvPr id="246" name="Блок-схема: узел 30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823160" y="273996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78523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Блок-схема: узел 31"/>
                  <p:cNvGrpSpPr/>
                  <p:nvPr/>
                </p:nvGrpSpPr>
                <p:grpSpPr>
                  <a:xfrm>
                    <a:off x="7935120" y="2739960"/>
                    <a:ext cx="123840" cy="103320"/>
                    <a:chOff x="7935120" y="2739960"/>
                    <a:chExt cx="123840" cy="103320"/>
                  </a:xfrm>
                </p:grpSpPr>
                <p:pic>
                  <p:nvPicPr>
                    <p:cNvPr id="249" name="Блок-схема: узел 31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93512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795924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Блок-схема: узел 32"/>
                  <p:cNvGrpSpPr/>
                  <p:nvPr/>
                </p:nvGrpSpPr>
                <p:grpSpPr>
                  <a:xfrm>
                    <a:off x="8041680" y="2739960"/>
                    <a:ext cx="123840" cy="103320"/>
                    <a:chOff x="8041680" y="2739960"/>
                    <a:chExt cx="123840" cy="103320"/>
                  </a:xfrm>
                </p:grpSpPr>
                <p:pic>
                  <p:nvPicPr>
                    <p:cNvPr id="252" name="Блок-схема: узел 32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80416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80665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Блок-схема: узел 33"/>
                  <p:cNvGrpSpPr/>
                  <p:nvPr/>
                </p:nvGrpSpPr>
                <p:grpSpPr>
                  <a:xfrm>
                    <a:off x="8147880" y="2739960"/>
                    <a:ext cx="123840" cy="103320"/>
                    <a:chOff x="8147880" y="2739960"/>
                    <a:chExt cx="123840" cy="103320"/>
                  </a:xfrm>
                </p:grpSpPr>
                <p:pic>
                  <p:nvPicPr>
                    <p:cNvPr id="255" name="Блок-схема: узел 33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81478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817380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Блок-схема: узел 34"/>
                  <p:cNvGrpSpPr/>
                  <p:nvPr/>
                </p:nvGrpSpPr>
                <p:grpSpPr>
                  <a:xfrm>
                    <a:off x="8254080" y="2739960"/>
                    <a:ext cx="123840" cy="103320"/>
                    <a:chOff x="8254080" y="2739960"/>
                    <a:chExt cx="123840" cy="103320"/>
                  </a:xfrm>
                </p:grpSpPr>
                <p:pic>
                  <p:nvPicPr>
                    <p:cNvPr id="258" name="Блок-схема: узел 34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82540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82807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Блок-схема: узел 35"/>
                  <p:cNvGrpSpPr/>
                  <p:nvPr/>
                </p:nvGrpSpPr>
                <p:grpSpPr>
                  <a:xfrm>
                    <a:off x="8360640" y="2739960"/>
                    <a:ext cx="123840" cy="103320"/>
                    <a:chOff x="8360640" y="2739960"/>
                    <a:chExt cx="123840" cy="103320"/>
                  </a:xfrm>
                </p:grpSpPr>
                <p:pic>
                  <p:nvPicPr>
                    <p:cNvPr id="261" name="Блок-схема: узел 35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6064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838836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3" name="Группа 66"/>
            <p:cNvGrpSpPr/>
            <p:nvPr/>
          </p:nvGrpSpPr>
          <p:grpSpPr>
            <a:xfrm>
              <a:off x="6141240" y="1932840"/>
              <a:ext cx="723240" cy="711720"/>
              <a:chOff x="6141240" y="1932840"/>
              <a:chExt cx="723240" cy="711720"/>
            </a:xfrm>
          </p:grpSpPr>
          <p:grpSp>
            <p:nvGrpSpPr>
              <p:cNvPr id="264" name="Блок-схема: узел 6"/>
              <p:cNvGrpSpPr/>
              <p:nvPr/>
            </p:nvGrpSpPr>
            <p:grpSpPr>
              <a:xfrm>
                <a:off x="6374880" y="2262240"/>
                <a:ext cx="140760" cy="132480"/>
                <a:chOff x="6374880" y="2262240"/>
                <a:chExt cx="140760" cy="132480"/>
              </a:xfrm>
            </p:grpSpPr>
            <p:pic>
              <p:nvPicPr>
                <p:cNvPr id="265" name="Блок-схема: узел 6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6374880" y="2262240"/>
                  <a:ext cx="14076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>
                  <a:off x="6404760" y="228960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Блок-схема: узел 7"/>
              <p:cNvGrpSpPr/>
              <p:nvPr/>
            </p:nvGrpSpPr>
            <p:grpSpPr>
              <a:xfrm>
                <a:off x="6301440" y="2014560"/>
                <a:ext cx="134640" cy="138600"/>
                <a:chOff x="6301440" y="2014560"/>
                <a:chExt cx="134640" cy="138600"/>
              </a:xfrm>
            </p:grpSpPr>
            <p:pic>
              <p:nvPicPr>
                <p:cNvPr id="268" name="Блок-схема: узел 7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6301440" y="201456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6330600" y="20455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Блок-схема: узел 8"/>
              <p:cNvSpPr/>
              <p:nvPr/>
            </p:nvSpPr>
            <p:spPr>
              <a:xfrm>
                <a:off x="6141240" y="1932840"/>
                <a:ext cx="723240" cy="711720"/>
              </a:xfrm>
              <a:prstGeom prst="flowChartConnector">
                <a:avLst/>
              </a:prstGeom>
              <a:noFill/>
              <a:ln w="936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71" name="Блок-схема: узел 70"/>
              <p:cNvGrpSpPr/>
              <p:nvPr/>
            </p:nvGrpSpPr>
            <p:grpSpPr>
              <a:xfrm>
                <a:off x="6576840" y="2014560"/>
                <a:ext cx="134640" cy="138600"/>
                <a:chOff x="6576840" y="2014560"/>
                <a:chExt cx="134640" cy="138600"/>
              </a:xfrm>
            </p:grpSpPr>
            <p:pic>
              <p:nvPicPr>
                <p:cNvPr id="272" name="Блок-схема: узел 70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576840" y="201456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3" name=""/>
                <p:cNvSpPr/>
                <p:nvPr/>
              </p:nvSpPr>
              <p:spPr>
                <a:xfrm>
                  <a:off x="6602760" y="20455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Блок-схема: узел 71"/>
              <p:cNvGrpSpPr/>
              <p:nvPr/>
            </p:nvGrpSpPr>
            <p:grpSpPr>
              <a:xfrm>
                <a:off x="6625800" y="2214000"/>
                <a:ext cx="134640" cy="132480"/>
                <a:chOff x="6625800" y="2214000"/>
                <a:chExt cx="134640" cy="132480"/>
              </a:xfrm>
            </p:grpSpPr>
            <p:pic>
              <p:nvPicPr>
                <p:cNvPr id="275" name="Блок-схема: узел 71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6625800" y="2214000"/>
                  <a:ext cx="13464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6" name=""/>
                <p:cNvSpPr/>
                <p:nvPr/>
              </p:nvSpPr>
              <p:spPr>
                <a:xfrm>
                  <a:off x="6652080" y="224100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Блок-схема: узел 72"/>
              <p:cNvGrpSpPr/>
              <p:nvPr/>
            </p:nvGrpSpPr>
            <p:grpSpPr>
              <a:xfrm>
                <a:off x="6252480" y="2431080"/>
                <a:ext cx="134640" cy="132480"/>
                <a:chOff x="6252480" y="2431080"/>
                <a:chExt cx="134640" cy="132480"/>
              </a:xfrm>
            </p:grpSpPr>
            <p:pic>
              <p:nvPicPr>
                <p:cNvPr id="278" name="Блок-схема: узел 72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6252480" y="2431080"/>
                  <a:ext cx="13464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9" name=""/>
                <p:cNvSpPr/>
                <p:nvPr/>
              </p:nvSpPr>
              <p:spPr>
                <a:xfrm>
                  <a:off x="6281280" y="246024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Блок-схема: узел 73"/>
              <p:cNvGrpSpPr/>
              <p:nvPr/>
            </p:nvGrpSpPr>
            <p:grpSpPr>
              <a:xfrm>
                <a:off x="6576840" y="2455200"/>
                <a:ext cx="134640" cy="138600"/>
                <a:chOff x="6576840" y="2455200"/>
                <a:chExt cx="134640" cy="138600"/>
              </a:xfrm>
            </p:grpSpPr>
            <p:pic>
              <p:nvPicPr>
                <p:cNvPr id="281" name="Блок-схема: узел 73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6576840" y="245520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2" name=""/>
                <p:cNvSpPr/>
                <p:nvPr/>
              </p:nvSpPr>
              <p:spPr>
                <a:xfrm>
                  <a:off x="6602760" y="24847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Группа 74"/>
            <p:cNvGrpSpPr/>
            <p:nvPr/>
          </p:nvGrpSpPr>
          <p:grpSpPr>
            <a:xfrm>
              <a:off x="7720200" y="1155960"/>
              <a:ext cx="741600" cy="711720"/>
              <a:chOff x="7720200" y="1155960"/>
              <a:chExt cx="741600" cy="711720"/>
            </a:xfrm>
          </p:grpSpPr>
          <p:sp>
            <p:nvSpPr>
              <p:cNvPr id="284" name="Блок-схема: узел 75"/>
              <p:cNvSpPr/>
              <p:nvPr/>
            </p:nvSpPr>
            <p:spPr>
              <a:xfrm>
                <a:off x="7896960" y="1228680"/>
                <a:ext cx="116280" cy="111240"/>
              </a:xfrm>
              <a:prstGeom prst="flowChartConnector">
                <a:avLst/>
              </a:prstGeom>
              <a:solidFill>
                <a:srgbClr val="0066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5" name="Группа 167"/>
              <p:cNvGrpSpPr/>
              <p:nvPr/>
            </p:nvGrpSpPr>
            <p:grpSpPr>
              <a:xfrm>
                <a:off x="7720200" y="1155960"/>
                <a:ext cx="741600" cy="711720"/>
                <a:chOff x="7720200" y="1155960"/>
                <a:chExt cx="741600" cy="711720"/>
              </a:xfrm>
            </p:grpSpPr>
            <p:sp>
              <p:nvSpPr>
                <p:cNvPr id="286" name="Блок-схема: узел 77"/>
                <p:cNvSpPr/>
                <p:nvPr/>
              </p:nvSpPr>
              <p:spPr>
                <a:xfrm>
                  <a:off x="7720200" y="1155960"/>
                  <a:ext cx="741600" cy="711720"/>
                </a:xfrm>
                <a:prstGeom prst="flowChartConnector">
                  <a:avLst/>
                </a:prstGeom>
                <a:noFill/>
                <a:ln w="9360">
                  <a:solidFill>
                    <a:srgbClr val="c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Группа 139"/>
                <p:cNvGrpSpPr/>
                <p:nvPr/>
              </p:nvGrpSpPr>
              <p:grpSpPr>
                <a:xfrm>
                  <a:off x="7745400" y="1374480"/>
                  <a:ext cx="267480" cy="232560"/>
                  <a:chOff x="7745400" y="1374480"/>
                  <a:chExt cx="267480" cy="232560"/>
                </a:xfrm>
              </p:grpSpPr>
              <p:sp>
                <p:nvSpPr>
                  <p:cNvPr id="288" name="Блок-схема: узел 94"/>
                  <p:cNvSpPr/>
                  <p:nvPr/>
                </p:nvSpPr>
                <p:spPr>
                  <a:xfrm>
                    <a:off x="7745400" y="14968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Блок-схема: узел 95"/>
                  <p:cNvSpPr/>
                  <p:nvPr/>
                </p:nvSpPr>
                <p:spPr>
                  <a:xfrm>
                    <a:off x="7898400" y="14968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Блок-схема: узел 96"/>
                  <p:cNvSpPr/>
                  <p:nvPr/>
                </p:nvSpPr>
                <p:spPr>
                  <a:xfrm>
                    <a:off x="7821720" y="13744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1" name="Блок-схема: узел 79"/>
                <p:cNvSpPr/>
                <p:nvPr/>
              </p:nvSpPr>
              <p:spPr>
                <a:xfrm>
                  <a:off x="8278560" y="147168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2" name="Блок-схема: узел 80"/>
                <p:cNvSpPr/>
                <p:nvPr/>
              </p:nvSpPr>
              <p:spPr>
                <a:xfrm>
                  <a:off x="8227440" y="161784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3" name="Блок-схема: узел 81"/>
                <p:cNvSpPr/>
                <p:nvPr/>
              </p:nvSpPr>
              <p:spPr>
                <a:xfrm>
                  <a:off x="7796520" y="161784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4" name="Блок-схема: узел 82"/>
                <p:cNvSpPr/>
                <p:nvPr/>
              </p:nvSpPr>
              <p:spPr>
                <a:xfrm>
                  <a:off x="8075880" y="117936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Группа 140"/>
                <p:cNvGrpSpPr/>
                <p:nvPr/>
              </p:nvGrpSpPr>
              <p:grpSpPr>
                <a:xfrm>
                  <a:off x="8126280" y="1228320"/>
                  <a:ext cx="267480" cy="232560"/>
                  <a:chOff x="8126280" y="1228320"/>
                  <a:chExt cx="267480" cy="232560"/>
                </a:xfrm>
              </p:grpSpPr>
              <p:sp>
                <p:nvSpPr>
                  <p:cNvPr id="296" name="Блок-схема: узел 91"/>
                  <p:cNvSpPr/>
                  <p:nvPr/>
                </p:nvSpPr>
                <p:spPr>
                  <a:xfrm>
                    <a:off x="8126280" y="1350720"/>
                    <a:ext cx="11520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Блок-схема: узел 92"/>
                  <p:cNvSpPr/>
                  <p:nvPr/>
                </p:nvSpPr>
                <p:spPr>
                  <a:xfrm>
                    <a:off x="8278560" y="1350720"/>
                    <a:ext cx="11520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Блок-схема: узел 93"/>
                  <p:cNvSpPr/>
                  <p:nvPr/>
                </p:nvSpPr>
                <p:spPr>
                  <a:xfrm>
                    <a:off x="8202960" y="1228320"/>
                    <a:ext cx="11376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Группа 159"/>
                <p:cNvGrpSpPr/>
                <p:nvPr/>
              </p:nvGrpSpPr>
              <p:grpSpPr>
                <a:xfrm>
                  <a:off x="7900560" y="1561680"/>
                  <a:ext cx="289440" cy="300600"/>
                  <a:chOff x="7900560" y="1561680"/>
                  <a:chExt cx="289440" cy="300600"/>
                </a:xfrm>
              </p:grpSpPr>
              <p:sp>
                <p:nvSpPr>
                  <p:cNvPr id="300" name="Блок-схема: узел 88"/>
                  <p:cNvSpPr/>
                  <p:nvPr/>
                </p:nvSpPr>
                <p:spPr>
                  <a:xfrm rot="2119800">
                    <a:off x="7921080" y="1641960"/>
                    <a:ext cx="11808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Блок-схема: узел 89"/>
                  <p:cNvSpPr/>
                  <p:nvPr/>
                </p:nvSpPr>
                <p:spPr>
                  <a:xfrm rot="2119800">
                    <a:off x="8044200" y="1729080"/>
                    <a:ext cx="11664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Блок-схема: узел 90"/>
                  <p:cNvSpPr/>
                  <p:nvPr/>
                </p:nvSpPr>
                <p:spPr>
                  <a:xfrm rot="2119800">
                    <a:off x="8053920" y="1584720"/>
                    <a:ext cx="11484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Блок-схема: узел 85"/>
                <p:cNvSpPr/>
                <p:nvPr/>
              </p:nvSpPr>
              <p:spPr>
                <a:xfrm>
                  <a:off x="7973640" y="1350720"/>
                  <a:ext cx="114840" cy="1098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4" name="Блок-схема: узел 86"/>
                <p:cNvSpPr/>
                <p:nvPr/>
              </p:nvSpPr>
              <p:spPr>
                <a:xfrm>
                  <a:off x="8150760" y="1496880"/>
                  <a:ext cx="116280" cy="1098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5" name="Блок-схема: узел 87"/>
                <p:cNvSpPr/>
                <p:nvPr/>
              </p:nvSpPr>
              <p:spPr>
                <a:xfrm>
                  <a:off x="8024760" y="147168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Группа 101"/>
            <p:cNvGrpSpPr/>
            <p:nvPr/>
          </p:nvGrpSpPr>
          <p:grpSpPr>
            <a:xfrm>
              <a:off x="6284880" y="802800"/>
              <a:ext cx="1149840" cy="1103040"/>
              <a:chOff x="6284880" y="802800"/>
              <a:chExt cx="1149840" cy="1103040"/>
            </a:xfrm>
          </p:grpSpPr>
          <p:sp>
            <p:nvSpPr>
              <p:cNvPr id="307" name="Блок-схема: узел 102"/>
              <p:cNvSpPr/>
              <p:nvPr/>
            </p:nvSpPr>
            <p:spPr>
              <a:xfrm>
                <a:off x="6560640" y="916560"/>
                <a:ext cx="178560" cy="171000"/>
              </a:xfrm>
              <a:prstGeom prst="flowChartConnector">
                <a:avLst/>
              </a:prstGeom>
              <a:solidFill>
                <a:srgbClr val="0066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08" name="Группа 167"/>
              <p:cNvGrpSpPr/>
              <p:nvPr/>
            </p:nvGrpSpPr>
            <p:grpSpPr>
              <a:xfrm>
                <a:off x="6284880" y="802800"/>
                <a:ext cx="1149840" cy="1103040"/>
                <a:chOff x="6284880" y="802800"/>
                <a:chExt cx="1149840" cy="1103040"/>
              </a:xfrm>
            </p:grpSpPr>
            <p:sp>
              <p:nvSpPr>
                <p:cNvPr id="309" name="Блок-схема: узел 104"/>
                <p:cNvSpPr/>
                <p:nvPr/>
              </p:nvSpPr>
              <p:spPr>
                <a:xfrm>
                  <a:off x="6284880" y="802800"/>
                  <a:ext cx="1149840" cy="1103040"/>
                </a:xfrm>
                <a:prstGeom prst="flowChartConnector">
                  <a:avLst/>
                </a:prstGeom>
                <a:solidFill>
                  <a:srgbClr val="c6d9f1"/>
                </a:solidFill>
                <a:ln w="9360">
                  <a:solidFill>
                    <a:srgbClr val="c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310" name="Группа 139"/>
                <p:cNvGrpSpPr/>
                <p:nvPr/>
              </p:nvGrpSpPr>
              <p:grpSpPr>
                <a:xfrm>
                  <a:off x="6324120" y="1141560"/>
                  <a:ext cx="414360" cy="359640"/>
                  <a:chOff x="6324120" y="1141560"/>
                  <a:chExt cx="414360" cy="359640"/>
                </a:xfrm>
              </p:grpSpPr>
              <p:sp>
                <p:nvSpPr>
                  <p:cNvPr id="311" name="Блок-схема: узел 122"/>
                  <p:cNvSpPr/>
                  <p:nvPr/>
                </p:nvSpPr>
                <p:spPr>
                  <a:xfrm>
                    <a:off x="6324120" y="1328400"/>
                    <a:ext cx="1785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Блок-схема: узел 123"/>
                  <p:cNvSpPr/>
                  <p:nvPr/>
                </p:nvSpPr>
                <p:spPr>
                  <a:xfrm>
                    <a:off x="6559920" y="1328400"/>
                    <a:ext cx="1785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Блок-схема: узел 124"/>
                  <p:cNvSpPr/>
                  <p:nvPr/>
                </p:nvSpPr>
                <p:spPr>
                  <a:xfrm>
                    <a:off x="6441840" y="1141560"/>
                    <a:ext cx="178560" cy="168120"/>
                  </a:xfrm>
                  <a:prstGeom prst="flowChartConnector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Блок-схема: узел 106"/>
                <p:cNvSpPr/>
                <p:nvPr/>
              </p:nvSpPr>
              <p:spPr>
                <a:xfrm>
                  <a:off x="7151040" y="129384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5" name="Блок-схема: узел 107"/>
                <p:cNvSpPr/>
                <p:nvPr/>
              </p:nvSpPr>
              <p:spPr>
                <a:xfrm>
                  <a:off x="7071120" y="1519920"/>
                  <a:ext cx="178560" cy="171000"/>
                </a:xfrm>
                <a:prstGeom prst="flowChartConnector">
                  <a:avLst/>
                </a:prstGeom>
                <a:solidFill>
                  <a:srgbClr val="e6b9b8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6" name="Блок-схема: узел 108"/>
                <p:cNvSpPr/>
                <p:nvPr/>
              </p:nvSpPr>
              <p:spPr>
                <a:xfrm>
                  <a:off x="6402600" y="1519920"/>
                  <a:ext cx="178560" cy="171000"/>
                </a:xfrm>
                <a:prstGeom prst="flowChartConnector">
                  <a:avLst/>
                </a:prstGeom>
                <a:solidFill>
                  <a:srgbClr val="e6b9b8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7" name="Блок-схема: узел 109"/>
                <p:cNvSpPr/>
                <p:nvPr/>
              </p:nvSpPr>
              <p:spPr>
                <a:xfrm>
                  <a:off x="6841440" y="94860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318" name="Группа 140"/>
                <p:cNvGrpSpPr/>
                <p:nvPr/>
              </p:nvGrpSpPr>
              <p:grpSpPr>
                <a:xfrm>
                  <a:off x="6914160" y="915120"/>
                  <a:ext cx="414360" cy="359640"/>
                  <a:chOff x="6914160" y="915120"/>
                  <a:chExt cx="414360" cy="359640"/>
                </a:xfrm>
              </p:grpSpPr>
              <p:sp>
                <p:nvSpPr>
                  <p:cNvPr id="319" name="Блок-схема: узел 119"/>
                  <p:cNvSpPr/>
                  <p:nvPr/>
                </p:nvSpPr>
                <p:spPr>
                  <a:xfrm>
                    <a:off x="6914160" y="1106640"/>
                    <a:ext cx="178560" cy="168120"/>
                  </a:xfrm>
                  <a:prstGeom prst="flowChartConnector">
                    <a:avLst/>
                  </a:prstGeom>
                  <a:solidFill>
                    <a:srgbClr val="d99694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Блок-схема: узел 120"/>
                  <p:cNvSpPr/>
                  <p:nvPr/>
                </p:nvSpPr>
                <p:spPr>
                  <a:xfrm>
                    <a:off x="7149960" y="1106640"/>
                    <a:ext cx="178560" cy="16812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Блок-схема: узел 121"/>
                  <p:cNvSpPr/>
                  <p:nvPr/>
                </p:nvSpPr>
                <p:spPr>
                  <a:xfrm>
                    <a:off x="7031880" y="915120"/>
                    <a:ext cx="178560" cy="172800"/>
                  </a:xfrm>
                  <a:prstGeom prst="flowChartConnector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Группа 159"/>
                <p:cNvGrpSpPr/>
                <p:nvPr/>
              </p:nvGrpSpPr>
              <p:grpSpPr>
                <a:xfrm>
                  <a:off x="6564240" y="1432080"/>
                  <a:ext cx="450720" cy="464040"/>
                  <a:chOff x="6564240" y="1432080"/>
                  <a:chExt cx="450720" cy="464040"/>
                </a:xfrm>
              </p:grpSpPr>
              <p:sp>
                <p:nvSpPr>
                  <p:cNvPr id="323" name="Блок-схема: узел 116"/>
                  <p:cNvSpPr/>
                  <p:nvPr/>
                </p:nvSpPr>
                <p:spPr>
                  <a:xfrm rot="2119800">
                    <a:off x="6597000" y="1553040"/>
                    <a:ext cx="178560" cy="1710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Блок-схема: узел 117"/>
                  <p:cNvSpPr/>
                  <p:nvPr/>
                </p:nvSpPr>
                <p:spPr>
                  <a:xfrm rot="2119800">
                    <a:off x="6788880" y="1686960"/>
                    <a:ext cx="1803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Блок-схема: узел 118"/>
                  <p:cNvSpPr/>
                  <p:nvPr/>
                </p:nvSpPr>
                <p:spPr>
                  <a:xfrm rot="2119800">
                    <a:off x="6804000" y="1468080"/>
                    <a:ext cx="178560" cy="167760"/>
                  </a:xfrm>
                  <a:prstGeom prst="flowChartConnector">
                    <a:avLst/>
                  </a:prstGeom>
                  <a:solidFill>
                    <a:srgbClr val="d99694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6" name="Блок-схема: узел 112"/>
                <p:cNvSpPr/>
                <p:nvPr/>
              </p:nvSpPr>
              <p:spPr>
                <a:xfrm>
                  <a:off x="6678720" y="1104120"/>
                  <a:ext cx="178560" cy="17244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7" name="Блок-схема: узел 113"/>
                <p:cNvSpPr/>
                <p:nvPr/>
              </p:nvSpPr>
              <p:spPr>
                <a:xfrm>
                  <a:off x="6953040" y="133164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8" name="Блок-схема: узел 114"/>
                <p:cNvSpPr/>
                <p:nvPr/>
              </p:nvSpPr>
              <p:spPr>
                <a:xfrm>
                  <a:off x="6756840" y="1293840"/>
                  <a:ext cx="178560" cy="171000"/>
                </a:xfrm>
                <a:prstGeom prst="flowChartConnector">
                  <a:avLst/>
                </a:prstGeom>
                <a:solidFill>
                  <a:srgbClr val="d99694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9" name="Блок-схема: узел 115"/>
                <p:cNvSpPr/>
                <p:nvPr/>
              </p:nvSpPr>
              <p:spPr>
                <a:xfrm>
                  <a:off x="6656400" y="838800"/>
                  <a:ext cx="1767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http://liubavyshka.ru/_ph/35/2/358846374.gif"/>
          <p:cNvPicPr/>
          <p:nvPr/>
        </p:nvPicPr>
        <p:blipFill>
          <a:blip r:embed="rId1"/>
          <a:stretch/>
        </p:blipFill>
        <p:spPr>
          <a:xfrm>
            <a:off x="684360" y="1125360"/>
            <a:ext cx="19047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331" name="Группа 6"/>
          <p:cNvGrpSpPr/>
          <p:nvPr/>
        </p:nvGrpSpPr>
        <p:grpSpPr>
          <a:xfrm>
            <a:off x="3755880" y="2295360"/>
            <a:ext cx="1632240" cy="2267280"/>
            <a:chOff x="3755880" y="2295360"/>
            <a:chExt cx="1632240" cy="2267280"/>
          </a:xfrm>
        </p:grpSpPr>
        <p:sp>
          <p:nvSpPr>
            <p:cNvPr id="332" name="Блок-схема: задержка 4"/>
            <p:cNvSpPr/>
            <p:nvPr/>
          </p:nvSpPr>
          <p:spPr>
            <a:xfrm rot="16200000">
              <a:off x="3438360" y="2612880"/>
              <a:ext cx="2267280" cy="163224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Блок-схема: сортировка 5"/>
            <p:cNvSpPr/>
            <p:nvPr/>
          </p:nvSpPr>
          <p:spPr>
            <a:xfrm>
              <a:off x="5081760" y="3197160"/>
              <a:ext cx="201600" cy="399960"/>
            </a:xfrm>
            <a:prstGeom prst="flowChartSort">
              <a:avLst/>
            </a:prstGeom>
            <a:solidFill>
              <a:srgbClr val="9966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34" name="Picture 3" descr="C:\Documents and Settings\Admin\Рабочий стол\0c9eafa0b4a5.png"/>
          <p:cNvPicPr/>
          <p:nvPr/>
        </p:nvPicPr>
        <p:blipFill>
          <a:blip r:embed="rId3"/>
          <a:stretch/>
        </p:blipFill>
        <p:spPr>
          <a:xfrm>
            <a:off x="3114720" y="2055960"/>
            <a:ext cx="2914560" cy="2746080"/>
          </a:xfrm>
          <a:prstGeom prst="rect">
            <a:avLst/>
          </a:prstGeom>
          <a:ln w="0">
            <a:noFill/>
          </a:ln>
        </p:spPr>
      </p:pic>
      <p:grpSp>
        <p:nvGrpSpPr>
          <p:cNvPr id="335" name="Группа 29"/>
          <p:cNvGrpSpPr/>
          <p:nvPr/>
        </p:nvGrpSpPr>
        <p:grpSpPr>
          <a:xfrm>
            <a:off x="6672240" y="1214280"/>
            <a:ext cx="1619280" cy="1932120"/>
            <a:chOff x="6672240" y="1214280"/>
            <a:chExt cx="1619280" cy="1932120"/>
          </a:xfrm>
        </p:grpSpPr>
        <p:pic>
          <p:nvPicPr>
            <p:cNvPr id="336" name="Picture 5" descr="C:\Documents and Settings\Admin\Рабочий стол\food-box-th.png"/>
            <p:cNvPicPr/>
            <p:nvPr/>
          </p:nvPicPr>
          <p:blipFill>
            <a:blip r:embed="rId4"/>
            <a:stretch/>
          </p:blipFill>
          <p:spPr>
            <a:xfrm>
              <a:off x="6909840" y="1214280"/>
              <a:ext cx="1081440" cy="150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AutoShape 4"/>
            <p:cNvGrpSpPr/>
            <p:nvPr/>
          </p:nvGrpSpPr>
          <p:grpSpPr>
            <a:xfrm>
              <a:off x="6672240" y="2525760"/>
              <a:ext cx="1619280" cy="620640"/>
              <a:chOff x="6672240" y="2525760"/>
              <a:chExt cx="1619280" cy="620640"/>
            </a:xfrm>
          </p:grpSpPr>
          <p:pic>
            <p:nvPicPr>
              <p:cNvPr id="338" name="AutoShap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6672240" y="2525760"/>
                <a:ext cx="161928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6799680" y="2557800"/>
                <a:ext cx="13017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Сахарница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Группа 30"/>
          <p:cNvGrpSpPr/>
          <p:nvPr/>
        </p:nvGrpSpPr>
        <p:grpSpPr>
          <a:xfrm>
            <a:off x="458640" y="3000240"/>
            <a:ext cx="2081520" cy="2592360"/>
            <a:chOff x="458640" y="3000240"/>
            <a:chExt cx="2081520" cy="2592360"/>
          </a:xfrm>
        </p:grpSpPr>
        <p:pic>
          <p:nvPicPr>
            <p:cNvPr id="341" name="Picture 3" descr="C:\Documents and Settings\Admin\Рабочий стол\11954217421821992397Machovka_Hammer_5.svg.med.png"/>
            <p:cNvPicPr/>
            <p:nvPr/>
          </p:nvPicPr>
          <p:blipFill>
            <a:blip r:embed="rId6"/>
            <a:stretch/>
          </p:blipFill>
          <p:spPr>
            <a:xfrm>
              <a:off x="458640" y="3000240"/>
              <a:ext cx="2081520" cy="259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AutoShape 4"/>
            <p:cNvGrpSpPr/>
            <p:nvPr/>
          </p:nvGrpSpPr>
          <p:grpSpPr>
            <a:xfrm>
              <a:off x="682560" y="3565800"/>
              <a:ext cx="1683000" cy="640080"/>
              <a:chOff x="682560" y="3565800"/>
              <a:chExt cx="1683000" cy="640080"/>
            </a:xfrm>
          </p:grpSpPr>
          <p:pic>
            <p:nvPicPr>
              <p:cNvPr id="343" name="AutoShape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2560" y="3565800"/>
                <a:ext cx="1683000" cy="6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716760" y="3599640"/>
                <a:ext cx="15649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Молоток 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Группа 35"/>
          <p:cNvGrpSpPr/>
          <p:nvPr/>
        </p:nvGrpSpPr>
        <p:grpSpPr>
          <a:xfrm>
            <a:off x="6357960" y="3286080"/>
            <a:ext cx="2340000" cy="1646280"/>
            <a:chOff x="6357960" y="3286080"/>
            <a:chExt cx="2340000" cy="1646280"/>
          </a:xfrm>
        </p:grpSpPr>
        <p:pic>
          <p:nvPicPr>
            <p:cNvPr id="346" name="Picture 6" descr="C:\Documents and Settings\Admin\Рабочий стол\wave-md.png"/>
            <p:cNvPicPr/>
            <p:nvPr/>
          </p:nvPicPr>
          <p:blipFill>
            <a:blip r:embed="rId8"/>
            <a:stretch/>
          </p:blipFill>
          <p:spPr>
            <a:xfrm flipH="1">
              <a:off x="6357960" y="3286080"/>
              <a:ext cx="2340000" cy="151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AutoShape 4"/>
            <p:cNvGrpSpPr/>
            <p:nvPr/>
          </p:nvGrpSpPr>
          <p:grpSpPr>
            <a:xfrm>
              <a:off x="6711480" y="4314960"/>
              <a:ext cx="1676520" cy="617400"/>
              <a:chOff x="6711480" y="4314960"/>
              <a:chExt cx="1676520" cy="617400"/>
            </a:xfrm>
          </p:grpSpPr>
          <p:pic>
            <p:nvPicPr>
              <p:cNvPr id="348" name="AutoShap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6711480" y="4314960"/>
                <a:ext cx="1676520" cy="6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6745680" y="4347000"/>
                <a:ext cx="156420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Вода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31"/>
          <p:cNvGrpSpPr/>
          <p:nvPr/>
        </p:nvGrpSpPr>
        <p:grpSpPr>
          <a:xfrm>
            <a:off x="2043000" y="5214960"/>
            <a:ext cx="2052720" cy="1146240"/>
            <a:chOff x="2043000" y="5214960"/>
            <a:chExt cx="2052720" cy="1146240"/>
          </a:xfrm>
        </p:grpSpPr>
        <p:grpSp>
          <p:nvGrpSpPr>
            <p:cNvPr id="351" name="Группа 20"/>
            <p:cNvGrpSpPr/>
            <p:nvPr/>
          </p:nvGrpSpPr>
          <p:grpSpPr>
            <a:xfrm>
              <a:off x="2043000" y="5214960"/>
              <a:ext cx="2052720" cy="925200"/>
              <a:chOff x="2043000" y="5214960"/>
              <a:chExt cx="2052720" cy="925200"/>
            </a:xfrm>
          </p:grpSpPr>
          <p:grpSp>
            <p:nvGrpSpPr>
              <p:cNvPr id="352" name="Блок-схема: узел 16"/>
              <p:cNvGrpSpPr/>
              <p:nvPr/>
            </p:nvGrpSpPr>
            <p:grpSpPr>
              <a:xfrm>
                <a:off x="2043000" y="5214960"/>
                <a:ext cx="2052720" cy="925200"/>
                <a:chOff x="2043000" y="5214960"/>
                <a:chExt cx="2052720" cy="925200"/>
              </a:xfrm>
            </p:grpSpPr>
            <p:pic>
              <p:nvPicPr>
                <p:cNvPr id="353" name="Блок-схема: узел 1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43000" y="5214960"/>
                  <a:ext cx="2052720" cy="9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2322000" y="5347800"/>
                  <a:ext cx="1290240" cy="56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Блок-схема: узел 18"/>
              <p:cNvSpPr/>
              <p:nvPr/>
            </p:nvSpPr>
            <p:spPr>
              <a:xfrm>
                <a:off x="2668320" y="5344200"/>
                <a:ext cx="658080" cy="474840"/>
              </a:xfrm>
              <a:custGeom>
                <a:avLst/>
                <a:gdLst>
                  <a:gd name="textAreaLeft" fmla="*/ 90720 w 658080"/>
                  <a:gd name="textAreaRight" fmla="*/ 520560 w 658080"/>
                  <a:gd name="textAreaTop" fmla="*/ 71640 h 474840"/>
                  <a:gd name="textAreaBottom" fmla="*/ 381240 h 47484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solidFill>
                <a:srgbClr val="663300"/>
              </a:solidFill>
              <a:ln w="0">
                <a:noFill/>
              </a:ln>
              <a:effectLst>
                <a:outerShdw dist="88914" dir="2404373" blurRad="0" rotWithShape="0">
                  <a:srgbClr val="9966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56" name="Блок-схема: узел 19"/>
              <p:cNvGrpSpPr/>
              <p:nvPr/>
            </p:nvGrpSpPr>
            <p:grpSpPr>
              <a:xfrm>
                <a:off x="2975400" y="5490000"/>
                <a:ext cx="715320" cy="617400"/>
                <a:chOff x="2975400" y="5490000"/>
                <a:chExt cx="715320" cy="617400"/>
              </a:xfrm>
            </p:grpSpPr>
            <p:pic>
              <p:nvPicPr>
                <p:cNvPr id="357" name="Блок-схема: узел 1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975400" y="5490720"/>
                  <a:ext cx="71532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8" name=""/>
                <p:cNvSpPr/>
                <p:nvPr/>
              </p:nvSpPr>
              <p:spPr>
                <a:xfrm rot="19626000">
                  <a:off x="3068280" y="5586480"/>
                  <a:ext cx="465480" cy="37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Блок-схема: узел 17"/>
              <p:cNvGrpSpPr/>
              <p:nvPr/>
            </p:nvGrpSpPr>
            <p:grpSpPr>
              <a:xfrm>
                <a:off x="2189520" y="5415120"/>
                <a:ext cx="732960" cy="616680"/>
                <a:chOff x="2189520" y="5415120"/>
                <a:chExt cx="732960" cy="616680"/>
              </a:xfrm>
            </p:grpSpPr>
            <p:pic>
              <p:nvPicPr>
                <p:cNvPr id="360" name="Блок-схема: узел 1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189520" y="5415120"/>
                  <a:ext cx="7329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>
                  <a:off x="2292480" y="5501880"/>
                  <a:ext cx="4654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" name="AutoShape 4"/>
            <p:cNvGrpSpPr/>
            <p:nvPr/>
          </p:nvGrpSpPr>
          <p:grpSpPr>
            <a:xfrm>
              <a:off x="2255400" y="5751720"/>
              <a:ext cx="1670400" cy="609480"/>
              <a:chOff x="2255400" y="5751720"/>
              <a:chExt cx="1670400" cy="609480"/>
            </a:xfrm>
          </p:grpSpPr>
          <p:pic>
            <p:nvPicPr>
              <p:cNvPr id="363" name="AutoShap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55400" y="5751720"/>
                <a:ext cx="16704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2287080" y="5785200"/>
                <a:ext cx="15645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Земля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Группа 32"/>
          <p:cNvGrpSpPr/>
          <p:nvPr/>
        </p:nvGrpSpPr>
        <p:grpSpPr>
          <a:xfrm>
            <a:off x="4572000" y="5229360"/>
            <a:ext cx="2557440" cy="1217520"/>
            <a:chOff x="4572000" y="5229360"/>
            <a:chExt cx="2557440" cy="1217520"/>
          </a:xfrm>
        </p:grpSpPr>
        <p:grpSp>
          <p:nvGrpSpPr>
            <p:cNvPr id="366" name="Блок-схема: данные 21"/>
            <p:cNvGrpSpPr/>
            <p:nvPr/>
          </p:nvGrpSpPr>
          <p:grpSpPr>
            <a:xfrm>
              <a:off x="4572000" y="5229360"/>
              <a:ext cx="2557440" cy="1009080"/>
              <a:chOff x="4572000" y="5229360"/>
              <a:chExt cx="2557440" cy="1009080"/>
            </a:xfrm>
          </p:grpSpPr>
          <p:pic>
            <p:nvPicPr>
              <p:cNvPr id="367" name="Блок-схема: данные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72000" y="5229360"/>
                <a:ext cx="2557440" cy="100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076360" y="5233320"/>
                <a:ext cx="1490040" cy="95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69" name="AutoShape 4"/>
            <p:cNvGrpSpPr/>
            <p:nvPr/>
          </p:nvGrpSpPr>
          <p:grpSpPr>
            <a:xfrm>
              <a:off x="5027760" y="5838120"/>
              <a:ext cx="1627920" cy="608760"/>
              <a:chOff x="5027760" y="5838120"/>
              <a:chExt cx="1627920" cy="608760"/>
            </a:xfrm>
          </p:grpSpPr>
          <p:pic>
            <p:nvPicPr>
              <p:cNvPr id="370" name="AutoShap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27760" y="5838120"/>
                <a:ext cx="1627920" cy="60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061960" y="5871600"/>
                <a:ext cx="1518840" cy="4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Металлический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лист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иртуальная экскурс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53080" y="256392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Verdana"/>
              </a:rPr>
              <a:t>Вещества состоят из мельчайших невидимых части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376" name="Группа 148"/>
          <p:cNvGrpSpPr/>
          <p:nvPr/>
        </p:nvGrpSpPr>
        <p:grpSpPr>
          <a:xfrm>
            <a:off x="5715000" y="2286000"/>
            <a:ext cx="2463840" cy="757080"/>
            <a:chOff x="5715000" y="2286000"/>
            <a:chExt cx="2463840" cy="757080"/>
          </a:xfrm>
        </p:grpSpPr>
        <p:sp>
          <p:nvSpPr>
            <p:cNvPr id="377" name="Скругленный прямоугольник 149"/>
            <p:cNvSpPr/>
            <p:nvPr/>
          </p:nvSpPr>
          <p:spPr>
            <a:xfrm>
              <a:off x="5715000" y="2286000"/>
              <a:ext cx="2463840" cy="75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Скругленный прямоугольник 4"/>
            <p:cNvSpPr/>
            <p:nvPr/>
          </p:nvSpPr>
          <p:spPr>
            <a:xfrm>
              <a:off x="5751360" y="2322360"/>
              <a:ext cx="23911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верды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9" name="Группа 142"/>
          <p:cNvGrpSpPr/>
          <p:nvPr/>
        </p:nvGrpSpPr>
        <p:grpSpPr>
          <a:xfrm>
            <a:off x="914400" y="2514600"/>
            <a:ext cx="2463840" cy="757080"/>
            <a:chOff x="914400" y="2514600"/>
            <a:chExt cx="2463840" cy="757080"/>
          </a:xfrm>
        </p:grpSpPr>
        <p:sp>
          <p:nvSpPr>
            <p:cNvPr id="380" name="Скругленный прямоугольник 143"/>
            <p:cNvSpPr/>
            <p:nvPr/>
          </p:nvSpPr>
          <p:spPr>
            <a:xfrm>
              <a:off x="914400" y="2514600"/>
              <a:ext cx="2463840" cy="75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1" name="Скругленный прямоугольник 4"/>
            <p:cNvSpPr/>
            <p:nvPr/>
          </p:nvSpPr>
          <p:spPr>
            <a:xfrm>
              <a:off x="950760" y="2550960"/>
              <a:ext cx="23911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дки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2" name="Группа 145"/>
          <p:cNvGrpSpPr/>
          <p:nvPr/>
        </p:nvGrpSpPr>
        <p:grpSpPr>
          <a:xfrm>
            <a:off x="3929040" y="4286160"/>
            <a:ext cx="2463840" cy="757440"/>
            <a:chOff x="3929040" y="4286160"/>
            <a:chExt cx="2463840" cy="757440"/>
          </a:xfrm>
        </p:grpSpPr>
        <p:sp>
          <p:nvSpPr>
            <p:cNvPr id="383" name="Скругленный прямоугольник 146"/>
            <p:cNvSpPr/>
            <p:nvPr/>
          </p:nvSpPr>
          <p:spPr>
            <a:xfrm>
              <a:off x="3929040" y="4286160"/>
              <a:ext cx="2463840" cy="75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Скругленный прямоугольник 4"/>
            <p:cNvSpPr/>
            <p:nvPr/>
          </p:nvSpPr>
          <p:spPr>
            <a:xfrm>
              <a:off x="3965400" y="4322520"/>
              <a:ext cx="23911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азообразны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5" name="Группа 168"/>
          <p:cNvGrpSpPr/>
          <p:nvPr/>
        </p:nvGrpSpPr>
        <p:grpSpPr>
          <a:xfrm>
            <a:off x="457200" y="3429000"/>
            <a:ext cx="2214720" cy="2158920"/>
            <a:chOff x="457200" y="3429000"/>
            <a:chExt cx="2214720" cy="2158920"/>
          </a:xfrm>
        </p:grpSpPr>
        <p:sp>
          <p:nvSpPr>
            <p:cNvPr id="386" name="Блок-схема: узел 134"/>
            <p:cNvSpPr/>
            <p:nvPr/>
          </p:nvSpPr>
          <p:spPr>
            <a:xfrm>
              <a:off x="987480" y="3651120"/>
              <a:ext cx="344520" cy="334800"/>
            </a:xfrm>
            <a:prstGeom prst="flowChartConnector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87" name="Группа 167"/>
            <p:cNvGrpSpPr/>
            <p:nvPr/>
          </p:nvGrpSpPr>
          <p:grpSpPr>
            <a:xfrm>
              <a:off x="457200" y="3429000"/>
              <a:ext cx="2214720" cy="2158920"/>
              <a:chOff x="457200" y="3429000"/>
              <a:chExt cx="2214720" cy="2158920"/>
            </a:xfrm>
          </p:grpSpPr>
          <p:sp>
            <p:nvSpPr>
              <p:cNvPr id="388" name="Блок-схема: узел 15"/>
              <p:cNvSpPr/>
              <p:nvPr/>
            </p:nvSpPr>
            <p:spPr>
              <a:xfrm>
                <a:off x="457200" y="3429000"/>
                <a:ext cx="2214720" cy="2158920"/>
              </a:xfrm>
              <a:prstGeom prst="flowChartConnector">
                <a:avLst/>
              </a:prstGeom>
              <a:noFill/>
              <a:ln w="2844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89" name="Группа 139"/>
              <p:cNvGrpSpPr/>
              <p:nvPr/>
            </p:nvGrpSpPr>
            <p:grpSpPr>
              <a:xfrm>
                <a:off x="532800" y="4093560"/>
                <a:ext cx="798120" cy="704160"/>
                <a:chOff x="532800" y="4093560"/>
                <a:chExt cx="798120" cy="704160"/>
              </a:xfrm>
            </p:grpSpPr>
            <p:sp>
              <p:nvSpPr>
                <p:cNvPr id="390" name="Блок-схема: узел 32"/>
                <p:cNvSpPr/>
                <p:nvPr/>
              </p:nvSpPr>
              <p:spPr>
                <a:xfrm>
                  <a:off x="532800" y="446220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1" name="Блок-схема: узел 130"/>
                <p:cNvSpPr/>
                <p:nvPr/>
              </p:nvSpPr>
              <p:spPr>
                <a:xfrm>
                  <a:off x="986760" y="446220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2" name="Блок-схема: узел 131"/>
                <p:cNvSpPr/>
                <p:nvPr/>
              </p:nvSpPr>
              <p:spPr>
                <a:xfrm>
                  <a:off x="759600" y="409356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Блок-схема: узел 135"/>
              <p:cNvSpPr/>
              <p:nvPr/>
            </p:nvSpPr>
            <p:spPr>
              <a:xfrm>
                <a:off x="2124360" y="43894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4" name="Блок-схема: узел 136"/>
              <p:cNvSpPr/>
              <p:nvPr/>
            </p:nvSpPr>
            <p:spPr>
              <a:xfrm>
                <a:off x="1973520" y="48322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5" name="Блок-схема: узел 137"/>
              <p:cNvSpPr/>
              <p:nvPr/>
            </p:nvSpPr>
            <p:spPr>
              <a:xfrm>
                <a:off x="684000" y="483228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6" name="Блок-схема: узел 138"/>
              <p:cNvSpPr/>
              <p:nvPr/>
            </p:nvSpPr>
            <p:spPr>
              <a:xfrm>
                <a:off x="1517760" y="350352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97" name="Группа 140"/>
              <p:cNvGrpSpPr/>
              <p:nvPr/>
            </p:nvGrpSpPr>
            <p:grpSpPr>
              <a:xfrm>
                <a:off x="1669680" y="3650400"/>
                <a:ext cx="798120" cy="704160"/>
                <a:chOff x="1669680" y="3650400"/>
                <a:chExt cx="798120" cy="704160"/>
              </a:xfrm>
            </p:grpSpPr>
            <p:sp>
              <p:nvSpPr>
                <p:cNvPr id="398" name="Блок-схема: узел 156"/>
                <p:cNvSpPr/>
                <p:nvPr/>
              </p:nvSpPr>
              <p:spPr>
                <a:xfrm>
                  <a:off x="1669680" y="401904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9" name="Блок-схема: узел 157"/>
                <p:cNvSpPr/>
                <p:nvPr/>
              </p:nvSpPr>
              <p:spPr>
                <a:xfrm>
                  <a:off x="2124360" y="401904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0" name="Блок-схема: узел 158"/>
                <p:cNvSpPr/>
                <p:nvPr/>
              </p:nvSpPr>
              <p:spPr>
                <a:xfrm>
                  <a:off x="1896840" y="365040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Группа 159"/>
              <p:cNvGrpSpPr/>
              <p:nvPr/>
            </p:nvGrpSpPr>
            <p:grpSpPr>
              <a:xfrm>
                <a:off x="993240" y="4662720"/>
                <a:ext cx="872640" cy="905040"/>
                <a:chOff x="993240" y="4662720"/>
                <a:chExt cx="872640" cy="905040"/>
              </a:xfrm>
            </p:grpSpPr>
            <p:sp>
              <p:nvSpPr>
                <p:cNvPr id="402" name="Блок-схема: узел 160"/>
                <p:cNvSpPr/>
                <p:nvPr/>
              </p:nvSpPr>
              <p:spPr>
                <a:xfrm rot="2119800">
                  <a:off x="1058040" y="4901040"/>
                  <a:ext cx="344160" cy="3344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3" name="Блок-схема: узел 161"/>
                <p:cNvSpPr/>
                <p:nvPr/>
              </p:nvSpPr>
              <p:spPr>
                <a:xfrm rot="2119800">
                  <a:off x="1427400" y="5166000"/>
                  <a:ext cx="344160" cy="3326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4" name="Блок-схема: узел 162"/>
                <p:cNvSpPr/>
                <p:nvPr/>
              </p:nvSpPr>
              <p:spPr>
                <a:xfrm rot="2119800">
                  <a:off x="1456560" y="4731120"/>
                  <a:ext cx="344160" cy="3344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Блок-схема: узел 163"/>
              <p:cNvSpPr/>
              <p:nvPr/>
            </p:nvSpPr>
            <p:spPr>
              <a:xfrm>
                <a:off x="1214280" y="401940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6" name="Блок-схема: узел 164"/>
              <p:cNvSpPr/>
              <p:nvPr/>
            </p:nvSpPr>
            <p:spPr>
              <a:xfrm>
                <a:off x="1744920" y="446256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7" name="Блок-схема: узел 165"/>
              <p:cNvSpPr/>
              <p:nvPr/>
            </p:nvSpPr>
            <p:spPr>
              <a:xfrm>
                <a:off x="1366920" y="43894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Группа 133"/>
          <p:cNvGrpSpPr/>
          <p:nvPr/>
        </p:nvGrpSpPr>
        <p:grpSpPr>
          <a:xfrm>
            <a:off x="6629400" y="3200400"/>
            <a:ext cx="2232000" cy="2232000"/>
            <a:chOff x="6629400" y="3200400"/>
            <a:chExt cx="2232000" cy="2232000"/>
          </a:xfrm>
        </p:grpSpPr>
        <p:sp>
          <p:nvSpPr>
            <p:cNvPr id="409" name="Прямоугольник 16"/>
            <p:cNvSpPr/>
            <p:nvPr/>
          </p:nvSpPr>
          <p:spPr>
            <a:xfrm>
              <a:off x="6629400" y="3200400"/>
              <a:ext cx="2232000" cy="223200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0" name="Группа 132"/>
            <p:cNvGrpSpPr/>
            <p:nvPr/>
          </p:nvGrpSpPr>
          <p:grpSpPr>
            <a:xfrm>
              <a:off x="6725880" y="3296880"/>
              <a:ext cx="2038680" cy="2038680"/>
              <a:chOff x="6725880" y="3296880"/>
              <a:chExt cx="2038680" cy="2038680"/>
            </a:xfrm>
          </p:grpSpPr>
          <p:grpSp>
            <p:nvGrpSpPr>
              <p:cNvPr id="411" name="Группа 94"/>
              <p:cNvGrpSpPr/>
              <p:nvPr/>
            </p:nvGrpSpPr>
            <p:grpSpPr>
              <a:xfrm>
                <a:off x="6725880" y="3982680"/>
                <a:ext cx="2038680" cy="324000"/>
                <a:chOff x="6725880" y="3982680"/>
                <a:chExt cx="2038680" cy="324000"/>
              </a:xfrm>
            </p:grpSpPr>
            <p:grpSp>
              <p:nvGrpSpPr>
                <p:cNvPr id="412" name="Блок-схема: узел 64"/>
                <p:cNvGrpSpPr/>
                <p:nvPr/>
              </p:nvGrpSpPr>
              <p:grpSpPr>
                <a:xfrm>
                  <a:off x="6725880" y="3982680"/>
                  <a:ext cx="333720" cy="324000"/>
                  <a:chOff x="6725880" y="3982680"/>
                  <a:chExt cx="333720" cy="324000"/>
                </a:xfrm>
              </p:grpSpPr>
              <p:pic>
                <p:nvPicPr>
                  <p:cNvPr id="413" name="Блок-схема: узел 6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72588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4" name=""/>
                  <p:cNvSpPr/>
                  <p:nvPr/>
                </p:nvSpPr>
                <p:spPr>
                  <a:xfrm>
                    <a:off x="677916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Блок-схема: узел 65"/>
                <p:cNvGrpSpPr/>
                <p:nvPr/>
              </p:nvGrpSpPr>
              <p:grpSpPr>
                <a:xfrm>
                  <a:off x="7065360" y="3982680"/>
                  <a:ext cx="333720" cy="324000"/>
                  <a:chOff x="7065360" y="3982680"/>
                  <a:chExt cx="333720" cy="324000"/>
                </a:xfrm>
              </p:grpSpPr>
              <p:pic>
                <p:nvPicPr>
                  <p:cNvPr id="416" name="Блок-схема: узел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536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7" name=""/>
                  <p:cNvSpPr/>
                  <p:nvPr/>
                </p:nvSpPr>
                <p:spPr>
                  <a:xfrm>
                    <a:off x="712008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Блок-схема: узел 67"/>
                <p:cNvGrpSpPr/>
                <p:nvPr/>
              </p:nvGrpSpPr>
              <p:grpSpPr>
                <a:xfrm>
                  <a:off x="7405200" y="3982680"/>
                  <a:ext cx="339480" cy="324000"/>
                  <a:chOff x="7405200" y="3982680"/>
                  <a:chExt cx="339480" cy="324000"/>
                </a:xfrm>
              </p:grpSpPr>
              <p:pic>
                <p:nvPicPr>
                  <p:cNvPr id="419" name="Блок-схема: узел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05200" y="398268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" name=""/>
                  <p:cNvSpPr/>
                  <p:nvPr/>
                </p:nvSpPr>
                <p:spPr>
                  <a:xfrm>
                    <a:off x="7461360" y="403308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Блок-схема: узел 68"/>
                <p:cNvGrpSpPr/>
                <p:nvPr/>
              </p:nvGrpSpPr>
              <p:grpSpPr>
                <a:xfrm>
                  <a:off x="7751160" y="3982680"/>
                  <a:ext cx="333720" cy="324000"/>
                  <a:chOff x="7751160" y="3982680"/>
                  <a:chExt cx="333720" cy="324000"/>
                </a:xfrm>
              </p:grpSpPr>
              <p:pic>
                <p:nvPicPr>
                  <p:cNvPr id="422" name="Блок-схема: узе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116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"/>
                  <p:cNvSpPr/>
                  <p:nvPr/>
                </p:nvSpPr>
                <p:spPr>
                  <a:xfrm>
                    <a:off x="780264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Блок-схема: узел 70"/>
                <p:cNvGrpSpPr/>
                <p:nvPr/>
              </p:nvGrpSpPr>
              <p:grpSpPr>
                <a:xfrm>
                  <a:off x="8091000" y="3982680"/>
                  <a:ext cx="333720" cy="324000"/>
                  <a:chOff x="8091000" y="3982680"/>
                  <a:chExt cx="333720" cy="324000"/>
                </a:xfrm>
              </p:grpSpPr>
              <p:pic>
                <p:nvPicPr>
                  <p:cNvPr id="425" name="Блок-схема: узел 7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9100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"/>
                  <p:cNvSpPr/>
                  <p:nvPr/>
                </p:nvSpPr>
                <p:spPr>
                  <a:xfrm>
                    <a:off x="814428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Блок-схема: узел 71"/>
                <p:cNvGrpSpPr/>
                <p:nvPr/>
              </p:nvGrpSpPr>
              <p:grpSpPr>
                <a:xfrm>
                  <a:off x="8430840" y="3982680"/>
                  <a:ext cx="333720" cy="324000"/>
                  <a:chOff x="8430840" y="3982680"/>
                  <a:chExt cx="333720" cy="324000"/>
                </a:xfrm>
              </p:grpSpPr>
              <p:pic>
                <p:nvPicPr>
                  <p:cNvPr id="428" name="Блок-схема: узел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084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9" name=""/>
                  <p:cNvSpPr/>
                  <p:nvPr/>
                </p:nvSpPr>
                <p:spPr>
                  <a:xfrm>
                    <a:off x="848556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Группа 95"/>
              <p:cNvGrpSpPr/>
              <p:nvPr/>
            </p:nvGrpSpPr>
            <p:grpSpPr>
              <a:xfrm>
                <a:off x="6725880" y="5011560"/>
                <a:ext cx="2038680" cy="324000"/>
                <a:chOff x="6725880" y="5011560"/>
                <a:chExt cx="2038680" cy="324000"/>
              </a:xfrm>
            </p:grpSpPr>
            <p:grpSp>
              <p:nvGrpSpPr>
                <p:cNvPr id="431" name="Блок-схема: узел 96"/>
                <p:cNvGrpSpPr/>
                <p:nvPr/>
              </p:nvGrpSpPr>
              <p:grpSpPr>
                <a:xfrm>
                  <a:off x="6725880" y="5011560"/>
                  <a:ext cx="333720" cy="324000"/>
                  <a:chOff x="6725880" y="5011560"/>
                  <a:chExt cx="333720" cy="324000"/>
                </a:xfrm>
              </p:grpSpPr>
              <p:pic>
                <p:nvPicPr>
                  <p:cNvPr id="432" name="Блок-схема: узел 9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2588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" name=""/>
                  <p:cNvSpPr/>
                  <p:nvPr/>
                </p:nvSpPr>
                <p:spPr>
                  <a:xfrm>
                    <a:off x="677916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Блок-схема: узел 97"/>
                <p:cNvGrpSpPr/>
                <p:nvPr/>
              </p:nvGrpSpPr>
              <p:grpSpPr>
                <a:xfrm>
                  <a:off x="7065360" y="5011560"/>
                  <a:ext cx="333720" cy="324000"/>
                  <a:chOff x="7065360" y="5011560"/>
                  <a:chExt cx="333720" cy="324000"/>
                </a:xfrm>
              </p:grpSpPr>
              <p:pic>
                <p:nvPicPr>
                  <p:cNvPr id="435" name="Блок-схема: узел 9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536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6" name=""/>
                  <p:cNvSpPr/>
                  <p:nvPr/>
                </p:nvSpPr>
                <p:spPr>
                  <a:xfrm>
                    <a:off x="712008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Блок-схема: узел 98"/>
                <p:cNvGrpSpPr/>
                <p:nvPr/>
              </p:nvGrpSpPr>
              <p:grpSpPr>
                <a:xfrm>
                  <a:off x="7405200" y="5011560"/>
                  <a:ext cx="339480" cy="324000"/>
                  <a:chOff x="7405200" y="5011560"/>
                  <a:chExt cx="339480" cy="324000"/>
                </a:xfrm>
              </p:grpSpPr>
              <p:pic>
                <p:nvPicPr>
                  <p:cNvPr id="438" name="Блок-схема: узел 9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05200" y="501156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" name=""/>
                  <p:cNvSpPr/>
                  <p:nvPr/>
                </p:nvSpPr>
                <p:spPr>
                  <a:xfrm>
                    <a:off x="7461360" y="506052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Блок-схема: узел 99"/>
                <p:cNvGrpSpPr/>
                <p:nvPr/>
              </p:nvGrpSpPr>
              <p:grpSpPr>
                <a:xfrm>
                  <a:off x="7751160" y="5011560"/>
                  <a:ext cx="333720" cy="324000"/>
                  <a:chOff x="7751160" y="5011560"/>
                  <a:chExt cx="333720" cy="324000"/>
                </a:xfrm>
              </p:grpSpPr>
              <p:pic>
                <p:nvPicPr>
                  <p:cNvPr id="441" name="Блок-схема: узел 9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5116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" name=""/>
                  <p:cNvSpPr/>
                  <p:nvPr/>
                </p:nvSpPr>
                <p:spPr>
                  <a:xfrm>
                    <a:off x="780264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Блок-схема: узел 100"/>
                <p:cNvGrpSpPr/>
                <p:nvPr/>
              </p:nvGrpSpPr>
              <p:grpSpPr>
                <a:xfrm>
                  <a:off x="8091000" y="5011560"/>
                  <a:ext cx="333720" cy="324000"/>
                  <a:chOff x="8091000" y="5011560"/>
                  <a:chExt cx="333720" cy="324000"/>
                </a:xfrm>
              </p:grpSpPr>
              <p:pic>
                <p:nvPicPr>
                  <p:cNvPr id="444" name="Блок-схема: узел 10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09100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5" name=""/>
                  <p:cNvSpPr/>
                  <p:nvPr/>
                </p:nvSpPr>
                <p:spPr>
                  <a:xfrm>
                    <a:off x="814428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Блок-схема: узел 101"/>
                <p:cNvGrpSpPr/>
                <p:nvPr/>
              </p:nvGrpSpPr>
              <p:grpSpPr>
                <a:xfrm>
                  <a:off x="8430840" y="5011560"/>
                  <a:ext cx="333720" cy="324000"/>
                  <a:chOff x="8430840" y="5011560"/>
                  <a:chExt cx="333720" cy="324000"/>
                </a:xfrm>
              </p:grpSpPr>
              <p:pic>
                <p:nvPicPr>
                  <p:cNvPr id="447" name="Блок-схема: узел 10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3084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8" name=""/>
                  <p:cNvSpPr/>
                  <p:nvPr/>
                </p:nvSpPr>
                <p:spPr>
                  <a:xfrm>
                    <a:off x="848556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Группа 102"/>
              <p:cNvGrpSpPr/>
              <p:nvPr/>
            </p:nvGrpSpPr>
            <p:grpSpPr>
              <a:xfrm>
                <a:off x="6725880" y="4668840"/>
                <a:ext cx="2038680" cy="324000"/>
                <a:chOff x="6725880" y="4668840"/>
                <a:chExt cx="2038680" cy="324000"/>
              </a:xfrm>
            </p:grpSpPr>
            <p:grpSp>
              <p:nvGrpSpPr>
                <p:cNvPr id="450" name="Блок-схема: узел 103"/>
                <p:cNvGrpSpPr/>
                <p:nvPr/>
              </p:nvGrpSpPr>
              <p:grpSpPr>
                <a:xfrm>
                  <a:off x="6725880" y="4668840"/>
                  <a:ext cx="333720" cy="324000"/>
                  <a:chOff x="6725880" y="4668840"/>
                  <a:chExt cx="333720" cy="324000"/>
                </a:xfrm>
              </p:grpSpPr>
              <p:pic>
                <p:nvPicPr>
                  <p:cNvPr id="451" name="Блок-схема: узел 10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2588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2" name=""/>
                  <p:cNvSpPr/>
                  <p:nvPr/>
                </p:nvSpPr>
                <p:spPr>
                  <a:xfrm>
                    <a:off x="677916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Блок-схема: узел 104"/>
                <p:cNvGrpSpPr/>
                <p:nvPr/>
              </p:nvGrpSpPr>
              <p:grpSpPr>
                <a:xfrm>
                  <a:off x="7065360" y="4668840"/>
                  <a:ext cx="333720" cy="324000"/>
                  <a:chOff x="7065360" y="4668840"/>
                  <a:chExt cx="333720" cy="324000"/>
                </a:xfrm>
              </p:grpSpPr>
              <p:pic>
                <p:nvPicPr>
                  <p:cNvPr id="454" name="Блок-схема: узел 10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6536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5" name=""/>
                  <p:cNvSpPr/>
                  <p:nvPr/>
                </p:nvSpPr>
                <p:spPr>
                  <a:xfrm>
                    <a:off x="712008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Блок-схема: узел 105"/>
                <p:cNvGrpSpPr/>
                <p:nvPr/>
              </p:nvGrpSpPr>
              <p:grpSpPr>
                <a:xfrm>
                  <a:off x="7405200" y="4668840"/>
                  <a:ext cx="339480" cy="324000"/>
                  <a:chOff x="7405200" y="4668840"/>
                  <a:chExt cx="339480" cy="324000"/>
                </a:xfrm>
              </p:grpSpPr>
              <p:pic>
                <p:nvPicPr>
                  <p:cNvPr id="457" name="Блок-схема: узел 10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05200" y="466884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8" name=""/>
                  <p:cNvSpPr/>
                  <p:nvPr/>
                </p:nvSpPr>
                <p:spPr>
                  <a:xfrm>
                    <a:off x="7461360" y="472212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Блок-схема: узел 106"/>
                <p:cNvGrpSpPr/>
                <p:nvPr/>
              </p:nvGrpSpPr>
              <p:grpSpPr>
                <a:xfrm>
                  <a:off x="7751160" y="4668840"/>
                  <a:ext cx="333720" cy="324000"/>
                  <a:chOff x="7751160" y="4668840"/>
                  <a:chExt cx="333720" cy="324000"/>
                </a:xfrm>
              </p:grpSpPr>
              <p:pic>
                <p:nvPicPr>
                  <p:cNvPr id="460" name="Блок-схема: узел 10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75116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1" name=""/>
                  <p:cNvSpPr/>
                  <p:nvPr/>
                </p:nvSpPr>
                <p:spPr>
                  <a:xfrm>
                    <a:off x="780264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Блок-схема: узел 107"/>
                <p:cNvGrpSpPr/>
                <p:nvPr/>
              </p:nvGrpSpPr>
              <p:grpSpPr>
                <a:xfrm>
                  <a:off x="8091000" y="4668840"/>
                  <a:ext cx="333720" cy="324000"/>
                  <a:chOff x="8091000" y="4668840"/>
                  <a:chExt cx="333720" cy="324000"/>
                </a:xfrm>
              </p:grpSpPr>
              <p:pic>
                <p:nvPicPr>
                  <p:cNvPr id="463" name="Блок-схема: узел 10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09100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4" name=""/>
                  <p:cNvSpPr/>
                  <p:nvPr/>
                </p:nvSpPr>
                <p:spPr>
                  <a:xfrm>
                    <a:off x="814428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Блок-схема: узел 108"/>
                <p:cNvGrpSpPr/>
                <p:nvPr/>
              </p:nvGrpSpPr>
              <p:grpSpPr>
                <a:xfrm>
                  <a:off x="8430840" y="4668840"/>
                  <a:ext cx="333720" cy="324000"/>
                  <a:chOff x="8430840" y="4668840"/>
                  <a:chExt cx="333720" cy="324000"/>
                </a:xfrm>
              </p:grpSpPr>
              <p:pic>
                <p:nvPicPr>
                  <p:cNvPr id="466" name="Блок-схема: узел 10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3084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7" name=""/>
                  <p:cNvSpPr/>
                  <p:nvPr/>
                </p:nvSpPr>
                <p:spPr>
                  <a:xfrm>
                    <a:off x="848556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Группа 109"/>
              <p:cNvGrpSpPr/>
              <p:nvPr/>
            </p:nvGrpSpPr>
            <p:grpSpPr>
              <a:xfrm>
                <a:off x="6725880" y="3639600"/>
                <a:ext cx="2038680" cy="324000"/>
                <a:chOff x="6725880" y="3639600"/>
                <a:chExt cx="2038680" cy="324000"/>
              </a:xfrm>
            </p:grpSpPr>
            <p:grpSp>
              <p:nvGrpSpPr>
                <p:cNvPr id="469" name="Блок-схема: узел 110"/>
                <p:cNvGrpSpPr/>
                <p:nvPr/>
              </p:nvGrpSpPr>
              <p:grpSpPr>
                <a:xfrm>
                  <a:off x="6725880" y="3639600"/>
                  <a:ext cx="333720" cy="324000"/>
                  <a:chOff x="6725880" y="3639600"/>
                  <a:chExt cx="333720" cy="324000"/>
                </a:xfrm>
              </p:grpSpPr>
              <p:pic>
                <p:nvPicPr>
                  <p:cNvPr id="470" name="Блок-схема: узел 1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2588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1" name=""/>
                  <p:cNvSpPr/>
                  <p:nvPr/>
                </p:nvSpPr>
                <p:spPr>
                  <a:xfrm>
                    <a:off x="677916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Блок-схема: узел 111"/>
                <p:cNvGrpSpPr/>
                <p:nvPr/>
              </p:nvGrpSpPr>
              <p:grpSpPr>
                <a:xfrm>
                  <a:off x="7065360" y="3639600"/>
                  <a:ext cx="333720" cy="324000"/>
                  <a:chOff x="7065360" y="3639600"/>
                  <a:chExt cx="333720" cy="324000"/>
                </a:xfrm>
              </p:grpSpPr>
              <p:pic>
                <p:nvPicPr>
                  <p:cNvPr id="473" name="Блок-схема: узел 1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536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4" name=""/>
                  <p:cNvSpPr/>
                  <p:nvPr/>
                </p:nvSpPr>
                <p:spPr>
                  <a:xfrm>
                    <a:off x="712008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Блок-схема: узел 112"/>
                <p:cNvGrpSpPr/>
                <p:nvPr/>
              </p:nvGrpSpPr>
              <p:grpSpPr>
                <a:xfrm>
                  <a:off x="7405200" y="3639600"/>
                  <a:ext cx="339480" cy="324000"/>
                  <a:chOff x="7405200" y="3639600"/>
                  <a:chExt cx="339480" cy="324000"/>
                </a:xfrm>
              </p:grpSpPr>
              <p:pic>
                <p:nvPicPr>
                  <p:cNvPr id="476" name="Блок-схема: узел 1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05200" y="363960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7" name=""/>
                  <p:cNvSpPr/>
                  <p:nvPr/>
                </p:nvSpPr>
                <p:spPr>
                  <a:xfrm>
                    <a:off x="7461360" y="368856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Блок-схема: узел 113"/>
                <p:cNvGrpSpPr/>
                <p:nvPr/>
              </p:nvGrpSpPr>
              <p:grpSpPr>
                <a:xfrm>
                  <a:off x="7751160" y="3639600"/>
                  <a:ext cx="333720" cy="324000"/>
                  <a:chOff x="7751160" y="3639600"/>
                  <a:chExt cx="333720" cy="324000"/>
                </a:xfrm>
              </p:grpSpPr>
              <p:pic>
                <p:nvPicPr>
                  <p:cNvPr id="479" name="Блок-схема: узел 1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5116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0" name=""/>
                  <p:cNvSpPr/>
                  <p:nvPr/>
                </p:nvSpPr>
                <p:spPr>
                  <a:xfrm>
                    <a:off x="780264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Блок-схема: узел 114"/>
                <p:cNvGrpSpPr/>
                <p:nvPr/>
              </p:nvGrpSpPr>
              <p:grpSpPr>
                <a:xfrm>
                  <a:off x="8091000" y="3639600"/>
                  <a:ext cx="333720" cy="324000"/>
                  <a:chOff x="8091000" y="3639600"/>
                  <a:chExt cx="333720" cy="324000"/>
                </a:xfrm>
              </p:grpSpPr>
              <p:pic>
                <p:nvPicPr>
                  <p:cNvPr id="482" name="Блок-схема: узел 11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809100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3" name=""/>
                  <p:cNvSpPr/>
                  <p:nvPr/>
                </p:nvSpPr>
                <p:spPr>
                  <a:xfrm>
                    <a:off x="814428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Блок-схема: узел 115"/>
                <p:cNvGrpSpPr/>
                <p:nvPr/>
              </p:nvGrpSpPr>
              <p:grpSpPr>
                <a:xfrm>
                  <a:off x="8430840" y="3639600"/>
                  <a:ext cx="333720" cy="324000"/>
                  <a:chOff x="8430840" y="3639600"/>
                  <a:chExt cx="333720" cy="324000"/>
                </a:xfrm>
              </p:grpSpPr>
              <p:pic>
                <p:nvPicPr>
                  <p:cNvPr id="485" name="Блок-схема: узел 1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3084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6" name=""/>
                  <p:cNvSpPr/>
                  <p:nvPr/>
                </p:nvSpPr>
                <p:spPr>
                  <a:xfrm>
                    <a:off x="848556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7" name="Группа 116"/>
              <p:cNvGrpSpPr/>
              <p:nvPr/>
            </p:nvGrpSpPr>
            <p:grpSpPr>
              <a:xfrm>
                <a:off x="6725880" y="4325760"/>
                <a:ext cx="2038680" cy="324000"/>
                <a:chOff x="6725880" y="4325760"/>
                <a:chExt cx="2038680" cy="324000"/>
              </a:xfrm>
            </p:grpSpPr>
            <p:grpSp>
              <p:nvGrpSpPr>
                <p:cNvPr id="488" name="Блок-схема: узел 117"/>
                <p:cNvGrpSpPr/>
                <p:nvPr/>
              </p:nvGrpSpPr>
              <p:grpSpPr>
                <a:xfrm>
                  <a:off x="6725880" y="4325760"/>
                  <a:ext cx="333720" cy="324000"/>
                  <a:chOff x="6725880" y="4325760"/>
                  <a:chExt cx="333720" cy="324000"/>
                </a:xfrm>
              </p:grpSpPr>
              <p:pic>
                <p:nvPicPr>
                  <p:cNvPr id="489" name="Блок-схема: узел 11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2588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0" name=""/>
                  <p:cNvSpPr/>
                  <p:nvPr/>
                </p:nvSpPr>
                <p:spPr>
                  <a:xfrm>
                    <a:off x="677916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Блок-схема: узел 118"/>
                <p:cNvGrpSpPr/>
                <p:nvPr/>
              </p:nvGrpSpPr>
              <p:grpSpPr>
                <a:xfrm>
                  <a:off x="7065360" y="4325760"/>
                  <a:ext cx="333720" cy="324000"/>
                  <a:chOff x="7065360" y="4325760"/>
                  <a:chExt cx="333720" cy="324000"/>
                </a:xfrm>
              </p:grpSpPr>
              <p:pic>
                <p:nvPicPr>
                  <p:cNvPr id="492" name="Блок-схема: узел 1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6536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3" name=""/>
                  <p:cNvSpPr/>
                  <p:nvPr/>
                </p:nvSpPr>
                <p:spPr>
                  <a:xfrm>
                    <a:off x="712008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Блок-схема: узел 119"/>
                <p:cNvGrpSpPr/>
                <p:nvPr/>
              </p:nvGrpSpPr>
              <p:grpSpPr>
                <a:xfrm>
                  <a:off x="7405200" y="4325760"/>
                  <a:ext cx="339480" cy="324000"/>
                  <a:chOff x="7405200" y="4325760"/>
                  <a:chExt cx="339480" cy="324000"/>
                </a:xfrm>
              </p:grpSpPr>
              <p:pic>
                <p:nvPicPr>
                  <p:cNvPr id="495" name="Блок-схема: узел 11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405200" y="432576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6" name=""/>
                  <p:cNvSpPr/>
                  <p:nvPr/>
                </p:nvSpPr>
                <p:spPr>
                  <a:xfrm>
                    <a:off x="7461360" y="437760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Блок-схема: узел 120"/>
                <p:cNvGrpSpPr/>
                <p:nvPr/>
              </p:nvGrpSpPr>
              <p:grpSpPr>
                <a:xfrm>
                  <a:off x="7751160" y="4325760"/>
                  <a:ext cx="333720" cy="324000"/>
                  <a:chOff x="7751160" y="4325760"/>
                  <a:chExt cx="333720" cy="324000"/>
                </a:xfrm>
              </p:grpSpPr>
              <p:pic>
                <p:nvPicPr>
                  <p:cNvPr id="498" name="Блок-схема: узел 1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5116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9" name=""/>
                  <p:cNvSpPr/>
                  <p:nvPr/>
                </p:nvSpPr>
                <p:spPr>
                  <a:xfrm>
                    <a:off x="780264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Блок-схема: узел 121"/>
                <p:cNvGrpSpPr/>
                <p:nvPr/>
              </p:nvGrpSpPr>
              <p:grpSpPr>
                <a:xfrm>
                  <a:off x="8091000" y="4325760"/>
                  <a:ext cx="333720" cy="324000"/>
                  <a:chOff x="8091000" y="4325760"/>
                  <a:chExt cx="333720" cy="324000"/>
                </a:xfrm>
              </p:grpSpPr>
              <p:pic>
                <p:nvPicPr>
                  <p:cNvPr id="501" name="Блок-схема: узел 12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809100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2" name=""/>
                  <p:cNvSpPr/>
                  <p:nvPr/>
                </p:nvSpPr>
                <p:spPr>
                  <a:xfrm>
                    <a:off x="814428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Блок-схема: узел 122"/>
                <p:cNvGrpSpPr/>
                <p:nvPr/>
              </p:nvGrpSpPr>
              <p:grpSpPr>
                <a:xfrm>
                  <a:off x="8430840" y="4325760"/>
                  <a:ext cx="333720" cy="324000"/>
                  <a:chOff x="8430840" y="4325760"/>
                  <a:chExt cx="333720" cy="324000"/>
                </a:xfrm>
              </p:grpSpPr>
              <p:pic>
                <p:nvPicPr>
                  <p:cNvPr id="504" name="Блок-схема: узел 12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43084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5" name=""/>
                  <p:cNvSpPr/>
                  <p:nvPr/>
                </p:nvSpPr>
                <p:spPr>
                  <a:xfrm>
                    <a:off x="848556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Группа 123"/>
              <p:cNvGrpSpPr/>
              <p:nvPr/>
            </p:nvGrpSpPr>
            <p:grpSpPr>
              <a:xfrm>
                <a:off x="6725880" y="3296880"/>
                <a:ext cx="2038680" cy="324000"/>
                <a:chOff x="6725880" y="3296880"/>
                <a:chExt cx="2038680" cy="324000"/>
              </a:xfrm>
            </p:grpSpPr>
            <p:grpSp>
              <p:nvGrpSpPr>
                <p:cNvPr id="507" name="Блок-схема: узел 124"/>
                <p:cNvGrpSpPr/>
                <p:nvPr/>
              </p:nvGrpSpPr>
              <p:grpSpPr>
                <a:xfrm>
                  <a:off x="6725880" y="3296880"/>
                  <a:ext cx="333720" cy="324000"/>
                  <a:chOff x="6725880" y="3296880"/>
                  <a:chExt cx="333720" cy="324000"/>
                </a:xfrm>
              </p:grpSpPr>
              <p:pic>
                <p:nvPicPr>
                  <p:cNvPr id="508" name="Блок-схема: узел 124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72588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9" name=""/>
                  <p:cNvSpPr/>
                  <p:nvPr/>
                </p:nvSpPr>
                <p:spPr>
                  <a:xfrm>
                    <a:off x="677916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Блок-схема: узел 125"/>
                <p:cNvGrpSpPr/>
                <p:nvPr/>
              </p:nvGrpSpPr>
              <p:grpSpPr>
                <a:xfrm>
                  <a:off x="7065360" y="3296880"/>
                  <a:ext cx="333720" cy="324000"/>
                  <a:chOff x="7065360" y="3296880"/>
                  <a:chExt cx="333720" cy="324000"/>
                </a:xfrm>
              </p:grpSpPr>
              <p:pic>
                <p:nvPicPr>
                  <p:cNvPr id="511" name="Блок-схема: узел 125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6536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2" name=""/>
                  <p:cNvSpPr/>
                  <p:nvPr/>
                </p:nvSpPr>
                <p:spPr>
                  <a:xfrm>
                    <a:off x="712008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Блок-схема: узел 126"/>
                <p:cNvGrpSpPr/>
                <p:nvPr/>
              </p:nvGrpSpPr>
              <p:grpSpPr>
                <a:xfrm>
                  <a:off x="7405200" y="3296880"/>
                  <a:ext cx="339480" cy="324000"/>
                  <a:chOff x="7405200" y="3296880"/>
                  <a:chExt cx="339480" cy="324000"/>
                </a:xfrm>
              </p:grpSpPr>
              <p:pic>
                <p:nvPicPr>
                  <p:cNvPr id="514" name="Блок-схема: узел 12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405200" y="329688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"/>
                  <p:cNvSpPr/>
                  <p:nvPr/>
                </p:nvSpPr>
                <p:spPr>
                  <a:xfrm>
                    <a:off x="7461360" y="335016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Блок-схема: узел 127"/>
                <p:cNvGrpSpPr/>
                <p:nvPr/>
              </p:nvGrpSpPr>
              <p:grpSpPr>
                <a:xfrm>
                  <a:off x="7751160" y="3296880"/>
                  <a:ext cx="333720" cy="324000"/>
                  <a:chOff x="7751160" y="3296880"/>
                  <a:chExt cx="333720" cy="324000"/>
                </a:xfrm>
              </p:grpSpPr>
              <p:pic>
                <p:nvPicPr>
                  <p:cNvPr id="517" name="Блок-схема: узел 12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75116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"/>
                  <p:cNvSpPr/>
                  <p:nvPr/>
                </p:nvSpPr>
                <p:spPr>
                  <a:xfrm>
                    <a:off x="780264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Блок-схема: узел 128"/>
                <p:cNvGrpSpPr/>
                <p:nvPr/>
              </p:nvGrpSpPr>
              <p:grpSpPr>
                <a:xfrm>
                  <a:off x="8091000" y="3296880"/>
                  <a:ext cx="333720" cy="324000"/>
                  <a:chOff x="8091000" y="3296880"/>
                  <a:chExt cx="333720" cy="324000"/>
                </a:xfrm>
              </p:grpSpPr>
              <p:pic>
                <p:nvPicPr>
                  <p:cNvPr id="520" name="Блок-схема: узел 128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809100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1" name=""/>
                  <p:cNvSpPr/>
                  <p:nvPr/>
                </p:nvSpPr>
                <p:spPr>
                  <a:xfrm>
                    <a:off x="814428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Блок-схема: узел 129"/>
                <p:cNvGrpSpPr/>
                <p:nvPr/>
              </p:nvGrpSpPr>
              <p:grpSpPr>
                <a:xfrm>
                  <a:off x="8430840" y="3296880"/>
                  <a:ext cx="333720" cy="324000"/>
                  <a:chOff x="8430840" y="3296880"/>
                  <a:chExt cx="333720" cy="324000"/>
                </a:xfrm>
              </p:grpSpPr>
              <p:pic>
                <p:nvPicPr>
                  <p:cNvPr id="523" name="Блок-схема: узел 12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43084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848556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25" name="Группа 141"/>
          <p:cNvGrpSpPr/>
          <p:nvPr/>
        </p:nvGrpSpPr>
        <p:grpSpPr>
          <a:xfrm>
            <a:off x="4419720" y="4770360"/>
            <a:ext cx="2087280" cy="2087640"/>
            <a:chOff x="4419720" y="4770360"/>
            <a:chExt cx="2087280" cy="2087640"/>
          </a:xfrm>
        </p:grpSpPr>
        <p:grpSp>
          <p:nvGrpSpPr>
            <p:cNvPr id="526" name="Блок-схема: узел 6"/>
            <p:cNvGrpSpPr/>
            <p:nvPr/>
          </p:nvGrpSpPr>
          <p:grpSpPr>
            <a:xfrm>
              <a:off x="5128560" y="5766840"/>
              <a:ext cx="335160" cy="335160"/>
              <a:chOff x="5128560" y="5766840"/>
              <a:chExt cx="335160" cy="335160"/>
            </a:xfrm>
          </p:grpSpPr>
          <p:pic>
            <p:nvPicPr>
              <p:cNvPr id="527" name="Блок-схема: узел 6" descr=""/>
              <p:cNvPicPr/>
              <p:nvPr/>
            </p:nvPicPr>
            <p:blipFill>
              <a:blip r:embed="rId37"/>
              <a:stretch/>
            </p:blipFill>
            <p:spPr>
              <a:xfrm>
                <a:off x="5128560" y="576684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"/>
              <p:cNvSpPr/>
              <p:nvPr/>
            </p:nvSpPr>
            <p:spPr>
              <a:xfrm>
                <a:off x="5181120" y="581760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29" name="Блок-схема: узел 7"/>
            <p:cNvGrpSpPr/>
            <p:nvPr/>
          </p:nvGrpSpPr>
          <p:grpSpPr>
            <a:xfrm>
              <a:off x="4915080" y="5047200"/>
              <a:ext cx="335160" cy="341280"/>
              <a:chOff x="4915080" y="5047200"/>
              <a:chExt cx="335160" cy="341280"/>
            </a:xfrm>
          </p:grpSpPr>
          <p:pic>
            <p:nvPicPr>
              <p:cNvPr id="530" name="Блок-схема: узел 7" descr=""/>
              <p:cNvPicPr/>
              <p:nvPr/>
            </p:nvPicPr>
            <p:blipFill>
              <a:blip r:embed="rId38"/>
              <a:stretch/>
            </p:blipFill>
            <p:spPr>
              <a:xfrm>
                <a:off x="4915080" y="5047200"/>
                <a:ext cx="3351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4966560" y="510336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32" name="Блок-схема: узел 8"/>
            <p:cNvSpPr/>
            <p:nvPr/>
          </p:nvSpPr>
          <p:spPr>
            <a:xfrm>
              <a:off x="4419720" y="4770360"/>
              <a:ext cx="2087280" cy="2087640"/>
            </a:xfrm>
            <a:prstGeom prst="flowChartConnector">
              <a:avLst/>
            </a:prstGeom>
            <a:noFill/>
            <a:ln w="28440">
              <a:solidFill>
                <a:srgbClr val="c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3" name="Блок-схема: узел 11"/>
            <p:cNvGrpSpPr/>
            <p:nvPr/>
          </p:nvGrpSpPr>
          <p:grpSpPr>
            <a:xfrm>
              <a:off x="5701680" y="5047200"/>
              <a:ext cx="335160" cy="341280"/>
              <a:chOff x="5701680" y="5047200"/>
              <a:chExt cx="335160" cy="341280"/>
            </a:xfrm>
          </p:grpSpPr>
          <p:pic>
            <p:nvPicPr>
              <p:cNvPr id="534" name="Блок-схема: узел 11" descr=""/>
              <p:cNvPicPr/>
              <p:nvPr/>
            </p:nvPicPr>
            <p:blipFill>
              <a:blip r:embed="rId39"/>
              <a:stretch/>
            </p:blipFill>
            <p:spPr>
              <a:xfrm>
                <a:off x="5701680" y="5047200"/>
                <a:ext cx="3351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5752440" y="510336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36" name="Блок-схема: узел 12"/>
            <p:cNvGrpSpPr/>
            <p:nvPr/>
          </p:nvGrpSpPr>
          <p:grpSpPr>
            <a:xfrm>
              <a:off x="5841720" y="5620320"/>
              <a:ext cx="335160" cy="335160"/>
              <a:chOff x="5841720" y="5620320"/>
              <a:chExt cx="335160" cy="335160"/>
            </a:xfrm>
          </p:grpSpPr>
          <p:pic>
            <p:nvPicPr>
              <p:cNvPr id="537" name="Блок-схема: узел 12" descr=""/>
              <p:cNvPicPr/>
              <p:nvPr/>
            </p:nvPicPr>
            <p:blipFill>
              <a:blip r:embed="rId40"/>
              <a:stretch/>
            </p:blipFill>
            <p:spPr>
              <a:xfrm>
                <a:off x="5841720" y="562032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5895360" y="567468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39" name="Блок-схема: узел 13"/>
            <p:cNvGrpSpPr/>
            <p:nvPr/>
          </p:nvGrpSpPr>
          <p:grpSpPr>
            <a:xfrm>
              <a:off x="4768920" y="6266520"/>
              <a:ext cx="335160" cy="335160"/>
              <a:chOff x="4768920" y="6266520"/>
              <a:chExt cx="335160" cy="335160"/>
            </a:xfrm>
          </p:grpSpPr>
          <p:pic>
            <p:nvPicPr>
              <p:cNvPr id="540" name="Блок-схема: узел 13" descr=""/>
              <p:cNvPicPr/>
              <p:nvPr/>
            </p:nvPicPr>
            <p:blipFill>
              <a:blip r:embed="rId41"/>
              <a:stretch/>
            </p:blipFill>
            <p:spPr>
              <a:xfrm>
                <a:off x="4768920" y="626652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4824000" y="631764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42" name="Блок-схема: узел 14"/>
            <p:cNvGrpSpPr/>
            <p:nvPr/>
          </p:nvGrpSpPr>
          <p:grpSpPr>
            <a:xfrm>
              <a:off x="5701680" y="6333840"/>
              <a:ext cx="335160" cy="335160"/>
              <a:chOff x="5701680" y="6333840"/>
              <a:chExt cx="335160" cy="335160"/>
            </a:xfrm>
          </p:grpSpPr>
          <p:pic>
            <p:nvPicPr>
              <p:cNvPr id="543" name="Блок-схема: узел 14" descr=""/>
              <p:cNvPicPr/>
              <p:nvPr/>
            </p:nvPicPr>
            <p:blipFill>
              <a:blip r:embed="rId42"/>
              <a:stretch/>
            </p:blipFill>
            <p:spPr>
              <a:xfrm>
                <a:off x="5701680" y="633384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>
                <a:off x="5752440" y="638928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меры те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46" name="Группа 28"/>
          <p:cNvGrpSpPr/>
          <p:nvPr/>
        </p:nvGrpSpPr>
        <p:grpSpPr>
          <a:xfrm>
            <a:off x="1447920" y="1981080"/>
            <a:ext cx="1263600" cy="1765440"/>
            <a:chOff x="1447920" y="1981080"/>
            <a:chExt cx="1263600" cy="1765440"/>
          </a:xfrm>
        </p:grpSpPr>
        <p:sp>
          <p:nvSpPr>
            <p:cNvPr id="547" name="Скругленный прямоугольник 5"/>
            <p:cNvSpPr/>
            <p:nvPr/>
          </p:nvSpPr>
          <p:spPr>
            <a:xfrm>
              <a:off x="1447920" y="1981080"/>
              <a:ext cx="1252800" cy="1765440"/>
            </a:xfrm>
            <a:custGeom>
              <a:avLst/>
              <a:gdLst>
                <a:gd name="textAreaLeft" fmla="*/ 36720 w 1252800"/>
                <a:gd name="textAreaRight" fmla="*/ 1216080 w 1252800"/>
                <a:gd name="textAreaTop" fmla="*/ 36720 h 1765440"/>
                <a:gd name="textAreaBottom" fmla="*/ 1728720 h 1765440"/>
              </a:gdLst>
              <a:ahLst/>
              <a:rect l="textAreaLeft" t="textAreaTop" r="textAreaRight" b="textAreaBottom"/>
              <a:pathLst>
                <a:path w="21600" h="30436">
                  <a:moveTo>
                    <a:pt x="2169" y="0"/>
                  </a:moveTo>
                  <a:arcTo wR="2169" hR="2169" stAng="16200000" swAng="-5400000"/>
                  <a:lnTo>
                    <a:pt x="0" y="28267"/>
                  </a:lnTo>
                  <a:arcTo wR="2169" hR="2169" stAng="10800000" swAng="-5400000"/>
                  <a:lnTo>
                    <a:pt x="19431" y="30436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48" name="Picture 2" descr="C:\Documents and Settings\Admin\Рабочий стол\16 апреля\Мусор\11949855521951877585tavolo_in_legno_architet_01.svg.med.png"/>
            <p:cNvPicPr/>
            <p:nvPr/>
          </p:nvPicPr>
          <p:blipFill>
            <a:blip r:embed="rId1"/>
            <a:stretch/>
          </p:blipFill>
          <p:spPr>
            <a:xfrm>
              <a:off x="1447920" y="2445840"/>
              <a:ext cx="1263600" cy="11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Группа 34"/>
          <p:cNvGrpSpPr/>
          <p:nvPr/>
        </p:nvGrpSpPr>
        <p:grpSpPr>
          <a:xfrm>
            <a:off x="3809880" y="1600200"/>
            <a:ext cx="1764000" cy="1252440"/>
            <a:chOff x="3809880" y="1600200"/>
            <a:chExt cx="1764000" cy="1252440"/>
          </a:xfrm>
        </p:grpSpPr>
        <p:sp>
          <p:nvSpPr>
            <p:cNvPr id="550" name="Скругленный прямоугольник 16"/>
            <p:cNvSpPr/>
            <p:nvPr/>
          </p:nvSpPr>
          <p:spPr>
            <a:xfrm flipH="1" rot="16200000">
              <a:off x="4065480" y="1344240"/>
              <a:ext cx="1252440" cy="176400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4000"/>
                <a:gd name="textAreaBottom" fmla="*/ 1727280 h 1764000"/>
              </a:gdLst>
              <a:ahLst/>
              <a:rect l="textAreaLeft" t="textAreaTop" r="textAreaRight" b="textAreaBottom"/>
              <a:pathLst>
                <a:path w="21600" h="30420">
                  <a:moveTo>
                    <a:pt x="2169" y="0"/>
                  </a:moveTo>
                  <a:arcTo wR="2169" hR="2169" stAng="16200000" swAng="-5400000"/>
                  <a:lnTo>
                    <a:pt x="0" y="28251"/>
                  </a:lnTo>
                  <a:arcTo wR="2169" hR="2169" stAng="10800000" swAng="-5400000"/>
                  <a:lnTo>
                    <a:pt x="19431" y="30420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51" name="Picture 2" descr=""/>
            <p:cNvPicPr/>
            <p:nvPr/>
          </p:nvPicPr>
          <p:blipFill>
            <a:blip r:embed="rId2"/>
            <a:stretch/>
          </p:blipFill>
          <p:spPr>
            <a:xfrm>
              <a:off x="3948840" y="1665720"/>
              <a:ext cx="1485720" cy="104400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</p:grpSp>
      <p:grpSp>
        <p:nvGrpSpPr>
          <p:cNvPr id="552" name="Группа 32"/>
          <p:cNvGrpSpPr/>
          <p:nvPr/>
        </p:nvGrpSpPr>
        <p:grpSpPr>
          <a:xfrm>
            <a:off x="6400800" y="1828800"/>
            <a:ext cx="1252440" cy="1763640"/>
            <a:chOff x="6400800" y="1828800"/>
            <a:chExt cx="1252440" cy="1763640"/>
          </a:xfrm>
        </p:grpSpPr>
        <p:sp>
          <p:nvSpPr>
            <p:cNvPr id="553" name="Скругленный прямоугольник 10"/>
            <p:cNvSpPr/>
            <p:nvPr/>
          </p:nvSpPr>
          <p:spPr>
            <a:xfrm>
              <a:off x="6400800" y="1828800"/>
              <a:ext cx="1252440" cy="176364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3640"/>
                <a:gd name="textAreaBottom" fmla="*/ 1726920 h 1763640"/>
              </a:gdLst>
              <a:ahLst/>
              <a:rect l="textAreaLeft" t="textAreaTop" r="textAreaRight" b="textAreaBottom"/>
              <a:pathLst>
                <a:path w="21600" h="30414">
                  <a:moveTo>
                    <a:pt x="2169" y="0"/>
                  </a:moveTo>
                  <a:arcTo wR="2169" hR="2169" stAng="16200000" swAng="-5400000"/>
                  <a:lnTo>
                    <a:pt x="0" y="28245"/>
                  </a:lnTo>
                  <a:arcTo wR="2169" hR="2169" stAng="10800000" swAng="-5400000"/>
                  <a:lnTo>
                    <a:pt x="19431" y="30414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54" name="Picture 34" descr="135"/>
            <p:cNvPicPr/>
            <p:nvPr/>
          </p:nvPicPr>
          <p:blipFill>
            <a:blip r:embed="rId3"/>
            <a:stretch/>
          </p:blipFill>
          <p:spPr>
            <a:xfrm>
              <a:off x="6501240" y="1935720"/>
              <a:ext cx="1051200" cy="13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18"/>
          <p:cNvGrpSpPr/>
          <p:nvPr/>
        </p:nvGrpSpPr>
        <p:grpSpPr>
          <a:xfrm>
            <a:off x="2909520" y="2514600"/>
            <a:ext cx="3129480" cy="3432240"/>
            <a:chOff x="2909520" y="2514600"/>
            <a:chExt cx="3129480" cy="3432240"/>
          </a:xfrm>
        </p:grpSpPr>
        <p:grpSp>
          <p:nvGrpSpPr>
            <p:cNvPr id="556" name="Группа 16"/>
            <p:cNvGrpSpPr/>
            <p:nvPr/>
          </p:nvGrpSpPr>
          <p:grpSpPr>
            <a:xfrm>
              <a:off x="3337920" y="2514600"/>
              <a:ext cx="2701080" cy="3432240"/>
              <a:chOff x="3337920" y="2514600"/>
              <a:chExt cx="2701080" cy="3432240"/>
            </a:xfrm>
          </p:grpSpPr>
          <p:grpSp>
            <p:nvGrpSpPr>
              <p:cNvPr id="557" name="Группа 14"/>
              <p:cNvGrpSpPr/>
              <p:nvPr/>
            </p:nvGrpSpPr>
            <p:grpSpPr>
              <a:xfrm>
                <a:off x="3787560" y="2943000"/>
                <a:ext cx="1801080" cy="3003840"/>
                <a:chOff x="3787560" y="2943000"/>
                <a:chExt cx="1801080" cy="3003840"/>
              </a:xfrm>
            </p:grpSpPr>
            <p:pic>
              <p:nvPicPr>
                <p:cNvPr id="558" name="Picture 3" descr="C:\Documents and Settings\Admin\Рабочий стол\12279729011274662317rg1024_Set_of_water_drops.svg.med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87560" y="2943000"/>
                  <a:ext cx="1770120" cy="23364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59" name="AutoShape 4"/>
                <p:cNvGrpSpPr/>
                <p:nvPr/>
              </p:nvGrpSpPr>
              <p:grpSpPr>
                <a:xfrm>
                  <a:off x="3796560" y="5319720"/>
                  <a:ext cx="1792080" cy="627120"/>
                  <a:chOff x="3796560" y="5319720"/>
                  <a:chExt cx="1792080" cy="627120"/>
                </a:xfrm>
              </p:grpSpPr>
              <p:pic>
                <p:nvPicPr>
                  <p:cNvPr id="560" name="AutoShape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6560" y="5319720"/>
                    <a:ext cx="1792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1" name=""/>
                  <p:cNvSpPr/>
                  <p:nvPr/>
                </p:nvSpPr>
                <p:spPr>
                  <a:xfrm>
                    <a:off x="3832200" y="5351040"/>
                    <a:ext cx="1679760" cy="50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17375e"/>
                        </a:solidFill>
                        <a:latin typeface="Arial"/>
                        <a:ea typeface="Arial"/>
                      </a:rPr>
                      <a:t>Вода</a:t>
                    </a:r>
                    <a:endParaRPr b="0" lang="en-US" sz="24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2" name="AutoShape 4"/>
              <p:cNvSpPr/>
              <p:nvPr/>
            </p:nvSpPr>
            <p:spPr>
              <a:xfrm>
                <a:off x="3337920" y="2514600"/>
                <a:ext cx="2701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63" name="Freeform 8"/>
            <p:cNvSpPr/>
            <p:nvPr/>
          </p:nvSpPr>
          <p:spPr>
            <a:xfrm flipH="1" rot="2266200">
              <a:off x="3124080" y="3155400"/>
              <a:ext cx="792000" cy="971640"/>
            </a:xfrm>
            <a:custGeom>
              <a:avLst/>
              <a:gdLst>
                <a:gd name="textAreaLeft" fmla="*/ 360 w 792000"/>
                <a:gd name="textAreaRight" fmla="*/ 792720 w 7920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8468000"/>
            </a:gradFill>
            <a:ln w="0">
              <a:noFill/>
            </a:ln>
            <a:effectLst>
              <a:outerShdw dist="114219" dir="2400819" blurRad="0" rotWithShape="0">
                <a:srgbClr val="558ed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564" name="Picture 8" descr="http://liubavyshka.ru/_ph/42/2/525994699.gif"/>
          <p:cNvPicPr/>
          <p:nvPr/>
        </p:nvPicPr>
        <p:blipFill>
          <a:blip r:embed="rId6"/>
          <a:stretch/>
        </p:blipFill>
        <p:spPr>
          <a:xfrm>
            <a:off x="2057400" y="4114800"/>
            <a:ext cx="533520" cy="2476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http://liubavyshka.ru/_ph/42/2/525994699.gif"/>
          <p:cNvPicPr/>
          <p:nvPr/>
        </p:nvPicPr>
        <p:blipFill>
          <a:blip r:embed="rId7"/>
          <a:stretch/>
        </p:blipFill>
        <p:spPr>
          <a:xfrm>
            <a:off x="1295280" y="4419720"/>
            <a:ext cx="476280" cy="1238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http://liubavyshka.ru/_ph/42/2/525994699.gif"/>
          <p:cNvPicPr/>
          <p:nvPr/>
        </p:nvPicPr>
        <p:blipFill>
          <a:blip r:embed="rId8"/>
          <a:stretch/>
        </p:blipFill>
        <p:spPr>
          <a:xfrm>
            <a:off x="685800" y="4800600"/>
            <a:ext cx="476280" cy="12384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9"/>
          <a:stretch/>
        </p:blipFill>
        <p:spPr>
          <a:xfrm>
            <a:off x="6095880" y="3962520"/>
            <a:ext cx="1791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905120" y="3808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Verdana"/>
              </a:rPr>
              <a:t>Определим основные признаки те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9" name="Picture 3" descr="C:\Documents and Settings\Admin\Рабочий стол\1194986830921943475ball.svg.med.png"/>
          <p:cNvPicPr/>
          <p:nvPr/>
        </p:nvPicPr>
        <p:blipFill>
          <a:blip r:embed="rId1"/>
          <a:stretch/>
        </p:blipFill>
        <p:spPr>
          <a:xfrm>
            <a:off x="838080" y="175248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Documents and Settings\Admin\Рабочий стол\11971488401869541118barretr_Air_mail_envelope.svg.med.png"/>
          <p:cNvPicPr/>
          <p:nvPr/>
        </p:nvPicPr>
        <p:blipFill>
          <a:blip r:embed="rId2"/>
          <a:stretch/>
        </p:blipFill>
        <p:spPr>
          <a:xfrm>
            <a:off x="4267080" y="266688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C:\Documents and Settings\Admin\Рабочий стол\alphabet-block-b-md.png"/>
          <p:cNvPicPr/>
          <p:nvPr/>
        </p:nvPicPr>
        <p:blipFill>
          <a:blip r:embed="rId3"/>
          <a:stretch/>
        </p:blipFill>
        <p:spPr>
          <a:xfrm>
            <a:off x="6657840" y="2647800"/>
            <a:ext cx="1400400" cy="1332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 flipV="1" rot="10759200">
            <a:off x="2209680" y="4547160"/>
            <a:ext cx="479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Verdana"/>
              </a:rPr>
              <a:t>Искусственные тел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a8456"/>
                </a:solidFill>
                <a:latin typeface="Arial"/>
              </a:rPr>
              <a:t>Признаки тел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4" name="Picture 3" descr="C:\Documents and Settings\Admin\Рабочий стол\1194986830921943475ball.svg.med.png"/>
          <p:cNvPicPr/>
          <p:nvPr/>
        </p:nvPicPr>
        <p:blipFill>
          <a:blip r:embed="rId1"/>
          <a:stretch/>
        </p:blipFill>
        <p:spPr>
          <a:xfrm>
            <a:off x="609480" y="762120"/>
            <a:ext cx="2590920" cy="22096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871440" y="160020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Круглый, резиновый, ярк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19440" y="36576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Прямоугольный, бумажный, бел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77" name="Picture 2" descr="C:\Documents and Settings\Admin\Рабочий стол\11971488401869541118barretr_Air_mail_envelope.svg.med.png"/>
          <p:cNvPicPr/>
          <p:nvPr/>
        </p:nvPicPr>
        <p:blipFill>
          <a:blip r:embed="rId2"/>
          <a:stretch/>
        </p:blipFill>
        <p:spPr>
          <a:xfrm>
            <a:off x="838080" y="320040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C:\Documents and Settings\Admin\Рабочий стол\alphabet-block-b-md.png"/>
          <p:cNvPicPr/>
          <p:nvPr/>
        </p:nvPicPr>
        <p:blipFill>
          <a:blip r:embed="rId3"/>
          <a:stretch/>
        </p:blipFill>
        <p:spPr>
          <a:xfrm>
            <a:off x="914400" y="5257800"/>
            <a:ext cx="1400040" cy="11606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863800" y="52578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Деревянный, большой, бежев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Verdana"/>
              </a:rPr>
              <a:t>Каждое тело имеет размеры, форму, цвет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582" name="Группа 34"/>
          <p:cNvGrpSpPr/>
          <p:nvPr/>
        </p:nvGrpSpPr>
        <p:grpSpPr>
          <a:xfrm>
            <a:off x="1142280" y="3657600"/>
            <a:ext cx="1763640" cy="1252440"/>
            <a:chOff x="1142280" y="3657600"/>
            <a:chExt cx="1763640" cy="1252440"/>
          </a:xfrm>
        </p:grpSpPr>
        <p:sp>
          <p:nvSpPr>
            <p:cNvPr id="583" name="Скругленный прямоугольник 16"/>
            <p:cNvSpPr/>
            <p:nvPr/>
          </p:nvSpPr>
          <p:spPr>
            <a:xfrm flipH="1" rot="16200000">
              <a:off x="1397520" y="3402000"/>
              <a:ext cx="1252440" cy="176364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3640"/>
                <a:gd name="textAreaBottom" fmla="*/ 1726920 h 1763640"/>
              </a:gdLst>
              <a:ahLst/>
              <a:rect l="textAreaLeft" t="textAreaTop" r="textAreaRight" b="textAreaBottom"/>
              <a:pathLst>
                <a:path w="21600" h="30414">
                  <a:moveTo>
                    <a:pt x="2169" y="0"/>
                  </a:moveTo>
                  <a:arcTo wR="2169" hR="2169" stAng="16200000" swAng="-5400000"/>
                  <a:lnTo>
                    <a:pt x="0" y="28245"/>
                  </a:lnTo>
                  <a:arcTo wR="2169" hR="2169" stAng="10800000" swAng="-5400000"/>
                  <a:lnTo>
                    <a:pt x="19431" y="30414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84" name="Picture 2" descr=""/>
            <p:cNvPicPr/>
            <p:nvPr/>
          </p:nvPicPr>
          <p:blipFill>
            <a:blip r:embed="rId1"/>
            <a:stretch/>
          </p:blipFill>
          <p:spPr>
            <a:xfrm>
              <a:off x="1281960" y="3723120"/>
              <a:ext cx="1485360" cy="104400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</p:grp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5943600" y="3657600"/>
            <a:ext cx="2286000" cy="14000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Прямоугольник 77"/>
          <p:cNvSpPr/>
          <p:nvPr/>
        </p:nvSpPr>
        <p:spPr>
          <a:xfrm>
            <a:off x="0" y="2571840"/>
            <a:ext cx="9144000" cy="4572000"/>
          </a:xfrm>
          <a:prstGeom prst="rect">
            <a:avLst/>
          </a:prstGeom>
          <a:gradFill rotWithShape="0">
            <a:gsLst>
              <a:gs pos="0">
                <a:srgbClr val="97bfcf"/>
              </a:gs>
              <a:gs pos="100000">
                <a:srgbClr val="e1ebe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88" name="Скругленный прямоугольник 2"/>
          <p:cNvGrpSpPr/>
          <p:nvPr/>
        </p:nvGrpSpPr>
        <p:grpSpPr>
          <a:xfrm>
            <a:off x="2279520" y="281160"/>
            <a:ext cx="4943520" cy="925200"/>
            <a:chOff x="2279520" y="281160"/>
            <a:chExt cx="4943520" cy="925200"/>
          </a:xfrm>
        </p:grpSpPr>
        <p:pic>
          <p:nvPicPr>
            <p:cNvPr id="58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279520" y="281160"/>
              <a:ext cx="4943520" cy="9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2330280" y="330120"/>
              <a:ext cx="484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91" name="Капля 25"/>
          <p:cNvSpPr/>
          <p:nvPr/>
        </p:nvSpPr>
        <p:spPr>
          <a:xfrm rot="18849000">
            <a:off x="5418000" y="163152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Капля 26"/>
          <p:cNvSpPr/>
          <p:nvPr/>
        </p:nvSpPr>
        <p:spPr>
          <a:xfrm rot="18849000">
            <a:off x="6275520" y="14886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Капля 31"/>
          <p:cNvSpPr/>
          <p:nvPr/>
        </p:nvSpPr>
        <p:spPr>
          <a:xfrm rot="18849000">
            <a:off x="5846760" y="12744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Капля 33"/>
          <p:cNvSpPr/>
          <p:nvPr/>
        </p:nvSpPr>
        <p:spPr>
          <a:xfrm rot="18849000">
            <a:off x="6703920" y="12744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Капля 34"/>
          <p:cNvSpPr/>
          <p:nvPr/>
        </p:nvSpPr>
        <p:spPr>
          <a:xfrm rot="18849000">
            <a:off x="7346880" y="156024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8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Капля 59"/>
          <p:cNvSpPr/>
          <p:nvPr/>
        </p:nvSpPr>
        <p:spPr>
          <a:xfrm rot="18849000">
            <a:off x="7561440" y="184608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Капля 69"/>
          <p:cNvSpPr/>
          <p:nvPr/>
        </p:nvSpPr>
        <p:spPr>
          <a:xfrm rot="18849000">
            <a:off x="6561000" y="177444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Капля 70"/>
          <p:cNvSpPr/>
          <p:nvPr/>
        </p:nvSpPr>
        <p:spPr>
          <a:xfrm rot="18849000">
            <a:off x="4989600" y="14886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Капля 71"/>
          <p:cNvSpPr/>
          <p:nvPr/>
        </p:nvSpPr>
        <p:spPr>
          <a:xfrm rot="18849000">
            <a:off x="6989760" y="156024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Капля 72"/>
          <p:cNvSpPr/>
          <p:nvPr/>
        </p:nvSpPr>
        <p:spPr>
          <a:xfrm rot="18849000">
            <a:off x="7713720" y="1426680"/>
            <a:ext cx="287640" cy="287280"/>
          </a:xfrm>
          <a:custGeom>
            <a:avLst/>
            <a:gdLst>
              <a:gd name="textAreaLeft" fmla="*/ 42120 w 287640"/>
              <a:gd name="textAreaRight" fmla="*/ 245520 w 287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Капля 74"/>
          <p:cNvSpPr/>
          <p:nvPr/>
        </p:nvSpPr>
        <p:spPr>
          <a:xfrm rot="18849000">
            <a:off x="8204040" y="163152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8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Капля 75"/>
          <p:cNvSpPr/>
          <p:nvPr/>
        </p:nvSpPr>
        <p:spPr>
          <a:xfrm rot="18849000">
            <a:off x="5703840" y="184608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Капля 76"/>
          <p:cNvSpPr/>
          <p:nvPr/>
        </p:nvSpPr>
        <p:spPr>
          <a:xfrm rot="18849000">
            <a:off x="7132680" y="1345680"/>
            <a:ext cx="287640" cy="287280"/>
          </a:xfrm>
          <a:custGeom>
            <a:avLst/>
            <a:gdLst>
              <a:gd name="textAreaLeft" fmla="*/ 42120 w 287640"/>
              <a:gd name="textAreaRight" fmla="*/ 245520 w 287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Прямоугольник 78"/>
          <p:cNvSpPr/>
          <p:nvPr/>
        </p:nvSpPr>
        <p:spPr>
          <a:xfrm>
            <a:off x="0" y="0"/>
            <a:ext cx="9144000" cy="2592360"/>
          </a:xfrm>
          <a:prstGeom prst="rect">
            <a:avLst/>
          </a:prstGeom>
          <a:gradFill rotWithShape="0">
            <a:gsLst>
              <a:gs pos="0">
                <a:srgbClr val="ddefbb"/>
              </a:gs>
              <a:gs pos="100000">
                <a:srgbClr val="f3f9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5" name="Рисунок 81" descr="56.gif"/>
          <p:cNvPicPr/>
          <p:nvPr/>
        </p:nvPicPr>
        <p:blipFill>
          <a:blip r:embed="rId2"/>
          <a:stretch/>
        </p:blipFill>
        <p:spPr>
          <a:xfrm>
            <a:off x="642960" y="428760"/>
            <a:ext cx="4662360" cy="111600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82" descr="mushrooms_happy_lg_clr.gif"/>
          <p:cNvPicPr/>
          <p:nvPr/>
        </p:nvPicPr>
        <p:blipFill>
          <a:blip r:embed="rId3"/>
          <a:stretch/>
        </p:blipFill>
        <p:spPr>
          <a:xfrm flipH="1">
            <a:off x="7214760" y="4929120"/>
            <a:ext cx="809640" cy="647640"/>
          </a:xfrm>
          <a:prstGeom prst="rect">
            <a:avLst/>
          </a:prstGeom>
          <a:ln w="0">
            <a:noFill/>
          </a:ln>
        </p:spPr>
      </p:pic>
      <p:pic>
        <p:nvPicPr>
          <p:cNvPr id="607" name="Рисунок 83" descr="75.gif"/>
          <p:cNvPicPr/>
          <p:nvPr/>
        </p:nvPicPr>
        <p:blipFill>
          <a:blip r:embed="rId4"/>
          <a:stretch/>
        </p:blipFill>
        <p:spPr>
          <a:xfrm rot="20675400">
            <a:off x="2072880" y="5616720"/>
            <a:ext cx="1582920" cy="129528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84" descr="75.gif"/>
          <p:cNvPicPr/>
          <p:nvPr/>
        </p:nvPicPr>
        <p:blipFill>
          <a:blip r:embed="rId5"/>
          <a:stretch/>
        </p:blipFill>
        <p:spPr>
          <a:xfrm flipH="1">
            <a:off x="5357520" y="5238720"/>
            <a:ext cx="1979640" cy="1619280"/>
          </a:xfrm>
          <a:prstGeom prst="rect">
            <a:avLst/>
          </a:prstGeom>
          <a:ln w="0">
            <a:noFill/>
          </a:ln>
        </p:spPr>
      </p:pic>
      <p:sp>
        <p:nvSpPr>
          <p:cNvPr id="609" name="Облако 85"/>
          <p:cNvSpPr/>
          <p:nvPr/>
        </p:nvSpPr>
        <p:spPr>
          <a:xfrm flipH="1">
            <a:off x="1071720" y="1428840"/>
            <a:ext cx="2109600" cy="720720"/>
          </a:xfrm>
          <a:custGeom>
            <a:avLst/>
            <a:gdLst>
              <a:gd name="textAreaLeft" fmla="*/ 290880 w 2109600"/>
              <a:gd name="textAreaRight" fmla="*/ 1669320 w 2109600"/>
              <a:gd name="textAreaTop" fmla="*/ 108720 h 720720"/>
              <a:gd name="textAreaBottom" fmla="*/ 578520 h 720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66ff">
              <a:alpha val="38000"/>
            </a:srgbClr>
          </a:solidFill>
          <a:ln w="0">
            <a:noFill/>
          </a:ln>
          <a:effectLst>
            <a:outerShdw dist="279348" dir="7200079" blurRad="0" rotWithShape="0">
              <a:srgbClr val="ebf1de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Облако 86"/>
          <p:cNvSpPr/>
          <p:nvPr/>
        </p:nvSpPr>
        <p:spPr>
          <a:xfrm flipH="1">
            <a:off x="4509360" y="1152360"/>
            <a:ext cx="4429080" cy="1656000"/>
          </a:xfrm>
          <a:custGeom>
            <a:avLst/>
            <a:gdLst>
              <a:gd name="textAreaLeft" fmla="*/ 609840 w 4429080"/>
              <a:gd name="textAreaRight" fmla="*/ 3503520 w 4429080"/>
              <a:gd name="textAreaTop" fmla="*/ 249840 h 1656000"/>
              <a:gd name="textAreaBottom" fmla="*/ 1329120 h 1656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66ff">
              <a:alpha val="38000"/>
            </a:srgbClr>
          </a:solidFill>
          <a:ln w="0">
            <a:noFill/>
          </a:ln>
          <a:effectLst>
            <a:outerShdw dist="279348" dir="7200079" blurRad="0" rotWithShape="0">
              <a:srgbClr val="ebf1de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Рисунок 87" descr="186.gif"/>
          <p:cNvPicPr/>
          <p:nvPr/>
        </p:nvPicPr>
        <p:blipFill>
          <a:blip r:embed="rId6"/>
          <a:stretch/>
        </p:blipFill>
        <p:spPr>
          <a:xfrm>
            <a:off x="3571920" y="5000760"/>
            <a:ext cx="2071800" cy="24476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30" descr="mushrooms_happy_lg_clr.gif"/>
          <p:cNvPicPr/>
          <p:nvPr/>
        </p:nvPicPr>
        <p:blipFill>
          <a:blip r:embed="rId7"/>
          <a:stretch/>
        </p:blipFill>
        <p:spPr>
          <a:xfrm>
            <a:off x="2590920" y="297180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32" descr="mushrooms_happy_lg_clr.gif"/>
          <p:cNvPicPr/>
          <p:nvPr/>
        </p:nvPicPr>
        <p:blipFill>
          <a:blip r:embed="rId8"/>
          <a:stretch/>
        </p:blipFill>
        <p:spPr>
          <a:xfrm>
            <a:off x="7786800" y="4143240"/>
            <a:ext cx="855720" cy="68436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35" descr="mushrooms_happy_lg_clr.gif"/>
          <p:cNvPicPr/>
          <p:nvPr/>
        </p:nvPicPr>
        <p:blipFill>
          <a:blip r:embed="rId9"/>
          <a:stretch/>
        </p:blipFill>
        <p:spPr>
          <a:xfrm flipH="1">
            <a:off x="428400" y="3286080"/>
            <a:ext cx="765000" cy="61272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36" descr="mushrooms_happy_lg_clr.gif"/>
          <p:cNvPicPr/>
          <p:nvPr/>
        </p:nvPicPr>
        <p:blipFill>
          <a:blip r:embed="rId10"/>
          <a:stretch/>
        </p:blipFill>
        <p:spPr>
          <a:xfrm>
            <a:off x="507204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39" descr="mushrooms_happy_lg_clr.gif"/>
          <p:cNvPicPr/>
          <p:nvPr/>
        </p:nvPicPr>
        <p:blipFill>
          <a:blip r:embed="rId11"/>
          <a:stretch/>
        </p:blipFill>
        <p:spPr>
          <a:xfrm>
            <a:off x="1928880" y="500076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41" descr="mushrooms_happy_lg_clr.gif"/>
          <p:cNvPicPr/>
          <p:nvPr/>
        </p:nvPicPr>
        <p:blipFill>
          <a:blip r:embed="rId12"/>
          <a:stretch/>
        </p:blipFill>
        <p:spPr>
          <a:xfrm>
            <a:off x="7162920" y="3048120"/>
            <a:ext cx="1238040" cy="99036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42" descr="mushrooms_happy_lg_clr.gif"/>
          <p:cNvPicPr/>
          <p:nvPr/>
        </p:nvPicPr>
        <p:blipFill>
          <a:blip r:embed="rId13"/>
          <a:stretch/>
        </p:blipFill>
        <p:spPr>
          <a:xfrm flipH="1">
            <a:off x="1752480" y="403848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3" descr="mushrooms_happy_lg_clr.gif"/>
          <p:cNvPicPr/>
          <p:nvPr/>
        </p:nvPicPr>
        <p:blipFill>
          <a:blip r:embed="rId14"/>
          <a:stretch/>
        </p:blipFill>
        <p:spPr>
          <a:xfrm>
            <a:off x="784872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44" descr="mushrooms_happy_lg_clr.gif"/>
          <p:cNvPicPr/>
          <p:nvPr/>
        </p:nvPicPr>
        <p:blipFill>
          <a:blip r:embed="rId15"/>
          <a:stretch/>
        </p:blipFill>
        <p:spPr>
          <a:xfrm flipH="1">
            <a:off x="642960" y="5867280"/>
            <a:ext cx="900000" cy="720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060560" y="2133720"/>
            <a:ext cx="723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7" dur="1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6 3.7037E-006 L -0.0033 0.49328 E">
                                      <p:cBhvr>
                                        <p:cTn id="89" dur="5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2.96296E-006 L 0.00278 0.55602 E">
                                      <p:cBhvr>
                                        <p:cTn id="91" dur="1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3333 E">
                                      <p:cBhvr>
                                        <p:cTn id="93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5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7" dur="5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3333 E">
                                      <p:cBhvr>
                                        <p:cTn id="99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2.96296E-006 L -4.72222E-006 0.33334 E">
                                      <p:cBhvr>
                                        <p:cTn id="10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3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72222E-006 3.7037E-007 L 0.00348 0.56667 E">
                                      <p:cBhvr>
                                        <p:cTn id="105" dur="1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4.81481E-006 L 0.00313 0.50208 E">
                                      <p:cBhvr>
                                        <p:cTn id="107" dur="5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7 3.7037E-006 L 0.00226 0.51435 E">
                                      <p:cBhvr>
                                        <p:cTn id="109" dur="3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7 3.7037E-007 L 0.00365 0.49282 E">
                                      <p:cBhvr>
                                        <p:cTn id="111" dur="3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repeatCount="indefinite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repeatCount="indefinite">
                                  <p:stCondLst>
                                    <p:cond delay="8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repeatCount="indefinite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repeatCount="indefinite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ухаметшина</cp:lastModifiedBy>
  <dcterms:modified xsi:type="dcterms:W3CDTF">2015-01-30T10:01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