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00A06-D7B6-496B-A391-BC95CC232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4249-E874-491A-81BB-E0AD3611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68AFD-FAB1-4A8A-B287-4B6E539A1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9CC55-E802-4552-B45F-96650096B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E0789-370B-4F98-9211-63189CDE5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7E227-67C7-4FFF-B052-29988A977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42688-F507-448A-8856-9EF25F9C5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77060-1D99-4429-84D4-BA01184D0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D09C8-6759-4EFB-AA56-9C2821E4D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738AF-09B1-4409-AF14-B7C52F2C9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62E7B-81E4-4EDE-AA1D-ED1E4DD77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8C15-E4E5-49E8-BCBD-2634294E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56C98-22AC-4B3A-8795-DFA40A294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D4F6D-C99A-43DB-ADD7-67B6C4C3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C3833-B128-4E7E-A09A-C4BED1A29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A681E-530C-40A0-B945-BB58E3A4E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94E44-4E2F-4266-81D5-A705C0601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2653D8-8A6A-4BBE-8351-1C93A65EF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24FFDC-717D-4895-B505-A2BD510C3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F6A24F-CC8B-486A-AA7F-34846DE46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FD25E8-B1E2-453D-8176-D7EB56A3B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2D60F5-6831-401A-AC91-9953DDF66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4B7F-B9D6-45B9-9E2D-5ACE27249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0FBE83-C14A-4811-85EC-32607FF0C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874B11-5AEE-4F2B-8FC3-B15B8071B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64FC5C-B0B2-4F48-ACC0-9C0ED5737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615056-0CB6-4A7F-98B1-CF62EF298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F884A4-B6B1-4026-97A8-997169AE2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0494189-4B0F-4C84-90E8-A79E9AE2F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41E3FB7-0E57-469B-B3A1-2F0DAFCE9A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249345-CE7E-49E5-8D15-1FFB51CF5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D11F3-4AD8-463C-88BD-E4159154F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73B23-4278-4542-8E54-5468A6DD8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36B67-F3B9-4313-9BB6-132686D80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7FFC0-1C4D-4ADF-A5B0-303CD3842F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3CD75-7819-43D8-A087-DBB57C07F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C7DA6-FC7D-4EF8-A932-6DA2056DC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55262-7F10-4D0A-9AFF-7D745C1F2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66AD3-20B5-4A72-84F5-17B5F15FE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68FE8-B7B9-4FD0-9E70-B8066BDBC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E7353-1692-4BC7-A109-7EFD63838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8474F-0611-45F1-86B4-AB828B66E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E96C0-9A81-4722-A7E2-2E6535A11A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659D104-C317-47FD-80DD-0439264185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8943E-31E9-47CA-8B6D-5D5D05908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5C7A91-C5A0-481E-8397-F461FA52C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7885B61-FBF2-4FD4-B969-028A972C0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37AC6F-D00E-4EA7-847E-7BC5C0839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D00C7A-C6D4-48F4-8752-A96BCE269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64EE59-CA83-4629-8AEA-382678037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63F876-6D80-4BA7-BEFC-0437C0851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8B9348-0A2A-4672-8531-3CA8CD40E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5A5967-AD72-4F59-A355-F0243E6E0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AE0336-A4E8-499C-81BC-CDA25A0B7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5806C76-A15E-4807-9B4C-8E66630C53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B9636-708B-4F56-9236-1AE991E7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B29B54D-7992-4AD3-AECC-AB22B45FD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846A310-FA95-4D5B-ACF4-3C0658E166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A763C4-958E-4A9D-ACCB-92ADFB879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E2EC1A1-773F-4092-9ED1-51F6CC0FE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593C2B-4118-44C4-A489-EEEDBE8D91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A94CE4-5C8A-4D38-BB47-629BD8FC7B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82536E-3504-4758-B877-AB3E9AB7FD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21922E-88D5-45CB-96BC-8C3D61B73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454353-180B-4AC5-90A7-F52B6AE55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475A4A-13D1-46B9-BC7C-DCEC749E7D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3F8AA-0F74-46DF-BE85-70AA301F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4725065-C6D4-436E-98BF-ABD56EFE3A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42AB2E3-4601-434E-868D-E738E46393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5D6A283-64F9-439A-9227-21DDF1C9CF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EC6DADD-F1EC-43B2-AD0D-F5FD5C67F5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04E648-246E-46AC-AB36-906043375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5D9BB4-72A5-481C-8F5E-EC00556B4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A39C23-D332-46AE-A4A4-E80ACC218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7EDC0C-1519-4610-8B6A-A5B484CF8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6040E0-BE4D-4597-A030-A0CD459963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7E9646-EDBC-460A-8D46-5FDCC717B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87EF-8BDD-4DDD-9F47-26CC5618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F10039-51F5-4AFA-B0C3-7B66E411E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A92004-65EB-4597-B380-2DF65D90A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9AEA4D-6BA8-4A56-AB65-5FA74EE45B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417199A-C749-4301-B18E-D50DF33370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F1D3924-1BB9-4F63-94CF-7A0B3DC0F7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3BF5-E34F-4F2B-B84A-B5A1F02CC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98A0-BC08-422F-8976-E4E9E5FBABA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C358-6061-43ED-96C0-C353109E904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A313-6234-45FD-ADD2-084874C832A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4E90-D42A-4A9B-BE87-4673CB3E5B3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2018-6D32-406C-897B-1DD39A5E341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065C-B7E3-4101-8348-B26D6131E7C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F001-A831-43FD-94CA-46159E0689B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gatchinka.ru/Default.aspx"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55640" y="404280"/>
            <a:ext cx="7772400" cy="173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entury Schoolbook"/>
              </a:rPr>
              <a:t>ХУДОЖНИК </a:t>
            </a:r>
            <a:br>
              <a:rPr sz="3200"/>
            </a:br>
            <a:r>
              <a:rPr b="1" lang="ru-RU" sz="3200" spc="-1" strike="noStrike">
                <a:solidFill>
                  <a:srgbClr val="0070c0"/>
                </a:solidFill>
                <a:latin typeface="Century Schoolbook"/>
              </a:rPr>
              <a:t>ЛЕОНИД ВАСИЛЬЕВИЧ ПТИЦЫН</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1258920" y="2491920"/>
            <a:ext cx="6400800" cy="3529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53" name="Picture 5" descr="608-lsnfzw"/>
          <p:cNvPicPr/>
          <p:nvPr/>
        </p:nvPicPr>
        <p:blipFill>
          <a:blip r:embed="rId1"/>
          <a:stretch/>
        </p:blipFill>
        <p:spPr>
          <a:xfrm>
            <a:off x="2987640" y="2276640"/>
            <a:ext cx="3097080" cy="3457440"/>
          </a:xfrm>
          <a:prstGeom prst="rect">
            <a:avLst/>
          </a:prstGeom>
          <a:ln w="0">
            <a:noFill/>
          </a:ln>
        </p:spPr>
      </p:pic>
      <p:sp>
        <p:nvSpPr>
          <p:cNvPr id="354" name="TextBox 5"/>
          <p:cNvSpPr/>
          <p:nvPr/>
        </p:nvSpPr>
        <p:spPr>
          <a:xfrm>
            <a:off x="5867280" y="5877000"/>
            <a:ext cx="309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Разработала Презентаци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Белешина С.Н. учитель ИЗ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ГБОУ СОШ №110 г. Санкт-Петербург</a:t>
            </a:r>
            <a:endParaRPr b="0" lang="en-US" sz="12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6" descr="608-lsng1i"/>
          <p:cNvPicPr/>
          <p:nvPr/>
        </p:nvPicPr>
        <p:blipFill>
          <a:blip r:embed="rId1"/>
          <a:stretch/>
        </p:blipFill>
        <p:spPr>
          <a:xfrm>
            <a:off x="1403280" y="1500120"/>
            <a:ext cx="3025800" cy="2241720"/>
          </a:xfrm>
          <a:prstGeom prst="rect">
            <a:avLst/>
          </a:prstGeom>
          <a:ln w="0">
            <a:noFill/>
          </a:ln>
        </p:spPr>
      </p:pic>
      <p:pic>
        <p:nvPicPr>
          <p:cNvPr id="380" name="Picture 8" descr="леонид-васильевич-птицин2"/>
          <p:cNvPicPr/>
          <p:nvPr/>
        </p:nvPicPr>
        <p:blipFill>
          <a:blip r:embed="rId2"/>
          <a:stretch/>
        </p:blipFill>
        <p:spPr>
          <a:xfrm>
            <a:off x="4716360" y="1484280"/>
            <a:ext cx="3167280" cy="2289240"/>
          </a:xfrm>
          <a:prstGeom prst="rect">
            <a:avLst/>
          </a:prstGeom>
          <a:ln w="0">
            <a:noFill/>
          </a:ln>
        </p:spPr>
      </p:pic>
      <p:pic>
        <p:nvPicPr>
          <p:cNvPr id="381" name="Picture 9" descr="0_36679_da438a8_L"/>
          <p:cNvPicPr/>
          <p:nvPr/>
        </p:nvPicPr>
        <p:blipFill>
          <a:blip r:embed="rId3"/>
          <a:stretch/>
        </p:blipFill>
        <p:spPr>
          <a:xfrm>
            <a:off x="3708360" y="3933720"/>
            <a:ext cx="2232000" cy="2686320"/>
          </a:xfrm>
          <a:prstGeom prst="rect">
            <a:avLst/>
          </a:prstGeom>
          <a:ln w="0">
            <a:noFill/>
          </a:ln>
        </p:spPr>
      </p:pic>
      <p:sp>
        <p:nvSpPr>
          <p:cNvPr id="382" name="Прямоугольник 4"/>
          <p:cNvSpPr/>
          <p:nvPr/>
        </p:nvSpPr>
        <p:spPr>
          <a:xfrm>
            <a:off x="324000" y="33336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Arial"/>
              </a:rPr>
              <a:t>Неважно, есть ли руки, важно, что они золотые!</a:t>
            </a:r>
            <a:endParaRPr b="0" lang="en-US" sz="36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БИБЛИОГРАФИЯ</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бкова З. «Человечище». Газета «Вести». 2004. 11 сентября.</a:t>
            </a: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нчаров Н. «Неистовый скобарь». Великие Луки. 2003.</a:t>
            </a: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ова Н. «Набоковское лукоморье» («Летний альбом», стихи). СПб., 2004. Рисунки и оформление Птицына.</a:t>
            </a: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d2611c"/>
                </a:solidFill>
                <a:uFillTx/>
                <a:latin typeface="Times New Roman"/>
                <a:ea typeface="Times New Roman"/>
                <a:hlinkClick r:id="rId1"/>
              </a:rPr>
              <a:t>http://gatchinka.ru/Default.aspx</a:t>
            </a:r>
            <a:endParaRPr b="0" lang="en-US" sz="2400" spc="-1" strike="noStrike">
              <a:solidFill>
                <a:srgbClr val="000000"/>
              </a:solidFill>
              <a:latin typeface="Century Schoolbook"/>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ПЕРВЫЕ УРОКИ МАСТЕРСТВА</a:t>
            </a:r>
            <a:endParaRPr b="0" lang="en-US" sz="3000" spc="-1" strike="noStrike">
              <a:solidFill>
                <a:srgbClr val="575f6d"/>
              </a:solidFill>
              <a:latin typeface="Century Schoolbook"/>
            </a:endParaRPr>
          </a:p>
        </p:txBody>
      </p:sp>
      <p:sp>
        <p:nvSpPr>
          <p:cNvPr id="356" name="PlaceHolder 2"/>
          <p:cNvSpPr>
            <a:spLocks noGrp="1"/>
          </p:cNvSpPr>
          <p:nvPr>
            <p:ph/>
          </p:nvPr>
        </p:nvSpPr>
        <p:spPr>
          <a:xfrm>
            <a:off x="2626920" y="1412640"/>
            <a:ext cx="5977080" cy="4895640"/>
          </a:xfrm>
          <a:prstGeom prst="rect">
            <a:avLst/>
          </a:prstGeom>
          <a:noFill/>
          <a:ln w="0">
            <a:noFill/>
          </a:ln>
        </p:spPr>
        <p:txBody>
          <a:bodyPr anchor="t">
            <a:normAutofit/>
          </a:bodyPr>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Леонид Васильевич Птицын </a:t>
            </a:r>
            <a:endParaRPr b="0" lang="en-US" sz="2400" spc="-1" strike="noStrike">
              <a:solidFill>
                <a:srgbClr val="000000"/>
              </a:solidFill>
              <a:latin typeface="Century Schoolbook"/>
            </a:endParaRPr>
          </a:p>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дился  </a:t>
            </a:r>
            <a:r>
              <a:rPr b="1" lang="ru-RU" sz="2000" spc="-1" strike="noStrike">
                <a:solidFill>
                  <a:srgbClr val="ff0000"/>
                </a:solidFill>
                <a:latin typeface="Times New Roman"/>
                <a:ea typeface="Times New Roman"/>
              </a:rPr>
              <a:t>5 августа 1929 года</a:t>
            </a:r>
            <a:endParaRPr b="0" lang="en-US" sz="2000" spc="-1" strike="noStrike">
              <a:solidFill>
                <a:srgbClr val="000000"/>
              </a:solidFill>
              <a:latin typeface="Century Schoolbook"/>
            </a:endParaRPr>
          </a:p>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в деревне Кудеверь Псковской области</a:t>
            </a:r>
            <a:r>
              <a:rPr b="0" lang="ru-RU" sz="1400" spc="-1" strike="noStrike">
                <a:solidFill>
                  <a:srgbClr val="000000"/>
                </a:solidFill>
                <a:latin typeface="Times New Roman"/>
                <a:ea typeface="Times New Roman"/>
              </a:rPr>
              <a:t>.</a:t>
            </a:r>
            <a:endParaRPr b="0" lang="en-US" sz="1400" spc="-1" strike="noStrike">
              <a:solidFill>
                <a:srgbClr val="000000"/>
              </a:solidFill>
              <a:latin typeface="Century Schoolbook"/>
            </a:endParaRPr>
          </a:p>
          <a:p>
            <a:pPr marL="2728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южинные способности в области изящных искусств  Ленька Птицын начал выказывать еще в пятилетнем возрасте. То крючки и закорючки в тетрадке по чистописанию своей сестры превратит в красивый забор и дом с трубой. То на свежее побеленной печи нарисует картину – облака, дремучий лес, а на переднем плане собака с хвостом-колечком. Мать, конечно, чертыхалась: «У всех дети, как дети, а у меня сын - одно мучение». Но вскоре Ленькиным талантам нашлось мирное применение. Уже со второго класса он стал главным художником школы. Выпускал стенгазеты, писал лозунги, рисовал портреты вождей и даже пытался делать репродукции с картин известных художников. Леонид рисовал с пяти лет.</a:t>
            </a:r>
            <a:endParaRPr b="0" lang="en-US" sz="1600" spc="-1" strike="noStrike">
              <a:solidFill>
                <a:srgbClr val="000000"/>
              </a:solidFill>
              <a:latin typeface="Century Schoolbook"/>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же со второго класса стал главным художником школы. </a:t>
            </a:r>
            <a:endParaRPr b="0" lang="en-US" sz="1600" spc="-1" strike="noStrike">
              <a:solidFill>
                <a:srgbClr val="000000"/>
              </a:solidFill>
              <a:latin typeface="Century Schoolbook"/>
            </a:endParaRPr>
          </a:p>
        </p:txBody>
      </p:sp>
      <p:pic>
        <p:nvPicPr>
          <p:cNvPr id="357" name="Picture 5" descr="Картинка 1 из 117"/>
          <p:cNvPicPr/>
          <p:nvPr/>
        </p:nvPicPr>
        <p:blipFill>
          <a:blip r:embed="rId1"/>
          <a:stretch/>
        </p:blipFill>
        <p:spPr>
          <a:xfrm>
            <a:off x="250920" y="1484280"/>
            <a:ext cx="2376360" cy="289404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Прямоугольник 3"/>
          <p:cNvSpPr/>
          <p:nvPr/>
        </p:nvSpPr>
        <p:spPr>
          <a:xfrm>
            <a:off x="250920" y="404640"/>
            <a:ext cx="8642160" cy="63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entury Schoolbook"/>
              </a:rPr>
              <a:t>...</a:t>
            </a:r>
            <a:r>
              <a:rPr b="0" lang="ru-RU" sz="2800" spc="-1" strike="noStrike">
                <a:solidFill>
                  <a:srgbClr val="000000"/>
                </a:solidFill>
                <a:latin typeface="Times New Roman"/>
                <a:ea typeface="Times New Roman"/>
              </a:rPr>
              <a:t>В Союзе художников России более 14 тысяч человек. Самому старому из них 102 года. Самому молодому 23. Есть герои Советского Союза, герои Социалистического труда, орденоносцы. Заслуженные, народные, почетные… Но таких живописцев, как Леонид Птицын, не сыскать на всем белом свет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книгах отзыва на его выставках растроганные посетители частенько пишут: </a:t>
            </a:r>
            <a:r>
              <a:rPr b="0" lang="ru-RU" sz="2800" spc="-1" strike="noStrike">
                <a:solidFill>
                  <a:srgbClr val="ff0000"/>
                </a:solidFill>
                <a:latin typeface="Times New Roman"/>
                <a:ea typeface="Times New Roman"/>
              </a:rPr>
              <a:t>« Спасибо вам, Леонид Васильевич, за ваше удивительное творчество. У вас золотые руки!»</a:t>
            </a:r>
            <a:r>
              <a:rPr b="0" lang="ru-RU" sz="2800" spc="-1" strike="noStrike">
                <a:solidFill>
                  <a:srgbClr val="000000"/>
                </a:solidFill>
                <a:latin typeface="Times New Roman"/>
                <a:ea typeface="Times New Roman"/>
              </a:rPr>
              <a:t> Вот только загвоздка в том, что рук у художника нет.</a:t>
            </a:r>
            <a:br>
              <a:rPr sz="2800"/>
            </a:br>
            <a:br>
              <a:rPr sz="2800"/>
            </a:br>
            <a:endParaRPr b="0" lang="en-US" sz="2800" spc="-1" strike="noStrike">
              <a:solidFill>
                <a:srgbClr val="0000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8"/>
          <p:cNvSpPr/>
          <p:nvPr/>
        </p:nvSpPr>
        <p:spPr>
          <a:xfrm>
            <a:off x="1908000" y="476280"/>
            <a:ext cx="48974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Rectangle 10"/>
          <p:cNvSpPr/>
          <p:nvPr/>
        </p:nvSpPr>
        <p:spPr>
          <a:xfrm>
            <a:off x="4356000" y="333360"/>
            <a:ext cx="40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Arial"/>
              </a:rPr>
              <a:t>СТРАШНЫЕ ПОСЛЕДСТВИЯ ВОЙНЫ </a:t>
            </a:r>
            <a:endParaRPr b="0" lang="en-US" sz="3200" spc="-1" strike="noStrike">
              <a:solidFill>
                <a:srgbClr val="575f6d"/>
              </a:solidFill>
              <a:latin typeface="Century Schoolbook"/>
            </a:endParaRPr>
          </a:p>
        </p:txBody>
      </p:sp>
      <p:sp>
        <p:nvSpPr>
          <p:cNvPr id="362" name=""/>
          <p:cNvSpPr txBox="1"/>
          <p:nvPr/>
        </p:nvSpPr>
        <p:spPr>
          <a:xfrm>
            <a:off x="2843280" y="1341000"/>
            <a:ext cx="5976720" cy="5327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огда Леня закончил пятый класс, началась война. Двое его братьев ушли на фронт и сложили головы в первых же сражениях за Родину. Немцы стремительно приближались к Пскову и, чтобы не оказаться на оккупированной территории, Птицыны отправилась в эвакуацию. Но в 1944 году, как только наши войска освободили деревню Кудеверь, вернулись обратно. Леонид обезвредил семьдесят мин, а семьдесят первая взорвалась прямо в руках подростка. Трудно представить, каково было пятнадцатилетнему парню... </a:t>
            </a:r>
            <a:endParaRPr b="0" lang="en-US" sz="2000" spc="-1" strike="noStrike">
              <a:solidFill>
                <a:srgbClr val="000000"/>
              </a:solidFill>
              <a:latin typeface="Century Schoolbook"/>
            </a:endParaRPr>
          </a:p>
        </p:txBody>
      </p:sp>
      <p:pic>
        <p:nvPicPr>
          <p:cNvPr id="363" name="Picture 15" descr="сканирование0006"/>
          <p:cNvPicPr/>
          <p:nvPr/>
        </p:nvPicPr>
        <p:blipFill>
          <a:blip r:embed="rId1"/>
          <a:stretch/>
        </p:blipFill>
        <p:spPr>
          <a:xfrm>
            <a:off x="179280" y="1557360"/>
            <a:ext cx="2924280" cy="345600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Century Schoolbook"/>
              </a:rPr>
              <a:t>УНИКАЛЬНЫЙ СТУДЕНТ АКАДЕМИИ ХУДОЖЕСТВ</a:t>
            </a:r>
            <a:endParaRPr b="0" lang="en-US" sz="3600" spc="-1" strike="noStrike">
              <a:solidFill>
                <a:srgbClr val="575f6d"/>
              </a:solidFill>
              <a:latin typeface="Century Schoolbook"/>
            </a:endParaRPr>
          </a:p>
        </p:txBody>
      </p:sp>
      <p:sp>
        <p:nvSpPr>
          <p:cNvPr id="365" name=""/>
          <p:cNvSpPr txBox="1"/>
          <p:nvPr/>
        </p:nvSpPr>
        <p:spPr>
          <a:xfrm>
            <a:off x="2195640" y="1844640"/>
            <a:ext cx="6697440" cy="4314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entury Schoolbook"/>
              </a:rPr>
              <a:t>    </a:t>
            </a:r>
            <a:r>
              <a:rPr b="0" lang="ru-RU" sz="2800" spc="-1" strike="noStrike">
                <a:solidFill>
                  <a:srgbClr val="ff0000"/>
                </a:solidFill>
                <a:latin typeface="Times New Roman"/>
                <a:ea typeface="Times New Roman"/>
              </a:rPr>
              <a:t>Леонид Птицын  был первый и единственный за 250 лет </a:t>
            </a:r>
            <a:r>
              <a:rPr b="0" lang="ru-RU" sz="2800" spc="-1" strike="noStrike">
                <a:solidFill>
                  <a:srgbClr val="000000"/>
                </a:solidFill>
                <a:latin typeface="Times New Roman"/>
                <a:ea typeface="Times New Roman"/>
              </a:rPr>
              <a:t>существования учебного заведения студент без рук, которому разрешили обучаться живописи.</a:t>
            </a:r>
            <a:endParaRPr b="0" lang="en-US" sz="2800" spc="-1" strike="noStrike">
              <a:solidFill>
                <a:srgbClr val="000000"/>
              </a:solidFill>
              <a:latin typeface="Century Schoolbook"/>
            </a:endParaRPr>
          </a:p>
        </p:txBody>
      </p:sp>
      <p:pic>
        <p:nvPicPr>
          <p:cNvPr id="366" name="Picture 6" descr="i?id=149226557-67-72"/>
          <p:cNvPicPr/>
          <p:nvPr/>
        </p:nvPicPr>
        <p:blipFill>
          <a:blip r:embed="rId1"/>
          <a:stretch/>
        </p:blipFill>
        <p:spPr>
          <a:xfrm>
            <a:off x="250920" y="2133720"/>
            <a:ext cx="2303280" cy="360036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Century Schoolbook"/>
              </a:rPr>
              <a:t>ВОСПОМИНАНИЯ О КИТАЙСКОЙ ВЕНЕЦИИ</a:t>
            </a:r>
            <a:endParaRPr b="0" lang="en-US" sz="3600" spc="-1" strike="noStrike">
              <a:solidFill>
                <a:srgbClr val="575f6d"/>
              </a:solidFill>
              <a:latin typeface="Century Schoolbook"/>
            </a:endParaRPr>
          </a:p>
        </p:txBody>
      </p:sp>
      <p:sp>
        <p:nvSpPr>
          <p:cNvPr id="368" name=""/>
          <p:cNvSpPr txBox="1"/>
          <p:nvPr/>
        </p:nvSpPr>
        <p:spPr>
          <a:xfrm>
            <a:off x="323640" y="4797000"/>
            <a:ext cx="8064360" cy="15858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Times New Roman"/>
                <a:ea typeface="Times New Roman"/>
              </a:rPr>
              <a:t>Китай – единственная загранпоездка Птицына.</a:t>
            </a:r>
            <a:endParaRPr b="0" lang="en-US" sz="2400" spc="-1" strike="noStrike">
              <a:solidFill>
                <a:srgbClr val="000000"/>
              </a:solidFill>
              <a:latin typeface="Century Schoolbook"/>
            </a:endParaRPr>
          </a:p>
        </p:txBody>
      </p:sp>
      <p:pic>
        <p:nvPicPr>
          <p:cNvPr id="369" name="Picture 8" descr=" Леонид Птицын в Китае"/>
          <p:cNvPicPr/>
          <p:nvPr/>
        </p:nvPicPr>
        <p:blipFill>
          <a:blip r:embed="rId1"/>
          <a:stretch/>
        </p:blipFill>
        <p:spPr>
          <a:xfrm>
            <a:off x="2771640" y="1413000"/>
            <a:ext cx="3861000" cy="318924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ВТОРАЯ РОДИНА ХУДОЖНИКА</a:t>
            </a:r>
            <a:br>
              <a:rPr sz="3000"/>
            </a:br>
            <a:endParaRPr b="0" lang="en-US" sz="3000" spc="-1" strike="noStrike">
              <a:solidFill>
                <a:srgbClr val="575f6d"/>
              </a:solidFill>
              <a:latin typeface="Century Schoolbook"/>
            </a:endParaRPr>
          </a:p>
        </p:txBody>
      </p:sp>
      <p:sp>
        <p:nvSpPr>
          <p:cNvPr id="371" name=""/>
          <p:cNvSpPr txBox="1"/>
          <p:nvPr/>
        </p:nvSpPr>
        <p:spPr>
          <a:xfrm>
            <a:off x="250920" y="4941720"/>
            <a:ext cx="8424720" cy="1151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entury Schoolbook"/>
              </a:rPr>
              <a:t>Посёлок Рождествено – вторая родина художника</a:t>
            </a:r>
            <a:r>
              <a:rPr b="0" lang="ru-RU" sz="2400" spc="-1" strike="noStrike">
                <a:solidFill>
                  <a:srgbClr val="ff0000"/>
                </a:solidFill>
                <a:latin typeface="Century Schoolbook"/>
              </a:rPr>
              <a:t>.</a:t>
            </a:r>
            <a:endParaRPr b="0" lang="en-US" sz="2400" spc="-1" strike="noStrike">
              <a:solidFill>
                <a:srgbClr val="000000"/>
              </a:solidFill>
              <a:latin typeface="Century Schoolbook"/>
            </a:endParaRPr>
          </a:p>
        </p:txBody>
      </p:sp>
      <p:pic>
        <p:nvPicPr>
          <p:cNvPr id="372" name="Picture 8" descr="C:\Users\Ольга\Desktop\Зима конкурс\ptitsyn06m.jpg"/>
          <p:cNvPicPr/>
          <p:nvPr/>
        </p:nvPicPr>
        <p:blipFill>
          <a:blip r:embed="rId1"/>
          <a:stretch/>
        </p:blipFill>
        <p:spPr>
          <a:xfrm>
            <a:off x="2438280" y="1457280"/>
            <a:ext cx="4303800" cy="311472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844640"/>
            <a:ext cx="8229600" cy="4464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0" lang="ru-RU" sz="2000" spc="-1" strike="noStrike">
                <a:solidFill>
                  <a:srgbClr val="000000"/>
                </a:solidFill>
                <a:latin typeface="Times New Roman"/>
                <a:ea typeface="Times New Roman"/>
              </a:rPr>
              <a:t>Выставляется Леонид Васильевич теперь реже. Однако в уныние не впадает. Его картины находятся в музеях России, США, Японии, Франции, Китая. Различным медалям и дипломам - счету нет. Но, главное для него то, что всю жизнь, несмотря на превратности судьбы, он занимается своим любимым делом. Что еще нужно для счастья?</a:t>
            </a:r>
            <a:br>
              <a:rPr sz="2000"/>
            </a:br>
            <a:r>
              <a:rPr b="0" lang="ru-RU" sz="2000" spc="-1" strike="noStrike">
                <a:solidFill>
                  <a:srgbClr val="000000"/>
                </a:solidFill>
                <a:latin typeface="Times New Roman"/>
                <a:ea typeface="Times New Roman"/>
              </a:rPr>
              <a:t>Сейчас его персональная выставка открыта на первом этаже музея-усадьбы Набокова в селе Рождествено. И не было еще посетителя, который бы остался равнодушным к творениям столь неординарного автора. Картины как будто излучают невидимую глазом энергию. Светятся добротой, пронзительной искренностью и жизнелюбием.</a:t>
            </a:r>
            <a:br>
              <a:rPr sz="2000"/>
            </a:br>
            <a:endParaRPr b="0" lang="en-US" sz="2000" spc="-1" strike="noStrike">
              <a:solidFill>
                <a:srgbClr val="000000"/>
              </a:solidFill>
              <a:latin typeface="Century Schoolbook"/>
            </a:endParaRPr>
          </a:p>
        </p:txBody>
      </p:sp>
      <p:pic>
        <p:nvPicPr>
          <p:cNvPr id="374" name="Picture 2" descr="C:\Users\Ольга\Desktop\Зима конкурс\ptitsyn05m.jpg"/>
          <p:cNvPicPr/>
          <p:nvPr/>
        </p:nvPicPr>
        <p:blipFill>
          <a:blip r:embed="rId1"/>
          <a:stretch/>
        </p:blipFill>
        <p:spPr>
          <a:xfrm>
            <a:off x="3449520" y="304920"/>
            <a:ext cx="2347920" cy="18158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608-lsnfyo"/>
          <p:cNvPicPr/>
          <p:nvPr/>
        </p:nvPicPr>
        <p:blipFill>
          <a:blip r:embed="rId1"/>
          <a:stretch/>
        </p:blipFill>
        <p:spPr>
          <a:xfrm>
            <a:off x="4743360" y="1170000"/>
            <a:ext cx="3327480" cy="3164040"/>
          </a:xfrm>
          <a:prstGeom prst="rect">
            <a:avLst/>
          </a:prstGeom>
          <a:ln w="0">
            <a:noFill/>
          </a:ln>
        </p:spPr>
      </p:pic>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УДИВИТЕЛЬНЫЙ ЧЕЛОВЕК</a:t>
            </a:r>
            <a:br>
              <a:rPr sz="3000"/>
            </a:br>
            <a:endParaRPr b="0" lang="en-US" sz="3000" spc="-1" strike="noStrike">
              <a:solidFill>
                <a:srgbClr val="575f6d"/>
              </a:solidFill>
              <a:latin typeface="Century Schoolbook"/>
            </a:endParaRPr>
          </a:p>
        </p:txBody>
      </p:sp>
      <p:pic>
        <p:nvPicPr>
          <p:cNvPr id="377" name="Picture 4" descr="ptitsyn2"/>
          <p:cNvPicPr/>
          <p:nvPr/>
        </p:nvPicPr>
        <p:blipFill>
          <a:blip r:embed="rId2"/>
          <a:stretch/>
        </p:blipFill>
        <p:spPr>
          <a:xfrm>
            <a:off x="1212840" y="1096920"/>
            <a:ext cx="3133800" cy="3183120"/>
          </a:xfrm>
          <a:prstGeom prst="rect">
            <a:avLst/>
          </a:prstGeom>
          <a:ln w="0">
            <a:noFill/>
          </a:ln>
        </p:spPr>
      </p:pic>
      <p:pic>
        <p:nvPicPr>
          <p:cNvPr id="378" name="Picture 7" descr="C:\Users\Ольга\Desktop\Зима конкурс\ptitsyn01m.jpg"/>
          <p:cNvPicPr/>
          <p:nvPr/>
        </p:nvPicPr>
        <p:blipFill>
          <a:blip r:embed="rId3"/>
          <a:stretch/>
        </p:blipFill>
        <p:spPr>
          <a:xfrm>
            <a:off x="3090960" y="4121280"/>
            <a:ext cx="3267000" cy="260820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1T12:19:40Z</dcterms:created>
  <dc:creator>SPA</dc:creator>
  <dc:description/>
  <dc:language>en-US</dc:language>
  <cp:lastModifiedBy>Ольга Фирсова</cp:lastModifiedBy>
  <dcterms:modified xsi:type="dcterms:W3CDTF">2015-01-30T12:19:13Z</dcterms:modified>
  <cp:revision>57</cp:revision>
  <dc:subject/>
  <dc:title>Наш замечательный земляк – художник Леонид Птицын</dc:title>
</cp:coreProperties>
</file>