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CF4-E6A2-43CB-A453-EA73959A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00A-ED58-4DA9-9C2A-D149B7FB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ED9-E563-4E99-827E-BA8F0EE9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D33-44E7-404C-AAE5-F5263A0B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B7B7-134F-4ECC-91BD-BA54B7D2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838C-669A-4175-A26D-F8C15794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3476-ECFB-4019-B38E-7915804C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47E6-7BA7-4FE3-9F86-BE86E68B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8A50-A03A-44A8-AF1A-1759FB59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FB28-3FC9-4B8F-B5EE-635E90EA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5BC5-7FA1-4753-9B48-A87B6567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30C-7DF6-44DA-AF70-1A78F3DE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5D68-572B-44E5-917E-D9622C65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1972-44C1-49F5-90D9-7A431949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4AE3-F9D9-4B19-A6CF-803B71CE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364B-88B2-4190-9478-C9562BDB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B753-2FBE-427E-99EC-30806518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892-C8EF-48B5-8105-D12A5175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76B-5269-4940-8531-400EC172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820-CC82-43B7-9E79-4C03B6BB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74A-B960-4246-BB67-B64D3401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C42-5566-4231-AFBF-A879A98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E37-9701-4530-9DC1-63F9CF06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27D-1342-4D8C-8DAC-1B4FA122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8CED-88E2-41BA-9D7F-B16E5FA0E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C2C6-D64A-4C5B-9D17-4BB07B985A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Georgia"/>
              </a:rPr>
              <a:t>Посвящение в профессию «Повар, кондитер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13" descr="втрое4"/>
          <p:cNvPicPr/>
          <p:nvPr/>
        </p:nvPicPr>
        <p:blipFill>
          <a:blip r:embed="rId1"/>
          <a:stretch/>
        </p:blipFill>
        <p:spPr>
          <a:xfrm>
            <a:off x="5072040" y="3357720"/>
            <a:ext cx="3790800" cy="279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второе 2"/>
          <p:cNvPicPr/>
          <p:nvPr/>
        </p:nvPicPr>
        <p:blipFill>
          <a:blip r:embed="rId2"/>
          <a:stretch/>
        </p:blipFill>
        <p:spPr>
          <a:xfrm>
            <a:off x="857160" y="1857240"/>
            <a:ext cx="3814920" cy="2624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83808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7854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Georgia"/>
              </a:rPr>
              <a:t>Поздравляем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1. 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Этот овощ ценится недозрелым, зелёным, небольшого размера. В античные времена в Греции его называли «агорос». От этого и пошло его русское  наз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59640" y="5373720"/>
            <a:ext cx="218592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Огурец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010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2. 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Крупные зеленые ягоды с толстой коркой снаружи и красной сладкой мякотью и множеством семечек внут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59280" y="5660640"/>
            <a:ext cx="20178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Арбуз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42560" y="1341000"/>
            <a:ext cx="6697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3. 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По-итальянски этот популярный ныне овощ означает «золотое яблоко», а 250 лет назад его считали несъедобным и даже ядовит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84360" y="5660640"/>
            <a:ext cx="27608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Помид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6000" y="1267920"/>
            <a:ext cx="71294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4. 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Фрукт с большим            содержанием витамина С.     В 1795 году в Англии был издан указ, по которому экипажам кораблей ежедневно выдавали сок из н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84360" y="5660640"/>
            <a:ext cx="276084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Апельс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71640" y="1268280"/>
            <a:ext cx="7200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5. 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Этот  крупный, круглый, иногда чуть вытянутый корнеплод, содержащий  много сахара, люди использовали в пищу ещ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     </a:t>
            </a:r>
            <a:r>
              <a:rPr b="1" i="1" lang="en-US" sz="3200" spc="-1" strike="noStrike">
                <a:solidFill>
                  <a:srgbClr val="ffff99"/>
                </a:solidFill>
                <a:latin typeface="Georgia"/>
              </a:rPr>
              <a:t>IV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  - </a:t>
            </a:r>
            <a:r>
              <a:rPr b="1" i="1" lang="en-US" sz="3200" spc="-1" strike="noStrike">
                <a:solidFill>
                  <a:srgbClr val="ffff99"/>
                </a:solidFill>
                <a:latin typeface="Georgia"/>
              </a:rPr>
              <a:t>III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 вв. до н.э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0" y="5805000"/>
            <a:ext cx="23036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Свекла</a:t>
            </a:r>
            <a:r>
              <a:rPr b="1" i="1" lang="ru-RU" sz="4000" spc="-1" strike="noStrike">
                <a:solidFill>
                  <a:srgbClr val="ffff99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58920" y="1483920"/>
            <a:ext cx="64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Georgia"/>
              </a:rPr>
              <a:t>6. </a:t>
            </a:r>
            <a:r>
              <a:rPr b="1" lang="ru-RU" sz="3200" spc="-1" strike="noStrike">
                <a:solidFill>
                  <a:srgbClr val="ffff99"/>
                </a:solidFill>
                <a:latin typeface="Georgia"/>
              </a:rPr>
              <a:t>Ф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руктовое дерево, насчитывающее свыше 2000 сортов. Его плоды очень часто встречаются в русских сказ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372360" y="5805000"/>
            <a:ext cx="2544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Яблон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eorgia"/>
              </a:rPr>
              <a:t>Тест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176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1.   Какой из этих предметов  кухонной утвари используют  для  приготовления макарон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сит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шумов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дуршла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2.  Какую кашу называют «кашей английских королей»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гречневу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рисову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овсяну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3.  Какая из этих пряностей продается в виде горошк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ванил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кориц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пере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4.  Как в старину называли пельмен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 заячий хвости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 поросячий пятач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медвежье ух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5.  Какое тесто существует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кипячено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запаренно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заварное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00360" y="692280"/>
            <a:ext cx="434484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6.  Пирожное с каким «Овощным»   названием существует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 морков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картош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реп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7.  Какой из этих продуктов не содержит холестерин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куриные окороч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подсолнечное мас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копченая колбас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8.  Назовите страну – родину кетчуп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Англ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США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 Рос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9.  Сколько полных чайных ложек жидкости помещается в столовой ложк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одн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дв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10.  Какое из этих кушаний не является пасхальным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пасх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блин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кулич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eorgia"/>
              </a:rPr>
              <a:t>Клятва профессионал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0074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подкреплять полученные знания умениями и навыкам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проходить медицинский осмотр не реже одного раза в год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содержать спецодежду в чистоте и гладко выглаженно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при приготовлении блюд и мучных кондитерских изделий, руководствоваться правилом:  «Не навреди ближнему своему»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беречь свои руки от ножей, кипятка и оборудовани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соблюдать санитарные нормы и правил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по окончании лицея получить диплом, а не свидетельств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5:16:08Z</dcterms:created>
  <dc:creator>HomePC</dc:creator>
  <dc:description/>
  <dc:language>en-US</dc:language>
  <cp:lastModifiedBy>Root</cp:lastModifiedBy>
  <dcterms:modified xsi:type="dcterms:W3CDTF">2015-01-30T14:36:24Z</dcterms:modified>
  <cp:revision>9</cp:revision>
  <dc:subject/>
  <dc:title>Посвящение в профессию «Повар, кондитер»</dc:title>
</cp:coreProperties>
</file>