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211B-891F-4D34-9DB5-80D9A356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ADEE-AF70-45C2-A4EF-64DF3B52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48E-B36A-4EDD-BEB3-71B1539B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2F3-CEBD-4887-B41C-54BE8910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2A57-22B0-44CB-B118-B7C54F3AF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6ED6-B0B4-45B9-927E-4A279177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C186-A359-4D10-9327-D00BD5BD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D60F-69B0-4637-BC16-7D54BBB7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4841-D306-4E52-8279-FF499EA43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5FB6-6D64-420F-BB1F-75713E48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7C98-69A0-483C-92E9-00E4CB7A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AF4-02CF-4697-B175-5940D393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F0A9-3781-4F75-BE0A-3C4D5E03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B64E-EC20-4521-882C-62D8CD8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23E1-B22D-45BC-B9C3-8465ED49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CF6B-A2DD-4BFC-A25B-803481409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0C807-0C4B-4185-B918-6E161409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5EF-35E9-47EB-85D4-36579371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9FF-3074-495B-8F08-67BC0B578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2F91-F067-4EEA-B36E-C207F002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C8D0-EB00-4594-8214-DF3498D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1D3-6B86-4E98-B8E7-20173ABF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1BC-8176-4B8A-A782-A4E7A8C8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7279-2F5F-4DFF-87CD-98C4625E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E549-99C1-4103-84D8-93B5CAE37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B79F-7E16-46E1-92BE-91AC3ED905A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66"/>
                </a:solidFill>
                <a:latin typeface="Georgia"/>
              </a:rPr>
              <a:t>Посвящение в профессию «Повар, кондитер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Picture 13" descr="втрое4"/>
          <p:cNvPicPr/>
          <p:nvPr/>
        </p:nvPicPr>
        <p:blipFill>
          <a:blip r:embed="rId1"/>
          <a:stretch/>
        </p:blipFill>
        <p:spPr>
          <a:xfrm>
            <a:off x="5072040" y="3357720"/>
            <a:ext cx="3790800" cy="279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второе 2"/>
          <p:cNvPicPr/>
          <p:nvPr/>
        </p:nvPicPr>
        <p:blipFill>
          <a:blip r:embed="rId2"/>
          <a:stretch/>
        </p:blipFill>
        <p:spPr>
          <a:xfrm>
            <a:off x="857160" y="1857240"/>
            <a:ext cx="3814920" cy="262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7854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Поздравляем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20072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1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Этот овощ ценится недозрелым, зелёным, небольшого размера. В античные времена в Греции его называли «агорос». От этого и пошло его русское  назв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59640" y="5373720"/>
            <a:ext cx="218592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Огурец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6010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2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Крупные зеленые ягоды с толстой коркой снаружи и красной сладкой мякотью и множеством семечек внут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659280" y="5660640"/>
            <a:ext cx="201780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Арбуз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42560" y="1341000"/>
            <a:ext cx="6697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3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По-итальянски этот популярный ныне овощ означает «золотое яблоко», а 250 лет назад его считали несъедобным и даже ядовит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084360" y="5660640"/>
            <a:ext cx="27608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Помид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116000" y="1267920"/>
            <a:ext cx="7129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4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Фрукт с большим            содержанием витамина С.     В 1795 году в Англии был издан указ, по которому экипажам кораблей ежедневно выдавали сок из не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84360" y="5660640"/>
            <a:ext cx="2760840" cy="80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Апельсин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1640" y="1268280"/>
            <a:ext cx="7200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Georgia"/>
              </a:rPr>
              <a:t>5. 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Этот  крупный, круглый, иногда чуть вытянутый корнеплод, содержащий  много сахара, люди использовали в пищу ещ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    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IV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 - </a:t>
            </a:r>
            <a:r>
              <a:rPr b="1" i="1" lang="en-US" sz="3200" spc="-1" strike="noStrike">
                <a:solidFill>
                  <a:srgbClr val="ffff99"/>
                </a:solidFill>
                <a:latin typeface="Georgia"/>
              </a:rPr>
              <a:t>III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 вв. до н.э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0" y="5805000"/>
            <a:ext cx="2303640" cy="7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Свекла</a:t>
            </a:r>
            <a:r>
              <a:rPr b="1" i="1" lang="ru-RU" sz="4000" spc="-1" strike="noStrike">
                <a:solidFill>
                  <a:srgbClr val="ffff99"/>
                </a:solidFill>
                <a:latin typeface="Georgia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58920" y="1483920"/>
            <a:ext cx="6408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Georgia"/>
              </a:rPr>
              <a:t>6. </a:t>
            </a:r>
            <a:r>
              <a:rPr b="1" lang="ru-RU" sz="3200" spc="-1" strike="noStrike">
                <a:solidFill>
                  <a:srgbClr val="ffff99"/>
                </a:solidFill>
                <a:latin typeface="Georgia"/>
              </a:rPr>
              <a:t>Ф</a:t>
            </a: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руктовое дерево, насчитывающее свыше 2000 сортов. Его плоды очень часто встречаются в русских сказ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72360" y="5805000"/>
            <a:ext cx="2544480" cy="6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99"/>
                </a:solidFill>
                <a:latin typeface="Georgia"/>
              </a:rPr>
              <a:t>(Яблон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3851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eorgia"/>
              </a:rPr>
              <a:t>Тест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620640"/>
            <a:ext cx="4176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1.   Какой из этих предметов  кухонной утвари используют  для  приготовления макарон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сит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шумов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дуршлаг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2.  Какую кашу называют «кашей английских королей»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гречневу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рисовую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овсяну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3.  Какая из этих пряностей продается в виде горошк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ваниль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кориц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пере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4.  Как в старину называли пельме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 заячий хвости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 поросячий пятач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медвежье ух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5.  Какое тесто существует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кипячено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запаренно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заварное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00360" y="692280"/>
            <a:ext cx="434484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6.  Пирожное с каким «Овощным»   названием существует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 морков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картош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репк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7.  Какой из этих продуктов не содержит холестерин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куриные окороч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подсолнечное масл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копченая колбас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8.  Назовите страну – родину кетчуп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Англ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США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 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9.  Сколько полных чайных ложек жидкости помещается в столовой ложк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одн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дв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</a:t>
            </a:r>
            <a:r>
              <a:rPr b="1" i="1" lang="ru-RU" sz="1600" spc="-1" strike="noStrike">
                <a:solidFill>
                  <a:srgbClr val="ffffcc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    </a:t>
            </a: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10.  Какое из этих кушаний не является пасхаль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А) пасх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Б) </a:t>
            </a:r>
            <a:r>
              <a:rPr b="1" lang="ru-RU" sz="1600" spc="-1" strike="noStrike">
                <a:solidFill>
                  <a:srgbClr val="ffff00"/>
                </a:solidFill>
                <a:latin typeface="Georgia"/>
              </a:rPr>
              <a:t>блин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Georgia"/>
              </a:rPr>
              <a:t>В) кулич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2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66"/>
                </a:solidFill>
                <a:latin typeface="Georgia"/>
              </a:rPr>
              <a:t>Клятва профессионал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280" y="1196640"/>
            <a:ext cx="80074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одкреплять полученные знания умениями и навыкам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роходить медицинский осмотр не реже одного раза в год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содержать спецодежду в чистоте и гладко выглаженной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ри приготовлении блюд и мучных кондитерских изделий, руководствоваться правилом:  «Не навреди ближнему своему»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беречь свои руки от ножей, кипятка и оборудовани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соблюдать санитарные нормы и правил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Georgia"/>
              </a:rPr>
              <a:t>Клянёмся</a:t>
            </a:r>
            <a:r>
              <a:rPr b="0" lang="ru-RU" sz="2400" spc="-1" strike="noStrike">
                <a:solidFill>
                  <a:srgbClr val="ffff99"/>
                </a:solidFill>
                <a:latin typeface="Georgia"/>
              </a:rPr>
              <a:t> по окончании лицея получить диплом, а не свидетельств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5:16:08Z</dcterms:created>
  <dc:creator>HomePC</dc:creator>
  <dc:description/>
  <dc:language>en-US</dc:language>
  <cp:lastModifiedBy>Root</cp:lastModifiedBy>
  <dcterms:modified xsi:type="dcterms:W3CDTF">2015-01-30T14:36:24Z</dcterms:modified>
  <cp:revision>9</cp:revision>
  <dc:subject/>
  <dc:title>Посвящение в профессию «Повар, кондитер»</dc:title>
</cp:coreProperties>
</file>